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FDB8-91B7-4AC0-A8D0-7717D377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02CF-0EDA-4CAC-AE67-82FD31BD8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477FB-3314-4BF9-B2E7-49D82D794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8E69-CEAC-402E-A5D0-05DB64705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CA40-6C5C-4AB0-95BA-225651FEF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CCF9-9291-472F-A8B6-B39E7858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7C9F-915C-4111-BA51-EEA68E29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C0AD-584E-4724-9993-C1E4EB45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93F6-A753-4E43-BE3C-72B09B27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AFE7-B9E6-4377-90D5-506B3527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68B9-81C7-4EDB-AE67-C1CF7D0FA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34B2-34B2-4715-9D39-FD0380A7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FB24-5AB0-4D54-A599-D5CF1CDC884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0BF9-4BAE-4D52-A455-436FC2DF2D68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图片 1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4144680" cy="27622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2" descr=""/>
          <p:cNvPicPr/>
          <p:nvPr/>
        </p:nvPicPr>
        <p:blipFill>
          <a:blip r:embed="rId3"/>
          <a:stretch/>
        </p:blipFill>
        <p:spPr>
          <a:xfrm>
            <a:off x="4716360" y="836640"/>
            <a:ext cx="4145040" cy="27622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4"/>
          <a:srcRect l="0" t="0" r="8983" b="0"/>
          <a:stretch/>
        </p:blipFill>
        <p:spPr>
          <a:xfrm>
            <a:off x="301680" y="3598920"/>
            <a:ext cx="4145040" cy="3036960"/>
          </a:xfrm>
          <a:prstGeom prst="rect">
            <a:avLst/>
          </a:prstGeom>
          <a:ln w="0">
            <a:noFill/>
          </a:ln>
        </p:spPr>
      </p:pic>
      <p:pic>
        <p:nvPicPr>
          <p:cNvPr id="48" name="图片 4" descr=""/>
          <p:cNvPicPr/>
          <p:nvPr/>
        </p:nvPicPr>
        <p:blipFill>
          <a:blip r:embed="rId5"/>
          <a:stretch/>
        </p:blipFill>
        <p:spPr>
          <a:xfrm>
            <a:off x="4762440" y="3878280"/>
            <a:ext cx="4098960" cy="27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7645320" y="282600"/>
            <a:ext cx="311400" cy="3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343240" y="257040"/>
            <a:ext cx="30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2771640" y="9837720"/>
            <a:ext cx="40323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网，</a:t>
            </a: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下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1ppt.com/sucai/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图片 1" descr=""/>
          <p:cNvPicPr/>
          <p:nvPr/>
        </p:nvPicPr>
        <p:blipFill>
          <a:blip r:embed="rId2"/>
          <a:srcRect l="2101" t="0" r="1941" b="0"/>
          <a:stretch/>
        </p:blipFill>
        <p:spPr>
          <a:xfrm>
            <a:off x="4937040" y="825480"/>
            <a:ext cx="3880080" cy="269712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4" name="图片 2" descr=""/>
          <p:cNvPicPr/>
          <p:nvPr/>
        </p:nvPicPr>
        <p:blipFill>
          <a:blip r:embed="rId3"/>
          <a:stretch/>
        </p:blipFill>
        <p:spPr>
          <a:xfrm>
            <a:off x="466560" y="822240"/>
            <a:ext cx="4313520" cy="2876760"/>
          </a:xfrm>
          <a:prstGeom prst="rect">
            <a:avLst/>
          </a:prstGeom>
          <a:ln w="19080">
            <a:solidFill>
              <a:srgbClr val="ffc000"/>
            </a:solidFill>
            <a:miter/>
          </a:ln>
        </p:spPr>
      </p:pic>
      <p:pic>
        <p:nvPicPr>
          <p:cNvPr id="55" name="图片 4" descr=""/>
          <p:cNvPicPr/>
          <p:nvPr/>
        </p:nvPicPr>
        <p:blipFill>
          <a:blip r:embed="rId4"/>
          <a:stretch/>
        </p:blipFill>
        <p:spPr>
          <a:xfrm>
            <a:off x="314280" y="3860640"/>
            <a:ext cx="5329440" cy="273528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  <p:pic>
        <p:nvPicPr>
          <p:cNvPr id="56" name="图片 9" descr=""/>
          <p:cNvPicPr/>
          <p:nvPr/>
        </p:nvPicPr>
        <p:blipFill>
          <a:blip r:embed="rId5"/>
          <a:stretch/>
        </p:blipFill>
        <p:spPr>
          <a:xfrm>
            <a:off x="5796000" y="3699000"/>
            <a:ext cx="2986200" cy="2896920"/>
          </a:xfrm>
          <a:prstGeom prst="rect">
            <a:avLst/>
          </a:prstGeom>
          <a:ln w="284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www.1ppt.com</dc:creator>
  <dc:description/>
  <cp:keywords>第一PPT www.1ppt.com</cp:keywords>
  <dc:language>en-US</dc:language>
  <cp:lastModifiedBy>User</cp:lastModifiedBy>
  <dcterms:modified xsi:type="dcterms:W3CDTF">2015-06-28T03:36:45Z</dcterms:modified>
  <cp:revision>1095</cp:revision>
  <dc:subject/>
  <dc:title>第一PP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  <property fmtid="{D5CDD505-2E9C-101B-9397-08002B2CF9AE}" pid="3" name="Presentation">
    <vt:lpwstr>锐普图表</vt:lpwstr>
  </property>
</Properties>
</file>