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015-F136-4F2E-A74B-361E8AD7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AA0-BA6B-42B0-943B-F2261B1B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2E554-C99F-410A-A435-FB8C42B9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74748-3529-4F05-9372-B645363F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1804C-C4F0-4725-BFEA-59A93E30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6663A-86EB-44E7-BB8D-3351FCF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E360D-E8E2-4FBA-B889-8524E4EB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943E4-D5B5-41D5-AD8F-D75D258D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3EC45-E690-4130-93DC-59480140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159C0-4B01-488C-88D7-D108746E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32228-93EC-4CC9-83EF-AA6FAE66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34B77-95BC-44CA-84D2-74532089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6F0-54C3-4F6E-843F-58BF24EF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2A6E3-056B-4178-9D8A-B3175C34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E8DF4-A324-40ED-B646-0F86290E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A9ABD-201C-475C-B2A8-D41A6BB3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020D7-6ED7-4F25-933C-A16BFEB6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7B950-E7CE-436F-94BB-29CCDB36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99F8C-39E0-45CE-94C4-77E296F1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AB3A6-D753-4789-AC1F-F91DB26D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4AFFC-FB5B-41B3-9102-DA90594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2E697-4596-4A04-B13D-0DCC593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36AEF-3B37-4C56-BB4B-4506827D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92E-C09C-408C-B87B-912A987A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86541-E10F-4C5E-A5A4-BD8634F4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9ADD9-D785-4C04-B9EE-13AB5A8F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41A8A-59E5-4902-97D4-E0D2B864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88FB1-ADE5-4EAF-B9B4-40FDA074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6C3E9-B72A-4A8E-9AA1-9E62F332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189FF-BF4E-4292-A440-38CF885C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98D84-497B-4B3D-814C-C9F7EA0F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416A9-33E0-4121-8216-40F3AF0A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9B62E-F8AE-43BF-800F-FEF704FA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11A8-E334-4F0C-AD1C-B34AB50F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2A69-C710-43BF-A3AF-9172BDFE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B3538-DD9A-42D1-8EF9-BF96F686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149DE-E3FF-45C3-A13B-B06748E5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905B4-C208-4005-B316-CAB1C645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260A2-19A4-450B-97CB-D27D5716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BB6C7-C6C0-4E4C-9D00-66E2854B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19515-69EE-4B69-A0F7-A2D96029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399FB-5C86-4819-A580-E110F169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AB013-F2E0-45B3-A8A2-EBBE0A04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CB33A-E70E-43E7-8676-FED15CB7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D373F-5C19-42F5-9CBD-F86AE890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3F2C-EB1A-4EC3-94C2-214FCBB9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105C6-444D-4FD8-B53C-8E6AEC9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148BA-AAAD-4EFE-B4ED-5A8DAFA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E8BF8-1E11-4603-AECE-B415A0BB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222E5-5CBC-42A2-B9DF-C850504F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A7EF2-45DA-42C1-9EEF-2AA08C37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AC6E-E7B4-460E-B28A-0CBC4F32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054C-4ED6-464A-9DF5-DFD2DB71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9533-04BC-4E9E-9E55-97555525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35D8-5CF8-451A-BE5D-DCEEA938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22DE-4117-433F-A372-F3815F88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F8C-F8F2-4C1E-9BD5-D51BA002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DB45-459F-4F6E-8EF5-D2D2A29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1277-8D57-4661-854A-BABF094A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089-C910-4A01-920E-3D04DE7A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2636-8BD9-48EF-996C-4D0BB4B8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2E79-6B34-46FB-9688-535552AA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AC64-1E7A-42AF-B9A1-9597E293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EC85-E9D9-4BA4-94C8-EE2E038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1B1B8-7971-43C8-B2BA-74C6F800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4AEA-2155-4A0B-8BF8-2E4E4D01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7F30-BFF1-4C88-8DA6-FFF4F956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656-C205-4865-841C-47FC2C8A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2F23-14F5-4965-80DD-049C1C12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BBCC-2634-4332-940E-65DEE31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9DBB-A6F3-4708-8C4A-D1006B55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E676-F301-45B4-8D1F-785F112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80FD-9C26-4CC8-832B-6B5CABBE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8290-2577-4F17-85B2-5D53F12E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D89B-4663-48A9-8D28-C20C5235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B9F2-E86E-460D-90DD-BA2D7846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D69B8-8603-476E-966A-CBA308A4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7833C-29EE-4EFB-ABD3-8E4752B5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C7B-31C7-4043-ACD8-6D3C8E25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1F26C-C01A-469E-8846-C2DFA765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1511-EEFF-4C0E-BD43-0935E50F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2E784-E6A9-4768-8F69-E3A6657D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10F42-BDA6-4336-9E24-BBCB82CE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9685-A814-430E-912E-CA44504C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E851C-A4DF-4F8F-A8AF-B57351F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2CA9E-6200-4B1E-8758-9B0A9446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175C9-76F2-4FFE-9CC0-7214F610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8007B-A5F6-4E1E-A75F-AD91A6CC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409CA-5F3C-4DC3-B37E-369AAAEB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FD1C-BFD8-48D8-AB76-A8F3EF88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67BC-8BC9-4E83-8FFD-94BE98EF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CB11-28DF-4404-B1D1-9CD92374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AFE2-AEE7-4240-9C1D-6F4277A2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93E2A-97FE-432E-932C-D643563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1739-2355-4576-9347-E973509D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18D4C-F5CA-4190-BA14-79FCD38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21B83-6E8E-4D66-AB3F-EC7F1E64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D081-67DD-43FC-9646-EBC0ADB4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92C6-88AE-4E9A-86F1-03E737C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855AA-B73D-4E04-A9C0-8581D219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4AE-7C45-4127-B5AC-4EA5FE3C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57F2-A741-4B54-871C-ED2D98BE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C95C6-9BEC-46EB-B709-F74E1A65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6EAA3-B281-4E89-9622-AD95AFD4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2F92D-2D7A-4E50-8E07-6579180B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BC3D2-05BD-48A1-B866-948BFE63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53C0-37E2-4D42-973B-79515CCF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D07A-8167-4EB4-AAB7-E2FBDB0C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BF30A-DF55-4FBA-B2C6-E3E3C625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C3DCC-FB4A-473A-8DA1-7D946686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6CEDB-B3A9-4B98-8BDD-82B83295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847-02CA-41D0-8B2C-351B8A9C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EC09B-D181-42C4-AE3E-3E404438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9A71D-EF39-484A-9FED-A2CBB05E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3AE82-58C7-47FA-8DAF-50F09B2F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70D94-F1F7-471D-9516-56CA3FB9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F576D-E0FC-4496-9B03-8B5E0DFA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7E40D-5252-4756-A8F0-E5E23EA5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4FCB-BA2D-4DAA-9701-5EC28B84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94650-9E15-45C0-9763-6F0C7DAF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9D010-20C1-41D3-BF55-30707ADE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A2354-1C45-4621-8AC1-409D0844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4F0-2BD8-4398-AA64-B69021F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E9721-2C01-44D1-B07D-D0864C3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5E625-C984-45EF-93C0-80E8019A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D5C43-BBD3-463A-8093-B9B3C656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89ED2-DE68-4637-8D0C-7B3BADCC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0D992-C3A6-4BD9-827E-CFE5C332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8BCE-BA79-4716-9FC2-EFEF2DD8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85685-567C-4821-88C2-24119E1D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39002-55C4-4D15-8779-82E6BB33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17CF4-4779-4D67-8DCB-B53E81EF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1341-29E4-4A29-833A-534E52B7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EBF-7C7C-4C72-9B23-3F7A82A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C2074-C44C-4E69-A8E7-D1502E1B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24EA9-D315-4B32-94D0-A80A11F2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4B81E-7D5A-4B98-8EEA-DFE210E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14205-30AC-40F6-BB9A-58FF091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55448-77F5-466C-B907-57DAEAFE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9A020-2B46-4CB9-B021-6C2001C8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9503A-5175-48D8-91FB-7CC451C5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EDFC4-5218-43ED-93FF-4316F1E6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63801-29B6-490B-ABF8-183A968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A974B-4A32-4F6E-9122-1C99B81C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68B9-0B81-4939-8E51-1544F6EF6B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9" descr="C:\Documents and Settings\Administrator\桌面\素材CNN sccnn.com 388XXC2.jpg"/>
          <p:cNvPicPr/>
          <p:nvPr/>
        </p:nvPicPr>
        <p:blipFill>
          <a:blip r:embed="rId2"/>
          <a:srcRect l="1214" t="14693" r="0" b="861"/>
          <a:stretch/>
        </p:blipFill>
        <p:spPr>
          <a:xfrm>
            <a:off x="-28440" y="0"/>
            <a:ext cx="9172440" cy="5116680"/>
          </a:xfrm>
          <a:prstGeom prst="rect">
            <a:avLst/>
          </a:prstGeom>
          <a:ln w="0">
            <a:noFill/>
          </a:ln>
        </p:spPr>
      </p:pic>
      <p:grpSp>
        <p:nvGrpSpPr>
          <p:cNvPr id="4" name="矩形 7"/>
          <p:cNvGrpSpPr/>
          <p:nvPr/>
        </p:nvGrpSpPr>
        <p:grpSpPr>
          <a:xfrm>
            <a:off x="-12600" y="-6480"/>
            <a:ext cx="9180360" cy="5151600"/>
            <a:chOff x="-12600" y="-6480"/>
            <a:chExt cx="9180360" cy="5151600"/>
          </a:xfrm>
        </p:grpSpPr>
        <p:pic>
          <p:nvPicPr>
            <p:cNvPr id="5" name="矩形 7" descr=""/>
            <p:cNvPicPr/>
            <p:nvPr/>
          </p:nvPicPr>
          <p:blipFill>
            <a:blip r:embed="rId3"/>
            <a:stretch/>
          </p:blipFill>
          <p:spPr>
            <a:xfrm>
              <a:off x="-12600" y="-3240"/>
              <a:ext cx="9180360" cy="51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-12600" y="-6480"/>
              <a:ext cx="9180360" cy="51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矩形 8"/>
          <p:cNvSpPr/>
          <p:nvPr/>
        </p:nvSpPr>
        <p:spPr>
          <a:xfrm>
            <a:off x="-28440" y="4924440"/>
            <a:ext cx="9172440" cy="182520"/>
          </a:xfrm>
          <a:prstGeom prst="rect">
            <a:avLst/>
          </a:prstGeom>
          <a:solidFill>
            <a:srgbClr val="7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矩形 9"/>
          <p:cNvSpPr/>
          <p:nvPr/>
        </p:nvSpPr>
        <p:spPr>
          <a:xfrm>
            <a:off x="-28440" y="4952880"/>
            <a:ext cx="9172440" cy="19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4"/>
          <a:stretch/>
        </p:blipFill>
        <p:spPr>
          <a:xfrm>
            <a:off x="108000" y="95400"/>
            <a:ext cx="824040" cy="65376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11"/>
          <p:cNvSpPr/>
          <p:nvPr/>
        </p:nvSpPr>
        <p:spPr>
          <a:xfrm>
            <a:off x="979560" y="-1440"/>
            <a:ext cx="0" cy="54756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" name="Picture 12" descr=""/>
          <p:cNvPicPr/>
          <p:nvPr/>
        </p:nvPicPr>
        <p:blipFill>
          <a:blip r:embed="rId5"/>
          <a:stretch/>
        </p:blipFill>
        <p:spPr>
          <a:xfrm>
            <a:off x="7132680" y="4027320"/>
            <a:ext cx="1832040" cy="13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ED69-0CA3-46A0-956A-2810ECD96F7E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F92D-DAB0-4B77-A211-9C5893BCE4F4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D713-CD74-4301-9AEC-5F0F2A0F4C0F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9D36-866E-45D9-BFA9-23A87061A943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5C9-6C5E-4024-A055-48ECC7C0FF11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7349-4A6B-422A-8509-0E4C032CDA49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220D-EE74-45AD-8E21-857A71ECCD83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CC4C-6333-420E-881F-734D883ECFC7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C2D5-A95D-4FE0-8156-B9A4C30DCB4D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AA0B-B66E-435D-93FC-9157467BA22B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7A4A-5508-4626-8919-B74D1BF28C51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8196-D6FB-49E2-B4DB-7803A52344ED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1549-4D33-438F-B2D6-BD278F91CBD9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F7D-10D6-420C-9E05-E6E12D216BE5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FE08-776A-49FF-9E82-F1097C85C4CC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ED55-54E2-41B6-ACCE-C3B31E6C3609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2512-CD6E-4DC2-BC64-43E1DAACD66A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7F37-7B55-4BFB-B97B-2624688DC5DF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EDB-1481-4503-AC7E-2839160AB7DE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24A8-9419-40F3-868B-C3A1FBA2593B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93760" indent="-2937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4320" indent="-2433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9200" indent="-197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70520" indent="-1972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62920" indent="-19692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D9D7-6DDA-42F8-A994-CB8767E1593D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124080" y="4683240"/>
            <a:ext cx="289728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2751-BCB0-4875-840E-ECD2248811E7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23"/>
          <p:cNvSpPr/>
          <p:nvPr/>
        </p:nvSpPr>
        <p:spPr>
          <a:xfrm>
            <a:off x="468360" y="46594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组合 3"/>
          <p:cNvGrpSpPr/>
          <p:nvPr/>
        </p:nvGrpSpPr>
        <p:grpSpPr>
          <a:xfrm>
            <a:off x="-28440" y="0"/>
            <a:ext cx="9196920" cy="5153040"/>
            <a:chOff x="-28440" y="0"/>
            <a:chExt cx="9196920" cy="5153040"/>
          </a:xfrm>
        </p:grpSpPr>
        <p:pic>
          <p:nvPicPr>
            <p:cNvPr id="501" name="Picture 9" descr="C:\Documents and Settings\Administrator\桌面\素材CNN sccnn.com 388XXC2.jpg"/>
            <p:cNvPicPr/>
            <p:nvPr/>
          </p:nvPicPr>
          <p:blipFill>
            <a:blip r:embed="rId1"/>
            <a:srcRect l="1214" t="10841" r="0" b="5044"/>
            <a:stretch/>
          </p:blipFill>
          <p:spPr>
            <a:xfrm>
              <a:off x="-28440" y="0"/>
              <a:ext cx="9172440" cy="514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矩形 5"/>
            <p:cNvGrpSpPr/>
            <p:nvPr/>
          </p:nvGrpSpPr>
          <p:grpSpPr>
            <a:xfrm>
              <a:off x="-11880" y="0"/>
              <a:ext cx="9180360" cy="5153040"/>
              <a:chOff x="-11880" y="0"/>
              <a:chExt cx="9180360" cy="5153040"/>
            </a:xfrm>
          </p:grpSpPr>
          <p:pic>
            <p:nvPicPr>
              <p:cNvPr id="503" name="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11160" y="0"/>
                <a:ext cx="9179640" cy="515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-11880" y="0"/>
                <a:ext cx="9179640" cy="515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5" name="组合 6"/>
          <p:cNvGrpSpPr/>
          <p:nvPr/>
        </p:nvGrpSpPr>
        <p:grpSpPr>
          <a:xfrm>
            <a:off x="-28440" y="830160"/>
            <a:ext cx="9171000" cy="420840"/>
            <a:chOff x="-28440" y="830160"/>
            <a:chExt cx="9171000" cy="420840"/>
          </a:xfrm>
        </p:grpSpPr>
        <p:sp>
          <p:nvSpPr>
            <p:cNvPr id="506" name="直接连接符 7"/>
            <p:cNvSpPr/>
            <p:nvPr/>
          </p:nvSpPr>
          <p:spPr>
            <a:xfrm>
              <a:off x="-18720" y="830160"/>
              <a:ext cx="9144360" cy="0"/>
            </a:xfrm>
            <a:prstGeom prst="line">
              <a:avLst/>
            </a:prstGeom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矩形 8"/>
            <p:cNvSpPr/>
            <p:nvPr/>
          </p:nvSpPr>
          <p:spPr>
            <a:xfrm>
              <a:off x="-28440" y="858600"/>
              <a:ext cx="9171000" cy="3924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8" name="Picture 12" descr=""/>
          <p:cNvPicPr/>
          <p:nvPr/>
        </p:nvPicPr>
        <p:blipFill>
          <a:blip r:embed="rId3"/>
          <a:stretch/>
        </p:blipFill>
        <p:spPr>
          <a:xfrm>
            <a:off x="-268200" y="76320"/>
            <a:ext cx="7353360" cy="5303880"/>
          </a:xfrm>
          <a:prstGeom prst="rect">
            <a:avLst/>
          </a:prstGeom>
          <a:ln w="0">
            <a:noFill/>
          </a:ln>
        </p:spPr>
      </p:pic>
      <p:grpSp>
        <p:nvGrpSpPr>
          <p:cNvPr id="509" name="组合 11"/>
          <p:cNvGrpSpPr/>
          <p:nvPr/>
        </p:nvGrpSpPr>
        <p:grpSpPr>
          <a:xfrm>
            <a:off x="5315040" y="2373480"/>
            <a:ext cx="3786120" cy="3006720"/>
            <a:chOff x="5315040" y="2373480"/>
            <a:chExt cx="3786120" cy="3006720"/>
          </a:xfrm>
        </p:grpSpPr>
        <p:pic>
          <p:nvPicPr>
            <p:cNvPr id="510" name="Picture 11" descr=""/>
            <p:cNvPicPr/>
            <p:nvPr/>
          </p:nvPicPr>
          <p:blipFill>
            <a:blip r:embed="rId4"/>
            <a:stretch/>
          </p:blipFill>
          <p:spPr>
            <a:xfrm>
              <a:off x="5315040" y="2373480"/>
              <a:ext cx="3786120" cy="30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Box 8"/>
            <p:cNvSpPr/>
            <p:nvPr/>
          </p:nvSpPr>
          <p:spPr>
            <a:xfrm rot="21440400">
              <a:off x="6572520" y="4164120"/>
              <a:ext cx="155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用于年终总结 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汇报 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 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提案及相关类别演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接连接符 14"/>
            <p:cNvSpPr/>
            <p:nvPr/>
          </p:nvSpPr>
          <p:spPr>
            <a:xfrm flipV="1">
              <a:off x="6172200" y="4115160"/>
              <a:ext cx="2343240" cy="9504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17"/>
          <p:cNvSpPr/>
          <p:nvPr/>
        </p:nvSpPr>
        <p:spPr>
          <a:xfrm>
            <a:off x="8775720" y="4976640"/>
            <a:ext cx="169920" cy="511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组合 18"/>
          <p:cNvGrpSpPr/>
          <p:nvPr/>
        </p:nvGrpSpPr>
        <p:grpSpPr>
          <a:xfrm>
            <a:off x="291960" y="208080"/>
            <a:ext cx="3616560" cy="1199880"/>
            <a:chOff x="291960" y="208080"/>
            <a:chExt cx="3616560" cy="1199880"/>
          </a:xfrm>
        </p:grpSpPr>
        <p:pic>
          <p:nvPicPr>
            <p:cNvPr id="515" name="TextBox 242" descr=""/>
            <p:cNvPicPr/>
            <p:nvPr/>
          </p:nvPicPr>
          <p:blipFill>
            <a:blip r:embed="rId5"/>
            <a:stretch/>
          </p:blipFill>
          <p:spPr>
            <a:xfrm>
              <a:off x="1097280" y="412920"/>
              <a:ext cx="281124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矩形 21" descr=""/>
            <p:cNvPicPr/>
            <p:nvPr/>
          </p:nvPicPr>
          <p:blipFill>
            <a:blip r:embed="rId6"/>
            <a:stretch/>
          </p:blipFill>
          <p:spPr>
            <a:xfrm>
              <a:off x="291960" y="208080"/>
              <a:ext cx="1475640" cy="119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矩形 11"/>
          <p:cNvSpPr/>
          <p:nvPr/>
        </p:nvSpPr>
        <p:spPr>
          <a:xfrm rot="21431400">
            <a:off x="6251760" y="3006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 Black"/>
                <a:ea typeface="微软雅黑"/>
              </a:rPr>
              <a:t>201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6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6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3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组合 2"/>
          <p:cNvGrpSpPr/>
          <p:nvPr/>
        </p:nvGrpSpPr>
        <p:grpSpPr>
          <a:xfrm>
            <a:off x="958680" y="1157400"/>
            <a:ext cx="2894400" cy="1569960"/>
            <a:chOff x="958680" y="1157400"/>
            <a:chExt cx="2894400" cy="1569960"/>
          </a:xfrm>
        </p:grpSpPr>
        <p:grpSp>
          <p:nvGrpSpPr>
            <p:cNvPr id="520" name="组合 39"/>
            <p:cNvGrpSpPr/>
            <p:nvPr/>
          </p:nvGrpSpPr>
          <p:grpSpPr>
            <a:xfrm>
              <a:off x="1521720" y="1481040"/>
              <a:ext cx="2331360" cy="884520"/>
              <a:chOff x="1521720" y="1481040"/>
              <a:chExt cx="2331360" cy="884520"/>
            </a:xfrm>
          </p:grpSpPr>
          <p:sp>
            <p:nvSpPr>
              <p:cNvPr id="521" name="矩形 5"/>
              <p:cNvSpPr/>
              <p:nvPr/>
            </p:nvSpPr>
            <p:spPr>
              <a:xfrm>
                <a:off x="1521720" y="1563480"/>
                <a:ext cx="830160" cy="5655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矩形 6"/>
              <p:cNvSpPr/>
              <p:nvPr/>
            </p:nvSpPr>
            <p:spPr>
              <a:xfrm>
                <a:off x="2389320" y="1481040"/>
                <a:ext cx="122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TextBox 5"/>
              <p:cNvSpPr/>
              <p:nvPr/>
            </p:nvSpPr>
            <p:spPr>
              <a:xfrm>
                <a:off x="2157480" y="1890720"/>
                <a:ext cx="1695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24" name="矩形 4" descr=""/>
            <p:cNvPicPr/>
            <p:nvPr/>
          </p:nvPicPr>
          <p:blipFill>
            <a:blip r:embed="rId1"/>
            <a:stretch/>
          </p:blipFill>
          <p:spPr>
            <a:xfrm>
              <a:off x="958680" y="1157400"/>
              <a:ext cx="1905480" cy="15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5" name="组合 8"/>
          <p:cNvGrpSpPr/>
          <p:nvPr/>
        </p:nvGrpSpPr>
        <p:grpSpPr>
          <a:xfrm>
            <a:off x="4124160" y="1479600"/>
            <a:ext cx="4073760" cy="551160"/>
            <a:chOff x="4124160" y="1479600"/>
            <a:chExt cx="4073760" cy="551160"/>
          </a:xfrm>
        </p:grpSpPr>
        <p:sp>
          <p:nvSpPr>
            <p:cNvPr id="526" name="矩形 9"/>
            <p:cNvSpPr/>
            <p:nvPr/>
          </p:nvSpPr>
          <p:spPr>
            <a:xfrm>
              <a:off x="4124160" y="152244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7" name="椭圆 10"/>
            <p:cNvGrpSpPr/>
            <p:nvPr/>
          </p:nvGrpSpPr>
          <p:grpSpPr>
            <a:xfrm>
              <a:off x="4248720" y="1566720"/>
              <a:ext cx="378000" cy="378000"/>
              <a:chOff x="4248720" y="1566720"/>
              <a:chExt cx="378000" cy="378000"/>
            </a:xfrm>
          </p:grpSpPr>
          <p:pic>
            <p:nvPicPr>
              <p:cNvPr id="528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248720" y="156672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4303800" y="162072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0" name="矩形 11"/>
            <p:cNvSpPr/>
            <p:nvPr/>
          </p:nvSpPr>
          <p:spPr>
            <a:xfrm>
              <a:off x="4159080" y="14796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TextBox 12"/>
            <p:cNvSpPr/>
            <p:nvPr/>
          </p:nvSpPr>
          <p:spPr>
            <a:xfrm>
              <a:off x="5658840" y="15652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2" name="组合 13"/>
          <p:cNvGrpSpPr/>
          <p:nvPr/>
        </p:nvGrpSpPr>
        <p:grpSpPr>
          <a:xfrm>
            <a:off x="4124160" y="2060640"/>
            <a:ext cx="4073760" cy="551160"/>
            <a:chOff x="4124160" y="2060640"/>
            <a:chExt cx="4073760" cy="551160"/>
          </a:xfrm>
        </p:grpSpPr>
        <p:sp>
          <p:nvSpPr>
            <p:cNvPr id="533" name="矩形 14"/>
            <p:cNvSpPr/>
            <p:nvPr/>
          </p:nvSpPr>
          <p:spPr>
            <a:xfrm>
              <a:off x="4124160" y="210348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4" name="椭圆 15"/>
            <p:cNvGrpSpPr/>
            <p:nvPr/>
          </p:nvGrpSpPr>
          <p:grpSpPr>
            <a:xfrm>
              <a:off x="4248720" y="2145600"/>
              <a:ext cx="378000" cy="378000"/>
              <a:chOff x="4248720" y="2145600"/>
              <a:chExt cx="378000" cy="378000"/>
            </a:xfrm>
          </p:grpSpPr>
          <p:pic>
            <p:nvPicPr>
              <p:cNvPr id="535" name="椭圆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720" y="2145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4303800" y="220140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7" name="矩形 16"/>
            <p:cNvSpPr/>
            <p:nvPr/>
          </p:nvSpPr>
          <p:spPr>
            <a:xfrm>
              <a:off x="4159080" y="20606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TextBox 17"/>
            <p:cNvSpPr/>
            <p:nvPr/>
          </p:nvSpPr>
          <p:spPr>
            <a:xfrm>
              <a:off x="5658840" y="2131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组合 18"/>
          <p:cNvGrpSpPr/>
          <p:nvPr/>
        </p:nvGrpSpPr>
        <p:grpSpPr>
          <a:xfrm>
            <a:off x="4124160" y="2627280"/>
            <a:ext cx="4073760" cy="551160"/>
            <a:chOff x="4124160" y="2627280"/>
            <a:chExt cx="4073760" cy="551160"/>
          </a:xfrm>
        </p:grpSpPr>
        <p:sp>
          <p:nvSpPr>
            <p:cNvPr id="540" name="矩形 19"/>
            <p:cNvSpPr/>
            <p:nvPr/>
          </p:nvSpPr>
          <p:spPr>
            <a:xfrm>
              <a:off x="4124160" y="2670120"/>
              <a:ext cx="4073760" cy="449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椭圆 20"/>
            <p:cNvGrpSpPr/>
            <p:nvPr/>
          </p:nvGrpSpPr>
          <p:grpSpPr>
            <a:xfrm>
              <a:off x="4248720" y="2712600"/>
              <a:ext cx="378000" cy="378000"/>
              <a:chOff x="4248720" y="2712600"/>
              <a:chExt cx="378000" cy="378000"/>
            </a:xfrm>
          </p:grpSpPr>
          <p:pic>
            <p:nvPicPr>
              <p:cNvPr id="542" name="椭圆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2712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303800" y="2767680"/>
                <a:ext cx="26856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4" name="矩形 21"/>
            <p:cNvSpPr/>
            <p:nvPr/>
          </p:nvSpPr>
          <p:spPr>
            <a:xfrm>
              <a:off x="4159080" y="26272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TextBox 22"/>
            <p:cNvSpPr/>
            <p:nvPr/>
          </p:nvSpPr>
          <p:spPr>
            <a:xfrm>
              <a:off x="5658840" y="2712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23"/>
          <p:cNvGrpSpPr/>
          <p:nvPr/>
        </p:nvGrpSpPr>
        <p:grpSpPr>
          <a:xfrm>
            <a:off x="3835440" y="1511280"/>
            <a:ext cx="63360" cy="3632400"/>
            <a:chOff x="3835440" y="1511280"/>
            <a:chExt cx="63360" cy="3632400"/>
          </a:xfrm>
        </p:grpSpPr>
        <p:sp>
          <p:nvSpPr>
            <p:cNvPr id="547" name="直接连接符 24"/>
            <p:cNvSpPr/>
            <p:nvPr/>
          </p:nvSpPr>
          <p:spPr>
            <a:xfrm>
              <a:off x="3835440" y="1511280"/>
              <a:ext cx="0" cy="363240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直接连接符 25"/>
            <p:cNvSpPr/>
            <p:nvPr/>
          </p:nvSpPr>
          <p:spPr>
            <a:xfrm>
              <a:off x="3898800" y="1511280"/>
              <a:ext cx="0" cy="36198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9" name="组合 26"/>
          <p:cNvGrpSpPr/>
          <p:nvPr/>
        </p:nvGrpSpPr>
        <p:grpSpPr>
          <a:xfrm>
            <a:off x="3835440" y="1511280"/>
            <a:ext cx="63360" cy="1608120"/>
            <a:chOff x="3835440" y="1511280"/>
            <a:chExt cx="63360" cy="1608120"/>
          </a:xfrm>
        </p:grpSpPr>
        <p:sp>
          <p:nvSpPr>
            <p:cNvPr id="550" name="直接连接符 27"/>
            <p:cNvSpPr/>
            <p:nvPr/>
          </p:nvSpPr>
          <p:spPr>
            <a:xfrm>
              <a:off x="3835440" y="1511280"/>
              <a:ext cx="0" cy="160812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28"/>
            <p:cNvSpPr/>
            <p:nvPr/>
          </p:nvSpPr>
          <p:spPr>
            <a:xfrm>
              <a:off x="3898800" y="1511280"/>
              <a:ext cx="0" cy="16020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组合 16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553" name="图片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4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4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" dur="2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1"/>
          <p:cNvSpPr/>
          <p:nvPr/>
        </p:nvSpPr>
        <p:spPr>
          <a:xfrm>
            <a:off x="998640" y="227160"/>
            <a:ext cx="14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组合 25"/>
          <p:cNvGrpSpPr/>
          <p:nvPr/>
        </p:nvGrpSpPr>
        <p:grpSpPr>
          <a:xfrm>
            <a:off x="958680" y="1157400"/>
            <a:ext cx="2894400" cy="1569960"/>
            <a:chOff x="958680" y="1157400"/>
            <a:chExt cx="2894400" cy="1569960"/>
          </a:xfrm>
        </p:grpSpPr>
        <p:grpSp>
          <p:nvGrpSpPr>
            <p:cNvPr id="557" name="组合 2"/>
            <p:cNvGrpSpPr/>
            <p:nvPr/>
          </p:nvGrpSpPr>
          <p:grpSpPr>
            <a:xfrm>
              <a:off x="1521720" y="1481040"/>
              <a:ext cx="2331360" cy="884520"/>
              <a:chOff x="1521720" y="1481040"/>
              <a:chExt cx="2331360" cy="884520"/>
            </a:xfrm>
          </p:grpSpPr>
          <p:sp>
            <p:nvSpPr>
              <p:cNvPr id="558" name="矩形 5"/>
              <p:cNvSpPr/>
              <p:nvPr/>
            </p:nvSpPr>
            <p:spPr>
              <a:xfrm>
                <a:off x="1521720" y="1563480"/>
                <a:ext cx="830160" cy="5655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矩形 6"/>
              <p:cNvSpPr/>
              <p:nvPr/>
            </p:nvSpPr>
            <p:spPr>
              <a:xfrm>
                <a:off x="2389320" y="1481040"/>
                <a:ext cx="122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目  录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TextBox 5"/>
              <p:cNvSpPr/>
              <p:nvPr/>
            </p:nvSpPr>
            <p:spPr>
              <a:xfrm>
                <a:off x="2157480" y="1890720"/>
                <a:ext cx="16956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c00000"/>
                    </a:solidFill>
                    <a:latin typeface="Arial"/>
                    <a:ea typeface="Arial"/>
                  </a:rPr>
                  <a:t>ONTENTS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61" name="矩形 4" descr=""/>
            <p:cNvPicPr/>
            <p:nvPr/>
          </p:nvPicPr>
          <p:blipFill>
            <a:blip r:embed="rId1"/>
            <a:stretch/>
          </p:blipFill>
          <p:spPr>
            <a:xfrm>
              <a:off x="958680" y="1157400"/>
              <a:ext cx="1905480" cy="15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组合 7"/>
          <p:cNvGrpSpPr/>
          <p:nvPr/>
        </p:nvGrpSpPr>
        <p:grpSpPr>
          <a:xfrm>
            <a:off x="3835440" y="1511280"/>
            <a:ext cx="63360" cy="1608120"/>
            <a:chOff x="3835440" y="1511280"/>
            <a:chExt cx="63360" cy="1608120"/>
          </a:xfrm>
        </p:grpSpPr>
        <p:sp>
          <p:nvSpPr>
            <p:cNvPr id="563" name="直接连接符 9"/>
            <p:cNvSpPr/>
            <p:nvPr/>
          </p:nvSpPr>
          <p:spPr>
            <a:xfrm>
              <a:off x="3835440" y="1511280"/>
              <a:ext cx="0" cy="160812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直接连接符 10"/>
            <p:cNvSpPr/>
            <p:nvPr/>
          </p:nvSpPr>
          <p:spPr>
            <a:xfrm>
              <a:off x="3898800" y="1511280"/>
              <a:ext cx="0" cy="1602000"/>
            </a:xfrm>
            <a:prstGeom prst="line">
              <a:avLst/>
            </a:prstGeom>
            <a:ln w="324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组合 10"/>
          <p:cNvGrpSpPr/>
          <p:nvPr/>
        </p:nvGrpSpPr>
        <p:grpSpPr>
          <a:xfrm>
            <a:off x="4124160" y="1479600"/>
            <a:ext cx="4073760" cy="551160"/>
            <a:chOff x="4124160" y="1479600"/>
            <a:chExt cx="4073760" cy="551160"/>
          </a:xfrm>
        </p:grpSpPr>
        <p:sp>
          <p:nvSpPr>
            <p:cNvPr id="566" name="矩形 12"/>
            <p:cNvSpPr/>
            <p:nvPr/>
          </p:nvSpPr>
          <p:spPr>
            <a:xfrm>
              <a:off x="4124160" y="1522440"/>
              <a:ext cx="4073760" cy="4510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7" name="椭圆 13"/>
            <p:cNvGrpSpPr/>
            <p:nvPr/>
          </p:nvGrpSpPr>
          <p:grpSpPr>
            <a:xfrm>
              <a:off x="4248720" y="1566720"/>
              <a:ext cx="378000" cy="378000"/>
              <a:chOff x="4248720" y="1566720"/>
              <a:chExt cx="378000" cy="378000"/>
            </a:xfrm>
          </p:grpSpPr>
          <p:pic>
            <p:nvPicPr>
              <p:cNvPr id="56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248720" y="156672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303800" y="162072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0" name="矩形 14"/>
            <p:cNvSpPr/>
            <p:nvPr/>
          </p:nvSpPr>
          <p:spPr>
            <a:xfrm>
              <a:off x="4159080" y="147960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TextBox 15"/>
            <p:cNvSpPr/>
            <p:nvPr/>
          </p:nvSpPr>
          <p:spPr>
            <a:xfrm>
              <a:off x="5658840" y="15652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组合 15"/>
          <p:cNvGrpSpPr/>
          <p:nvPr/>
        </p:nvGrpSpPr>
        <p:grpSpPr>
          <a:xfrm>
            <a:off x="4124160" y="2060640"/>
            <a:ext cx="4073760" cy="551160"/>
            <a:chOff x="4124160" y="2060640"/>
            <a:chExt cx="4073760" cy="551160"/>
          </a:xfrm>
        </p:grpSpPr>
        <p:sp>
          <p:nvSpPr>
            <p:cNvPr id="573" name="矩形 17"/>
            <p:cNvSpPr/>
            <p:nvPr/>
          </p:nvSpPr>
          <p:spPr>
            <a:xfrm>
              <a:off x="4124160" y="2103480"/>
              <a:ext cx="4073760" cy="451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4" name="椭圆 18"/>
            <p:cNvGrpSpPr/>
            <p:nvPr/>
          </p:nvGrpSpPr>
          <p:grpSpPr>
            <a:xfrm>
              <a:off x="4248720" y="2145600"/>
              <a:ext cx="378000" cy="378000"/>
              <a:chOff x="4248720" y="2145600"/>
              <a:chExt cx="378000" cy="378000"/>
            </a:xfrm>
          </p:grpSpPr>
          <p:pic>
            <p:nvPicPr>
              <p:cNvPr id="575" name="椭圆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4248720" y="2145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4303800" y="2201400"/>
                <a:ext cx="268560" cy="2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7" name="矩形 19"/>
            <p:cNvSpPr/>
            <p:nvPr/>
          </p:nvSpPr>
          <p:spPr>
            <a:xfrm>
              <a:off x="4159080" y="206064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TextBox 20"/>
            <p:cNvSpPr/>
            <p:nvPr/>
          </p:nvSpPr>
          <p:spPr>
            <a:xfrm>
              <a:off x="5658840" y="21319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9" name="组合 20"/>
          <p:cNvGrpSpPr/>
          <p:nvPr/>
        </p:nvGrpSpPr>
        <p:grpSpPr>
          <a:xfrm>
            <a:off x="4124160" y="2627280"/>
            <a:ext cx="4073760" cy="551160"/>
            <a:chOff x="4124160" y="2627280"/>
            <a:chExt cx="4073760" cy="551160"/>
          </a:xfrm>
        </p:grpSpPr>
        <p:sp>
          <p:nvSpPr>
            <p:cNvPr id="580" name="矩形 22"/>
            <p:cNvSpPr/>
            <p:nvPr/>
          </p:nvSpPr>
          <p:spPr>
            <a:xfrm>
              <a:off x="4124160" y="2670120"/>
              <a:ext cx="4073760" cy="4496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1" name="椭圆 23"/>
            <p:cNvGrpSpPr/>
            <p:nvPr/>
          </p:nvGrpSpPr>
          <p:grpSpPr>
            <a:xfrm>
              <a:off x="4248720" y="2712600"/>
              <a:ext cx="378000" cy="378000"/>
              <a:chOff x="4248720" y="2712600"/>
              <a:chExt cx="378000" cy="378000"/>
            </a:xfrm>
          </p:grpSpPr>
          <p:pic>
            <p:nvPicPr>
              <p:cNvPr id="582" name="椭圆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2712600"/>
                <a:ext cx="3780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"/>
              <p:cNvSpPr/>
              <p:nvPr/>
            </p:nvSpPr>
            <p:spPr>
              <a:xfrm>
                <a:off x="4303800" y="2767680"/>
                <a:ext cx="26856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4" name="矩形 24"/>
            <p:cNvSpPr/>
            <p:nvPr/>
          </p:nvSpPr>
          <p:spPr>
            <a:xfrm>
              <a:off x="4159080" y="2627280"/>
              <a:ext cx="6015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TextBox 25"/>
            <p:cNvSpPr/>
            <p:nvPr/>
          </p:nvSpPr>
          <p:spPr>
            <a:xfrm>
              <a:off x="5658840" y="27129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6" name="组合 26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587" name="图片 27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"/>
          <p:cNvGrpSpPr/>
          <p:nvPr/>
        </p:nvGrpSpPr>
        <p:grpSpPr>
          <a:xfrm>
            <a:off x="3061080" y="1060560"/>
            <a:ext cx="3030120" cy="1726200"/>
            <a:chOff x="3061080" y="1060560"/>
            <a:chExt cx="3030120" cy="1726200"/>
          </a:xfrm>
        </p:grpSpPr>
        <p:grpSp>
          <p:nvGrpSpPr>
            <p:cNvPr id="590" name="组合 21"/>
            <p:cNvGrpSpPr/>
            <p:nvPr/>
          </p:nvGrpSpPr>
          <p:grpSpPr>
            <a:xfrm>
              <a:off x="3061080" y="1060560"/>
              <a:ext cx="1725480" cy="1726200"/>
              <a:chOff x="3061080" y="1060560"/>
              <a:chExt cx="1725480" cy="1726200"/>
            </a:xfrm>
          </p:grpSpPr>
          <p:grpSp>
            <p:nvGrpSpPr>
              <p:cNvPr id="591" name="组合 5"/>
              <p:cNvGrpSpPr/>
              <p:nvPr/>
            </p:nvGrpSpPr>
            <p:grpSpPr>
              <a:xfrm>
                <a:off x="3061080" y="1060560"/>
                <a:ext cx="1725480" cy="1726200"/>
                <a:chOff x="3061080" y="1060560"/>
                <a:chExt cx="1725480" cy="1726200"/>
              </a:xfrm>
            </p:grpSpPr>
            <p:sp>
              <p:nvSpPr>
                <p:cNvPr id="592" name="椭圆 4"/>
                <p:cNvSpPr/>
                <p:nvPr/>
              </p:nvSpPr>
              <p:spPr>
                <a:xfrm>
                  <a:off x="3378240" y="1380960"/>
                  <a:ext cx="1091160" cy="1094040"/>
                </a:xfrm>
                <a:prstGeom prst="ellipse">
                  <a:avLst/>
                </a:prstGeom>
                <a:solidFill>
                  <a:srgbClr val="404040"/>
                </a:solidFill>
                <a:ln w="19044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3" name="空心弧 3"/>
                <p:cNvSpPr/>
                <p:nvPr/>
              </p:nvSpPr>
              <p:spPr>
                <a:xfrm rot="14672400">
                  <a:off x="3275640" y="1276560"/>
                  <a:ext cx="1295640" cy="1294200"/>
                </a:xfrm>
                <a:custGeom>
                  <a:avLst/>
                  <a:gdLst/>
                  <a:ahLst/>
                  <a:rect l="l" t="t" r="r" b="b"/>
                  <a:pathLst>
                    <a:path w="2603094" h="2602394">
                      <a:moveTo>
                        <a:pt x="0" y="1301197"/>
                      </a:moveTo>
                      <a:cubicBezTo>
                        <a:pt x="0" y="651863"/>
                        <a:pt x="478845" y="101917"/>
                        <a:pt x="1122154" y="12419"/>
                      </a:cubicBezTo>
                      <a:cubicBezTo>
                        <a:pt x="1765393" y="-77069"/>
                        <a:pt x="2376185" y="321182"/>
                        <a:pt x="2553591" y="945751"/>
                      </a:cubicBezTo>
                      <a:cubicBezTo>
                        <a:pt x="2731034" y="1570451"/>
                        <a:pt x="2420589" y="2230310"/>
                        <a:pt x="1826106" y="2492037"/>
                      </a:cubicBezTo>
                      <a:lnTo>
                        <a:pt x="1676666" y="2152781"/>
                      </a:lnTo>
                      <a:cubicBezTo>
                        <a:pt x="2101855" y="1965628"/>
                        <a:pt x="2323895" y="1493735"/>
                        <a:pt x="2196972" y="1046992"/>
                      </a:cubicBezTo>
                      <a:cubicBezTo>
                        <a:pt x="2070087" y="600381"/>
                        <a:pt x="1633278" y="315605"/>
                        <a:pt x="1173262" y="379589"/>
                      </a:cubicBezTo>
                      <a:cubicBezTo>
                        <a:pt x="713176" y="443583"/>
                        <a:pt x="370710" y="836852"/>
                        <a:pt x="370710" y="1301196"/>
                      </a:cubicBezTo>
                      <a:lnTo>
                        <a:pt x="0" y="1301197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25560">
                  <a:solidFill>
                    <a:srgbClr val="c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94" name="组合 10"/>
              <p:cNvGrpSpPr/>
              <p:nvPr/>
            </p:nvGrpSpPr>
            <p:grpSpPr>
              <a:xfrm>
                <a:off x="3639960" y="1810800"/>
                <a:ext cx="567360" cy="468000"/>
                <a:chOff x="3639960" y="1810800"/>
                <a:chExt cx="567360" cy="468000"/>
              </a:xfrm>
            </p:grpSpPr>
            <p:grpSp>
              <p:nvGrpSpPr>
                <p:cNvPr id="595" name="组合 6"/>
                <p:cNvGrpSpPr/>
                <p:nvPr/>
              </p:nvGrpSpPr>
              <p:grpSpPr>
                <a:xfrm>
                  <a:off x="3639960" y="1822680"/>
                  <a:ext cx="267840" cy="364680"/>
                  <a:chOff x="3639960" y="1822680"/>
                  <a:chExt cx="267840" cy="364680"/>
                </a:xfrm>
              </p:grpSpPr>
              <p:sp>
                <p:nvSpPr>
                  <p:cNvPr id="596" name="椭圆 7"/>
                  <p:cNvSpPr/>
                  <p:nvPr/>
                </p:nvSpPr>
                <p:spPr>
                  <a:xfrm>
                    <a:off x="3676320" y="1937160"/>
                    <a:ext cx="209160" cy="23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7" name="椭圆 8"/>
                  <p:cNvSpPr/>
                  <p:nvPr/>
                </p:nvSpPr>
                <p:spPr>
                  <a:xfrm>
                    <a:off x="3723840" y="1822680"/>
                    <a:ext cx="112320" cy="115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8" name="矩形 9"/>
                  <p:cNvSpPr/>
                  <p:nvPr/>
                </p:nvSpPr>
                <p:spPr>
                  <a:xfrm>
                    <a:off x="3639960" y="2064600"/>
                    <a:ext cx="267840" cy="122760"/>
                  </a:xfrm>
                  <a:prstGeom prst="rect">
                    <a:avLst/>
                  </a:prstGeom>
                  <a:solidFill>
                    <a:srgbClr val="404040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9" name="组合 16"/>
                <p:cNvGrpSpPr/>
                <p:nvPr/>
              </p:nvGrpSpPr>
              <p:grpSpPr>
                <a:xfrm>
                  <a:off x="3939480" y="1821600"/>
                  <a:ext cx="267840" cy="364680"/>
                  <a:chOff x="3939480" y="1821600"/>
                  <a:chExt cx="267840" cy="364680"/>
                </a:xfrm>
              </p:grpSpPr>
              <p:sp>
                <p:nvSpPr>
                  <p:cNvPr id="600" name="椭圆 17"/>
                  <p:cNvSpPr/>
                  <p:nvPr/>
                </p:nvSpPr>
                <p:spPr>
                  <a:xfrm>
                    <a:off x="3975840" y="1931760"/>
                    <a:ext cx="209160" cy="241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1" name="椭圆 18"/>
                  <p:cNvSpPr/>
                  <p:nvPr/>
                </p:nvSpPr>
                <p:spPr>
                  <a:xfrm>
                    <a:off x="4025160" y="1821600"/>
                    <a:ext cx="112320" cy="11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2" name="矩形 19"/>
                  <p:cNvSpPr/>
                  <p:nvPr/>
                </p:nvSpPr>
                <p:spPr>
                  <a:xfrm>
                    <a:off x="3939480" y="2066400"/>
                    <a:ext cx="267840" cy="119880"/>
                  </a:xfrm>
                  <a:prstGeom prst="rect">
                    <a:avLst/>
                  </a:prstGeom>
                  <a:solidFill>
                    <a:srgbClr val="404040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3" name="组合 12"/>
                <p:cNvGrpSpPr/>
                <p:nvPr/>
              </p:nvGrpSpPr>
              <p:grpSpPr>
                <a:xfrm>
                  <a:off x="3751920" y="1810800"/>
                  <a:ext cx="344160" cy="468000"/>
                  <a:chOff x="3751920" y="1810800"/>
                  <a:chExt cx="344160" cy="468000"/>
                </a:xfrm>
              </p:grpSpPr>
              <p:sp>
                <p:nvSpPr>
                  <p:cNvPr id="604" name="椭圆 13"/>
                  <p:cNvSpPr/>
                  <p:nvPr/>
                </p:nvSpPr>
                <p:spPr>
                  <a:xfrm>
                    <a:off x="3798000" y="1955520"/>
                    <a:ext cx="269280" cy="30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5" name="椭圆 14"/>
                  <p:cNvSpPr/>
                  <p:nvPr/>
                </p:nvSpPr>
                <p:spPr>
                  <a:xfrm>
                    <a:off x="3860280" y="1810800"/>
                    <a:ext cx="145080" cy="144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6" name="矩形 15"/>
                  <p:cNvSpPr/>
                  <p:nvPr/>
                </p:nvSpPr>
                <p:spPr>
                  <a:xfrm>
                    <a:off x="3751920" y="2126160"/>
                    <a:ext cx="344160" cy="152640"/>
                  </a:xfrm>
                  <a:prstGeom prst="rect">
                    <a:avLst/>
                  </a:prstGeom>
                  <a:solidFill>
                    <a:srgbClr val="404040"/>
                  </a:solidFill>
                  <a:ln w="2556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07" name="加号 20"/>
              <p:cNvSpPr/>
              <p:nvPr/>
            </p:nvSpPr>
            <p:spPr>
              <a:xfrm rot="5400000">
                <a:off x="4166280" y="1699200"/>
                <a:ext cx="144360" cy="155520"/>
              </a:xfrm>
              <a:custGeom>
                <a:avLst/>
                <a:gdLst/>
                <a:ahLst/>
                <a:rect l="l" t="t" r="r" b="b"/>
                <a:pathLst>
                  <a:path w="290297" h="312926">
                    <a:moveTo>
                      <a:pt x="38479" y="132489"/>
                    </a:moveTo>
                    <a:lnTo>
                      <a:pt x="121174" y="132489"/>
                    </a:lnTo>
                    <a:lnTo>
                      <a:pt x="121174" y="41478"/>
                    </a:lnTo>
                    <a:lnTo>
                      <a:pt x="169123" y="41478"/>
                    </a:lnTo>
                    <a:lnTo>
                      <a:pt x="169123" y="132489"/>
                    </a:lnTo>
                    <a:lnTo>
                      <a:pt x="251818" y="132489"/>
                    </a:lnTo>
                    <a:lnTo>
                      <a:pt x="251818" y="180437"/>
                    </a:lnTo>
                    <a:lnTo>
                      <a:pt x="169123" y="180437"/>
                    </a:lnTo>
                    <a:lnTo>
                      <a:pt x="169123" y="271448"/>
                    </a:lnTo>
                    <a:lnTo>
                      <a:pt x="121174" y="271448"/>
                    </a:lnTo>
                    <a:lnTo>
                      <a:pt x="121174" y="180437"/>
                    </a:lnTo>
                    <a:lnTo>
                      <a:pt x="38479" y="180437"/>
                    </a:lnTo>
                    <a:lnTo>
                      <a:pt x="38479" y="132489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8" name="TextBox 22"/>
            <p:cNvSpPr/>
            <p:nvPr/>
          </p:nvSpPr>
          <p:spPr>
            <a:xfrm>
              <a:off x="4654080" y="143352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brima"/>
                </a:rPr>
                <a:t>70%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TextBox 23"/>
            <p:cNvSpPr/>
            <p:nvPr/>
          </p:nvSpPr>
          <p:spPr>
            <a:xfrm>
              <a:off x="4654080" y="1888920"/>
              <a:ext cx="14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25"/>
            <p:cNvSpPr/>
            <p:nvPr/>
          </p:nvSpPr>
          <p:spPr>
            <a:xfrm>
              <a:off x="4654080" y="2089440"/>
              <a:ext cx="14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26"/>
            <p:cNvSpPr/>
            <p:nvPr/>
          </p:nvSpPr>
          <p:spPr>
            <a:xfrm>
              <a:off x="4654080" y="2288520"/>
              <a:ext cx="14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组合 2"/>
          <p:cNvGrpSpPr/>
          <p:nvPr/>
        </p:nvGrpSpPr>
        <p:grpSpPr>
          <a:xfrm>
            <a:off x="1594440" y="2680920"/>
            <a:ext cx="5777640" cy="2183400"/>
            <a:chOff x="1594440" y="2680920"/>
            <a:chExt cx="5777640" cy="2183400"/>
          </a:xfrm>
        </p:grpSpPr>
        <p:grpSp>
          <p:nvGrpSpPr>
            <p:cNvPr id="613" name="组合 41992"/>
            <p:cNvGrpSpPr/>
            <p:nvPr/>
          </p:nvGrpSpPr>
          <p:grpSpPr>
            <a:xfrm>
              <a:off x="1594440" y="2680920"/>
              <a:ext cx="1251360" cy="2117160"/>
              <a:chOff x="1594440" y="2680920"/>
              <a:chExt cx="1251360" cy="2117160"/>
            </a:xfrm>
          </p:grpSpPr>
          <p:sp>
            <p:nvSpPr>
              <p:cNvPr id="614" name="TextBox 33"/>
              <p:cNvSpPr/>
              <p:nvPr/>
            </p:nvSpPr>
            <p:spPr>
              <a:xfrm>
                <a:off x="1657440" y="4320720"/>
                <a:ext cx="1125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空心弧 27"/>
              <p:cNvSpPr/>
              <p:nvPr/>
            </p:nvSpPr>
            <p:spPr>
              <a:xfrm rot="18348600">
                <a:off x="1772280" y="2857680"/>
                <a:ext cx="895320" cy="897120"/>
              </a:xfrm>
              <a:custGeom>
                <a:avLst/>
                <a:gdLst/>
                <a:ahLst/>
                <a:rect l="l" t="t" r="r" b="b"/>
                <a:pathLst>
                  <a:path w="964381" h="965599">
                    <a:moveTo>
                      <a:pt x="734448" y="894261"/>
                    </a:moveTo>
                    <a:cubicBezTo>
                      <a:pt x="547262" y="1009310"/>
                      <a:pt x="306078" y="983164"/>
                      <a:pt x="147823" y="830666"/>
                    </a:cubicBezTo>
                    <a:cubicBezTo>
                      <a:pt x="-10126" y="678462"/>
                      <a:pt x="-45661" y="438736"/>
                      <a:pt x="61331" y="247161"/>
                    </a:cubicBezTo>
                    <a:cubicBezTo>
                      <a:pt x="168499" y="55270"/>
                      <a:pt x="391612" y="-39893"/>
                      <a:pt x="604061" y="15673"/>
                    </a:cubicBezTo>
                    <a:cubicBezTo>
                      <a:pt x="816309" y="71187"/>
                      <a:pt x="964382" y="263152"/>
                      <a:pt x="964382" y="482798"/>
                    </a:cubicBezTo>
                    <a:lnTo>
                      <a:pt x="723286" y="482800"/>
                    </a:lnTo>
                    <a:cubicBezTo>
                      <a:pt x="723286" y="372866"/>
                      <a:pt x="649286" y="276780"/>
                      <a:pt x="543198" y="248962"/>
                    </a:cubicBezTo>
                    <a:cubicBezTo>
                      <a:pt x="436909" y="221092"/>
                      <a:pt x="325268" y="268785"/>
                      <a:pt x="271699" y="364946"/>
                    </a:cubicBezTo>
                    <a:cubicBezTo>
                      <a:pt x="218306" y="460791"/>
                      <a:pt x="236048" y="580672"/>
                      <a:pt x="314899" y="656847"/>
                    </a:cubicBezTo>
                    <a:cubicBezTo>
                      <a:pt x="394055" y="733316"/>
                      <a:pt x="514784" y="746425"/>
                      <a:pt x="608436" y="688719"/>
                    </a:cubicBezTo>
                    <a:lnTo>
                      <a:pt x="734448" y="894261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椭圆 28"/>
              <p:cNvSpPr/>
              <p:nvPr/>
            </p:nvSpPr>
            <p:spPr>
              <a:xfrm>
                <a:off x="1870200" y="2955960"/>
                <a:ext cx="700200" cy="699840"/>
              </a:xfrm>
              <a:prstGeom prst="ellipse">
                <a:avLst/>
              </a:prstGeom>
              <a:solidFill>
                <a:srgbClr val="262626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TextBox 31"/>
              <p:cNvSpPr/>
              <p:nvPr/>
            </p:nvSpPr>
            <p:spPr>
              <a:xfrm>
                <a:off x="1851120" y="3800520"/>
                <a:ext cx="73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</a:rPr>
                  <a:t>80%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TextBox 32"/>
              <p:cNvSpPr/>
              <p:nvPr/>
            </p:nvSpPr>
            <p:spPr>
              <a:xfrm>
                <a:off x="1657440" y="4129920"/>
                <a:ext cx="1125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TextBox 34"/>
              <p:cNvSpPr/>
              <p:nvPr/>
            </p:nvSpPr>
            <p:spPr>
              <a:xfrm>
                <a:off x="1657440" y="4521600"/>
                <a:ext cx="1125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圆角矩形标注 30"/>
              <p:cNvSpPr/>
              <p:nvPr/>
            </p:nvSpPr>
            <p:spPr>
              <a:xfrm>
                <a:off x="2043000" y="3200400"/>
                <a:ext cx="353880" cy="210960"/>
              </a:xfrm>
              <a:prstGeom prst="wedgeRoundRectCallout">
                <a:avLst>
                  <a:gd name="adj1" fmla="val -26555"/>
                  <a:gd name="adj2" fmla="val 96134"/>
                  <a:gd name="adj3" fmla="val 16667"/>
                </a:avLst>
              </a:prstGeom>
              <a:solidFill>
                <a:srgbClr val="ffffff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圆角矩形标注 36"/>
              <p:cNvSpPr/>
              <p:nvPr/>
            </p:nvSpPr>
            <p:spPr>
              <a:xfrm>
                <a:off x="2040120" y="3138480"/>
                <a:ext cx="360360" cy="210960"/>
              </a:xfrm>
              <a:prstGeom prst="wedgeRoundRectCallout">
                <a:avLst>
                  <a:gd name="adj1" fmla="val 36087"/>
                  <a:gd name="adj2" fmla="val 96134"/>
                  <a:gd name="adj3" fmla="val 16667"/>
                </a:avLst>
              </a:prstGeom>
              <a:solidFill>
                <a:srgbClr val="ffffff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组合 41993"/>
            <p:cNvGrpSpPr/>
            <p:nvPr/>
          </p:nvGrpSpPr>
          <p:grpSpPr>
            <a:xfrm>
              <a:off x="3914640" y="2681640"/>
              <a:ext cx="1310760" cy="2116440"/>
              <a:chOff x="3914640" y="2681640"/>
              <a:chExt cx="1310760" cy="2116440"/>
            </a:xfrm>
          </p:grpSpPr>
          <p:sp>
            <p:nvSpPr>
              <p:cNvPr id="623" name="TextBox 39"/>
              <p:cNvSpPr/>
              <p:nvPr/>
            </p:nvSpPr>
            <p:spPr>
              <a:xfrm>
                <a:off x="3914640" y="4320360"/>
                <a:ext cx="13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空心弧 40"/>
              <p:cNvSpPr/>
              <p:nvPr/>
            </p:nvSpPr>
            <p:spPr>
              <a:xfrm rot="18348600">
                <a:off x="4122720" y="2858760"/>
                <a:ext cx="895320" cy="895320"/>
              </a:xfrm>
              <a:custGeom>
                <a:avLst/>
                <a:gdLst/>
                <a:ahLst/>
                <a:rect l="l" t="t" r="r" b="b"/>
                <a:pathLst>
                  <a:path w="963940" h="963398">
                    <a:moveTo>
                      <a:pt x="6912" y="562983"/>
                    </a:moveTo>
                    <a:cubicBezTo>
                      <a:pt x="-27735" y="360721"/>
                      <a:pt x="69632" y="158727"/>
                      <a:pt x="249486" y="59744"/>
                    </a:cubicBezTo>
                    <a:cubicBezTo>
                      <a:pt x="429209" y="-39167"/>
                      <a:pt x="651884" y="-13521"/>
                      <a:pt x="804387" y="123652"/>
                    </a:cubicBezTo>
                    <a:lnTo>
                      <a:pt x="657769" y="286472"/>
                    </a:lnTo>
                    <a:cubicBezTo>
                      <a:pt x="574608" y="211741"/>
                      <a:pt x="453214" y="197769"/>
                      <a:pt x="355220" y="251649"/>
                    </a:cubicBezTo>
                    <a:cubicBezTo>
                      <a:pt x="257094" y="305602"/>
                      <a:pt x="203970" y="415744"/>
                      <a:pt x="222879" y="526030"/>
                    </a:cubicBezTo>
                    <a:lnTo>
                      <a:pt x="6912" y="562983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椭圆 41"/>
              <p:cNvSpPr/>
              <p:nvPr/>
            </p:nvSpPr>
            <p:spPr>
              <a:xfrm>
                <a:off x="4219560" y="2955960"/>
                <a:ext cx="701640" cy="699840"/>
              </a:xfrm>
              <a:prstGeom prst="ellipse">
                <a:avLst/>
              </a:prstGeom>
              <a:solidFill>
                <a:srgbClr val="262626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TextBox 42"/>
              <p:cNvSpPr/>
              <p:nvPr/>
            </p:nvSpPr>
            <p:spPr>
              <a:xfrm>
                <a:off x="4201200" y="3801240"/>
                <a:ext cx="73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</a:rPr>
                  <a:t>40%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TextBox 43"/>
              <p:cNvSpPr/>
              <p:nvPr/>
            </p:nvSpPr>
            <p:spPr>
              <a:xfrm>
                <a:off x="3914640" y="4129560"/>
                <a:ext cx="13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TextBox 44"/>
              <p:cNvSpPr/>
              <p:nvPr/>
            </p:nvSpPr>
            <p:spPr>
              <a:xfrm>
                <a:off x="3914640" y="4521600"/>
                <a:ext cx="131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9" name="组合 54"/>
              <p:cNvGrpSpPr/>
              <p:nvPr/>
            </p:nvGrpSpPr>
            <p:grpSpPr>
              <a:xfrm>
                <a:off x="4383000" y="3140280"/>
                <a:ext cx="373680" cy="332640"/>
                <a:chOff x="4383000" y="3140280"/>
                <a:chExt cx="373680" cy="332640"/>
              </a:xfrm>
            </p:grpSpPr>
            <p:pic>
              <p:nvPicPr>
                <p:cNvPr id="630" name="组合 5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383000" y="3140280"/>
                  <a:ext cx="373680" cy="33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1" name="椭圆 53"/>
                <p:cNvSpPr/>
                <p:nvPr/>
              </p:nvSpPr>
              <p:spPr>
                <a:xfrm>
                  <a:off x="4502160" y="3251880"/>
                  <a:ext cx="124200" cy="123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26262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2" name="组合 41994"/>
            <p:cNvGrpSpPr/>
            <p:nvPr/>
          </p:nvGrpSpPr>
          <p:grpSpPr>
            <a:xfrm>
              <a:off x="6122160" y="2681640"/>
              <a:ext cx="1249920" cy="2182680"/>
              <a:chOff x="6122160" y="2681640"/>
              <a:chExt cx="1249920" cy="2182680"/>
            </a:xfrm>
          </p:grpSpPr>
          <p:sp>
            <p:nvSpPr>
              <p:cNvPr id="633" name="TextBox 57"/>
              <p:cNvSpPr/>
              <p:nvPr/>
            </p:nvSpPr>
            <p:spPr>
              <a:xfrm>
                <a:off x="6185520" y="4176720"/>
                <a:ext cx="112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空心弧 58"/>
              <p:cNvSpPr/>
              <p:nvPr/>
            </p:nvSpPr>
            <p:spPr>
              <a:xfrm rot="18348600">
                <a:off x="6299280" y="2858760"/>
                <a:ext cx="895320" cy="895320"/>
              </a:xfrm>
              <a:custGeom>
                <a:avLst/>
                <a:gdLst/>
                <a:ahLst/>
                <a:rect l="l" t="t" r="r" b="b"/>
                <a:pathLst>
                  <a:path w="964627" h="965155">
                    <a:moveTo>
                      <a:pt x="249563" y="59909"/>
                    </a:moveTo>
                    <a:cubicBezTo>
                      <a:pt x="429513" y="-39292"/>
                      <a:pt x="652519" y="-13545"/>
                      <a:pt x="805159" y="124056"/>
                    </a:cubicBezTo>
                    <a:lnTo>
                      <a:pt x="658353" y="287084"/>
                    </a:lnTo>
                    <a:cubicBezTo>
                      <a:pt x="575130" y="211992"/>
                      <a:pt x="453511" y="197942"/>
                      <a:pt x="355388" y="252084"/>
                    </a:cubicBezTo>
                    <a:lnTo>
                      <a:pt x="249563" y="59909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椭圆 59"/>
              <p:cNvSpPr/>
              <p:nvPr/>
            </p:nvSpPr>
            <p:spPr>
              <a:xfrm>
                <a:off x="6397560" y="2955960"/>
                <a:ext cx="698400" cy="699840"/>
              </a:xfrm>
              <a:prstGeom prst="ellipse">
                <a:avLst/>
              </a:prstGeom>
              <a:solidFill>
                <a:srgbClr val="262626"/>
              </a:solidFill>
              <a:ln w="25560">
                <a:solidFill>
                  <a:srgbClr val="2626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TextBox 60"/>
              <p:cNvSpPr/>
              <p:nvPr/>
            </p:nvSpPr>
            <p:spPr>
              <a:xfrm>
                <a:off x="6379200" y="3827520"/>
                <a:ext cx="73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Ebrima"/>
                  </a:rPr>
                  <a:t>20%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TextBox 61"/>
              <p:cNvSpPr/>
              <p:nvPr/>
            </p:nvSpPr>
            <p:spPr>
              <a:xfrm>
                <a:off x="6185520" y="4377240"/>
                <a:ext cx="112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TextBox 62"/>
              <p:cNvSpPr/>
              <p:nvPr/>
            </p:nvSpPr>
            <p:spPr>
              <a:xfrm>
                <a:off x="6185520" y="4587840"/>
                <a:ext cx="1123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输入文本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9" name="组合 41988"/>
              <p:cNvGrpSpPr/>
              <p:nvPr/>
            </p:nvGrpSpPr>
            <p:grpSpPr>
              <a:xfrm>
                <a:off x="6588000" y="3066480"/>
                <a:ext cx="317880" cy="368280"/>
                <a:chOff x="6588000" y="3066480"/>
                <a:chExt cx="317880" cy="368280"/>
              </a:xfrm>
            </p:grpSpPr>
            <p:sp>
              <p:nvSpPr>
                <p:cNvPr id="640" name="椭圆 41986"/>
                <p:cNvSpPr/>
                <p:nvPr/>
              </p:nvSpPr>
              <p:spPr>
                <a:xfrm>
                  <a:off x="6675480" y="3066480"/>
                  <a:ext cx="142920" cy="295560"/>
                </a:xfrm>
                <a:prstGeom prst="ellipse">
                  <a:avLst/>
                </a:prstGeom>
                <a:solidFill>
                  <a:srgbClr val="262626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1" name="流程图: 手动操作 55"/>
                <p:cNvSpPr/>
                <p:nvPr/>
              </p:nvSpPr>
              <p:spPr>
                <a:xfrm flipV="1">
                  <a:off x="6588000" y="3164040"/>
                  <a:ext cx="317880" cy="270360"/>
                </a:xfrm>
                <a:prstGeom prst="flowChartManualOperation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2" name="五角星 41984"/>
                <p:cNvSpPr/>
                <p:nvPr/>
              </p:nvSpPr>
              <p:spPr>
                <a:xfrm>
                  <a:off x="6684840" y="3277800"/>
                  <a:ext cx="123840" cy="122400"/>
                </a:xfrm>
                <a:custGeom>
                  <a:avLst/>
                  <a:gdLst/>
                  <a:ahLst/>
                  <a:rect l="l" t="t" r="r" b="b"/>
                  <a:pathLst>
                    <a:path w="196210" h="193589">
                      <a:moveTo>
                        <a:pt x="0" y="73944"/>
                      </a:moveTo>
                      <a:lnTo>
                        <a:pt x="74946" y="73945"/>
                      </a:lnTo>
                      <a:lnTo>
                        <a:pt x="98105" y="0"/>
                      </a:lnTo>
                      <a:lnTo>
                        <a:pt x="121264" y="73945"/>
                      </a:lnTo>
                      <a:lnTo>
                        <a:pt x="196210" y="73944"/>
                      </a:lnTo>
                      <a:lnTo>
                        <a:pt x="135577" y="119644"/>
                      </a:lnTo>
                      <a:lnTo>
                        <a:pt x="158737" y="193589"/>
                      </a:lnTo>
                      <a:lnTo>
                        <a:pt x="98105" y="147888"/>
                      </a:lnTo>
                      <a:lnTo>
                        <a:pt x="37473" y="193589"/>
                      </a:lnTo>
                      <a:lnTo>
                        <a:pt x="60633" y="119644"/>
                      </a:lnTo>
                      <a:lnTo>
                        <a:pt x="0" y="73944"/>
                      </a:lnTo>
                      <a:close/>
                    </a:path>
                  </a:pathLst>
                </a:custGeom>
                <a:solidFill>
                  <a:srgbClr val="262626"/>
                </a:solidFill>
                <a:ln w="2556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3" name="椭圆 41987"/>
                <p:cNvSpPr/>
                <p:nvPr/>
              </p:nvSpPr>
              <p:spPr>
                <a:xfrm flipV="1">
                  <a:off x="6670440" y="3199320"/>
                  <a:ext cx="28440" cy="28440"/>
                </a:xfrm>
                <a:prstGeom prst="ellipse">
                  <a:avLst/>
                </a:prstGeom>
                <a:solidFill>
                  <a:srgbClr val="262626"/>
                </a:solidFill>
                <a:ln w="25560">
                  <a:solidFill>
                    <a:srgbClr val="26262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4" name="椭圆 70"/>
                <p:cNvSpPr/>
                <p:nvPr/>
              </p:nvSpPr>
              <p:spPr>
                <a:xfrm flipV="1">
                  <a:off x="6801120" y="3199320"/>
                  <a:ext cx="29880" cy="28440"/>
                </a:xfrm>
                <a:prstGeom prst="ellipse">
                  <a:avLst/>
                </a:prstGeom>
                <a:solidFill>
                  <a:srgbClr val="262626"/>
                </a:solidFill>
                <a:ln w="25560">
                  <a:solidFill>
                    <a:srgbClr val="26262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45" name="组合 60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646" name="图片 6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8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4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4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0" name="组合 2"/>
          <p:cNvGrpSpPr/>
          <p:nvPr/>
        </p:nvGrpSpPr>
        <p:grpSpPr>
          <a:xfrm>
            <a:off x="2987640" y="3643200"/>
            <a:ext cx="1289160" cy="276480"/>
            <a:chOff x="2987640" y="3643200"/>
            <a:chExt cx="1289160" cy="276480"/>
          </a:xfrm>
        </p:grpSpPr>
        <p:pic>
          <p:nvPicPr>
            <p:cNvPr id="651" name="Group 137" descr=""/>
            <p:cNvPicPr/>
            <p:nvPr/>
          </p:nvPicPr>
          <p:blipFill>
            <a:blip r:embed="rId1"/>
            <a:stretch/>
          </p:blipFill>
          <p:spPr>
            <a:xfrm>
              <a:off x="2987640" y="3724560"/>
              <a:ext cx="272880" cy="8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9"/>
            <p:cNvSpPr/>
            <p:nvPr/>
          </p:nvSpPr>
          <p:spPr>
            <a:xfrm>
              <a:off x="3170880" y="364320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7"/>
          <p:cNvGrpSpPr/>
          <p:nvPr/>
        </p:nvGrpSpPr>
        <p:grpSpPr>
          <a:xfrm>
            <a:off x="4952880" y="3643200"/>
            <a:ext cx="1295640" cy="276480"/>
            <a:chOff x="4952880" y="3643200"/>
            <a:chExt cx="1295640" cy="276480"/>
          </a:xfrm>
        </p:grpSpPr>
        <p:pic>
          <p:nvPicPr>
            <p:cNvPr id="654" name="Group 136" descr=""/>
            <p:cNvPicPr/>
            <p:nvPr/>
          </p:nvPicPr>
          <p:blipFill>
            <a:blip r:embed="rId2"/>
            <a:stretch/>
          </p:blipFill>
          <p:spPr>
            <a:xfrm>
              <a:off x="4952880" y="3730680"/>
              <a:ext cx="26280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9"/>
            <p:cNvSpPr/>
            <p:nvPr/>
          </p:nvSpPr>
          <p:spPr>
            <a:xfrm>
              <a:off x="5135400" y="3643200"/>
              <a:ext cx="111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组合 12"/>
          <p:cNvGrpSpPr/>
          <p:nvPr/>
        </p:nvGrpSpPr>
        <p:grpSpPr>
          <a:xfrm>
            <a:off x="2050920" y="1460520"/>
            <a:ext cx="5407200" cy="1980360"/>
            <a:chOff x="2050920" y="1460520"/>
            <a:chExt cx="5407200" cy="1980360"/>
          </a:xfrm>
        </p:grpSpPr>
        <p:sp>
          <p:nvSpPr>
            <p:cNvPr id="657" name="直接连接符​​ 8"/>
            <p:cNvSpPr/>
            <p:nvPr/>
          </p:nvSpPr>
          <p:spPr>
            <a:xfrm flipV="1">
              <a:off x="332388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直接连接符​​ 9"/>
            <p:cNvSpPr/>
            <p:nvPr/>
          </p:nvSpPr>
          <p:spPr>
            <a:xfrm flipV="1">
              <a:off x="453852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直接连接符​​ 10"/>
            <p:cNvSpPr/>
            <p:nvPr/>
          </p:nvSpPr>
          <p:spPr>
            <a:xfrm flipV="1">
              <a:off x="574524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​​ 11"/>
            <p:cNvSpPr/>
            <p:nvPr/>
          </p:nvSpPr>
          <p:spPr>
            <a:xfrm flipV="1">
              <a:off x="6978960" y="1599840"/>
              <a:ext cx="0" cy="151452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Line 8"/>
            <p:cNvSpPr/>
            <p:nvPr/>
          </p:nvSpPr>
          <p:spPr>
            <a:xfrm flipH="1">
              <a:off x="2058840" y="1460520"/>
              <a:ext cx="10800" cy="165744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>
              <a:off x="2050920" y="3114720"/>
              <a:ext cx="5407200" cy="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AutoShape 14"/>
            <p:cNvSpPr/>
            <p:nvPr/>
          </p:nvSpPr>
          <p:spPr>
            <a:xfrm>
              <a:off x="2403360" y="1714320"/>
              <a:ext cx="1744560" cy="24732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32"/>
            <p:cNvSpPr/>
            <p:nvPr/>
          </p:nvSpPr>
          <p:spPr>
            <a:xfrm>
              <a:off x="2091960" y="2077920"/>
              <a:ext cx="4875480" cy="976320"/>
            </a:xfrm>
            <a:custGeom>
              <a:avLst/>
              <a:gdLst>
                <a:gd name="textAreaLeft" fmla="*/ 0 w 4875480"/>
                <a:gd name="textAreaRight" fmla="*/ 4875840 w 48754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3651" h="903">
                  <a:moveTo>
                    <a:pt x="0" y="162"/>
                  </a:moveTo>
                  <a:cubicBezTo>
                    <a:pt x="144" y="249"/>
                    <a:pt x="498" y="651"/>
                    <a:pt x="666" y="747"/>
                  </a:cubicBezTo>
                  <a:cubicBezTo>
                    <a:pt x="894" y="903"/>
                    <a:pt x="1047" y="801"/>
                    <a:pt x="1122" y="732"/>
                  </a:cubicBezTo>
                  <a:cubicBezTo>
                    <a:pt x="1473" y="348"/>
                    <a:pt x="1521" y="267"/>
                    <a:pt x="1626" y="174"/>
                  </a:cubicBezTo>
                  <a:cubicBezTo>
                    <a:pt x="1797" y="0"/>
                    <a:pt x="1923" y="18"/>
                    <a:pt x="2121" y="141"/>
                  </a:cubicBezTo>
                  <a:cubicBezTo>
                    <a:pt x="2331" y="306"/>
                    <a:pt x="2433" y="399"/>
                    <a:pt x="2583" y="491"/>
                  </a:cubicBezTo>
                  <a:cubicBezTo>
                    <a:pt x="2772" y="603"/>
                    <a:pt x="3003" y="501"/>
                    <a:pt x="3087" y="467"/>
                  </a:cubicBezTo>
                  <a:cubicBezTo>
                    <a:pt x="3240" y="402"/>
                    <a:pt x="3518" y="235"/>
                    <a:pt x="3651" y="186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prstDash val="lg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Rectangle 34"/>
            <p:cNvSpPr/>
            <p:nvPr/>
          </p:nvSpPr>
          <p:spPr>
            <a:xfrm>
              <a:off x="2060280" y="2227320"/>
              <a:ext cx="5364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Rectangle 39"/>
            <p:cNvSpPr/>
            <p:nvPr/>
          </p:nvSpPr>
          <p:spPr>
            <a:xfrm>
              <a:off x="3336840" y="2940120"/>
              <a:ext cx="5364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Rectangle 44"/>
            <p:cNvSpPr/>
            <p:nvPr/>
          </p:nvSpPr>
          <p:spPr>
            <a:xfrm>
              <a:off x="5727600" y="2633760"/>
              <a:ext cx="5220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Rectangle 49"/>
            <p:cNvSpPr/>
            <p:nvPr/>
          </p:nvSpPr>
          <p:spPr>
            <a:xfrm>
              <a:off x="6951960" y="2243160"/>
              <a:ext cx="52200" cy="4284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59"/>
            <p:cNvSpPr/>
            <p:nvPr/>
          </p:nvSpPr>
          <p:spPr>
            <a:xfrm>
              <a:off x="2098440" y="1701720"/>
              <a:ext cx="4874040" cy="955440"/>
            </a:xfrm>
            <a:custGeom>
              <a:avLst/>
              <a:gdLst>
                <a:gd name="textAreaLeft" fmla="*/ 0 w 4874040"/>
                <a:gd name="textAreaRight" fmla="*/ 4874400 w 487404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3650" h="885">
                  <a:moveTo>
                    <a:pt x="0" y="885"/>
                  </a:moveTo>
                  <a:cubicBezTo>
                    <a:pt x="459" y="784"/>
                    <a:pt x="685" y="729"/>
                    <a:pt x="917" y="664"/>
                  </a:cubicBezTo>
                  <a:cubicBezTo>
                    <a:pt x="1106" y="612"/>
                    <a:pt x="1642" y="428"/>
                    <a:pt x="1828" y="346"/>
                  </a:cubicBezTo>
                  <a:cubicBezTo>
                    <a:pt x="1964" y="290"/>
                    <a:pt x="2356" y="94"/>
                    <a:pt x="2463" y="69"/>
                  </a:cubicBezTo>
                  <a:cubicBezTo>
                    <a:pt x="2742" y="0"/>
                    <a:pt x="2882" y="116"/>
                    <a:pt x="2944" y="154"/>
                  </a:cubicBezTo>
                  <a:cubicBezTo>
                    <a:pt x="3150" y="288"/>
                    <a:pt x="3477" y="649"/>
                    <a:pt x="3650" y="774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Rectangle 61"/>
            <p:cNvSpPr/>
            <p:nvPr/>
          </p:nvSpPr>
          <p:spPr>
            <a:xfrm>
              <a:off x="2050920" y="2631960"/>
              <a:ext cx="71280" cy="554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Rectangle 66"/>
            <p:cNvSpPr/>
            <p:nvPr/>
          </p:nvSpPr>
          <p:spPr>
            <a:xfrm>
              <a:off x="3327120" y="2359080"/>
              <a:ext cx="71280" cy="568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Rectangle 71"/>
            <p:cNvSpPr/>
            <p:nvPr/>
          </p:nvSpPr>
          <p:spPr>
            <a:xfrm>
              <a:off x="5726160" y="1714320"/>
              <a:ext cx="71280" cy="554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Rectangle 76"/>
            <p:cNvSpPr/>
            <p:nvPr/>
          </p:nvSpPr>
          <p:spPr>
            <a:xfrm>
              <a:off x="6942240" y="2504880"/>
              <a:ext cx="69840" cy="56880"/>
            </a:xfrm>
            <a:prstGeom prst="rect">
              <a:avLst/>
            </a:prstGeom>
            <a:solidFill>
              <a:srgbClr val="56606a"/>
            </a:solidFill>
            <a:ln w="9360">
              <a:solidFill>
                <a:srgbClr val="5660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4456080" y="2025720"/>
              <a:ext cx="220680" cy="177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612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Rectangle 121"/>
            <p:cNvSpPr/>
            <p:nvPr/>
          </p:nvSpPr>
          <p:spPr>
            <a:xfrm>
              <a:off x="4529160" y="2077920"/>
              <a:ext cx="88560" cy="712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Rectangle 133"/>
            <p:cNvSpPr/>
            <p:nvPr/>
          </p:nvSpPr>
          <p:spPr>
            <a:xfrm>
              <a:off x="2622240" y="167472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点击输入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组合 146"/>
            <p:cNvGrpSpPr/>
            <p:nvPr/>
          </p:nvGrpSpPr>
          <p:grpSpPr>
            <a:xfrm>
              <a:off x="4198680" y="1714320"/>
              <a:ext cx="306360" cy="298440"/>
              <a:chOff x="4198680" y="1714320"/>
              <a:chExt cx="306360" cy="298440"/>
            </a:xfrm>
          </p:grpSpPr>
          <p:sp>
            <p:nvSpPr>
              <p:cNvPr id="678" name="任意多边形 143"/>
              <p:cNvSpPr/>
              <p:nvPr/>
            </p:nvSpPr>
            <p:spPr>
              <a:xfrm>
                <a:off x="4206240" y="1714320"/>
                <a:ext cx="360" cy="258120"/>
              </a:xfrm>
              <a:custGeom>
                <a:avLst/>
                <a:gdLst/>
                <a:ahLst/>
                <a:rect l="l" t="t" r="r" b="b"/>
                <a:pathLst>
                  <a:path w="0" h="323850">
                    <a:moveTo>
                      <a:pt x="0" y="0"/>
                    </a:moveTo>
                    <a:lnTo>
                      <a:pt x="0" y="32385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6122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任意多边形 144"/>
              <p:cNvSpPr/>
              <p:nvPr/>
            </p:nvSpPr>
            <p:spPr>
              <a:xfrm>
                <a:off x="4198680" y="1835640"/>
                <a:ext cx="306360" cy="1771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266700" h="222250">
                    <a:moveTo>
                      <a:pt x="0" y="0"/>
                    </a:moveTo>
                    <a:lnTo>
                      <a:pt x="266700" y="222250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6122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0" name="Text Box 9"/>
            <p:cNvSpPr/>
            <p:nvPr/>
          </p:nvSpPr>
          <p:spPr>
            <a:xfrm>
              <a:off x="2206440" y="313380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Text Box 9"/>
            <p:cNvSpPr/>
            <p:nvPr/>
          </p:nvSpPr>
          <p:spPr>
            <a:xfrm>
              <a:off x="3444840" y="313380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Text Box 9"/>
            <p:cNvSpPr/>
            <p:nvPr/>
          </p:nvSpPr>
          <p:spPr>
            <a:xfrm>
              <a:off x="4687920" y="313380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 Box 9"/>
            <p:cNvSpPr/>
            <p:nvPr/>
          </p:nvSpPr>
          <p:spPr>
            <a:xfrm>
              <a:off x="5916600" y="313380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4" name="组合 40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685" name="图片 4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组合 2"/>
          <p:cNvGrpSpPr/>
          <p:nvPr/>
        </p:nvGrpSpPr>
        <p:grpSpPr>
          <a:xfrm>
            <a:off x="2022480" y="1492200"/>
            <a:ext cx="5407200" cy="1980720"/>
            <a:chOff x="2022480" y="1492200"/>
            <a:chExt cx="5407200" cy="1980720"/>
          </a:xfrm>
        </p:grpSpPr>
        <p:sp>
          <p:nvSpPr>
            <p:cNvPr id="689" name="直接连接符​​ 8"/>
            <p:cNvSpPr/>
            <p:nvPr/>
          </p:nvSpPr>
          <p:spPr>
            <a:xfrm flipV="1">
              <a:off x="329544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直接连接符​​ 9"/>
            <p:cNvSpPr/>
            <p:nvPr/>
          </p:nvSpPr>
          <p:spPr>
            <a:xfrm flipV="1">
              <a:off x="451008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直接连接符​​ 10"/>
            <p:cNvSpPr/>
            <p:nvPr/>
          </p:nvSpPr>
          <p:spPr>
            <a:xfrm flipV="1">
              <a:off x="571680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直接连接符​​ 11"/>
            <p:cNvSpPr/>
            <p:nvPr/>
          </p:nvSpPr>
          <p:spPr>
            <a:xfrm flipV="1">
              <a:off x="6950520" y="1631880"/>
              <a:ext cx="0" cy="1514880"/>
            </a:xfrm>
            <a:prstGeom prst="line">
              <a:avLst/>
            </a:prstGeom>
            <a:ln w="9360">
              <a:solidFill>
                <a:srgbClr val="06122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Line 8"/>
            <p:cNvSpPr/>
            <p:nvPr/>
          </p:nvSpPr>
          <p:spPr>
            <a:xfrm flipH="1">
              <a:off x="2030400" y="1492200"/>
              <a:ext cx="10800" cy="165744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Text Box 9"/>
            <p:cNvSpPr/>
            <p:nvPr/>
          </p:nvSpPr>
          <p:spPr>
            <a:xfrm>
              <a:off x="2176200" y="316584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Text Box 9"/>
            <p:cNvSpPr/>
            <p:nvPr/>
          </p:nvSpPr>
          <p:spPr>
            <a:xfrm>
              <a:off x="3414600" y="316584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Text Box 9"/>
            <p:cNvSpPr/>
            <p:nvPr/>
          </p:nvSpPr>
          <p:spPr>
            <a:xfrm>
              <a:off x="4657680" y="316584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 Box 9"/>
            <p:cNvSpPr/>
            <p:nvPr/>
          </p:nvSpPr>
          <p:spPr>
            <a:xfrm>
              <a:off x="5886720" y="3165840"/>
              <a:ext cx="94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Calibri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矩形 12"/>
            <p:cNvSpPr/>
            <p:nvPr/>
          </p:nvSpPr>
          <p:spPr>
            <a:xfrm>
              <a:off x="2334960" y="2116080"/>
              <a:ext cx="288720" cy="102708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矩形 13"/>
            <p:cNvSpPr/>
            <p:nvPr/>
          </p:nvSpPr>
          <p:spPr>
            <a:xfrm>
              <a:off x="2676240" y="2352600"/>
              <a:ext cx="288720" cy="790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矩形 14"/>
            <p:cNvSpPr/>
            <p:nvPr/>
          </p:nvSpPr>
          <p:spPr>
            <a:xfrm>
              <a:off x="3570120" y="2495520"/>
              <a:ext cx="287280" cy="6476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15"/>
            <p:cNvSpPr/>
            <p:nvPr/>
          </p:nvSpPr>
          <p:spPr>
            <a:xfrm>
              <a:off x="3911760" y="1847880"/>
              <a:ext cx="287280" cy="1295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矩形 16"/>
            <p:cNvSpPr/>
            <p:nvPr/>
          </p:nvSpPr>
          <p:spPr>
            <a:xfrm>
              <a:off x="4735440" y="2003400"/>
              <a:ext cx="287280" cy="1140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矩形 17"/>
            <p:cNvSpPr/>
            <p:nvPr/>
          </p:nvSpPr>
          <p:spPr>
            <a:xfrm>
              <a:off x="5077080" y="1631880"/>
              <a:ext cx="287280" cy="1511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矩形 18"/>
            <p:cNvSpPr/>
            <p:nvPr/>
          </p:nvSpPr>
          <p:spPr>
            <a:xfrm>
              <a:off x="6040800" y="2116080"/>
              <a:ext cx="288720" cy="102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矩形 19"/>
            <p:cNvSpPr/>
            <p:nvPr/>
          </p:nvSpPr>
          <p:spPr>
            <a:xfrm>
              <a:off x="6382080" y="2352600"/>
              <a:ext cx="288720" cy="790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>
              <a:off x="2022480" y="3146760"/>
              <a:ext cx="5407200" cy="0"/>
            </a:xfrm>
            <a:prstGeom prst="line">
              <a:avLst/>
            </a:prstGeom>
            <a:ln w="25560">
              <a:solidFill>
                <a:srgbClr val="0612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7" name="组合 21"/>
          <p:cNvGrpSpPr/>
          <p:nvPr/>
        </p:nvGrpSpPr>
        <p:grpSpPr>
          <a:xfrm>
            <a:off x="4986360" y="3705120"/>
            <a:ext cx="765360" cy="307080"/>
            <a:chOff x="4986360" y="3705120"/>
            <a:chExt cx="765360" cy="307080"/>
          </a:xfrm>
        </p:grpSpPr>
        <p:sp>
          <p:nvSpPr>
            <p:cNvPr id="708" name="矩形 22"/>
            <p:cNvSpPr/>
            <p:nvPr/>
          </p:nvSpPr>
          <p:spPr>
            <a:xfrm>
              <a:off x="4986360" y="3751200"/>
              <a:ext cx="287280" cy="214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TextBox 35"/>
            <p:cNvSpPr/>
            <p:nvPr/>
          </p:nvSpPr>
          <p:spPr>
            <a:xfrm>
              <a:off x="5357520" y="3705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0" name="组合 24"/>
          <p:cNvGrpSpPr/>
          <p:nvPr/>
        </p:nvGrpSpPr>
        <p:grpSpPr>
          <a:xfrm>
            <a:off x="2820960" y="3705120"/>
            <a:ext cx="795600" cy="307080"/>
            <a:chOff x="2820960" y="3705120"/>
            <a:chExt cx="795600" cy="307080"/>
          </a:xfrm>
        </p:grpSpPr>
        <p:sp>
          <p:nvSpPr>
            <p:cNvPr id="711" name="矩形 25"/>
            <p:cNvSpPr/>
            <p:nvPr/>
          </p:nvSpPr>
          <p:spPr>
            <a:xfrm>
              <a:off x="2820960" y="3768480"/>
              <a:ext cx="311040" cy="1969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TextBox 36"/>
            <p:cNvSpPr/>
            <p:nvPr/>
          </p:nvSpPr>
          <p:spPr>
            <a:xfrm>
              <a:off x="3222360" y="37051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6122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28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714" name="图片 29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组合 1"/>
          <p:cNvGrpSpPr/>
          <p:nvPr/>
        </p:nvGrpSpPr>
        <p:grpSpPr>
          <a:xfrm>
            <a:off x="1258920" y="1492200"/>
            <a:ext cx="6697800" cy="2808360"/>
            <a:chOff x="1258920" y="1492200"/>
            <a:chExt cx="6697800" cy="2808360"/>
          </a:xfrm>
        </p:grpSpPr>
        <p:sp>
          <p:nvSpPr>
            <p:cNvPr id="717" name="直接连接符 4"/>
            <p:cNvSpPr/>
            <p:nvPr/>
          </p:nvSpPr>
          <p:spPr>
            <a:xfrm flipH="1">
              <a:off x="1488960" y="4286520"/>
              <a:ext cx="6467760" cy="1404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8" name="组合 5"/>
            <p:cNvGrpSpPr/>
            <p:nvPr/>
          </p:nvGrpSpPr>
          <p:grpSpPr>
            <a:xfrm>
              <a:off x="1258920" y="1492200"/>
              <a:ext cx="5964480" cy="2808360"/>
              <a:chOff x="1258920" y="1492200"/>
              <a:chExt cx="5964480" cy="2808360"/>
            </a:xfrm>
          </p:grpSpPr>
          <p:sp>
            <p:nvSpPr>
              <p:cNvPr id="719" name="直接连接符 3"/>
              <p:cNvSpPr/>
              <p:nvPr/>
            </p:nvSpPr>
            <p:spPr>
              <a:xfrm>
                <a:off x="1258920" y="1492200"/>
                <a:ext cx="0" cy="2808360"/>
              </a:xfrm>
              <a:prstGeom prst="line">
                <a:avLst/>
              </a:prstGeom>
              <a:ln w="28440">
                <a:solidFill>
                  <a:srgbClr val="40404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直接连接符 24"/>
              <p:cNvSpPr/>
              <p:nvPr/>
            </p:nvSpPr>
            <p:spPr>
              <a:xfrm flipH="1">
                <a:off x="1258920" y="4300560"/>
                <a:ext cx="1039680" cy="0"/>
              </a:xfrm>
              <a:prstGeom prst="line">
                <a:avLst/>
              </a:prstGeom>
              <a:ln w="28440">
                <a:solidFill>
                  <a:srgbClr val="40404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21" name="组合 1"/>
              <p:cNvGrpSpPr/>
              <p:nvPr/>
            </p:nvGrpSpPr>
            <p:grpSpPr>
              <a:xfrm>
                <a:off x="1823400" y="1707840"/>
                <a:ext cx="5355000" cy="2592720"/>
                <a:chOff x="1823400" y="1707840"/>
                <a:chExt cx="5355000" cy="2592720"/>
              </a:xfrm>
            </p:grpSpPr>
            <p:sp>
              <p:nvSpPr>
                <p:cNvPr id="722" name="圆角矩形 34"/>
                <p:cNvSpPr/>
                <p:nvPr/>
              </p:nvSpPr>
              <p:spPr>
                <a:xfrm>
                  <a:off x="6227640" y="1707840"/>
                  <a:ext cx="950760" cy="2184840"/>
                </a:xfrm>
                <a:custGeom>
                  <a:avLst/>
                  <a:gdLst>
                    <a:gd name="textAreaLeft" fmla="*/ 46080 w 950760"/>
                    <a:gd name="textAreaRight" fmla="*/ 904680 w 950760"/>
                    <a:gd name="textAreaTop" fmla="*/ 46080 h 2184840"/>
                    <a:gd name="textAreaBottom" fmla="*/ 2138760 h 2184840"/>
                  </a:gdLst>
                  <a:ahLst/>
                  <a:rect l="textAreaLeft" t="textAreaTop" r="textAreaRight" b="textAreaBottom"/>
                  <a:pathLst>
                    <a:path w="21600" h="49626">
                      <a:moveTo>
                        <a:pt x="3600" y="0"/>
                      </a:moveTo>
                      <a:arcTo wR="3600" hR="3600" stAng="16200000" swAng="-5400000"/>
                      <a:lnTo>
                        <a:pt x="0" y="46026"/>
                      </a:lnTo>
                      <a:arcTo wR="3600" hR="3600" stAng="10800000" swAng="-5400000"/>
                      <a:lnTo>
                        <a:pt x="18000" y="496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255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3" name="圆角矩形 33"/>
                <p:cNvSpPr/>
                <p:nvPr/>
              </p:nvSpPr>
              <p:spPr>
                <a:xfrm>
                  <a:off x="4757400" y="1707840"/>
                  <a:ext cx="950760" cy="2184840"/>
                </a:xfrm>
                <a:custGeom>
                  <a:avLst/>
                  <a:gdLst>
                    <a:gd name="textAreaLeft" fmla="*/ 46080 w 950760"/>
                    <a:gd name="textAreaRight" fmla="*/ 904680 w 950760"/>
                    <a:gd name="textAreaTop" fmla="*/ 46080 h 2184840"/>
                    <a:gd name="textAreaBottom" fmla="*/ 2138760 h 2184840"/>
                  </a:gdLst>
                  <a:ahLst/>
                  <a:rect l="textAreaLeft" t="textAreaTop" r="textAreaRight" b="textAreaBottom"/>
                  <a:pathLst>
                    <a:path w="21600" h="49626">
                      <a:moveTo>
                        <a:pt x="3600" y="0"/>
                      </a:moveTo>
                      <a:arcTo wR="3600" hR="3600" stAng="16200000" swAng="-5400000"/>
                      <a:lnTo>
                        <a:pt x="0" y="46026"/>
                      </a:lnTo>
                      <a:arcTo wR="3600" hR="3600" stAng="10800000" swAng="-5400000"/>
                      <a:lnTo>
                        <a:pt x="18000" y="496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255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4" name="圆角矩形 32"/>
                <p:cNvSpPr/>
                <p:nvPr/>
              </p:nvSpPr>
              <p:spPr>
                <a:xfrm>
                  <a:off x="3290400" y="1707840"/>
                  <a:ext cx="949320" cy="2184840"/>
                </a:xfrm>
                <a:custGeom>
                  <a:avLst/>
                  <a:gdLst>
                    <a:gd name="textAreaLeft" fmla="*/ 46080 w 949320"/>
                    <a:gd name="textAreaRight" fmla="*/ 903240 w 949320"/>
                    <a:gd name="textAreaTop" fmla="*/ 46080 h 2184840"/>
                    <a:gd name="textAreaBottom" fmla="*/ 2138760 h 2184840"/>
                  </a:gdLst>
                  <a:ahLst/>
                  <a:rect l="textAreaLeft" t="textAreaTop" r="textAreaRight" b="textAreaBottom"/>
                  <a:pathLst>
                    <a:path w="21600" h="49701">
                      <a:moveTo>
                        <a:pt x="3600" y="0"/>
                      </a:moveTo>
                      <a:arcTo wR="3600" hR="3600" stAng="16200000" swAng="-5400000"/>
                      <a:lnTo>
                        <a:pt x="0" y="46101"/>
                      </a:lnTo>
                      <a:arcTo wR="3600" hR="3600" stAng="10800000" swAng="-5400000"/>
                      <a:lnTo>
                        <a:pt x="18000" y="4970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255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5" name="圆角矩形 28"/>
                <p:cNvSpPr/>
                <p:nvPr/>
              </p:nvSpPr>
              <p:spPr>
                <a:xfrm>
                  <a:off x="1823760" y="1707840"/>
                  <a:ext cx="950760" cy="2184840"/>
                </a:xfrm>
                <a:custGeom>
                  <a:avLst/>
                  <a:gdLst>
                    <a:gd name="textAreaLeft" fmla="*/ 46080 w 950760"/>
                    <a:gd name="textAreaRight" fmla="*/ 904680 w 950760"/>
                    <a:gd name="textAreaTop" fmla="*/ 46080 h 2184840"/>
                    <a:gd name="textAreaBottom" fmla="*/ 2138760 h 2184840"/>
                  </a:gdLst>
                  <a:ahLst/>
                  <a:rect l="textAreaLeft" t="textAreaTop" r="textAreaRight" b="textAreaBottom"/>
                  <a:pathLst>
                    <a:path w="21600" h="49626">
                      <a:moveTo>
                        <a:pt x="3600" y="0"/>
                      </a:moveTo>
                      <a:arcTo wR="3600" hR="3600" stAng="16200000" swAng="-5400000"/>
                      <a:lnTo>
                        <a:pt x="0" y="46026"/>
                      </a:lnTo>
                      <a:arcTo wR="3600" hR="3600" stAng="10800000" swAng="-5400000"/>
                      <a:lnTo>
                        <a:pt x="18000" y="4962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255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26" name="组合 13"/>
                <p:cNvGrpSpPr/>
                <p:nvPr/>
              </p:nvGrpSpPr>
              <p:grpSpPr>
                <a:xfrm>
                  <a:off x="1823400" y="1923120"/>
                  <a:ext cx="5355000" cy="2377440"/>
                  <a:chOff x="1823400" y="1923120"/>
                  <a:chExt cx="5355000" cy="2377440"/>
                </a:xfrm>
              </p:grpSpPr>
              <p:sp>
                <p:nvSpPr>
                  <p:cNvPr id="727" name="矩形 9"/>
                  <p:cNvSpPr/>
                  <p:nvPr/>
                </p:nvSpPr>
                <p:spPr>
                  <a:xfrm>
                    <a:off x="1823400" y="3484440"/>
                    <a:ext cx="950760" cy="816120"/>
                  </a:xfrm>
                  <a:prstGeom prst="rect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728" name="组合 12"/>
                  <p:cNvGrpSpPr/>
                  <p:nvPr/>
                </p:nvGrpSpPr>
                <p:grpSpPr>
                  <a:xfrm>
                    <a:off x="3291480" y="2815920"/>
                    <a:ext cx="950040" cy="1484640"/>
                    <a:chOff x="3291480" y="2815920"/>
                    <a:chExt cx="950040" cy="1484640"/>
                  </a:xfrm>
                </p:grpSpPr>
                <p:sp>
                  <p:nvSpPr>
                    <p:cNvPr id="729" name="矩形 10"/>
                    <p:cNvSpPr/>
                    <p:nvPr/>
                  </p:nvSpPr>
                  <p:spPr>
                    <a:xfrm>
                      <a:off x="3291480" y="2955600"/>
                      <a:ext cx="950040" cy="1344960"/>
                    </a:xfrm>
                    <a:prstGeom prst="rect">
                      <a:avLst/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30" name="圆角矩形 11"/>
                    <p:cNvSpPr/>
                    <p:nvPr/>
                  </p:nvSpPr>
                  <p:spPr>
                    <a:xfrm>
                      <a:off x="3291480" y="2815920"/>
                      <a:ext cx="950040" cy="3254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31" name="圆角矩形 14"/>
                  <p:cNvSpPr/>
                  <p:nvPr/>
                </p:nvSpPr>
                <p:spPr>
                  <a:xfrm>
                    <a:off x="1823400" y="3344760"/>
                    <a:ext cx="950760" cy="3938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732" name="组合 15"/>
                  <p:cNvGrpSpPr/>
                  <p:nvPr/>
                </p:nvGrpSpPr>
                <p:grpSpPr>
                  <a:xfrm>
                    <a:off x="4759920" y="2499840"/>
                    <a:ext cx="950040" cy="1800720"/>
                    <a:chOff x="4759920" y="2499840"/>
                    <a:chExt cx="950040" cy="1800720"/>
                  </a:xfrm>
                </p:grpSpPr>
                <p:sp>
                  <p:nvSpPr>
                    <p:cNvPr id="733" name="矩形 16"/>
                    <p:cNvSpPr/>
                    <p:nvPr/>
                  </p:nvSpPr>
                  <p:spPr>
                    <a:xfrm>
                      <a:off x="4759920" y="2667960"/>
                      <a:ext cx="950040" cy="1632600"/>
                    </a:xfrm>
                    <a:prstGeom prst="rect">
                      <a:avLst/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34" name="圆角矩形 17"/>
                    <p:cNvSpPr/>
                    <p:nvPr/>
                  </p:nvSpPr>
                  <p:spPr>
                    <a:xfrm>
                      <a:off x="4759920" y="2499840"/>
                      <a:ext cx="950040" cy="3938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735" name="组合 18"/>
                  <p:cNvGrpSpPr/>
                  <p:nvPr/>
                </p:nvGrpSpPr>
                <p:grpSpPr>
                  <a:xfrm>
                    <a:off x="6228000" y="1923120"/>
                    <a:ext cx="950400" cy="2377440"/>
                    <a:chOff x="6228000" y="1923120"/>
                    <a:chExt cx="950400" cy="2377440"/>
                  </a:xfrm>
                </p:grpSpPr>
                <p:sp>
                  <p:nvSpPr>
                    <p:cNvPr id="736" name="矩形 19"/>
                    <p:cNvSpPr/>
                    <p:nvPr/>
                  </p:nvSpPr>
                  <p:spPr>
                    <a:xfrm>
                      <a:off x="6228000" y="2311920"/>
                      <a:ext cx="950400" cy="1988640"/>
                    </a:xfrm>
                    <a:prstGeom prst="rect">
                      <a:avLst/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37" name="圆角矩形 20"/>
                    <p:cNvSpPr/>
                    <p:nvPr/>
                  </p:nvSpPr>
                  <p:spPr>
                    <a:xfrm>
                      <a:off x="6228000" y="1923120"/>
                      <a:ext cx="950400" cy="47952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c00000"/>
                    </a:solidFill>
                    <a:ln w="25560">
                      <a:solidFill>
                        <a:srgbClr val="c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38" name="直接连接符 27"/>
                <p:cNvSpPr/>
                <p:nvPr/>
              </p:nvSpPr>
              <p:spPr>
                <a:xfrm flipH="1">
                  <a:off x="2297880" y="4300560"/>
                  <a:ext cx="1469880" cy="0"/>
                </a:xfrm>
                <a:prstGeom prst="line">
                  <a:avLst/>
                </a:prstGeom>
                <a:ln w="28440">
                  <a:solidFill>
                    <a:srgbClr val="404040"/>
                  </a:solidFill>
                  <a:miter/>
                  <a:headEnd len="lg" type="oval" w="lg"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9" name="直接连接符 29"/>
                <p:cNvSpPr/>
                <p:nvPr/>
              </p:nvSpPr>
              <p:spPr>
                <a:xfrm flipH="1">
                  <a:off x="3791880" y="4300560"/>
                  <a:ext cx="1469880" cy="0"/>
                </a:xfrm>
                <a:prstGeom prst="line">
                  <a:avLst/>
                </a:prstGeom>
                <a:ln w="28440">
                  <a:solidFill>
                    <a:srgbClr val="404040"/>
                  </a:solidFill>
                  <a:miter/>
                  <a:headEnd len="lg" type="oval" w="lg"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0" name="直接连接符 30"/>
                <p:cNvSpPr/>
                <p:nvPr/>
              </p:nvSpPr>
              <p:spPr>
                <a:xfrm flipH="1">
                  <a:off x="5262120" y="4300560"/>
                  <a:ext cx="1468440" cy="0"/>
                </a:xfrm>
                <a:prstGeom prst="line">
                  <a:avLst/>
                </a:prstGeom>
                <a:ln w="28440">
                  <a:solidFill>
                    <a:srgbClr val="404040"/>
                  </a:solidFill>
                  <a:miter/>
                  <a:headEnd len="lg" type="oval" w="lg"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41" name="TextBox 2"/>
              <p:cNvSpPr/>
              <p:nvPr/>
            </p:nvSpPr>
            <p:spPr>
              <a:xfrm>
                <a:off x="1778760" y="3332160"/>
                <a:ext cx="99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45%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TextBox 31"/>
              <p:cNvSpPr/>
              <p:nvPr/>
            </p:nvSpPr>
            <p:spPr>
              <a:xfrm>
                <a:off x="3270960" y="2787840"/>
                <a:ext cx="99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45%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TextBox 35"/>
              <p:cNvSpPr/>
              <p:nvPr/>
            </p:nvSpPr>
            <p:spPr>
              <a:xfrm>
                <a:off x="4758120" y="2500200"/>
                <a:ext cx="99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70%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TextBox 36"/>
              <p:cNvSpPr/>
              <p:nvPr/>
            </p:nvSpPr>
            <p:spPr>
              <a:xfrm>
                <a:off x="6228360" y="1923480"/>
                <a:ext cx="99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90%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TextBox 7"/>
            <p:cNvSpPr/>
            <p:nvPr/>
          </p:nvSpPr>
          <p:spPr>
            <a:xfrm>
              <a:off x="1809720" y="362916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TextBox 37"/>
            <p:cNvSpPr/>
            <p:nvPr/>
          </p:nvSpPr>
          <p:spPr>
            <a:xfrm>
              <a:off x="1801800" y="383076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TextBox 38"/>
            <p:cNvSpPr/>
            <p:nvPr/>
          </p:nvSpPr>
          <p:spPr>
            <a:xfrm>
              <a:off x="1801800" y="401184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Box 39"/>
            <p:cNvSpPr/>
            <p:nvPr/>
          </p:nvSpPr>
          <p:spPr>
            <a:xfrm>
              <a:off x="3259080" y="323064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40"/>
            <p:cNvSpPr/>
            <p:nvPr/>
          </p:nvSpPr>
          <p:spPr>
            <a:xfrm>
              <a:off x="3251160" y="343224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Box 41"/>
            <p:cNvSpPr/>
            <p:nvPr/>
          </p:nvSpPr>
          <p:spPr>
            <a:xfrm>
              <a:off x="3251160" y="361476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TextBox 42"/>
            <p:cNvSpPr/>
            <p:nvPr/>
          </p:nvSpPr>
          <p:spPr>
            <a:xfrm>
              <a:off x="4705560" y="294336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TextBox 43"/>
            <p:cNvSpPr/>
            <p:nvPr/>
          </p:nvSpPr>
          <p:spPr>
            <a:xfrm>
              <a:off x="4695840" y="314316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TextBox 44"/>
            <p:cNvSpPr/>
            <p:nvPr/>
          </p:nvSpPr>
          <p:spPr>
            <a:xfrm>
              <a:off x="4695840" y="332604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TextBox 45"/>
            <p:cNvSpPr/>
            <p:nvPr/>
          </p:nvSpPr>
          <p:spPr>
            <a:xfrm>
              <a:off x="6205680" y="236700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TextBox 46"/>
            <p:cNvSpPr/>
            <p:nvPr/>
          </p:nvSpPr>
          <p:spPr>
            <a:xfrm>
              <a:off x="6197760" y="256860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TextBox 47"/>
            <p:cNvSpPr/>
            <p:nvPr/>
          </p:nvSpPr>
          <p:spPr>
            <a:xfrm>
              <a:off x="6197760" y="2749680"/>
              <a:ext cx="109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输入文本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TextBox 4"/>
          <p:cNvSpPr/>
          <p:nvPr/>
        </p:nvSpPr>
        <p:spPr>
          <a:xfrm>
            <a:off x="1650960" y="45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4"/>
          <p:cNvSpPr/>
          <p:nvPr/>
        </p:nvSpPr>
        <p:spPr>
          <a:xfrm>
            <a:off x="3157560" y="45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4"/>
          <p:cNvSpPr/>
          <p:nvPr/>
        </p:nvSpPr>
        <p:spPr>
          <a:xfrm>
            <a:off x="4572000" y="45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4"/>
          <p:cNvSpPr/>
          <p:nvPr/>
        </p:nvSpPr>
        <p:spPr>
          <a:xfrm>
            <a:off x="6078600" y="45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组合 48"/>
          <p:cNvGrpSpPr/>
          <p:nvPr/>
        </p:nvGrpSpPr>
        <p:grpSpPr>
          <a:xfrm>
            <a:off x="0" y="0"/>
            <a:ext cx="1011240" cy="803160"/>
            <a:chOff x="0" y="0"/>
            <a:chExt cx="1011240" cy="803160"/>
          </a:xfrm>
        </p:grpSpPr>
        <p:pic>
          <p:nvPicPr>
            <p:cNvPr id="762" name="图片 49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1124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矩形 11"/>
            <p:cNvSpPr/>
            <p:nvPr/>
          </p:nvSpPr>
          <p:spPr>
            <a:xfrm rot="21431400">
              <a:off x="229680" y="169560"/>
              <a:ext cx="64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 Black"/>
                  <a:ea typeface="微软雅黑"/>
                </a:rPr>
                <a:t>201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4" name="TextBox 1"/>
          <p:cNvSpPr/>
          <p:nvPr/>
        </p:nvSpPr>
        <p:spPr>
          <a:xfrm>
            <a:off x="998640" y="22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9" descr="C:\Documents and Settings\Administrator\桌面\素材CNN sccnn.com 388XXC2.jpg"/>
          <p:cNvPicPr/>
          <p:nvPr/>
        </p:nvPicPr>
        <p:blipFill>
          <a:blip r:embed="rId1"/>
          <a:srcRect l="1214" t="10841" r="0" b="5044"/>
          <a:stretch/>
        </p:blipFill>
        <p:spPr>
          <a:xfrm>
            <a:off x="-28440" y="0"/>
            <a:ext cx="91724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66" name="矩形 4"/>
          <p:cNvGrpSpPr/>
          <p:nvPr/>
        </p:nvGrpSpPr>
        <p:grpSpPr>
          <a:xfrm>
            <a:off x="-12600" y="0"/>
            <a:ext cx="9180360" cy="5151600"/>
            <a:chOff x="-12600" y="0"/>
            <a:chExt cx="9180360" cy="5151600"/>
          </a:xfrm>
        </p:grpSpPr>
        <p:pic>
          <p:nvPicPr>
            <p:cNvPr id="767" name="矩形 4" descr=""/>
            <p:cNvPicPr/>
            <p:nvPr/>
          </p:nvPicPr>
          <p:blipFill>
            <a:blip r:embed="rId2"/>
            <a:stretch/>
          </p:blipFill>
          <p:spPr>
            <a:xfrm>
              <a:off x="-12600" y="0"/>
              <a:ext cx="9180360" cy="51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-12600" y="0"/>
              <a:ext cx="9180360" cy="51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9" name="直接连接符 5"/>
          <p:cNvSpPr/>
          <p:nvPr/>
        </p:nvSpPr>
        <p:spPr>
          <a:xfrm>
            <a:off x="-19080" y="830160"/>
            <a:ext cx="9144000" cy="0"/>
          </a:xfrm>
          <a:prstGeom prst="line">
            <a:avLst/>
          </a:prstGeom>
          <a:ln w="3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6"/>
          <p:cNvSpPr/>
          <p:nvPr/>
        </p:nvSpPr>
        <p:spPr>
          <a:xfrm>
            <a:off x="-28440" y="858960"/>
            <a:ext cx="9171000" cy="392040"/>
          </a:xfrm>
          <a:prstGeom prst="rect">
            <a:avLst/>
          </a:prstGeom>
          <a:solidFill>
            <a:srgbClr val="c00000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12" descr=""/>
          <p:cNvPicPr/>
          <p:nvPr/>
        </p:nvPicPr>
        <p:blipFill>
          <a:blip r:embed="rId3"/>
          <a:stretch/>
        </p:blipFill>
        <p:spPr>
          <a:xfrm>
            <a:off x="-257040" y="-76320"/>
            <a:ext cx="7353000" cy="5303880"/>
          </a:xfrm>
          <a:prstGeom prst="rect">
            <a:avLst/>
          </a:prstGeom>
          <a:ln w="0">
            <a:noFill/>
          </a:ln>
        </p:spPr>
      </p:pic>
      <p:grpSp>
        <p:nvGrpSpPr>
          <p:cNvPr id="772" name="组合 61"/>
          <p:cNvGrpSpPr/>
          <p:nvPr/>
        </p:nvGrpSpPr>
        <p:grpSpPr>
          <a:xfrm>
            <a:off x="423720" y="355680"/>
            <a:ext cx="2967120" cy="891000"/>
            <a:chOff x="423720" y="355680"/>
            <a:chExt cx="2967120" cy="891000"/>
          </a:xfrm>
        </p:grpSpPr>
        <p:sp>
          <p:nvSpPr>
            <p:cNvPr id="773" name="TextBox 242"/>
            <p:cNvSpPr/>
            <p:nvPr/>
          </p:nvSpPr>
          <p:spPr>
            <a:xfrm>
              <a:off x="423720" y="355680"/>
              <a:ext cx="296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04040"/>
                  </a:solidFill>
                  <a:latin typeface="方正综艺简体"/>
                  <a:ea typeface="方正综艺简体"/>
                </a:rPr>
                <a:t>Thank You!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TextBox 18"/>
            <p:cNvSpPr/>
            <p:nvPr/>
          </p:nvSpPr>
          <p:spPr>
            <a:xfrm>
              <a:off x="806760" y="8478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观看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5:15:54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5-03-23T07:09:53Z</dcterms:modified>
  <cp:revision>21</cp:revision>
  <dc:subject/>
  <dc:title>锐普出品-红色3D箭头2013年商务演示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