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media/image5.png" ContentType="image/png"/>
  <Override PartName="/ppt/media/image6.png" ContentType="image/png"/>
  <Override PartName="/ppt/media/applause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lick.wav" ContentType="audio/x-wav"/>
  <Override PartName="/ppt/media/hammer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voltage.wav" ContentType="audio/x-wav"/>
  <Override PartName="/ppt/media/image4.png" ContentType="image/png"/>
  <Override PartName="/ppt/media/laser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39A-B9AE-44C9-81E9-D6303150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DBB-3434-4147-93A2-88F5DE60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B4D16-011D-432E-AFEF-DF5BB0BC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4DB07-3318-4654-AB13-46B88EC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581D4-2284-4C09-B6F8-3930B8F4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62F17-EAF1-4886-91B9-7445145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6807C-2202-4515-9763-46DA9FC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E7858-CD6C-4AC2-B42A-BF424E1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EC17F-E4F0-4C67-978D-52A0729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138B6-AE85-4FCB-A852-6B6697F9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397C9-CD33-4030-8B10-D8C95573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C5E7-A744-4DC0-95A4-753DF867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09C-7CEF-4C13-96F4-216DD176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BDD3-9CC6-428D-9A67-E388F52E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8F4A1-B107-4260-A28E-C9C5D8B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F3D7F-0219-48BD-A426-1D4773F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6A46D-FCC0-4FF2-AC02-AA4124A7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34D81-8740-45CF-AC14-532E198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D87CF-D8F6-41AE-8FB7-FF7C82E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2849D-3395-4660-8FE4-0240082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C098F-22CE-4B42-B70E-64018FCD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95EBD-3122-41F8-8F27-63228D93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69A56-BB9E-47F8-86D0-1E62D18C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C8D-B605-44EC-ABFC-DC5687EE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7F195-729C-4079-8B27-097BBD72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ADCAA-CEE2-4F33-9781-6E38D94B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C3C51-5806-4129-874D-9270C93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A9CC-D79A-4706-A4AA-C0F73577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5449B-B1F8-4BAA-BD8F-46D33233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4CA99-8525-4DF8-B640-B7BB0E8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F5476-E906-42E4-AD06-059654DE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3C719-7801-4F38-A8F5-D889AFD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7A8B6-D082-4F7F-8160-807F807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8ABC0-E45B-4911-80C8-A75618C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7C5C-8E9E-45EE-A456-680479B9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AC89F-B11B-4A5F-9AEC-C6CC6096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16CDA-468B-4632-8B62-FE3024CA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41266-3CE5-4C3B-95BE-705B7344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801F2-0F33-4998-9BE4-2E84AEC2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D68E9-C454-4B03-A054-6E03741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DF99A-086F-434B-81BF-96D75318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F99A2-0F1F-4872-8F0B-E2005EDB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7AC9-3000-4806-A4BE-A0426822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CFD97-0104-4DB1-9D90-B80B3D9B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A6D2-74FD-4135-B629-A1685C6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3C56A-419D-4C1F-B198-3E7A616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E5FA9-3608-44B8-859C-D0828A6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7569E-DB1A-473A-9549-1F4BB80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7A970-0727-4385-8F20-DDDC0F54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12F82-E99B-46BD-AEEC-29529058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2828-C4CE-48E1-9AD3-D5D4174E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24D21-0FF0-4BFE-967D-4F79FF3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F0039-A1C4-40CF-90AF-2788DA2E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3F0B6-B1C2-4A70-9B7A-B849C51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41A40-79CE-456D-9657-6C231B6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7746B-7AA8-4F9A-956D-456CB14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4BE-5B8B-4AA1-B091-31D420A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D8AEE-295B-4FA8-8ED7-2148DFA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EFE45-73F0-4290-AC29-0E8E5A4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C61C0-4AC7-43AC-B157-280EBE87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CD4C8-58BB-4235-BCCA-1D72D9E1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A1A5-1BAC-45F1-BCDB-D8FECD50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CDC3-086E-4B97-AD2B-16427403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292F-5436-4136-A5DE-F89A134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D71F-5070-4B86-80A5-7C57CD3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9561-A5B8-4723-A818-2449822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26CB-7DBE-48D8-AE0A-BDA0A3A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CAE-6C64-473B-88F0-D31F9237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B30F-AB9F-433B-83D2-76EF57C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18E1-2B39-4E42-B2F5-5969C98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C51D-BC90-42BA-84F0-61A9703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5B27-C2A7-4B28-B6D4-DF68ED8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56A3-8A44-4CE3-BA06-D4FBEEF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508F-E2F0-4170-AF1A-44DDAC58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C420-E058-4A46-9B7E-0D25A0D8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EACC9-DB6E-4E61-AAF4-BB6E57B0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C5301-29B3-4CDE-ADA9-C38538AD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A5BFB-B0C2-41BC-A522-B055C905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5E6-9CB7-4F28-9F85-3C27DB43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DD6EE-B236-4D20-A099-0DE690BB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DEAB2-1E2E-4A1E-8013-E6B4BDB3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2AE74-461C-443E-8CAA-4E4DFF56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FF850-000A-4704-AA73-55A7AFE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511E9-A01F-4EEC-83AA-514F578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1D364-49F1-4593-BC9B-58F16AB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145D2-975C-446B-99E6-39AAB2E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C2214-F808-4C2E-9CED-170DEC5D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8446D-17BA-453C-B6FD-2F828D8E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6EB2E-C0EE-4111-B8C2-154E39AE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4A3-139C-44B5-BFA1-F7B9359A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36AE9-A2C2-40D8-9F50-0A2F576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81DC3-C608-4AAF-8535-64F6743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C39CC-C51E-473B-9EBD-F28F2128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60485-3E99-4DEB-B6AF-79747D47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435CD-D647-4305-882F-D9B334AA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975D9-4A84-450A-AF04-9C0626D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C6654-3FF4-42E8-8F2B-E9D3D7A7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BABC8-9CE4-41AD-9955-259783B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2BC6C-3B79-45A0-B271-B05AE43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3EE8E-016C-43D3-950C-6C52687C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0E9-22A4-4DFD-ADC1-91A76B80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61AA8-FA58-44EA-ABED-BF7C7C60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0417-4590-4BC1-BE83-3EEEE0FD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7B98-E663-4E2F-9011-F6121EAD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B20B1-EE6A-440F-AC64-5DC0949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9FBFA-955C-4F0F-8BAA-96E12DA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7B70-DC34-4BA8-B638-ADD8EE8B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D98C-40C4-4859-B578-E02224F5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86DE-1B89-460D-BE3A-E228112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4A23-E2F4-49E7-9836-C4E72C9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3FC4-A633-4D39-8FD3-72F2F51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EBD-4EC3-4566-A84C-1A6D566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6A00-5DF0-4A42-9CEC-241D8EC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5A2E-7622-4F54-AE51-E72D8AB5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0D991-AB08-4140-A108-CEFE0795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589E9-FF72-4BAB-8593-2C452F17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C235-93AF-40F1-8738-9B6CF56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DAB4-81DC-40F3-95B8-7109EBCA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E125D-2F46-4564-8C68-6BE588D5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583C-8D29-4EE5-AC9D-83BF207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5B12-2B56-4E9B-9456-39F5B6EA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3CD7-0845-4A32-8F1C-5BF34D23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BAD-40AA-4ED8-B276-ED02B1E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D586D-E41B-4A06-A015-0B7B182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64C9E-B7E1-4A96-93ED-198CA6C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5E14-85AA-4CA6-9F6A-73D886E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B93C3-1112-4DC8-85B3-EE13502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4189-AC46-4F6D-BC8B-82A57C33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8BE8-784A-4AF3-A0D7-0E124914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3C732-A15D-413B-B6EF-52859F9D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2BAE-7D70-4300-9F9E-FCF8CAF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03D1-577A-4267-B8BB-29CA6F42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C974-5020-46E3-A2C9-2000075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17D-4885-4A3E-8E15-A6F5BD0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00F11-091D-4ECE-81F8-5085075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70C9-24B2-48F0-857C-9ABB479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C272E-F0E8-4D90-8C22-EDA7DBE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20057-DBC9-4556-9694-BBE61E44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F8316-5D4E-4FCE-8728-9F5EF196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9C51-BA86-45CA-AEAC-8C3515D1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8215-C679-44DA-8CC1-AA34ADF2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70348-AC0A-4255-BC0D-D20E1B0B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2C363-93B2-4C35-AD69-F69E348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69308-2410-49FD-92CC-07EDEA7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836-A7E8-42D3-86B0-C3BC490FBF9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0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7FA5-1D9E-46DD-914B-924F0FE2B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0EC-7FCB-4979-9481-C0BC3CD875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D8EB-A2FC-414B-82C5-3D7E34B5F6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441-3C75-47CB-903C-0CD8540BF10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B29F-335B-4A62-8060-A62A77F2F1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713-E8DD-4DDA-9887-F993974D9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01D-E2E1-4141-956F-303E2350099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42A-8DBB-4C0A-8D1D-33D022DE1D9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A4F-1F98-43DC-A367-28998010018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04E3-9173-48E7-9BD1-43F6AD11799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5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9119-78E4-42B5-810A-2588EE8908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baike.baidu.com/view/395828.htm#sub395828" TargetMode="External"/><Relationship Id="rId4" Type="http://schemas.openxmlformats.org/officeDocument/2006/relationships/hyperlink" Target="http://baike.baidu.com/view/1204762.htm#sub1204762" TargetMode="External"/><Relationship Id="rId5" Type="http://schemas.openxmlformats.org/officeDocument/2006/relationships/hyperlink" Target="http://baike.baidu.com/view/808293.htm#sub808293" TargetMode="External"/><Relationship Id="rId6" Type="http://schemas.openxmlformats.org/officeDocument/2006/relationships/hyperlink" Target="http://baike.baidu.com/view/71314.htm#sub71314" TargetMode="External"/><Relationship Id="rId7" Type="http://schemas.openxmlformats.org/officeDocument/2006/relationships/hyperlink" Target="http://baike.baidu.com/view/59207.htm#sub59207" TargetMode="External"/><Relationship Id="rId8" Type="http://schemas.openxmlformats.org/officeDocument/2006/relationships/hyperlink" Target="http://baike.baidu.com/view/808291.htm#sub808291" TargetMode="External"/><Relationship Id="rId9" Type="http://schemas.openxmlformats.org/officeDocument/2006/relationships/hyperlink" Target="http://baike.baidu.com/view/26600.htm#sub26600" TargetMode="External"/><Relationship Id="rId10" Type="http://schemas.openxmlformats.org/officeDocument/2006/relationships/hyperlink" Target="http://baike.baidu.com/view/1204762.htm#sub1204762" TargetMode="External"/><Relationship Id="rId11" Type="http://schemas.openxmlformats.org/officeDocument/2006/relationships/hyperlink" Target="http://baike.baidu.com/view/1204758.htm#sub1204758" TargetMode="External"/><Relationship Id="rId12" Type="http://schemas.openxmlformats.org/officeDocument/2006/relationships/hyperlink" Target="http://baike.baidu.com/view/929142.htm#sub929142" TargetMode="External"/><Relationship Id="rId13" Type="http://schemas.openxmlformats.org/officeDocument/2006/relationships/hyperlink" Target="http://baike.baidu.com/view/929142.htm#sub929142" TargetMode="External"/><Relationship Id="rId14" Type="http://schemas.openxmlformats.org/officeDocument/2006/relationships/hyperlink" Target="http://baike.baidu.com/view/929142.htm#sub929142" TargetMode="External"/><Relationship Id="rId15" Type="http://schemas.openxmlformats.org/officeDocument/2006/relationships/hyperlink" Target="http://baike.baidu.com/view/1917210.htm#sub1917210" TargetMode="External"/><Relationship Id="rId16" Type="http://schemas.openxmlformats.org/officeDocument/2006/relationships/hyperlink" Target="http://baike.baidu.com/view/395859.htm#sub395859" TargetMode="External"/><Relationship Id="rId17" Type="http://schemas.openxmlformats.org/officeDocument/2006/relationships/hyperlink" Target="http://baike.baidu.com/view/158147.htm#sub158147" TargetMode="External"/><Relationship Id="rId18" Type="http://schemas.openxmlformats.org/officeDocument/2006/relationships/audio" Target="../media/drumroll.wav"/><Relationship Id="rId19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www.hudong.com/wiki/&#31934;&#31070;" TargetMode="External"/><Relationship Id="rId4" Type="http://schemas.openxmlformats.org/officeDocument/2006/relationships/hyperlink" Target="http://www.hudong.com/wiki/&#23612;&#27850;&#23572;" TargetMode="External"/><Relationship Id="rId5" Type="http://schemas.openxmlformats.org/officeDocument/2006/relationships/hyperlink" Target="http://www.hudong.com/wiki/&#30142;&#30149;" TargetMode="External"/><Relationship Id="rId6" Type="http://schemas.openxmlformats.org/officeDocument/2006/relationships/hyperlink" Target="http://www.hudong.com/wiki/&#20027;&#39064;" TargetMode="External"/><Relationship Id="rId7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albums/165571/165571/1/2720319.html#2720319$" TargetMode="External"/><Relationship Id="rId2" Type="http://schemas.openxmlformats.org/officeDocument/2006/relationships/slideLayout" Target="../slideLayouts/slideLayout1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971946.htm" TargetMode="External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606962.htm" TargetMode="External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udong.com/wiki/&#29983;&#27963;" TargetMode="External"/><Relationship Id="rId2" Type="http://schemas.openxmlformats.org/officeDocument/2006/relationships/hyperlink" Target="http://www.hudong.com/wiki/&#24037;&#20316;" TargetMode="External"/><Relationship Id="rId3" Type="http://schemas.openxmlformats.org/officeDocument/2006/relationships/hyperlink" Target="http://www.hudong.com/wiki/&#30561;&#30496;" TargetMode="External"/><Relationship Id="rId4" Type="http://schemas.openxmlformats.org/officeDocument/2006/relationships/hyperlink" Target="http://www.hudong.com/wiki/&#24863;&#20882;" TargetMode="External"/><Relationship Id="rId5" Type="http://schemas.openxmlformats.org/officeDocument/2006/relationships/hyperlink" Target="http://www.hudong.com/wiki/&#20256;&#26579;&#30149;" TargetMode="External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世界精神卫生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1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班班队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学了这么多，你们对这个节日有了哪些了解？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3" name="whoosh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你们还知道，十月份还有什么节日？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国际老年人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世界镇痛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1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国际音乐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世界住房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月的第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个星期一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世界动物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4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世界教师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5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世界邮政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9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精神卫生日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0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世界镇痛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1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世界关节炎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2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世界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60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亿人口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2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5"/>
              </a:rPr>
              <a:t>世界保健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3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6"/>
              </a:rPr>
              <a:t>国际标准时间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3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7"/>
              </a:rPr>
              <a:t>世界标准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4) ▪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国际减轻自然灾害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月第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个星期三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国际盲人节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5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农村妇女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5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全球洗手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5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粮食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6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国际消除贫困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7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厨师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0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骨质疏松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0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传统医药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2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联合国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4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发展信息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4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男性健康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8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勤俭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31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国际和平与民主自由斗争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) </a:t>
            </a:r>
            <a:br>
              <a:rPr sz="2400"/>
            </a:b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18" name="drumroll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谢谢观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640" y="2349360"/>
            <a:ext cx="85820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同学们，你们了解世界精神卫生日吗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450864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们知道世界卫生日是几月几日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节日由来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是世界精神卫生日，由世界精神卫生联盟提出。为了提高政府部门、社会各界，广大群众对精神卫生重要性和迫切性的认识，普及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精神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卫生知识和对精神疾病的认识，计划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前后在全国开展“世界精神卫生日”宣传活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991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年，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尼泊尔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提交了第一份关于“世界精神卫生日”活动的报告。随后的十多年里，许多国家参与进来，将每年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作为特殊的日子：提高公众对精神疾病的认识，分享科学有效的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疾病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知识，消除公众的偏见。世界卫生组织确定每年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为“世界精神卫生日”。 至今已先后举办了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届活动，结合现实情况和精神卫生的需要，确定每年的活动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主题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世界精神卫生日”是由世界精神病学协会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World Psychiatric Association WPA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）在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992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年发起的，时间是每年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。世界各国每年都为“精神卫生日”准备丰富而周密的活动。包括宣传、拍摄促进精神健康的录像片、开设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小时服务的心理支持热线、播放专题片等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374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积极的形象，积极的行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199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女性和精神卫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199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精神卫生和衰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健康体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健康心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美好人生 </a:t>
            </a:r>
            <a:r>
              <a:rPr b="0" lang="zh-CN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行动起来，促进精神健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精神创伤和暴力对儿童的影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抑郁影响每个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儿童、青少年精神健康：快乐心情，健康行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987640" y="260280"/>
            <a:ext cx="23464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历年主题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92936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身心健康、幸福一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健身健心，你我同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健康睡眠与和谐社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同享奥运精神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共促身心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行动起来，促进精神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沟通理解关爱 心理和谐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1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承担共同责任，促进精神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精神健康伴老龄，安乐幸福享晚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492360" y="333360"/>
            <a:ext cx="201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历年主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行动起来，促进精神健康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世界卫生组织近日发表的《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00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世界卫生报告》说，目前全世界共约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4.5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亿各类精神和脑部疾病患者，每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人中就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人在其一生中的某个时段产生某种精神障碍，精神卫生已经成为一个突出的社会问题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0" lang="zh-CN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精神障碍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是一类严重威胁人民健康的疾病，精神卫生工作既包括防治各类精神疾病，也包括减少和预防各类不良心理及行为问题的发生。精神疾患已成为当前我国疾病分类中较为严重的一类疾病。按照国际上衡量健康状况的伤残调整生命年指标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DALYs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评价各类疾病的总全负担，精神疾患在我国疾病总负担的排名中居首位，已超过了心脑血管、呼吸系统及恶性肿瘤等疾患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WHO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996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资料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各类精神问题约占疾病总负担的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/5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即占全部疾病和外伤所致残疾及劳动力丧失的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/5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据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993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抽样调查表明，国内各类精神病的总患病率由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的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2.69‰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上升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3.47‰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不含神经症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这些精神疾病不仅严重影响了患者本人及其家属的生活质量，损害了他们的身心健康，而且也会产生不良的社会影响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u"/>
    <p:sndAc>
      <p:stSnd>
        <p:snd r:embed="rId2" name="laser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行动起来，促进精神健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另外，随着我国国民经济的发展，社会经济体制改革日益深入，社会竞争不断加剧，劳动力的重新组合，人口和家庭结构的变化，原有社会支持网络的削弱，导致了各种心理应激因素急剧增加，精神卫生问题日益突出。儿童的行为问题、大中学生的心理卫生问题、老年期精神障碍、酒精与麻醉药品滥用以及自杀等问题明显增多。根据预测，进入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世纪后我国各类精神卫生问题将更加突出。在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的疾病总负担预测值中，精神卫生问题仍将排名第一。所以，积极预防不良心理和行为问题的发生，也是当前精神卫生工作应该立即采取的行动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目前，由于精神卫生知识尚不普及，宣传力度不够，大多数人对精神疾病认识不足，对患者缺乏应有的理解和同情，偏见与歧视现象较严重，致使一些精神疾病康复者不能顺利回归社会大家庭，产生了强烈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?quot;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病耻感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一些患者和家属即便具有一定的精神卫生知识，认识到疾病的性质，多数人也宁可自己忍受痛苦而不愿寻求</a:t>
            </a:r>
            <a:r>
              <a:rPr b="0" lang="zh-CN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精神科医生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的帮助，害怕因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精神病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而受歧视，结果延误了治疗，病情加重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0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7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7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世界精神卫生日 </a:t>
            </a: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- </a:t>
            </a: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心理健康标准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有足够充沛的精力，能从容不迫地应付日常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生活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工作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的压力而不感到过分紧张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处事乐观，态度积极，乐于承担责任，事无巨细不挑剔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善于休息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睡眠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良好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应变能力强，能适应外界环境的各种变化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能抵抗一般性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感冒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传染病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体重得当，身材均匀，站立时，头、肩、臂位置协调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眼睛明亮，反应敏锐，眼睑不易发炎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牙齿清洁，无空洞，无痛感，齿龈颜色正常，无出血现象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头发有光泽、无头屑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肌肉、皮肤有弹性。其中前四条为心理健康的内容，后六条则为生物学方面的内容（生理、形态）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d"/>
    <p:sndAc>
      <p:stSnd>
        <p:snd r:embed="rId6" name="voltage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疾患统计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据专家介绍，随着社会竞争的加剧，轻度的精神疾病如抑郁症、孤独症、焦虑症等心理障碍病人像感冒一样普遍。令专家异常担忧的是，我国精神疾病患者已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6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万人，接受治疗的人数却只占全部病人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八成病人缺乏治疗。除了经济原因外，很多精神病患者和家属没有认识到抑郁症等精神疾病的害处，或者害怕受到世俗偏见的歧视，讳疾忌医。专家特别提醒：精神疾病并不可怕。患上抑郁症等精神疾病，要积极治疗，切莫讳疾忌医。不妨告诉自己：“我只是情绪感冒了，现在很痛苦，但只要治疗一下就会好的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1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2:07:18Z</dcterms:created>
  <dc:creator>微软用户</dc:creator>
  <dc:description/>
  <dc:language>en-US</dc:language>
  <cp:lastModifiedBy>微软用户</cp:lastModifiedBy>
  <dcterms:modified xsi:type="dcterms:W3CDTF">2012-09-27T12:57:52Z</dcterms:modified>
  <cp:revision>4</cp:revision>
  <dc:subject/>
  <dc:title>世界精神卫生日</dc:title>
</cp:coreProperties>
</file>