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2C0-6630-493A-A0D4-B1B47684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8F0-24AF-4638-9CA1-94BCD6E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1C4-A582-4D92-9833-D76A3F63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E11-661A-4572-B365-D95D31B5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B769-7806-4BB3-A32C-77F9840A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144E-CC40-4CF9-B12C-68F3A687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8DE1-809C-4A97-A77D-104383D8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97B1-65E9-4E00-8F74-4202D26B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5AE8-5460-43E1-881A-EB5E8112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49A-A17E-4711-B5A7-A165EC7D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717-0BA2-4984-83F3-5AB6857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5C3-8EC4-411F-AF8D-8337DBBC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90EE-0839-4163-B1EC-DE1723C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B2EF-A16E-4FC5-B44D-98CFAD54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D32F-3F9D-4B25-92D9-0C24CD8B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8DE7-92F1-414B-A09C-0A963814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9974-3852-4208-BA86-3842BBB8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9B5-9039-4B76-BF14-D3DF5B2D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EE4-EE02-44D7-AC71-1DEAA23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124-29A6-4A56-AF43-A1ACC37D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45E-9522-4061-AD65-8292CDF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C39-FB48-4879-ABC7-866C217E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A01-0C4F-42D3-9974-BC5899C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CE0-B58B-47D1-987C-3A67C097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ADC8-FF5F-4EE0-B514-FC0835C9A900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196-25D5-4424-9232-CB2C0B902028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2276640"/>
            <a:ext cx="7924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推广普通话　说好普通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1752480"/>
            <a:ext cx="739152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n”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l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例：过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读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nian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lian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n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你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们 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哪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里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念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263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边鼻音和前后鼻韵母的发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l”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行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李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拉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车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连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914400"/>
            <a:ext cx="792468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eng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en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城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市（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cheng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chen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937040"/>
            <a:ext cx="7772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n”</a:t>
            </a:r>
            <a:r>
              <a:rPr b="1" lang="zh-CN" sz="36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早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晨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陈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老师  乡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镇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身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778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ng”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成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功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乘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车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程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老师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政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府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生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1309680"/>
            <a:ext cx="723924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ng”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n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英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雄（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ying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yin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473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ng”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惊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奇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领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导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形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678200"/>
            <a:ext cx="63244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n”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进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步   森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林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新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事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1355760"/>
            <a:ext cx="72392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平翘舌的发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sh”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和“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s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师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长（读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shi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si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05432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h”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沙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漠 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社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会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说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话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树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4998960"/>
            <a:ext cx="7010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”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洒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水     颜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色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所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长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速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1125360"/>
            <a:ext cx="723924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zh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z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支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持（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zhi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zi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382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zh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炸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弹     建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筑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照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03960" y="4602240"/>
            <a:ext cx="53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z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打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杂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组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织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遭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1049400"/>
            <a:ext cx="69339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ch”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和“</a:t>
            </a:r>
            <a:r>
              <a:rPr b="1" lang="zh-CN" sz="4400" spc="-1" strike="noStrike">
                <a:solidFill>
                  <a:srgbClr val="5b5249"/>
                </a:solidFill>
                <a:latin typeface="宋体"/>
              </a:rPr>
              <a:t>c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 u="sng">
                <a:solidFill>
                  <a:srgbClr val="ff5050"/>
                </a:solidFill>
                <a:uFillTx/>
                <a:latin typeface="楷体_GB2312"/>
                <a:ea typeface="楷体_GB2312"/>
              </a:rPr>
              <a:t>吃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饭（读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hi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，不读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i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33829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h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出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门    出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差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678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”</a:t>
            </a:r>
            <a:r>
              <a:rPr b="1" lang="zh-CN" sz="32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进    刚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198108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、克服方言混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76130" t="51806" r="0" b="8525"/>
          <a:stretch/>
        </p:blipFill>
        <p:spPr>
          <a:xfrm>
            <a:off x="5562720" y="4836960"/>
            <a:ext cx="35812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249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（三）平翘舌音的记忆方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681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穿糖葫芦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记少不记多法</a:t>
            </a:r>
            <a:r>
              <a:rPr b="1" lang="zh-CN" sz="2800" spc="-1" strike="noStrike">
                <a:solidFill>
                  <a:srgbClr val="c3e68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5272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聆听模仿法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048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词、饲、嗣、伺、祠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438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司”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i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447920"/>
            <a:ext cx="2057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联想记忆法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趣味绕口令记忆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14300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自” ，字、资、紫、渍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只、直、制、纸、芝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35053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树上有个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树下有个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石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风吹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树哗哗响，树上掉下了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打着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石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狮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碰坏了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涩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柿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子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371600"/>
            <a:ext cx="4800600" cy="121932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5685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什么是普通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044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仿宋_GB2312"/>
                <a:ea typeface="仿宋_GB2312"/>
              </a:rPr>
              <a:t>　　</a:t>
            </a:r>
            <a:r>
              <a:rPr b="1" lang="zh-CN" sz="36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“以北京语音为标准音，以北方话为基础方言，以典范的现代白话文著作为语法规范的现代汉民族共同语”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066680"/>
            <a:ext cx="7467480" cy="9144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143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推广普通话的重要性和必要性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2666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社会交往的需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114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两个文明建设的要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5627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仿宋_GB2312"/>
              </a:rPr>
              <a:t>是每个公民的权利和义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57913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17172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1295280"/>
            <a:ext cx="5029200" cy="838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602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（二）重庆人说普通话应注意几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339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怎样说好普通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49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（一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5b5249"/>
                </a:solidFill>
                <a:latin typeface="宋体"/>
              </a:rPr>
              <a:t>转变观念，大胆地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447920"/>
            <a:ext cx="815328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e684"/>
                </a:solidFill>
                <a:latin typeface="Times New Roman"/>
                <a:ea typeface="楷体_GB2312"/>
              </a:rPr>
              <a:t>　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e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uo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e684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河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水（读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he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huo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喝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水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禾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苗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何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科长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荷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花  祝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盒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子 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褐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色   丹顶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鹤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合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作</a:t>
            </a: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33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仿宋_GB2312"/>
              </a:rPr>
              <a:t>、地方话发音与普通话发音的区别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28800" y="1533600"/>
            <a:ext cx="64771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　</a:t>
            </a:r>
            <a:r>
              <a:rPr b="1" lang="zh-CN" sz="5400" spc="-1" strike="noStrike">
                <a:solidFill>
                  <a:srgbClr val="2a3d7a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2a3d7a"/>
                </a:solidFill>
                <a:latin typeface="宋体"/>
              </a:rPr>
              <a:t>u”</a:t>
            </a:r>
            <a:r>
              <a:rPr b="1" lang="zh-CN" sz="3600" spc="-1" strike="noStrike">
                <a:solidFill>
                  <a:srgbClr val="2a3d7a"/>
                </a:solidFill>
                <a:latin typeface="宋体"/>
              </a:rPr>
              <a:t>　与　“</a:t>
            </a:r>
            <a:r>
              <a:rPr b="1" lang="zh-CN" sz="3600" spc="-1" strike="noStrike">
                <a:solidFill>
                  <a:srgbClr val="2a3d7a"/>
                </a:solidFill>
                <a:latin typeface="宋体"/>
              </a:rPr>
              <a:t>Ü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例：教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育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（读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yǜ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，不读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yu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跃跃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欲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试    地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461960"/>
            <a:ext cx="70102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ei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与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cc0000"/>
                </a:solidFill>
                <a:latin typeface="宋体"/>
              </a:rPr>
              <a:t>ui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例：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类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型（读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lei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，不读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lui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）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劳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累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泪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  打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雷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石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磊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花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楷体_GB2312"/>
              </a:rPr>
              <a:t>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219320"/>
            <a:ext cx="8839080" cy="34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　</a:t>
            </a:r>
            <a:r>
              <a:rPr b="0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5b5249"/>
                </a:solidFill>
                <a:latin typeface="宋体"/>
              </a:rPr>
              <a:t>en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与　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5b5249"/>
                </a:solidFill>
                <a:latin typeface="宋体"/>
              </a:rPr>
              <a:t>un</a:t>
            </a:r>
            <a:r>
              <a:rPr b="1" lang="zh-CN" sz="5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e684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例：矛</a:t>
            </a:r>
            <a:r>
              <a:rPr b="1" lang="zh-CN" sz="3600" spc="-1" strike="noStrike" u="sng">
                <a:solidFill>
                  <a:srgbClr val="ff5050"/>
                </a:solidFill>
                <a:uFillTx/>
                <a:latin typeface="楷体_GB2312"/>
                <a:ea typeface="楷体_GB2312"/>
              </a:rPr>
              <a:t>盾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（读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dun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den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吨   顿  蹲下  遁  敦促  土墩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1219320"/>
            <a:ext cx="8077320" cy="43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5050"/>
                </a:solidFill>
                <a:latin typeface="宋体"/>
              </a:rPr>
              <a:t>h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　与　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5050"/>
                </a:solidFill>
                <a:latin typeface="宋体"/>
              </a:rPr>
              <a:t>f</a:t>
            </a:r>
            <a:r>
              <a:rPr b="1" lang="zh-CN" sz="5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例：湖水 湖北（读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hu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不读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fu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　胡主任   户　呼　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2:32:46Z</dcterms:created>
  <dc:creator>0001</dc:creator>
  <dc:description/>
  <dc:language>en-US</dc:language>
  <cp:lastModifiedBy>雨林木风</cp:lastModifiedBy>
  <dcterms:modified xsi:type="dcterms:W3CDTF">2010-03-09T09:10:11Z</dcterms:modified>
  <cp:revision>14</cp:revision>
  <dc:subject/>
  <dc:title>PowerPoint 演示文稿</dc:title>
</cp:coreProperties>
</file>