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7.jpeg" ContentType="image/jpeg"/>
  <Override PartName="/ppt/media/image26.jpeg" ContentType="image/jpeg"/>
  <Override PartName="/ppt/media/image22.jpeg" ContentType="image/jpeg"/>
  <Override PartName="/ppt/media/image39.png" ContentType="image/png"/>
  <Override PartName="/ppt/media/image20.jpeg" ContentType="image/jpeg"/>
  <Override PartName="/ppt/media/image18.jpeg" ContentType="image/jpeg"/>
  <Override PartName="/ppt/media/image17.jpeg" ContentType="image/jpeg"/>
  <Override PartName="/ppt/media/image16.png" ContentType="image/png"/>
  <Override PartName="/ppt/media/image15.jpeg" ContentType="image/jpeg"/>
  <Override PartName="/ppt/media/image14.png" ContentType="image/png"/>
  <Override PartName="/ppt/media/image10.jpeg" ContentType="image/jpeg"/>
  <Override PartName="/ppt/media/image13.jpeg" ContentType="image/jpeg"/>
  <Override PartName="/ppt/media/image5.png" ContentType="image/png"/>
  <Override PartName="/ppt/media/image35.jpeg" ContentType="image/jpeg"/>
  <Override PartName="/ppt/media/image11.jpeg" ContentType="image/jpeg"/>
  <Override PartName="/ppt/media/image9.jpeg" ContentType="image/jpeg"/>
  <Override PartName="/ppt/media/image8.jpeg" ContentType="image/jpeg"/>
  <Override PartName="/ppt/media/image38.png" ContentType="image/png"/>
  <Override PartName="/ppt/media/image30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31.jpeg" ContentType="image/jpeg"/>
  <Override PartName="/ppt/media/image40.png" ContentType="image/png"/>
  <Override PartName="/ppt/media/image4.jpeg" ContentType="image/jpeg"/>
  <Override PartName="/ppt/media/image25.jpeg" ContentType="image/jpeg"/>
  <Override PartName="/ppt/media/image41.png" ContentType="image/png"/>
  <Override PartName="/ppt/media/image24.jpeg" ContentType="image/jpeg"/>
  <Override PartName="/ppt/media/projctor.wav" ContentType="audio/x-wav"/>
  <Override PartName="/ppt/media/image28.png" ContentType="image/png"/>
  <Override PartName="/ppt/media/image7.jpeg" ContentType="image/jpeg"/>
  <Override PartName="/ppt/media/image1.wmf" ContentType="image/x-wmf"/>
  <Override PartName="/ppt/media/image12.jpeg" ContentType="image/jpeg"/>
  <Override PartName="/ppt/media/image3.jpeg" ContentType="image/jpeg"/>
  <Override PartName="/ppt/media/image37.jpeg" ContentType="image/jpeg"/>
  <Override PartName="/ppt/media/image6.wmf" ContentType="image/x-wmf"/>
  <Override PartName="/ppt/media/image19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A048C-C0AE-43E8-8AA0-89AF232D9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2E013-DC98-4EA4-902A-58CA59DEF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993A8-96F1-4E74-9B00-537C0FAAD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75AE6-F7D6-4E57-9256-F5B91428E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3A90D-2595-4295-852E-13E94F50B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6DE0B-C626-4FF0-99BD-22543CF78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8540A-93B0-4D38-A805-46E4B1510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C489C-675D-4F68-82D6-0D4CB2568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378EE-8E15-4555-B377-39E2265CA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2D89E-F507-459A-8A6E-A8D8FFF11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DE4A2-371E-4DD5-B5DA-66AEA149C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7F2DC-892E-4CD4-BFBA-978E58774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CF9A6-9F83-4B7F-8658-032E25012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82974-1EF7-4B06-B1A6-6A807E74B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D9C9C-4859-4D23-9035-424922517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9CBD9-3E6E-4767-BD6F-FC1646960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18D27-F07D-4680-B1F1-EEB6BB892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B80A0-89AA-463C-A5EC-12DF18474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1229A-E376-4ED1-826C-B41E41DFF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65336-5C8D-42E9-9ABD-2856FC4B3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82058-CAC6-4BBA-B012-1AB037F75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11CEB-5788-4C46-A186-AFC783F23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DC152-FF62-4500-BB06-1ABF672BC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69B50-4021-49E7-B6CD-F533D18DD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49379-0BC0-4101-85CF-62B424E5D2B9}" type="slidenum">
              <a:rPr b="0" lang="zh-CN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5666E-B929-488B-BFE7-A4FCC3508C8B}" type="slidenum">
              <a:rPr b="0" lang="zh-CN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8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4560" y="1413000"/>
            <a:ext cx="8569440" cy="14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300" spc="-1" strike="noStrike">
                <a:solidFill>
                  <a:srgbClr val="006633"/>
                </a:solidFill>
                <a:latin typeface="Arial Narrow"/>
                <a:ea typeface="华文行楷"/>
              </a:rPr>
              <a:t>“</a:t>
            </a:r>
            <a:r>
              <a:rPr b="1" lang="zh-CN" sz="6300" spc="-1" strike="noStrike">
                <a:solidFill>
                  <a:srgbClr val="006633"/>
                </a:solidFill>
                <a:latin typeface="Arial Narrow"/>
                <a:ea typeface="华文行楷"/>
              </a:rPr>
              <a:t>文明上网，从我做起”</a:t>
            </a:r>
            <a:endParaRPr b="0" lang="en-US" sz="63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190760" y="3352320"/>
            <a:ext cx="4125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b812f"/>
                </a:solidFill>
                <a:latin typeface="Arial"/>
                <a:ea typeface="华文行楷"/>
              </a:rPr>
              <a:t>八（</a:t>
            </a:r>
            <a:r>
              <a:rPr b="1" lang="zh-CN" sz="3200" spc="-1" strike="noStrike">
                <a:solidFill>
                  <a:srgbClr val="3b812f"/>
                </a:solidFill>
                <a:latin typeface="Arial"/>
                <a:ea typeface="华文行楷"/>
              </a:rPr>
              <a:t>6</a:t>
            </a:r>
            <a:r>
              <a:rPr b="1" lang="zh-CN" sz="3200" spc="-1" strike="noStrike">
                <a:solidFill>
                  <a:srgbClr val="3b812f"/>
                </a:solidFill>
                <a:latin typeface="Arial"/>
                <a:ea typeface="华文行楷"/>
              </a:rPr>
              <a:t>）班主题班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324000" y="3429000"/>
            <a:ext cx="3887640" cy="32749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940360" y="3978360"/>
            <a:ext cx="2879640" cy="287964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395280" y="10587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网络已成为青少年学习知识、交流思想、休闲娱乐的重要平台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但网络是一把双刃剑，我们青少年要学会在网络社会中趋利避害，健康成长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title"/>
          </p:nvPr>
        </p:nvSpPr>
        <p:spPr>
          <a:xfrm>
            <a:off x="684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006633"/>
                </a:solidFill>
                <a:latin typeface="Garamond"/>
              </a:rPr>
              <a:t>一、网络就在身边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9" name=""/>
          <p:cNvSpPr/>
          <p:nvPr/>
        </p:nvSpPr>
        <p:spPr>
          <a:xfrm>
            <a:off x="395280" y="3789360"/>
            <a:ext cx="446400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ff0066"/>
                </a:solidFill>
                <a:latin typeface="宋体"/>
              </a:rPr>
              <a:t>请同学们说说自己在网上都做了些什么？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5292720" y="3098880"/>
            <a:ext cx="3224160" cy="300672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1128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006633"/>
                </a:solidFill>
                <a:latin typeface="Garamond"/>
              </a:rPr>
              <a:t>1</a:t>
            </a:r>
            <a:r>
              <a:rPr b="1" lang="zh-CN" sz="4200" spc="-1" strike="noStrike">
                <a:solidFill>
                  <a:srgbClr val="006633"/>
                </a:solidFill>
                <a:latin typeface="Garamond"/>
              </a:rPr>
              <a:t>亿青少年都在网上干什么？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网络成为青少年社交和表达自我的重要渠道。此外，这一群体的娱乐行为倾向非常突出。从中国互联网娱乐的三大典型应用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网络游戏、网络影视和网络音乐看，青少年对娱乐的应用水平超出全国网民平均水平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2050920" y="2637000"/>
            <a:ext cx="5257800" cy="342720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758520" y="992160"/>
            <a:ext cx="7700760" cy="523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4"/>
          <p:cNvSpPr/>
          <p:nvPr/>
        </p:nvSpPr>
        <p:spPr>
          <a:xfrm>
            <a:off x="457200" y="260280"/>
            <a:ext cx="8686800" cy="34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33"/>
                </a:solidFill>
                <a:latin typeface="Garamond"/>
              </a:rPr>
              <a:t>二、网络生活对青少年的积极影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对青少年人际关系和自我的发展促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互联网提供了大量信息，丰富了人的见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拓展交际范围，增进友谊和亲密关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3780000" y="3138480"/>
            <a:ext cx="4464000" cy="300348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500"/>
                            </p:stCondLst>
                            <p:childTnLst>
                              <p:par>
                                <p:cTn id="1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900000" y="1484280"/>
            <a:ext cx="730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宋体"/>
              </a:rPr>
              <a:t>虚拟的世界中，我不辨东西南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Times New Roman"/>
              </a:rPr>
              <a:t>                  ——</a:t>
            </a:r>
            <a:r>
              <a:rPr b="1" lang="zh-CN" sz="3600" spc="-1" strike="noStrike">
                <a:solidFill>
                  <a:srgbClr val="008000"/>
                </a:solidFill>
                <a:latin typeface="宋体"/>
              </a:rPr>
              <a:t>认清网络的负面性</a:t>
            </a:r>
            <a:r>
              <a:rPr b="1" lang="zh-CN" sz="3600" spc="-1" strike="noStrike">
                <a:solidFill>
                  <a:srgbClr val="008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643280" y="2781360"/>
            <a:ext cx="428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宋体"/>
              </a:rPr>
              <a:t>◆ 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</a:rPr>
              <a:t>网络丰富了我们的生活，也给我们带来了危害，请同学说说网络的危害。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651640" y="4653000"/>
            <a:ext cx="3203280" cy="1512720"/>
          </a:xfrm>
          <a:prstGeom prst="irregularSeal1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00"/>
                </a:solidFill>
                <a:latin typeface="Arial"/>
              </a:rPr>
              <a:t>小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306320" y="250920"/>
            <a:ext cx="41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33"/>
                </a:solidFill>
                <a:latin typeface="Garamond"/>
              </a:rPr>
              <a:t>三、网络生活对青少年的消极作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179280" y="2781360"/>
            <a:ext cx="4392720" cy="323352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0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500"/>
                            </p:stCondLst>
                            <p:childTnLst>
                              <p:par>
                                <p:cTn id="18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380880" y="691920"/>
            <a:ext cx="8382240" cy="553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33"/>
                </a:solidFill>
                <a:latin typeface="Garamond"/>
              </a:rPr>
              <a:t>三、网络生活对青少年的消极作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网络不良信息的危害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8"/>
          <p:cNvSpPr/>
          <p:nvPr/>
        </p:nvSpPr>
        <p:spPr>
          <a:xfrm>
            <a:off x="1476360" y="3429000"/>
            <a:ext cx="68580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9"/>
          <p:cNvSpPr/>
          <p:nvPr/>
        </p:nvSpPr>
        <p:spPr>
          <a:xfrm>
            <a:off x="684360" y="2492280"/>
            <a:ext cx="2209680" cy="6858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色情信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12"/>
          <p:cNvSpPr/>
          <p:nvPr/>
        </p:nvSpPr>
        <p:spPr>
          <a:xfrm>
            <a:off x="250920" y="4076640"/>
            <a:ext cx="3168720" cy="10080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严重危害青少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心理健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3635280" y="2444760"/>
            <a:ext cx="5330880" cy="355140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0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533520" y="333360"/>
            <a:ext cx="8610480" cy="516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33"/>
                </a:solidFill>
                <a:latin typeface="Garamond"/>
              </a:rPr>
              <a:t>三、网络生活对青少年的消极作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青少年网络攻击行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3348000" y="1916280"/>
            <a:ext cx="5587920" cy="414000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250920" y="1773360"/>
            <a:ext cx="30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网络的匿名性会增强青少年的攻击行为。在使用网络的青少年中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9%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会卷入网络攻击行为。他们可能会将网络上的攻击行为过渡到现实生活中，伤害他人或者自我伤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304560" y="990360"/>
            <a:ext cx="8458200" cy="523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33"/>
                </a:solidFill>
                <a:latin typeface="Garamond"/>
              </a:rPr>
              <a:t>三、网络生活对青少年的消极作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30000"/>
              </a:lnSpc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网络对青少年道德、价值观的影响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30000"/>
              </a:lnSpc>
              <a:spcBef>
                <a:spcPts val="1874"/>
              </a:spcBef>
              <a:buClr>
                <a:srgbClr val="000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道德层面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表现为漠视权威，忽视规则，不能承担自己的责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30000"/>
              </a:lnSpc>
              <a:spcBef>
                <a:spcPts val="1874"/>
              </a:spcBef>
              <a:buClr>
                <a:srgbClr val="000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价值观层面：多元化，价值目标模糊化，价值观物质化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0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8" dur="5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1" dur="5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684360" y="549360"/>
            <a:ext cx="60498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zh-CN" sz="3600" spc="-1" strike="noStrike">
                <a:solidFill>
                  <a:srgbClr val="ff0066"/>
                </a:solidFill>
                <a:latin typeface="宋体"/>
              </a:rPr>
              <a:t>现场调查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宋体"/>
              </a:rPr>
              <a:t>请有玩游戏的同学举手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4572000" y="2158920"/>
            <a:ext cx="4138560" cy="376704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11280" y="2276640"/>
            <a:ext cx="3620880" cy="375444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600" spc="-1" strike="noStrike">
                <a:solidFill>
                  <a:srgbClr val="006633"/>
                </a:solidFill>
                <a:latin typeface="方正舒体"/>
                <a:ea typeface="方正舒体"/>
              </a:rPr>
              <a:t>测一测</a:t>
            </a:r>
            <a:endParaRPr b="0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95280" y="907920"/>
            <a:ext cx="87487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、 每天起床后情绪低落，头昏眼花，疲乏无力，食欲不振，或神不守舍，而一旦上网便精神抖擞，百“病”全消。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、 上网时表现得神思敏捷，口若悬河，并感到格外开心，一旦离开网络便语言迟钝，情绪低落，怅然若失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、 只有不断增加上网时间才能感到满足，从而使得上网时间失控，经常比预定时间长。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、 无法控制去上网的冲动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、 每看到一个新网址就会心跳加快或心率不齐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56840" y="585360"/>
            <a:ext cx="8435880" cy="56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、 只要长时间不上网操作就手痒难耐。有时刚刚离网就有又想上网的冲动。有时早晨一起床就有想上网这种欲望。甚至夜间趁小便的空也想打开电脑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、 每当因特网的线路被掐断或由于其它原因不能上网，便感到烦躁不安或情绪低落。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、 平常有不由自主地敲击键盘的动作，或身体有颤抖的现象。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、 对家人或亲友隐瞒迷恋因特网的程度。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、 因迷恋因特网而面临失学、失业或失去朋友的危险。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电脑和互联网发展使人类进入信息化社会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684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6633"/>
                </a:solidFill>
                <a:latin typeface="Garamond"/>
              </a:rPr>
              <a:t>一、网络就在身边</a:t>
            </a:r>
            <a:endParaRPr b="0" lang="en-US" sz="4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258920" y="1773360"/>
            <a:ext cx="4968720" cy="432252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6658200" y="53737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信息时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0" y="3036960"/>
            <a:ext cx="3168720" cy="310032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3132000" y="476280"/>
            <a:ext cx="5651640" cy="3960720"/>
          </a:xfrm>
          <a:prstGeom prst="wedgeEllipseCallout">
            <a:avLst>
              <a:gd name="adj1" fmla="val -59861"/>
              <a:gd name="adj2" fmla="val 49921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如果你其中有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项或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项以上表现，且持续时间已经达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年以上，那么就表明你已经患上了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IAD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-1476360" y="6165720"/>
            <a:ext cx="1093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“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互联网成瘾综合症”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(Internet addiction disorder)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简称“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IAD”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987640" y="4468680"/>
            <a:ext cx="590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IAD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患者最主要的表现是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对网络操作出现时间失控，而且随着乐趣的增强，欲罢不能，难以自拔。情绪低落、头昏眼花、双手颤抖、疲乏无力、食欲不振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0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4"/>
          <p:cNvSpPr/>
          <p:nvPr/>
        </p:nvSpPr>
        <p:spPr>
          <a:xfrm>
            <a:off x="468360" y="4579920"/>
            <a:ext cx="8280360" cy="16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92240" indent="-192240">
              <a:lnSpc>
                <a:spcPct val="120000"/>
              </a:lnSpc>
              <a:spcBef>
                <a:spcPts val="10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网络成瘾者可能具有下列人格特质：喜欢独处、敏感、倾向于抽象思维、警觉、不服从社会规范等，自我价值观也比较低，并与抑郁、交往焦虑有一定相关性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4"/>
          <p:cNvSpPr/>
          <p:nvPr/>
        </p:nvSpPr>
        <p:spPr>
          <a:xfrm>
            <a:off x="252360" y="1619280"/>
            <a:ext cx="484200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Tahoma"/>
              </a:rPr>
              <a:t>目前我国城市青少年网民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Tahoma"/>
              </a:rPr>
              <a:t>网瘾青少年的比例约为</a:t>
            </a:r>
            <a:r>
              <a:rPr b="1" lang="zh-CN" sz="2400" spc="-1" strike="noStrike">
                <a:solidFill>
                  <a:srgbClr val="ff3300"/>
                </a:solidFill>
                <a:latin typeface="Tahoma"/>
              </a:rPr>
              <a:t>14.1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Tahoma"/>
              </a:rPr>
              <a:t>人数约为</a:t>
            </a:r>
            <a:r>
              <a:rPr b="1" lang="zh-CN" sz="2400" spc="-1" strike="noStrike">
                <a:solidFill>
                  <a:srgbClr val="ff3300"/>
                </a:solidFill>
                <a:latin typeface="Tahoma"/>
              </a:rPr>
              <a:t>2404.2</a:t>
            </a:r>
            <a:r>
              <a:rPr b="1" lang="zh-CN" sz="2400" spc="-1" strike="noStrike">
                <a:solidFill>
                  <a:srgbClr val="ff3300"/>
                </a:solidFill>
                <a:latin typeface="Tahoma"/>
              </a:rPr>
              <a:t>万</a:t>
            </a:r>
            <a:r>
              <a:rPr b="1" lang="zh-CN" sz="2400" spc="-1" strike="noStrike">
                <a:solidFill>
                  <a:srgbClr val="000099"/>
                </a:solidFill>
                <a:latin typeface="Tahoma"/>
              </a:rPr>
              <a:t>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5"/>
          <p:cNvSpPr/>
          <p:nvPr/>
        </p:nvSpPr>
        <p:spPr>
          <a:xfrm>
            <a:off x="250920" y="2813040"/>
            <a:ext cx="48574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Tahoma"/>
              </a:rPr>
              <a:t>网瘾青少年以“网络游戏成瘾者”居多</a:t>
            </a:r>
            <a:r>
              <a:rPr b="1" lang="zh-CN" sz="2400" spc="-1" strike="noStrike">
                <a:solidFill>
                  <a:srgbClr val="ff3300"/>
                </a:solidFill>
                <a:latin typeface="Tahoma"/>
              </a:rPr>
              <a:t>47.9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2"/>
          <p:cNvSpPr/>
          <p:nvPr/>
        </p:nvSpPr>
        <p:spPr>
          <a:xfrm>
            <a:off x="457200" y="476280"/>
            <a:ext cx="86868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33"/>
                </a:solidFill>
                <a:latin typeface="Garamond"/>
              </a:rPr>
              <a:t>四、青少年网络成瘾问题严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5219640" y="1268280"/>
            <a:ext cx="3600360" cy="308628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nodeType="clickEffect" fill="hold">
                      <p:stCondLst>
                        <p:cond delay="0"/>
                      </p:stCondLst>
                      <p:childTnLst>
                        <p:par>
                          <p:cTn id="23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39640" y="476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网瘾众生相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324000" y="1989000"/>
            <a:ext cx="3809880" cy="285768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4427640" y="836640"/>
            <a:ext cx="4368600" cy="475920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5292720" y="5589720"/>
            <a:ext cx="316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未有平板时。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24000" y="5013360"/>
            <a:ext cx="374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现代版“悬梁刺股”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3"/>
          <a:stretch/>
        </p:blipFill>
        <p:spPr>
          <a:xfrm>
            <a:off x="324000" y="225360"/>
            <a:ext cx="8496000" cy="637236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5997240" y="5950080"/>
            <a:ext cx="535680" cy="5205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看来人类一刻也离不开电脑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0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539640" y="260280"/>
            <a:ext cx="7993080" cy="6224760"/>
          </a:xfrm>
          <a:prstGeom prst="rect">
            <a:avLst/>
          </a:prstGeom>
          <a:ln w="0">
            <a:noFill/>
          </a:ln>
        </p:spPr>
      </p:pic>
      <p:sp>
        <p:nvSpPr>
          <p:cNvPr id="174" name="矩形 10"/>
          <p:cNvSpPr/>
          <p:nvPr/>
        </p:nvSpPr>
        <p:spPr>
          <a:xfrm>
            <a:off x="468360" y="5877000"/>
            <a:ext cx="828036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黑体"/>
              </a:rPr>
              <a:t>严重影响青少年的学业和身心健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68360" y="549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33"/>
                </a:solidFill>
                <a:latin typeface="Garamond"/>
              </a:rPr>
              <a:t>都是网瘾惹的祸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468360" y="1773360"/>
            <a:ext cx="8207280" cy="228420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3851280" y="4437000"/>
            <a:ext cx="180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某作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468360" y="404640"/>
            <a:ext cx="8280360" cy="55483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3708360" y="6021360"/>
            <a:ext cx="180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某作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684360" y="404640"/>
            <a:ext cx="5537160" cy="561672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6443640" y="5300640"/>
            <a:ext cx="226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三只手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611280" y="404640"/>
            <a:ext cx="7416720" cy="555660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8172360" y="2852640"/>
            <a:ext cx="6336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猖狂太过了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539640" y="404640"/>
            <a:ext cx="8353440" cy="560736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1403280" y="609300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童鞋，这招障眼法跟刘谦学的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838080"/>
            <a:ext cx="9144000" cy="5996160"/>
          </a:xfrm>
          <a:prstGeom prst="rect">
            <a:avLst/>
          </a:prstGeom>
          <a:ln w="0">
            <a:noFill/>
          </a:ln>
        </p:spPr>
      </p:pic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94920" y="259920"/>
            <a:ext cx="7286760" cy="69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600" spc="-1" strike="noStrike">
                <a:solidFill>
                  <a:srgbClr val="ff0000"/>
                </a:solidFill>
                <a:latin typeface="Garamond"/>
              </a:rPr>
              <a:t>黄勇系列杀人案</a:t>
            </a:r>
            <a:endParaRPr b="0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p:transition>
    <p:checker dir="horz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被告人黄勇自幼受暴力题材影视剧的影响，梦想成为一名职业杀手。２００１年夏，黄勇将自己家中的轧面条机机架改装成杀人机械，取名为“智能木马”。精心策划后，决定向出入网吧、游戏厅的青少年下手，实施杀人计划。自２００１年９月至２００３年１１月，黄勇先后从网吧、游戏厅等场所，以资助上学、外出游玩和介绍工作为诱饵将被害人骗到自己家中，以被害人要想实现自己的愿望，必须经过“智能木马”测试为由将被害人绑在木马上，或先把被害人用酒灌醉，然后用布条将被害人勒死，至案发计杀死无辜青少年１７人，轻伤１人。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1201320" y="20628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宋体"/>
              </a:rPr>
              <a:t>黑网吧侵袭少年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95280" y="836640"/>
            <a:ext cx="84247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请问有几位同学进去过网吧的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你们知道国家有关网吧的一些规定吗？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611280" y="3068640"/>
            <a:ext cx="3744720" cy="303048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324000" y="2060640"/>
            <a:ext cx="87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《互联网上网服务营业场所管理条例》第二十一条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互联网上网服务营业场所经营单位不得接纳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未成年人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进入营业场所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4788000" y="3079800"/>
            <a:ext cx="3744720" cy="296532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500"/>
                            </p:stCondLst>
                            <p:childTnLst>
                              <p:par>
                                <p:cTn id="3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468360" y="4107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中国互联网络信息中心（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CNNIC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2011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19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日发布的《第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28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次中国互联网络发展状况统计报告》显示，截至今年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月底，中国网民规模达到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．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85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亿，如果这是一个国家的话，则是世界第三人口大国，相当于美国和巴西的人口总和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611280" y="3500280"/>
            <a:ext cx="8280360" cy="262908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远离黑网吧！！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611280" y="1131840"/>
            <a:ext cx="8101080" cy="50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828720" y="365040"/>
            <a:ext cx="6408720" cy="572796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1103400" y="2276640"/>
            <a:ext cx="863640" cy="3384360"/>
          </a:xfrm>
          <a:prstGeom prst="ellipse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437080" y="2349360"/>
            <a:ext cx="863640" cy="3384720"/>
          </a:xfrm>
          <a:prstGeom prst="ellipse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596360" y="2852640"/>
            <a:ext cx="792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你有什么感想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493560" y="298440"/>
            <a:ext cx="8533080" cy="58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withEffect" fill="hold" presetClass="entr" presetID="3" presetSubtype="10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2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3" presetSubtype="10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5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39280" y="333000"/>
            <a:ext cx="60850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ff0000"/>
                </a:solidFill>
                <a:latin typeface="Garamond"/>
              </a:rPr>
              <a:t>黑网吧起火夺人命</a:t>
            </a:r>
            <a:r>
              <a:rPr b="0" lang="zh-CN" sz="38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-360" y="1052280"/>
            <a:ext cx="622764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2002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日凌晨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时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43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分，北京市海淀区学院路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号石油研究院内一家名为“蓝极速”的网吧突然起火。被网吧里传出的呼救声惊醒的附近居民冲出家门，看到滚滚浓烟从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28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号楼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层的“蓝极速”网吧的窗口涌出，几个年轻人正趴在上面拼命喘气，随时有窒息的危险。由于窗口上都装着铁栅栏，他们无法逃出，只有声嘶力竭地向楼下的人求救。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6300720" y="260280"/>
            <a:ext cx="2448000" cy="233352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6300720" y="3500280"/>
            <a:ext cx="2533680" cy="236232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6156360" y="2924280"/>
            <a:ext cx="29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冒浓烟的蓝极速网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72360" y="6165720"/>
            <a:ext cx="25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正在燃烧的网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  <p:sndAc>
      <p:stSnd>
        <p:snd r:embed="rId3" name="projctor.wav"/>
      </p:stSnd>
    </p:sndAc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50560" y="274680"/>
            <a:ext cx="73080" cy="1052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0" y="260280"/>
            <a:ext cx="558000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半梦半醒的居民目瞪口呆地望着这一幕，一些人立刻冲回家打电话报警，另一些人则开始想办法营救大火中的年轻人，但他们发现，网吧惟一的出口——大铁门已被人从外面锁住。救人者与求救者隔着铁门无计可施。大火仍在肆虐，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点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55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分，外面的人已经听不到网吧里有求救声传出就是这牢笼一般的“黑网吧”，一夜之间夺去了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条年轻的生命。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5796000" y="379440"/>
            <a:ext cx="3168720" cy="210024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5940360" y="3284640"/>
            <a:ext cx="2127240" cy="273672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6640560" y="24987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716880" y="26305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窗口上装着铁栅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006760" y="3645000"/>
            <a:ext cx="91188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燃烧后的网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  <p:sndAc>
      <p:stSnd>
        <p:snd r:embed="rId3" name="projctor.wav"/>
      </p:stSnd>
    </p:sndAc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2440" cy="1052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68360" y="83628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经公安机关初步审查，纵火嫌疑人张某，男，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岁，宋某，男，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岁，二人系本市某中学学生，经常逃学。然而在网络和游戏中度过了“快乐的时光”之后，他们的钱开始捉襟见肘。“没钱还想上网！”事发两周前，他们受到该网吧服务人员的羞辱后，报复之心遂起。 　　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日凌晨，两人将准备好的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1.8 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升汽油泼在网吧门前，而后点燃了它。火苗猛地窜起来，他们迅速离开了……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  <p:sndAc>
      <p:stSnd>
        <p:snd r:embed="rId1" name="projctor.wav"/>
      </p:stSnd>
    </p:sndAc>
  </p:transition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0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100" spc="-1" strike="noStrike">
                <a:solidFill>
                  <a:srgbClr val="008000"/>
                </a:solidFill>
                <a:latin typeface="宋体"/>
              </a:rPr>
              <a:t>网络诈骗与犯罪危害青少年的安全</a:t>
            </a:r>
            <a:r>
              <a:rPr b="1" lang="zh-CN" sz="5600" spc="-1" strike="noStrike">
                <a:solidFill>
                  <a:srgbClr val="660066"/>
                </a:solidFill>
                <a:latin typeface="Garamond"/>
                <a:ea typeface="楷体_GB2312"/>
              </a:rPr>
              <a:t> </a:t>
            </a:r>
            <a:endParaRPr b="0" lang="en-US" sz="5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7" name=""/>
          <p:cNvSpPr/>
          <p:nvPr/>
        </p:nvSpPr>
        <p:spPr>
          <a:xfrm>
            <a:off x="539640" y="1628640"/>
            <a:ext cx="7993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3b812f"/>
                </a:solidFill>
                <a:uFillTx/>
                <a:latin typeface="宋体"/>
              </a:rPr>
              <a:t>案例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在广州海珠区某中学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1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岁女孩小红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化名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在网上结识了一个网名叫“第二次初恋”的网友，两人“一见如故”相谈甚欢，不久就见了面。今年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月的一天中午，小红接到了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第二次初恋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”的朋友“王子”的短信息，说他今天生日叫小雪出来一起玩， 还特意叮嘱，多带几个女同学来。当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1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时，小红按照事先约定带着三名同学来到某卡拉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OK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厅包房和“阿涛”及他的另两名朋友见了面。因喝了他们给的橙汁，小红等四名女孩昏迷后，被拐卖到东莞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685800" y="457200"/>
            <a:ext cx="7924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00720" y="549360"/>
            <a:ext cx="2743200" cy="731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9002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新闻链接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3024360" y="1501920"/>
            <a:ext cx="6119640" cy="466380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250920" y="768240"/>
            <a:ext cx="388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近日，某中学生在与网友交往的过程中，将家中的电话号码，家庭住址，本人姓名，就读学校等信息均告诉对方，结果这位网友打电话到她家骗取了大量钱财，使该中学生家里损失惨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0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5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0"/>
                            </p:stCondLst>
                            <p:childTnLst>
                              <p:par>
                                <p:cTn id="33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9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655308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33"/>
                </a:solidFill>
                <a:latin typeface="Garamond"/>
              </a:rPr>
              <a:t>五、文明上网、保护自己</a:t>
            </a:r>
            <a:r>
              <a:rPr b="1" lang="zh-CN" sz="3300" spc="-1" strike="noStrike">
                <a:solidFill>
                  <a:srgbClr val="660066"/>
                </a:solidFill>
                <a:latin typeface="Garamond"/>
                <a:ea typeface="楷体_GB2312"/>
              </a:rPr>
              <a:t> </a:t>
            </a:r>
            <a:endParaRPr b="0" lang="en-US" sz="33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3" name=""/>
          <p:cNvSpPr/>
          <p:nvPr/>
        </p:nvSpPr>
        <p:spPr>
          <a:xfrm>
            <a:off x="468360" y="155736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宋体"/>
              </a:rPr>
              <a:t>◆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</a:rPr>
              <a:t>谨防网络伸出的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“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</a:rPr>
              <a:t>黑手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”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</a:rPr>
              <a:t>在上网时如何保护好自己？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914400" y="3573360"/>
            <a:ext cx="822960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、提高自身素质，抵制网络诱惑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、发现不良信息，通知朋友共同抵制，并报告有关部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千万不要在父母或监护人不知道的情况下与陌生人约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、不要在网上轻易透露与自己身份有关的信息资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不要轻信网上朋友的信息资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5796000" y="1628640"/>
            <a:ext cx="3124080" cy="243864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331640" y="404640"/>
            <a:ext cx="609588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900" spc="-1" strike="noStrike">
                <a:solidFill>
                  <a:srgbClr val="ff0000"/>
                </a:solidFill>
                <a:latin typeface="Times New Roman"/>
              </a:rPr>
              <a:t>★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学习全国青少年网络文明公约</a:t>
            </a: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7" name=""/>
          <p:cNvSpPr/>
          <p:nvPr/>
        </p:nvSpPr>
        <p:spPr>
          <a:xfrm>
            <a:off x="1187280" y="1197000"/>
            <a:ext cx="6551640" cy="863640"/>
          </a:xfrm>
          <a:prstGeom prst="flowChartAlternateProcess">
            <a:avLst/>
          </a:prstGeom>
          <a:gradFill rotWithShape="0">
            <a:gsLst>
              <a:gs pos="0">
                <a:srgbClr val="ff9900"/>
              </a:gs>
              <a:gs pos="100000">
                <a:srgbClr val="ffcc66"/>
              </a:gs>
            </a:gsLst>
            <a:lin ang="5400000"/>
          </a:gradFill>
          <a:ln w="12600">
            <a:solidFill>
              <a:srgbClr val="cc6600"/>
            </a:solidFill>
            <a:miter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要善于上网学习  不浏览不良信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187280" y="2205000"/>
            <a:ext cx="6551640" cy="863640"/>
          </a:xfrm>
          <a:prstGeom prst="flowChartAlternateProcess">
            <a:avLst/>
          </a:prstGeom>
          <a:gradFill rotWithShape="0">
            <a:gsLst>
              <a:gs pos="0">
                <a:srgbClr val="ff9900"/>
              </a:gs>
              <a:gs pos="100000">
                <a:srgbClr val="ffcc66"/>
              </a:gs>
            </a:gsLst>
            <a:lin ang="5400000"/>
          </a:gradFill>
          <a:ln w="12600">
            <a:solidFill>
              <a:srgbClr val="cc6600"/>
            </a:solidFill>
            <a:miter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要诚实友好交流  不侮辱欺诈他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189080" y="3213000"/>
            <a:ext cx="6551640" cy="863640"/>
          </a:xfrm>
          <a:prstGeom prst="flowChartAlternateProcess">
            <a:avLst/>
          </a:prstGeom>
          <a:gradFill rotWithShape="0">
            <a:gsLst>
              <a:gs pos="0">
                <a:srgbClr val="ff9900"/>
              </a:gs>
              <a:gs pos="100000">
                <a:srgbClr val="ffcc66"/>
              </a:gs>
            </a:gsLst>
            <a:lin ang="5400000"/>
          </a:gradFill>
          <a:ln w="12600">
            <a:solidFill>
              <a:srgbClr val="cc6600"/>
            </a:solidFill>
            <a:miter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要增强自护意识  不随意约会网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187280" y="4221000"/>
            <a:ext cx="6551640" cy="863640"/>
          </a:xfrm>
          <a:prstGeom prst="flowChartAlternateProcess">
            <a:avLst/>
          </a:prstGeom>
          <a:gradFill rotWithShape="0">
            <a:gsLst>
              <a:gs pos="0">
                <a:srgbClr val="ff9900"/>
              </a:gs>
              <a:gs pos="100000">
                <a:srgbClr val="ffcc66"/>
              </a:gs>
            </a:gsLst>
            <a:lin ang="5400000"/>
          </a:gradFill>
          <a:ln w="12600">
            <a:solidFill>
              <a:srgbClr val="cc6600"/>
            </a:solidFill>
            <a:miter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要维护网络安全  不破坏网络秩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187280" y="5229360"/>
            <a:ext cx="6551640" cy="863640"/>
          </a:xfrm>
          <a:prstGeom prst="flowChartAlternateProcess">
            <a:avLst/>
          </a:prstGeom>
          <a:gradFill rotWithShape="0">
            <a:gsLst>
              <a:gs pos="0">
                <a:srgbClr val="ff9900"/>
              </a:gs>
              <a:gs pos="100000">
                <a:srgbClr val="ffcc66"/>
              </a:gs>
            </a:gsLst>
            <a:lin ang="5400000"/>
          </a:gradFill>
          <a:ln w="12600">
            <a:solidFill>
              <a:srgbClr val="cc6600"/>
            </a:solidFill>
            <a:miter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要有益身心健康  不沉溺虚拟时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0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8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4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7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1835280" y="317520"/>
            <a:ext cx="6121440" cy="58482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615600" y="-168840"/>
            <a:ext cx="911520" cy="689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华文行楷"/>
                <a:ea typeface="华文行楷"/>
              </a:rPr>
              <a:t>拒绝网毒 文明上网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图表 6" descr=""/>
          <p:cNvPicPr/>
          <p:nvPr/>
        </p:nvPicPr>
        <p:blipFill>
          <a:blip r:embed="rId1"/>
          <a:stretch/>
        </p:blipFill>
        <p:spPr>
          <a:xfrm>
            <a:off x="1042920" y="404640"/>
            <a:ext cx="7274160" cy="5329440"/>
          </a:xfrm>
          <a:prstGeom prst="rect">
            <a:avLst/>
          </a:prstGeom>
          <a:ln w="0">
            <a:noFill/>
          </a:ln>
        </p:spPr>
      </p:pic>
      <p:sp>
        <p:nvSpPr>
          <p:cNvPr id="97" name="Text Box 4"/>
          <p:cNvSpPr/>
          <p:nvPr/>
        </p:nvSpPr>
        <p:spPr>
          <a:xfrm>
            <a:off x="900000" y="573408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注：图中的数据来自于《第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次中国互联网络发展状况统计报告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Picture 2" descr="D:\08072401-2w.png"/>
          <p:cNvPicPr/>
          <p:nvPr/>
        </p:nvPicPr>
        <p:blipFill>
          <a:blip r:embed="rId1"/>
          <a:stretch/>
        </p:blipFill>
        <p:spPr>
          <a:xfrm>
            <a:off x="4162320" y="2759040"/>
            <a:ext cx="2857680" cy="222408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4" descr="D:\08072401w.png"/>
          <p:cNvPicPr/>
          <p:nvPr/>
        </p:nvPicPr>
        <p:blipFill>
          <a:blip r:embed="rId2"/>
          <a:stretch/>
        </p:blipFill>
        <p:spPr>
          <a:xfrm>
            <a:off x="1608120" y="1415880"/>
            <a:ext cx="4098960" cy="2868840"/>
          </a:xfrm>
          <a:prstGeom prst="rect">
            <a:avLst/>
          </a:prstGeom>
          <a:ln w="0">
            <a:noFill/>
          </a:ln>
        </p:spPr>
      </p:pic>
      <p:sp>
        <p:nvSpPr>
          <p:cNvPr id="236" name="任意多边形 3"/>
          <p:cNvSpPr/>
          <p:nvPr/>
        </p:nvSpPr>
        <p:spPr>
          <a:xfrm>
            <a:off x="0" y="3000240"/>
            <a:ext cx="1604880" cy="1903680"/>
          </a:xfrm>
          <a:prstGeom prst="pi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任意多边形 6"/>
          <p:cNvSpPr/>
          <p:nvPr/>
        </p:nvSpPr>
        <p:spPr>
          <a:xfrm>
            <a:off x="6991200" y="3984480"/>
            <a:ext cx="293760" cy="18576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任意多边形 7"/>
          <p:cNvSpPr/>
          <p:nvPr/>
        </p:nvSpPr>
        <p:spPr>
          <a:xfrm>
            <a:off x="6991200" y="4106880"/>
            <a:ext cx="293760" cy="17136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0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8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500"/>
                            </p:stCondLst>
                            <p:childTnLst>
                              <p:par>
                                <p:cTn id="3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2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1000"/>
                            </p:stCondLst>
                            <p:childTnLst>
                              <p:par>
                                <p:cTn id="3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6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1500"/>
                            </p:stCondLst>
                            <p:childTnLst>
                              <p:par>
                                <p:cTn id="4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2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2000"/>
                            </p:stCondLst>
                            <p:childTnLst>
                              <p:par>
                                <p:cTn id="40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06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2500"/>
                            </p:stCondLst>
                            <p:childTnLst>
                              <p:par>
                                <p:cTn id="40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8" name="图表 6"/>
          <p:cNvGraphicFramePr/>
          <p:nvPr/>
        </p:nvGraphicFramePr>
        <p:xfrm>
          <a:off x="3798720" y="1052640"/>
          <a:ext cx="4800600" cy="4572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9" name="图表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98720" y="1052640"/>
                    <a:ext cx="480060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线形标注 1(带强调线) 10"/>
          <p:cNvSpPr/>
          <p:nvPr/>
        </p:nvSpPr>
        <p:spPr>
          <a:xfrm flipH="1">
            <a:off x="826920" y="4327560"/>
            <a:ext cx="2438640" cy="838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455" y="1595"/>
                </a:moveTo>
                <a:lnTo>
                  <a:pt x="-675" y="2945"/>
                </a:lnTo>
              </a:path>
              <a:path w="21600" h="21600">
                <a:moveTo>
                  <a:pt x="-675" y="0"/>
                </a:moveTo>
                <a:lnTo>
                  <a:pt x="-675" y="21600"/>
                </a:lnTo>
              </a:path>
            </a:pathLst>
          </a:custGeom>
          <a:solidFill>
            <a:srgbClr val="cc9900">
              <a:alpha val="5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07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年青少年周上网为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11.6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小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线形标注 1(带强调线) 12"/>
          <p:cNvSpPr/>
          <p:nvPr/>
        </p:nvSpPr>
        <p:spPr>
          <a:xfrm flipH="1">
            <a:off x="853920" y="3081240"/>
            <a:ext cx="2438640" cy="457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9716" y="-1200"/>
                </a:moveTo>
                <a:lnTo>
                  <a:pt x="-675" y="5400"/>
                </a:lnTo>
              </a:path>
              <a:path w="21600" h="21600">
                <a:moveTo>
                  <a:pt x="-675" y="0"/>
                </a:moveTo>
                <a:lnTo>
                  <a:pt x="-675" y="21600"/>
                </a:lnTo>
              </a:path>
            </a:pathLst>
          </a:custGeom>
          <a:solidFill>
            <a:srgbClr val="cc9900">
              <a:alpha val="5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08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年为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14.6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小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线形标注 1(带强调线) 13"/>
          <p:cNvSpPr/>
          <p:nvPr/>
        </p:nvSpPr>
        <p:spPr>
          <a:xfrm flipH="1">
            <a:off x="931320" y="2046240"/>
            <a:ext cx="2361960" cy="457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6899" y="32925"/>
                </a:moveTo>
                <a:lnTo>
                  <a:pt x="-697" y="5400"/>
                </a:lnTo>
              </a:path>
              <a:path w="21600" h="21600">
                <a:moveTo>
                  <a:pt x="-697" y="0"/>
                </a:moveTo>
                <a:lnTo>
                  <a:pt x="-697" y="21600"/>
                </a:lnTo>
              </a:path>
            </a:pathLst>
          </a:custGeom>
          <a:solidFill>
            <a:srgbClr val="cc9900">
              <a:alpha val="5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09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年为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16.5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小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标题 1"/>
          <p:cNvSpPr/>
          <p:nvPr/>
        </p:nvSpPr>
        <p:spPr>
          <a:xfrm>
            <a:off x="457200" y="152280"/>
            <a:ext cx="868680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研究现状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—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青少年上网时间逐年增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8"/>
          <p:cNvSpPr/>
          <p:nvPr/>
        </p:nvSpPr>
        <p:spPr>
          <a:xfrm>
            <a:off x="1316160" y="5715000"/>
            <a:ext cx="701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注：数据来自于《第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次中国互联网络发展状况统计报告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0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看图，猜一句有名的网语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332000" y="1125360"/>
            <a:ext cx="6480000" cy="48690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 txBox="1"/>
          <p:nvPr/>
        </p:nvSpPr>
        <p:spPr>
          <a:xfrm>
            <a:off x="2700360" y="5877000"/>
            <a:ext cx="3657600" cy="81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神马都是浮云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176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亲，来个网语四六级考试哦，亲～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、童鞋们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+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、流口水木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、爱老虎油，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3Q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、可爱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、走召弓虽人参公鸡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、蛋白质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服了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548756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3166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40360" y="1201680"/>
            <a:ext cx="223200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同学们加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356000" y="1773360"/>
            <a:ext cx="223200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羡慕不羡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716360" y="2349360"/>
            <a:ext cx="309564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I love U,thank y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076720" y="2924280"/>
            <a:ext cx="201636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可惜没人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292720" y="3500280"/>
            <a:ext cx="237492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超强人身攻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653080" y="4051440"/>
            <a:ext cx="316692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笨蛋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白痴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神经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916360" y="4559400"/>
            <a:ext cx="525600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我服了你，出自周星驰电影对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19640" y="5106960"/>
            <a:ext cx="273672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我是白痴无药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635280" y="5641920"/>
            <a:ext cx="410544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沙哟娜拉（日语），再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000"/>
                            </p:stCondLst>
                            <p:childTnLst>
                              <p:par>
                                <p:cTn id="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500"/>
                            </p:stCondLst>
                            <p:childTnLst>
                              <p:par>
                                <p:cTn id="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2000"/>
                            </p:stCondLst>
                            <p:childTnLst>
                              <p:par>
                                <p:cTn id="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2500"/>
                            </p:stCondLst>
                            <p:childTnLst>
                              <p:par>
                                <p:cTn id="7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3000"/>
                            </p:stCondLst>
                            <p:childTnLst>
                              <p:par>
                                <p:cTn id="7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3500"/>
                            </p:stCondLst>
                            <p:childTnLst>
                              <p:par>
                                <p:cTn id="8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4000"/>
                            </p:stCondLst>
                            <p:childTnLst>
                              <p:par>
                                <p:cTn id="8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176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还有火星文哦，亲～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火星文最早的名称源自周星驰的电影《少林足球》，片中周星驰对于打扮怪异的女主角阿梅（赵薇饰）说：“你快点回火星吧，地球是很危险的！”火星一词遂开始成为年轻族群形容不同寻常的怪异事物。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火星文由符号、繁体字、日文、韩文、冷僻字或汉字拆分后的部分等非正规化文字符号组合而成。咋看都像是乱码或打错的字，用法也不同于汉字那么规范，从字面上根本无法了解。其实，“火星文”几年前就作为一种游戏用语在泡泡堂流行，接着又通过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QQ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资料及聊天快速散播，成为许多年轻人的共用语言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试试你年轻不？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、ㄋ们好ㄚ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、伱傃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、侽喷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、蒶ロ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427640" y="1557360"/>
            <a:ext cx="2952720" cy="703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你们好啊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427640" y="2349360"/>
            <a:ext cx="2952720" cy="703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你是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427640" y="3116160"/>
            <a:ext cx="2952720" cy="703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男朋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427640" y="3860640"/>
            <a:ext cx="2952720" cy="703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很可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7T11:44:39Z</dcterms:created>
  <dc:creator>番茄花园</dc:creator>
  <dc:description/>
  <dc:language>en-US</dc:language>
  <cp:lastModifiedBy>admin</cp:lastModifiedBy>
  <dcterms:modified xsi:type="dcterms:W3CDTF">2011-11-15T00:44:31Z</dcterms:modified>
  <cp:revision>84</cp:revision>
  <dc:subject/>
  <dc:title>第三课：我国政府是人民的政府　</dc:title>
</cp:coreProperties>
</file>