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A45-26B9-4911-9ED3-61347338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E68-B827-4980-B71F-7709B505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8E4-0708-4A10-98ED-3DEC6947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AD1-0741-4964-84AE-19A5F8BD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C65-BF56-4D60-B29F-B9F8E3B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F2A-346B-4BFD-9972-29223E8E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940-D72B-4A97-AFE3-B0D9717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D7B-F11D-4553-9C49-1E752F0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A62-5C97-4865-8397-44C90F1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46D-E1B9-422D-B4DE-6FF9DF4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DE3-97C0-4639-B4C8-2F1C818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80A-F571-4E4D-9AF6-F3D1030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3E71-B77B-43F4-BDF4-5B72F87DEF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EE4-8305-4F9E-A4F7-535351FFD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9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그룹 39"/>
          <p:cNvGrpSpPr/>
          <p:nvPr/>
        </p:nvGrpSpPr>
        <p:grpSpPr>
          <a:xfrm>
            <a:off x="5686560" y="3143160"/>
            <a:ext cx="2814480" cy="2857680"/>
            <a:chOff x="5686560" y="3143160"/>
            <a:chExt cx="2814480" cy="2857680"/>
          </a:xfrm>
        </p:grpSpPr>
        <p:grpSp>
          <p:nvGrpSpPr>
            <p:cNvPr id="44" name="그룹 15"/>
            <p:cNvGrpSpPr/>
            <p:nvPr/>
          </p:nvGrpSpPr>
          <p:grpSpPr>
            <a:xfrm>
              <a:off x="5686560" y="5429520"/>
              <a:ext cx="2743200" cy="571320"/>
              <a:chOff x="5686560" y="5429520"/>
              <a:chExt cx="2743200" cy="571320"/>
            </a:xfrm>
          </p:grpSpPr>
          <p:sp>
            <p:nvSpPr>
              <p:cNvPr id="45" name="타원 11"/>
              <p:cNvSpPr/>
              <p:nvPr/>
            </p:nvSpPr>
            <p:spPr>
              <a:xfrm>
                <a:off x="6886800" y="5658120"/>
                <a:ext cx="342720" cy="56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도넛 13"/>
              <p:cNvSpPr/>
              <p:nvPr/>
            </p:nvSpPr>
            <p:spPr>
              <a:xfrm>
                <a:off x="5686560" y="5429520"/>
                <a:ext cx="2743200" cy="571320"/>
              </a:xfrm>
              <a:custGeom>
                <a:avLst/>
                <a:gdLst>
                  <a:gd name="textAreaLeft" fmla="*/ 401400 w 2743200"/>
                  <a:gd name="textAreaRight" fmla="*/ 2341800 w 2743200"/>
                  <a:gd name="textAreaTop" fmla="*/ 83520 h 571320"/>
                  <a:gd name="textAreaBottom" fmla="*/ 48780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Picture 2" descr="C:\Documents and Settings\HANA\My Documents\My Pictures\Microsoft Clip Organizer\j0425198 copy.png"/>
            <p:cNvPicPr/>
            <p:nvPr/>
          </p:nvPicPr>
          <p:blipFill>
            <a:blip r:embed="rId1"/>
            <a:stretch/>
          </p:blipFill>
          <p:spPr>
            <a:xfrm>
              <a:off x="7045920" y="3143160"/>
              <a:ext cx="1455120" cy="258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그룹 66"/>
          <p:cNvGrpSpPr/>
          <p:nvPr/>
        </p:nvGrpSpPr>
        <p:grpSpPr>
          <a:xfrm>
            <a:off x="6786720" y="3184200"/>
            <a:ext cx="838080" cy="1024200"/>
            <a:chOff x="6786720" y="3184200"/>
            <a:chExt cx="838080" cy="1024200"/>
          </a:xfrm>
        </p:grpSpPr>
        <p:pic>
          <p:nvPicPr>
            <p:cNvPr id="49" name="Picture 2" descr="C:\Documents and Settings\HANA\My Documents\My Pictures\Microsoft Clip Organizer\j0425198 copy.png"/>
            <p:cNvPicPr/>
            <p:nvPr/>
          </p:nvPicPr>
          <p:blipFill>
            <a:blip r:embed="rId2"/>
            <a:stretch/>
          </p:blipFill>
          <p:spPr>
            <a:xfrm rot="20304600">
              <a:off x="7013160" y="3241800"/>
              <a:ext cx="473400" cy="84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그룹 19"/>
            <p:cNvGrpSpPr/>
            <p:nvPr/>
          </p:nvGrpSpPr>
          <p:grpSpPr>
            <a:xfrm>
              <a:off x="6786720" y="4044960"/>
              <a:ext cx="785520" cy="163440"/>
              <a:chOff x="6786720" y="4044960"/>
              <a:chExt cx="785520" cy="163440"/>
            </a:xfrm>
          </p:grpSpPr>
          <p:sp>
            <p:nvSpPr>
              <p:cNvPr id="51" name="타원 20"/>
              <p:cNvSpPr/>
              <p:nvPr/>
            </p:nvSpPr>
            <p:spPr>
              <a:xfrm>
                <a:off x="7130520" y="4110120"/>
                <a:ext cx="97920" cy="162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도넛 21"/>
              <p:cNvSpPr/>
              <p:nvPr/>
            </p:nvSpPr>
            <p:spPr>
              <a:xfrm>
                <a:off x="6786720" y="4044960"/>
                <a:ext cx="785520" cy="163440"/>
              </a:xfrm>
              <a:custGeom>
                <a:avLst/>
                <a:gdLst>
                  <a:gd name="textAreaLeft" fmla="*/ 114840 w 785520"/>
                  <a:gd name="textAreaRight" fmla="*/ 670680 w 785520"/>
                  <a:gd name="textAreaTop" fmla="*/ 23760 h 163440"/>
                  <a:gd name="textAreaBottom" fmla="*/ 13968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그룹 65"/>
          <p:cNvGrpSpPr/>
          <p:nvPr/>
        </p:nvGrpSpPr>
        <p:grpSpPr>
          <a:xfrm>
            <a:off x="5500440" y="3142800"/>
            <a:ext cx="1357560" cy="1697400"/>
            <a:chOff x="5500440" y="3142800"/>
            <a:chExt cx="1357560" cy="1697400"/>
          </a:xfrm>
        </p:grpSpPr>
        <p:grpSp>
          <p:nvGrpSpPr>
            <p:cNvPr id="54" name="그룹 16"/>
            <p:cNvGrpSpPr/>
            <p:nvPr/>
          </p:nvGrpSpPr>
          <p:grpSpPr>
            <a:xfrm>
              <a:off x="5572080" y="4572360"/>
              <a:ext cx="1285920" cy="267840"/>
              <a:chOff x="5572080" y="4572360"/>
              <a:chExt cx="1285920" cy="267840"/>
            </a:xfrm>
          </p:grpSpPr>
          <p:sp>
            <p:nvSpPr>
              <p:cNvPr id="55" name="타원 17"/>
              <p:cNvSpPr/>
              <p:nvPr/>
            </p:nvSpPr>
            <p:spPr>
              <a:xfrm>
                <a:off x="6134760" y="4679280"/>
                <a:ext cx="160560" cy="266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도넛 18"/>
              <p:cNvSpPr/>
              <p:nvPr/>
            </p:nvSpPr>
            <p:spPr>
              <a:xfrm>
                <a:off x="5572080" y="4572360"/>
                <a:ext cx="1285920" cy="267840"/>
              </a:xfrm>
              <a:custGeom>
                <a:avLst/>
                <a:gdLst>
                  <a:gd name="textAreaLeft" fmla="*/ 188280 w 1285920"/>
                  <a:gd name="textAreaRight" fmla="*/ 1097640 w 1285920"/>
                  <a:gd name="textAreaTop" fmla="*/ 39240 h 267840"/>
                  <a:gd name="textAreaBottom" fmla="*/ 228600 h 26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Picture 2" descr="C:\Documents and Settings\HANA\My Documents\My Pictures\Microsoft Clip Organizer\j0425198 copy.png"/>
            <p:cNvPicPr/>
            <p:nvPr/>
          </p:nvPicPr>
          <p:blipFill>
            <a:blip r:embed="rId3"/>
            <a:stretch/>
          </p:blipFill>
          <p:spPr>
            <a:xfrm flipH="1" rot="1182600">
              <a:off x="5707440" y="3232080"/>
              <a:ext cx="766440" cy="13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그룹 58"/>
          <p:cNvGrpSpPr/>
          <p:nvPr/>
        </p:nvGrpSpPr>
        <p:grpSpPr>
          <a:xfrm>
            <a:off x="0" y="5785920"/>
            <a:ext cx="2428920" cy="500760"/>
            <a:chOff x="0" y="5785920"/>
            <a:chExt cx="2428920" cy="500760"/>
          </a:xfrm>
        </p:grpSpPr>
        <p:sp>
          <p:nvSpPr>
            <p:cNvPr id="59" name="타원 37"/>
            <p:cNvSpPr/>
            <p:nvPr/>
          </p:nvSpPr>
          <p:spPr>
            <a:xfrm>
              <a:off x="0" y="5786280"/>
              <a:ext cx="2428920" cy="5004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타원 29"/>
            <p:cNvSpPr/>
            <p:nvPr/>
          </p:nvSpPr>
          <p:spPr>
            <a:xfrm>
              <a:off x="1146240" y="5949720"/>
              <a:ext cx="1154880" cy="6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타원 35"/>
            <p:cNvSpPr/>
            <p:nvPr/>
          </p:nvSpPr>
          <p:spPr>
            <a:xfrm>
              <a:off x="1144080" y="5901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타원 38"/>
            <p:cNvSpPr/>
            <p:nvPr/>
          </p:nvSpPr>
          <p:spPr>
            <a:xfrm rot="21352200">
              <a:off x="1143720" y="5829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그룹 46"/>
          <p:cNvGrpSpPr/>
          <p:nvPr/>
        </p:nvGrpSpPr>
        <p:grpSpPr>
          <a:xfrm>
            <a:off x="428760" y="2214720"/>
            <a:ext cx="1714320" cy="3857400"/>
            <a:chOff x="428760" y="2214720"/>
            <a:chExt cx="1714320" cy="3857400"/>
          </a:xfrm>
        </p:grpSpPr>
        <p:sp>
          <p:nvSpPr>
            <p:cNvPr id="64" name="타원 47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타원 48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타원 49"/>
            <p:cNvSpPr/>
            <p:nvPr/>
          </p:nvSpPr>
          <p:spPr>
            <a:xfrm>
              <a:off x="579240" y="2428920"/>
              <a:ext cx="1420920" cy="335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타원 50"/>
            <p:cNvSpPr/>
            <p:nvPr/>
          </p:nvSpPr>
          <p:spPr>
            <a:xfrm>
              <a:off x="768960" y="2857680"/>
              <a:ext cx="1088280" cy="257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타원 51"/>
            <p:cNvSpPr/>
            <p:nvPr/>
          </p:nvSpPr>
          <p:spPr>
            <a:xfrm>
              <a:off x="928800" y="3143160"/>
              <a:ext cx="785880" cy="2025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타원 52"/>
            <p:cNvSpPr/>
            <p:nvPr/>
          </p:nvSpPr>
          <p:spPr>
            <a:xfrm>
              <a:off x="1071720" y="3500280"/>
              <a:ext cx="500040" cy="128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타원 53"/>
            <p:cNvSpPr/>
            <p:nvPr/>
          </p:nvSpPr>
          <p:spPr>
            <a:xfrm>
              <a:off x="1214640" y="3786120"/>
              <a:ext cx="214200" cy="7142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타원 54"/>
            <p:cNvSpPr/>
            <p:nvPr/>
          </p:nvSpPr>
          <p:spPr>
            <a:xfrm>
              <a:off x="1285920" y="3929040"/>
              <a:ext cx="71280" cy="4284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C:\Documents and Settings\HANA\My Documents\My Pictures\Microsoft Clip Organizer\j0425198greencopy.png"/>
          <p:cNvPicPr/>
          <p:nvPr/>
        </p:nvPicPr>
        <p:blipFill>
          <a:blip r:embed="rId4"/>
          <a:stretch/>
        </p:blipFill>
        <p:spPr>
          <a:xfrm rot="2822400">
            <a:off x="1660320" y="320652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HANA\My Documents\My Pictures\Microsoft Clip Organizer\j0425198blue copy.png"/>
          <p:cNvPicPr/>
          <p:nvPr/>
        </p:nvPicPr>
        <p:blipFill>
          <a:blip r:embed="rId5"/>
          <a:stretch/>
        </p:blipFill>
        <p:spPr>
          <a:xfrm rot="3608400">
            <a:off x="1682640" y="341928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HANA\My Documents\My Pictures\Microsoft Clip Organizer\j0425198 copy.png"/>
          <p:cNvPicPr/>
          <p:nvPr/>
        </p:nvPicPr>
        <p:blipFill>
          <a:blip r:embed="rId6"/>
          <a:stretch/>
        </p:blipFill>
        <p:spPr>
          <a:xfrm rot="4323000">
            <a:off x="1666080" y="3609000"/>
            <a:ext cx="7650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9"/>
          <p:cNvSpPr/>
          <p:nvPr/>
        </p:nvSpPr>
        <p:spPr>
          <a:xfrm>
            <a:off x="3220200" y="16509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HY견고딕"/>
                <a:ea typeface="HY견고딕"/>
              </a:rPr>
              <a:t>First Green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60"/>
          <p:cNvSpPr/>
          <p:nvPr/>
        </p:nvSpPr>
        <p:spPr>
          <a:xfrm>
            <a:off x="3494520" y="2079720"/>
            <a:ext cx="495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een is a symbol of naturalism. We can easily see the color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61"/>
          <p:cNvSpPr/>
          <p:nvPr/>
        </p:nvSpPr>
        <p:spPr>
          <a:xfrm>
            <a:off x="3231720" y="322272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2e7b"/>
                </a:solidFill>
                <a:latin typeface="HY견고딕"/>
                <a:ea typeface="HY견고딕"/>
              </a:rPr>
              <a:t>Second Blue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62"/>
          <p:cNvSpPr/>
          <p:nvPr/>
        </p:nvSpPr>
        <p:spPr>
          <a:xfrm>
            <a:off x="3454200" y="3651120"/>
            <a:ext cx="44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Blue. Confidence. Honesty. Ocean. Blue bird. Brand new.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63"/>
          <p:cNvSpPr/>
          <p:nvPr/>
        </p:nvSpPr>
        <p:spPr>
          <a:xfrm>
            <a:off x="3239280" y="4724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HY견고딕"/>
                <a:ea typeface="HY견고딕"/>
              </a:rPr>
              <a:t>Third Red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64"/>
          <p:cNvSpPr/>
          <p:nvPr/>
        </p:nvSpPr>
        <p:spPr>
          <a:xfrm>
            <a:off x="3419640" y="5153040"/>
            <a:ext cx="30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Red. Enthusiasm. Passion. Blood. Ap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타원 21"/>
          <p:cNvSpPr/>
          <p:nvPr/>
        </p:nvSpPr>
        <p:spPr>
          <a:xfrm>
            <a:off x="4714920" y="5927760"/>
            <a:ext cx="4714920" cy="5000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9bd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Documents and Settings\HANA\바탕 화면\그림3.png"/>
          <p:cNvPicPr/>
          <p:nvPr/>
        </p:nvPicPr>
        <p:blipFill>
          <a:blip r:embed="rId1"/>
          <a:srcRect l="0" t="0" r="0" b="46450"/>
          <a:stretch/>
        </p:blipFill>
        <p:spPr>
          <a:xfrm rot="8171400">
            <a:off x="5148000" y="3647880"/>
            <a:ext cx="4230720" cy="2261880"/>
          </a:xfrm>
          <a:prstGeom prst="rect">
            <a:avLst/>
          </a:prstGeom>
          <a:ln w="0">
            <a:noFill/>
          </a:ln>
        </p:spPr>
      </p:pic>
      <p:sp>
        <p:nvSpPr>
          <p:cNvPr id="83" name="타원 10"/>
          <p:cNvSpPr/>
          <p:nvPr/>
        </p:nvSpPr>
        <p:spPr>
          <a:xfrm rot="18984000">
            <a:off x="4390560" y="3249360"/>
            <a:ext cx="4197600" cy="1427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타원 11"/>
          <p:cNvSpPr/>
          <p:nvPr/>
        </p:nvSpPr>
        <p:spPr>
          <a:xfrm rot="18984000">
            <a:off x="4549320" y="3327480"/>
            <a:ext cx="3903840" cy="128880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타원 12"/>
          <p:cNvSpPr/>
          <p:nvPr/>
        </p:nvSpPr>
        <p:spPr>
          <a:xfrm rot="18984000">
            <a:off x="4716360" y="3398400"/>
            <a:ext cx="3535560" cy="11606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타원 13"/>
          <p:cNvSpPr/>
          <p:nvPr/>
        </p:nvSpPr>
        <p:spPr>
          <a:xfrm rot="18984000">
            <a:off x="4901760" y="3466800"/>
            <a:ext cx="3132360" cy="9968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타원 15"/>
          <p:cNvSpPr/>
          <p:nvPr/>
        </p:nvSpPr>
        <p:spPr>
          <a:xfrm rot="18984000">
            <a:off x="5187960" y="3541320"/>
            <a:ext cx="2523960" cy="814320"/>
          </a:xfrm>
          <a:prstGeom prst="ellipse">
            <a:avLst/>
          </a:prstGeom>
          <a:gradFill rotWithShape="0">
            <a:gsLst>
              <a:gs pos="0">
                <a:srgbClr val="1a2e7b"/>
              </a:gs>
              <a:gs pos="100000">
                <a:srgbClr val="8298b8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타원 16"/>
          <p:cNvSpPr/>
          <p:nvPr/>
        </p:nvSpPr>
        <p:spPr>
          <a:xfrm rot="18984000">
            <a:off x="5506560" y="3604680"/>
            <a:ext cx="1901880" cy="6541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자유형 19"/>
          <p:cNvSpPr/>
          <p:nvPr/>
        </p:nvSpPr>
        <p:spPr>
          <a:xfrm rot="2707200">
            <a:off x="5998320" y="3231360"/>
            <a:ext cx="738000" cy="1247760"/>
          </a:xfrm>
          <a:custGeom>
            <a:avLst/>
            <a:gdLst>
              <a:gd name="textAreaLeft" fmla="*/ 0 w 738000"/>
              <a:gd name="textAreaRight" fmla="*/ 738360 w 7380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739004" h="1247110">
                <a:moveTo>
                  <a:pt x="597029" y="1201435"/>
                </a:moveTo>
                <a:cubicBezTo>
                  <a:pt x="490877" y="1247110"/>
                  <a:pt x="184579" y="1058554"/>
                  <a:pt x="102089" y="915677"/>
                </a:cubicBezTo>
                <a:cubicBezTo>
                  <a:pt x="19599" y="772800"/>
                  <a:pt x="0" y="520997"/>
                  <a:pt x="102090" y="344173"/>
                </a:cubicBezTo>
                <a:cubicBezTo>
                  <a:pt x="204180" y="167349"/>
                  <a:pt x="490377" y="0"/>
                  <a:pt x="597028" y="58422"/>
                </a:cubicBezTo>
                <a:cubicBezTo>
                  <a:pt x="703180" y="107998"/>
                  <a:pt x="739004" y="451128"/>
                  <a:pt x="739004" y="641630"/>
                </a:cubicBezTo>
                <a:cubicBezTo>
                  <a:pt x="739004" y="832132"/>
                  <a:pt x="703182" y="1155761"/>
                  <a:pt x="597029" y="1201435"/>
                </a:cubicBezTo>
                <a:close/>
              </a:path>
            </a:pathLst>
          </a:custGeom>
          <a:gradFill rotWithShape="0">
            <a:gsLst>
              <a:gs pos="0">
                <a:srgbClr val="920000"/>
              </a:gs>
              <a:gs pos="100000">
                <a:srgbClr val="ff2929"/>
              </a:gs>
            </a:gsLst>
            <a:lin ang="18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8"/>
          <p:cNvSpPr/>
          <p:nvPr/>
        </p:nvSpPr>
        <p:spPr>
          <a:xfrm rot="19143600">
            <a:off x="5943600" y="3538080"/>
            <a:ext cx="765000" cy="500040"/>
          </a:xfrm>
          <a:prstGeom prst="ellipse">
            <a:avLst/>
          </a:prstGeom>
          <a:gradFill rotWithShape="0">
            <a:gsLst>
              <a:gs pos="0">
                <a:srgbClr val="ffeaa7"/>
              </a:gs>
              <a:gs pos="100000">
                <a:srgbClr val="c0c0c0"/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42840" y="1643040"/>
            <a:ext cx="2429280" cy="2000520"/>
            <a:chOff x="3642840" y="1643040"/>
            <a:chExt cx="2429280" cy="2000520"/>
          </a:xfrm>
        </p:grpSpPr>
        <p:cxnSp>
          <p:nvCxnSpPr>
            <p:cNvPr id="92" name="직선 화살표 연결선 25"/>
            <p:cNvCxnSpPr/>
            <p:nvPr/>
          </p:nvCxnSpPr>
          <p:spPr>
            <a:xfrm>
              <a:off x="3642840" y="1643040"/>
              <a:ext cx="2429640" cy="200088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93" name=""/>
            <p:cNvSpPr txBox="1"/>
            <p:nvPr/>
          </p:nvSpPr>
          <p:spPr>
            <a:xfrm>
              <a:off x="3642840" y="1643040"/>
              <a:ext cx="2428920" cy="200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직사각형 28"/>
          <p:cNvSpPr/>
          <p:nvPr/>
        </p:nvSpPr>
        <p:spPr>
          <a:xfrm>
            <a:off x="428760" y="1643040"/>
            <a:ext cx="3214440" cy="35712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New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29"/>
          <p:cNvSpPr/>
          <p:nvPr/>
        </p:nvSpPr>
        <p:spPr>
          <a:xfrm>
            <a:off x="428760" y="200016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ne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import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0"/>
          <p:cNvSpPr/>
          <p:nvPr/>
        </p:nvSpPr>
        <p:spPr>
          <a:xfrm>
            <a:off x="428760" y="4071960"/>
            <a:ext cx="3214440" cy="357120"/>
          </a:xfrm>
          <a:prstGeom prst="rect">
            <a:avLst/>
          </a:prstGeom>
          <a:gradFill rotWithShape="0">
            <a:gsLst>
              <a:gs pos="0">
                <a:srgbClr val="1a2e7b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1"/>
          <p:cNvSpPr/>
          <p:nvPr/>
        </p:nvSpPr>
        <p:spPr>
          <a:xfrm>
            <a:off x="428760" y="442908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re ar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642480" y="4817520"/>
            <a:ext cx="1894680" cy="825840"/>
            <a:chOff x="3642480" y="4817520"/>
            <a:chExt cx="1894680" cy="825840"/>
          </a:xfrm>
        </p:grpSpPr>
        <p:cxnSp>
          <p:nvCxnSpPr>
            <p:cNvPr id="99" name="직선 화살표 연결선 32"/>
            <p:cNvCxnSpPr/>
            <p:nvPr/>
          </p:nvCxnSpPr>
          <p:spPr>
            <a:xfrm flipV="1">
              <a:off x="3642840" y="4817520"/>
              <a:ext cx="1894680" cy="82620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 rot="10800000">
              <a:off x="3642480" y="4817520"/>
              <a:ext cx="18939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직사각형 35"/>
          <p:cNvSpPr/>
          <p:nvPr/>
        </p:nvSpPr>
        <p:spPr>
          <a:xfrm>
            <a:off x="393480" y="21420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D Spheres - with 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자유형 22"/>
          <p:cNvSpPr/>
          <p:nvPr/>
        </p:nvSpPr>
        <p:spPr>
          <a:xfrm>
            <a:off x="642960" y="3714840"/>
            <a:ext cx="3000240" cy="9284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3000402" h="928753">
                <a:moveTo>
                  <a:pt x="2" y="464402"/>
                </a:moveTo>
                <a:cubicBezTo>
                  <a:pt x="4" y="260839"/>
                  <a:pt x="71072" y="80962"/>
                  <a:pt x="699331" y="20771"/>
                </a:cubicBezTo>
                <a:cubicBezTo>
                  <a:pt x="842994" y="7007"/>
                  <a:pt x="1007008" y="0"/>
                  <a:pt x="1214417" y="8"/>
                </a:cubicBezTo>
                <a:cubicBezTo>
                  <a:pt x="1421826" y="16"/>
                  <a:pt x="1800122" y="7055"/>
                  <a:pt x="1943786" y="20819"/>
                </a:cubicBezTo>
                <a:cubicBezTo>
                  <a:pt x="2572049" y="81010"/>
                  <a:pt x="3000402" y="260841"/>
                  <a:pt x="3000399" y="464406"/>
                </a:cubicBezTo>
                <a:cubicBezTo>
                  <a:pt x="3000399" y="667970"/>
                  <a:pt x="2572045" y="847800"/>
                  <a:pt x="1943785" y="907990"/>
                </a:cubicBezTo>
                <a:cubicBezTo>
                  <a:pt x="1800122" y="921754"/>
                  <a:pt x="1650589" y="928753"/>
                  <a:pt x="1500201" y="928753"/>
                </a:cubicBezTo>
                <a:cubicBezTo>
                  <a:pt x="1349813" y="928753"/>
                  <a:pt x="1200280" y="921754"/>
                  <a:pt x="1056616" y="907990"/>
                </a:cubicBezTo>
                <a:cubicBezTo>
                  <a:pt x="428354" y="847799"/>
                  <a:pt x="0" y="667968"/>
                  <a:pt x="3" y="464404"/>
                </a:cubicBezTo>
                <a:cubicBezTo>
                  <a:pt x="3" y="464403"/>
                  <a:pt x="2" y="464403"/>
                  <a:pt x="2" y="4644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자유형 28"/>
          <p:cNvSpPr/>
          <p:nvPr/>
        </p:nvSpPr>
        <p:spPr>
          <a:xfrm>
            <a:off x="1285920" y="3286080"/>
            <a:ext cx="3000240" cy="6890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500436" h="688264">
                <a:moveTo>
                  <a:pt x="2" y="317575"/>
                </a:moveTo>
                <a:cubicBezTo>
                  <a:pt x="4" y="114012"/>
                  <a:pt x="285354" y="76963"/>
                  <a:pt x="913613" y="16772"/>
                </a:cubicBezTo>
                <a:cubicBezTo>
                  <a:pt x="1057276" y="3008"/>
                  <a:pt x="1309371" y="0"/>
                  <a:pt x="1542974" y="5568"/>
                </a:cubicBezTo>
                <a:cubicBezTo>
                  <a:pt x="1776577" y="11136"/>
                  <a:pt x="2171567" y="36418"/>
                  <a:pt x="2315231" y="50182"/>
                </a:cubicBezTo>
                <a:cubicBezTo>
                  <a:pt x="2943494" y="110373"/>
                  <a:pt x="3500436" y="114014"/>
                  <a:pt x="3500433" y="317579"/>
                </a:cubicBezTo>
                <a:cubicBezTo>
                  <a:pt x="3500433" y="521143"/>
                  <a:pt x="2648245" y="596198"/>
                  <a:pt x="2019985" y="656388"/>
                </a:cubicBezTo>
                <a:cubicBezTo>
                  <a:pt x="1876322" y="670152"/>
                  <a:pt x="1706800" y="685089"/>
                  <a:pt x="1528776" y="686676"/>
                </a:cubicBezTo>
                <a:cubicBezTo>
                  <a:pt x="1350752" y="688264"/>
                  <a:pt x="1095505" y="679677"/>
                  <a:pt x="951841" y="665913"/>
                </a:cubicBezTo>
                <a:cubicBezTo>
                  <a:pt x="323579" y="605722"/>
                  <a:pt x="0" y="521141"/>
                  <a:pt x="3" y="317577"/>
                </a:cubicBezTo>
                <a:cubicBezTo>
                  <a:pt x="3" y="317576"/>
                  <a:pt x="2" y="317576"/>
                  <a:pt x="2" y="317575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자유형 31"/>
          <p:cNvSpPr/>
          <p:nvPr/>
        </p:nvSpPr>
        <p:spPr>
          <a:xfrm>
            <a:off x="1000080" y="2786040"/>
            <a:ext cx="2502000" cy="6588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918977" h="659576">
                <a:moveTo>
                  <a:pt x="2" y="280272"/>
                </a:moveTo>
                <a:cubicBezTo>
                  <a:pt x="4" y="76709"/>
                  <a:pt x="552052" y="106335"/>
                  <a:pt x="1180311" y="46144"/>
                </a:cubicBezTo>
                <a:cubicBezTo>
                  <a:pt x="1323974" y="32380"/>
                  <a:pt x="1676046" y="0"/>
                  <a:pt x="1904092" y="6365"/>
                </a:cubicBezTo>
                <a:cubicBezTo>
                  <a:pt x="2132138" y="12730"/>
                  <a:pt x="2387183" y="25582"/>
                  <a:pt x="2548591" y="84333"/>
                </a:cubicBezTo>
                <a:cubicBezTo>
                  <a:pt x="2709999" y="143084"/>
                  <a:pt x="2918977" y="269747"/>
                  <a:pt x="2872542" y="358872"/>
                </a:cubicBezTo>
                <a:cubicBezTo>
                  <a:pt x="2826107" y="447997"/>
                  <a:pt x="2508757" y="569081"/>
                  <a:pt x="2269979" y="619085"/>
                </a:cubicBezTo>
                <a:cubicBezTo>
                  <a:pt x="1970084" y="659576"/>
                  <a:pt x="1748466" y="647786"/>
                  <a:pt x="1528776" y="649373"/>
                </a:cubicBezTo>
                <a:cubicBezTo>
                  <a:pt x="1309086" y="650961"/>
                  <a:pt x="1095505" y="642374"/>
                  <a:pt x="951841" y="628610"/>
                </a:cubicBezTo>
                <a:cubicBezTo>
                  <a:pt x="323579" y="568419"/>
                  <a:pt x="0" y="483838"/>
                  <a:pt x="3" y="280274"/>
                </a:cubicBezTo>
                <a:cubicBezTo>
                  <a:pt x="3" y="280273"/>
                  <a:pt x="2" y="280273"/>
                  <a:pt x="2" y="28027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145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147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custGeom>
                <a:avLst/>
                <a:gdLst>
                  <a:gd name="textAreaLeft" fmla="*/ 0 w 1572120"/>
                  <a:gd name="textAreaRight" fmla="*/ 1572480 w 1572120"/>
                  <a:gd name="textAreaTop" fmla="*/ 0 h 2481480"/>
                  <a:gd name="textAreaBottom" fmla="*/ 2481840 h 2481480"/>
                </a:gdLst>
                <a:ahLst/>
                <a:rect l="textAreaLeft" t="textAreaTop" r="textAreaRight" b="textAreaBottom"/>
                <a:pathLst>
                  <a:path w="1866913" h="1486415">
                    <a:moveTo>
                      <a:pt x="0" y="486283"/>
                    </a:moveTo>
                    <a:lnTo>
                      <a:pt x="1866913" y="0"/>
                    </a:lnTo>
                    <a:lnTo>
                      <a:pt x="1857388" y="1486415"/>
                    </a:lnTo>
                    <a:lnTo>
                      <a:pt x="0" y="1486415"/>
                    </a:lnTo>
                    <a:lnTo>
                      <a:pt x="0" y="486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150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152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custGeom>
                <a:avLst/>
                <a:gdLst>
                  <a:gd name="textAreaLeft" fmla="*/ 0 w 1564560"/>
                  <a:gd name="textAreaRight" fmla="*/ 1564920 w 1564560"/>
                  <a:gd name="textAreaTop" fmla="*/ 0 h 4162680"/>
                  <a:gd name="textAreaBottom" fmla="*/ 4163040 h 4162680"/>
                </a:gdLst>
                <a:ahLst/>
                <a:rect l="textAreaLeft" t="textAreaTop" r="textAreaRight" b="textAreaBottom"/>
                <a:pathLst>
                  <a:path w="1857388" h="1233613">
                    <a:moveTo>
                      <a:pt x="0" y="233481"/>
                    </a:moveTo>
                    <a:lnTo>
                      <a:pt x="1855598" y="0"/>
                    </a:lnTo>
                    <a:cubicBezTo>
                      <a:pt x="1856195" y="437551"/>
                      <a:pt x="1856791" y="796062"/>
                      <a:pt x="1857388" y="1233613"/>
                    </a:cubicBezTo>
                    <a:lnTo>
                      <a:pt x="0" y="1233613"/>
                    </a:lnTo>
                    <a:lnTo>
                      <a:pt x="0" y="2334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custGeom>
                <a:avLst/>
                <a:gdLst>
                  <a:gd name="textAreaLeft" fmla="*/ 0 w 1754280"/>
                  <a:gd name="textAreaRight" fmla="*/ 1754640 w 17542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766955" h="383031">
                    <a:moveTo>
                      <a:pt x="0" y="383031"/>
                    </a:moveTo>
                    <a:lnTo>
                      <a:pt x="196844" y="5508"/>
                    </a:lnTo>
                    <a:lnTo>
                      <a:pt x="1516564" y="0"/>
                    </a:lnTo>
                    <a:lnTo>
                      <a:pt x="1766955" y="383031"/>
                    </a:lnTo>
                    <a:lnTo>
                      <a:pt x="0" y="383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155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157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3310560"/>
                  <a:gd name="textAreaBottom" fmla="*/ 3310920 h 3310560"/>
                </a:gdLst>
                <a:ahLst/>
                <a:rect l="textAreaLeft" t="textAreaTop" r="textAreaRight" b="textAreaBottom"/>
                <a:pathLst>
                  <a:path w="1857388" h="1312654">
                    <a:moveTo>
                      <a:pt x="0" y="312522"/>
                    </a:moveTo>
                    <a:lnTo>
                      <a:pt x="1844283" y="0"/>
                    </a:lnTo>
                    <a:cubicBezTo>
                      <a:pt x="1844880" y="437551"/>
                      <a:pt x="1856791" y="875103"/>
                      <a:pt x="1857388" y="1312654"/>
                    </a:cubicBezTo>
                    <a:lnTo>
                      <a:pt x="0" y="1312654"/>
                    </a:lnTo>
                    <a:lnTo>
                      <a:pt x="0" y="3125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60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62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custGeom>
                <a:avLst/>
                <a:gdLst>
                  <a:gd name="textAreaLeft" fmla="*/ 0 w 1572480"/>
                  <a:gd name="textAreaRight" fmla="*/ 1572840 w 1572480"/>
                  <a:gd name="textAreaTop" fmla="*/ 0 h 1643400"/>
                  <a:gd name="textAreaBottom" fmla="*/ 1643760 h 1643400"/>
                </a:gdLst>
                <a:ahLst/>
                <a:rect l="textAreaLeft" t="textAreaTop" r="textAreaRight" b="textAreaBottom"/>
                <a:pathLst>
                  <a:path w="1866913" h="1954305">
                    <a:moveTo>
                      <a:pt x="0" y="954173"/>
                    </a:moveTo>
                    <a:lnTo>
                      <a:pt x="1866913" y="0"/>
                    </a:lnTo>
                    <a:lnTo>
                      <a:pt x="1857388" y="1954305"/>
                    </a:lnTo>
                    <a:lnTo>
                      <a:pt x="0" y="1954305"/>
                    </a:lnTo>
                    <a:lnTo>
                      <a:pt x="0" y="9541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76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78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custGeom>
                <a:avLst/>
                <a:gdLst>
                  <a:gd name="textAreaLeft" fmla="*/ 0 w 1955880"/>
                  <a:gd name="textAreaRight" fmla="*/ 1956240 w 19558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954800" h="377523">
                    <a:moveTo>
                      <a:pt x="0" y="377523"/>
                    </a:moveTo>
                    <a:lnTo>
                      <a:pt x="431125" y="1027"/>
                    </a:lnTo>
                    <a:lnTo>
                      <a:pt x="1954800" y="0"/>
                    </a:lnTo>
                    <a:lnTo>
                      <a:pt x="1757956" y="377523"/>
                    </a:lnTo>
                    <a:lnTo>
                      <a:pt x="0" y="37752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5480" y="5855760"/>
            <a:ext cx="8429400" cy="2160"/>
            <a:chOff x="285480" y="5855760"/>
            <a:chExt cx="8429400" cy="2160"/>
          </a:xfrm>
        </p:grpSpPr>
        <p:cxnSp>
          <p:nvCxnSpPr>
            <p:cNvPr id="182" name="직선 화살표 연결선 60"/>
            <p:cNvCxnSpPr/>
            <p:nvPr/>
          </p:nvCxnSpPr>
          <p:spPr>
            <a:xfrm>
              <a:off x="285480" y="5855760"/>
              <a:ext cx="842976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3" name=""/>
            <p:cNvSpPr txBox="1"/>
            <p:nvPr/>
          </p:nvSpPr>
          <p:spPr>
            <a:xfrm>
              <a:off x="285480" y="5855760"/>
              <a:ext cx="8429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5840" y="1642680"/>
            <a:ext cx="1800" cy="4215240"/>
            <a:chOff x="285840" y="1642680"/>
            <a:chExt cx="1800" cy="4215240"/>
          </a:xfrm>
        </p:grpSpPr>
        <p:cxnSp>
          <p:nvCxnSpPr>
            <p:cNvPr id="186" name="직선 화살표 연결선 62"/>
            <p:cNvCxnSpPr/>
            <p:nvPr/>
          </p:nvCxnSpPr>
          <p:spPr>
            <a:xfrm flipV="1">
              <a:off x="285840" y="1642680"/>
              <a:ext cx="216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7" name=""/>
            <p:cNvSpPr txBox="1"/>
            <p:nvPr/>
          </p:nvSpPr>
          <p:spPr>
            <a:xfrm rot="16200000">
              <a:off x="-1820520" y="3749760"/>
              <a:ext cx="4214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이등변 삼각형 20"/>
          <p:cNvSpPr/>
          <p:nvPr/>
        </p:nvSpPr>
        <p:spPr>
          <a:xfrm flipV="1">
            <a:off x="3929040" y="3666960"/>
            <a:ext cx="2567160" cy="119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fbfbf"/>
              </a:gs>
              <a:gs pos="50000">
                <a:srgbClr val="bfbfb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19"/>
          <p:cNvSpPr/>
          <p:nvPr/>
        </p:nvSpPr>
        <p:spPr>
          <a:xfrm rot="1858800">
            <a:off x="4578120" y="4377960"/>
            <a:ext cx="583920" cy="10177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8d8d8"/>
              </a:gs>
            </a:gsLst>
            <a:lin ang="3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사각형 18"/>
          <p:cNvSpPr/>
          <p:nvPr/>
        </p:nvSpPr>
        <p:spPr>
          <a:xfrm>
            <a:off x="4143240" y="5500800"/>
            <a:ext cx="785880" cy="500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이등변 삼각형 1"/>
          <p:cNvSpPr/>
          <p:nvPr/>
        </p:nvSpPr>
        <p:spPr>
          <a:xfrm flipV="1">
            <a:off x="2577960" y="1680840"/>
            <a:ext cx="3921120" cy="3379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7f7f7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이등변 삼각형 2"/>
          <p:cNvSpPr/>
          <p:nvPr/>
        </p:nvSpPr>
        <p:spPr>
          <a:xfrm flipV="1">
            <a:off x="3456000" y="3180600"/>
            <a:ext cx="2181240" cy="1879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3d5e6"/>
              </a:gs>
              <a:gs pos="100000">
                <a:srgbClr val="bb378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타원 9"/>
          <p:cNvSpPr/>
          <p:nvPr/>
        </p:nvSpPr>
        <p:spPr>
          <a:xfrm>
            <a:off x="3444840" y="3019320"/>
            <a:ext cx="2195640" cy="3193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13"/>
          <p:cNvSpPr/>
          <p:nvPr/>
        </p:nvSpPr>
        <p:spPr>
          <a:xfrm>
            <a:off x="4149720" y="4395960"/>
            <a:ext cx="785880" cy="11048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ffffff"/>
              </a:gs>
              <a:gs pos="100000">
                <a:srgbClr val="bfbfb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타원 14"/>
          <p:cNvSpPr/>
          <p:nvPr/>
        </p:nvSpPr>
        <p:spPr>
          <a:xfrm>
            <a:off x="4149720" y="4324320"/>
            <a:ext cx="785880" cy="142920"/>
          </a:xfrm>
          <a:prstGeom prst="ellipse">
            <a:avLst/>
          </a:prstGeom>
          <a:gradFill rotWithShape="0">
            <a:gsLst>
              <a:gs pos="0">
                <a:srgbClr val="bb3783"/>
              </a:gs>
              <a:gs pos="50000">
                <a:srgbClr val="e19bc3"/>
              </a:gs>
              <a:gs pos="100000">
                <a:srgbClr val="bb3783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자유형 15"/>
          <p:cNvSpPr/>
          <p:nvPr/>
        </p:nvSpPr>
        <p:spPr>
          <a:xfrm flipV="1">
            <a:off x="2863800" y="1681200"/>
            <a:ext cx="1549440" cy="2695680"/>
          </a:xfrm>
          <a:custGeom>
            <a:avLst/>
            <a:gdLst>
              <a:gd name="textAreaLeft" fmla="*/ 0 w 1549440"/>
              <a:gd name="textAreaRight" fmla="*/ 1549800 w 1549440"/>
              <a:gd name="textAreaTop" fmla="*/ 360 h 2695680"/>
              <a:gd name="textAreaBottom" fmla="*/ 2696400 h 2695680"/>
            </a:gdLst>
            <a:ahLst/>
            <a:rect l="textAreaLeft" t="textAreaTop" r="textAreaRight" b="textAreaBottom"/>
            <a:pathLst>
              <a:path w="1548950" h="2695617">
                <a:moveTo>
                  <a:pt x="0" y="2695617"/>
                </a:moveTo>
                <a:lnTo>
                  <a:pt x="1413218" y="4762"/>
                </a:lnTo>
                <a:lnTo>
                  <a:pt x="1548950" y="0"/>
                </a:lnTo>
                <a:lnTo>
                  <a:pt x="857224" y="2695617"/>
                </a:lnTo>
                <a:lnTo>
                  <a:pt x="0" y="269561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타원 16"/>
          <p:cNvSpPr/>
          <p:nvPr/>
        </p:nvSpPr>
        <p:spPr>
          <a:xfrm>
            <a:off x="2587680" y="1428840"/>
            <a:ext cx="3909960" cy="500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타원 17"/>
          <p:cNvSpPr/>
          <p:nvPr/>
        </p:nvSpPr>
        <p:spPr>
          <a:xfrm>
            <a:off x="4149720" y="5429160"/>
            <a:ext cx="7858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22"/>
          <p:cNvSpPr/>
          <p:nvPr/>
        </p:nvSpPr>
        <p:spPr>
          <a:xfrm>
            <a:off x="6643800" y="1714680"/>
            <a:ext cx="200016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24"/>
          <p:cNvSpPr/>
          <p:nvPr/>
        </p:nvSpPr>
        <p:spPr>
          <a:xfrm>
            <a:off x="5929200" y="3214800"/>
            <a:ext cx="264348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26"/>
          <p:cNvSpPr/>
          <p:nvPr/>
        </p:nvSpPr>
        <p:spPr>
          <a:xfrm>
            <a:off x="5214960" y="4357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선 연결선 29"/>
          <p:cNvSpPr/>
          <p:nvPr/>
        </p:nvSpPr>
        <p:spPr>
          <a:xfrm>
            <a:off x="5214960" y="5500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14720" y="1785600"/>
            <a:ext cx="1643400" cy="2715120"/>
            <a:chOff x="2214720" y="1785600"/>
            <a:chExt cx="1643400" cy="2715120"/>
          </a:xfrm>
        </p:grpSpPr>
        <p:cxnSp>
          <p:nvCxnSpPr>
            <p:cNvPr id="205" name="직선 화살표 연결선 31"/>
            <p:cNvCxnSpPr/>
            <p:nvPr/>
          </p:nvCxnSpPr>
          <p:spPr>
            <a:xfrm>
              <a:off x="2214720" y="1785600"/>
              <a:ext cx="1643760" cy="2715480"/>
            </a:xfrm>
            <a:prstGeom prst="straightConnector1">
              <a:avLst/>
            </a:prstGeom>
            <a:ln w="28440">
              <a:solidFill>
                <a:srgbClr val="7f7f7f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206" name=""/>
            <p:cNvSpPr txBox="1"/>
            <p:nvPr/>
          </p:nvSpPr>
          <p:spPr>
            <a:xfrm rot="16200000">
              <a:off x="1678680" y="2321640"/>
              <a:ext cx="2714760" cy="164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직사각형 33"/>
          <p:cNvSpPr/>
          <p:nvPr/>
        </p:nvSpPr>
        <p:spPr>
          <a:xfrm rot="3502200">
            <a:off x="1328040" y="3038760"/>
            <a:ext cx="3000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34"/>
          <p:cNvSpPr/>
          <p:nvPr/>
        </p:nvSpPr>
        <p:spPr>
          <a:xfrm>
            <a:off x="6572160" y="2500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35"/>
          <p:cNvSpPr/>
          <p:nvPr/>
        </p:nvSpPr>
        <p:spPr>
          <a:xfrm>
            <a:off x="6572160" y="3643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wn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36"/>
          <p:cNvSpPr/>
          <p:nvPr/>
        </p:nvSpPr>
        <p:spPr>
          <a:xfrm>
            <a:off x="6572160" y="4786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37"/>
          <p:cNvSpPr/>
          <p:nvPr/>
        </p:nvSpPr>
        <p:spPr>
          <a:xfrm>
            <a:off x="142920" y="4143240"/>
            <a:ext cx="235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38"/>
          <p:cNvSpPr/>
          <p:nvPr/>
        </p:nvSpPr>
        <p:spPr>
          <a:xfrm>
            <a:off x="142920" y="471492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67"/>
          <p:cNvSpPr/>
          <p:nvPr/>
        </p:nvSpPr>
        <p:spPr>
          <a:xfrm>
            <a:off x="1785960" y="5857920"/>
            <a:ext cx="1357200" cy="42876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99bd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15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16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그룹 74"/>
          <p:cNvGrpSpPr/>
          <p:nvPr/>
        </p:nvGrpSpPr>
        <p:grpSpPr>
          <a:xfrm>
            <a:off x="357120" y="1643040"/>
            <a:ext cx="1357560" cy="4643640"/>
            <a:chOff x="357120" y="1643040"/>
            <a:chExt cx="1357560" cy="4643640"/>
          </a:xfrm>
        </p:grpSpPr>
        <p:sp>
          <p:nvSpPr>
            <p:cNvPr id="218" name="직사각형 69"/>
            <p:cNvSpPr/>
            <p:nvPr/>
          </p:nvSpPr>
          <p:spPr>
            <a:xfrm>
              <a:off x="357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직사각형 31"/>
            <p:cNvSpPr/>
            <p:nvPr/>
          </p:nvSpPr>
          <p:spPr>
            <a:xfrm>
              <a:off x="357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그룹 75"/>
          <p:cNvGrpSpPr/>
          <p:nvPr/>
        </p:nvGrpSpPr>
        <p:grpSpPr>
          <a:xfrm>
            <a:off x="1785960" y="1643040"/>
            <a:ext cx="1357200" cy="4643640"/>
            <a:chOff x="1785960" y="1643040"/>
            <a:chExt cx="1357200" cy="4643640"/>
          </a:xfrm>
        </p:grpSpPr>
        <p:sp>
          <p:nvSpPr>
            <p:cNvPr id="221" name="직사각형 70"/>
            <p:cNvSpPr/>
            <p:nvPr/>
          </p:nvSpPr>
          <p:spPr>
            <a:xfrm>
              <a:off x="1785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직사각형 36"/>
            <p:cNvSpPr/>
            <p:nvPr/>
          </p:nvSpPr>
          <p:spPr>
            <a:xfrm>
              <a:off x="1785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그룹 76"/>
          <p:cNvGrpSpPr/>
          <p:nvPr/>
        </p:nvGrpSpPr>
        <p:grpSpPr>
          <a:xfrm>
            <a:off x="3214800" y="1643040"/>
            <a:ext cx="1357200" cy="4643640"/>
            <a:chOff x="3214800" y="1643040"/>
            <a:chExt cx="1357200" cy="4643640"/>
          </a:xfrm>
        </p:grpSpPr>
        <p:sp>
          <p:nvSpPr>
            <p:cNvPr id="224" name="직사각형 68"/>
            <p:cNvSpPr/>
            <p:nvPr/>
          </p:nvSpPr>
          <p:spPr>
            <a:xfrm>
              <a:off x="321480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직사각형 43"/>
            <p:cNvSpPr/>
            <p:nvPr/>
          </p:nvSpPr>
          <p:spPr>
            <a:xfrm>
              <a:off x="321480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bb3783"/>
                </a:gs>
                <a:gs pos="100000">
                  <a:srgbClr val="f3d5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그룹 77"/>
          <p:cNvGrpSpPr/>
          <p:nvPr/>
        </p:nvGrpSpPr>
        <p:grpSpPr>
          <a:xfrm>
            <a:off x="4643280" y="1643040"/>
            <a:ext cx="1357560" cy="4643640"/>
            <a:chOff x="4643280" y="1643040"/>
            <a:chExt cx="1357560" cy="4643640"/>
          </a:xfrm>
        </p:grpSpPr>
        <p:sp>
          <p:nvSpPr>
            <p:cNvPr id="227" name="직사각형 71"/>
            <p:cNvSpPr/>
            <p:nvPr/>
          </p:nvSpPr>
          <p:spPr>
            <a:xfrm>
              <a:off x="464328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직사각형 44"/>
            <p:cNvSpPr/>
            <p:nvPr/>
          </p:nvSpPr>
          <p:spPr>
            <a:xfrm>
              <a:off x="464328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그룹 78"/>
          <p:cNvGrpSpPr/>
          <p:nvPr/>
        </p:nvGrpSpPr>
        <p:grpSpPr>
          <a:xfrm>
            <a:off x="6072120" y="1643040"/>
            <a:ext cx="1357560" cy="4643640"/>
            <a:chOff x="6072120" y="1643040"/>
            <a:chExt cx="1357560" cy="4643640"/>
          </a:xfrm>
        </p:grpSpPr>
        <p:sp>
          <p:nvSpPr>
            <p:cNvPr id="230" name="직사각형 72"/>
            <p:cNvSpPr/>
            <p:nvPr/>
          </p:nvSpPr>
          <p:spPr>
            <a:xfrm>
              <a:off x="6072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직사각형 45"/>
            <p:cNvSpPr/>
            <p:nvPr/>
          </p:nvSpPr>
          <p:spPr>
            <a:xfrm>
              <a:off x="6072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그룹 79"/>
          <p:cNvGrpSpPr/>
          <p:nvPr/>
        </p:nvGrpSpPr>
        <p:grpSpPr>
          <a:xfrm>
            <a:off x="7500960" y="1643040"/>
            <a:ext cx="1357200" cy="4643640"/>
            <a:chOff x="7500960" y="1643040"/>
            <a:chExt cx="1357200" cy="4643640"/>
          </a:xfrm>
        </p:grpSpPr>
        <p:sp>
          <p:nvSpPr>
            <p:cNvPr id="233" name="직사각형 73"/>
            <p:cNvSpPr/>
            <p:nvPr/>
          </p:nvSpPr>
          <p:spPr>
            <a:xfrm>
              <a:off x="7500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직사각형 46"/>
            <p:cNvSpPr/>
            <p:nvPr/>
          </p:nvSpPr>
          <p:spPr>
            <a:xfrm>
              <a:off x="7500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자유형 53"/>
          <p:cNvSpPr/>
          <p:nvPr/>
        </p:nvSpPr>
        <p:spPr>
          <a:xfrm>
            <a:off x="357120" y="2071800"/>
            <a:ext cx="8572680" cy="357192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3571920"/>
              <a:gd name="textAreaBottom" fmla="*/ 3572280 h 3571920"/>
            </a:gdLst>
            <a:ahLst/>
            <a:rect l="textAreaLeft" t="textAreaTop" r="textAreaRight" b="textAreaBottom"/>
            <a:pathLst>
              <a:path w="8115300" h="3543300">
                <a:moveTo>
                  <a:pt x="0" y="0"/>
                </a:moveTo>
                <a:cubicBezTo>
                  <a:pt x="790484" y="154323"/>
                  <a:pt x="1627631" y="184267"/>
                  <a:pt x="2371453" y="462970"/>
                </a:cubicBezTo>
                <a:cubicBezTo>
                  <a:pt x="3403159" y="988172"/>
                  <a:pt x="3799063" y="1815666"/>
                  <a:pt x="4756371" y="2329054"/>
                </a:cubicBezTo>
                <a:cubicBezTo>
                  <a:pt x="5713679" y="2842442"/>
                  <a:pt x="7578036" y="3270072"/>
                  <a:pt x="8115300" y="3543300"/>
                </a:cubicBezTo>
              </a:path>
            </a:pathLst>
          </a:custGeom>
          <a:noFill/>
          <a:ln w="57240">
            <a:solidFill>
              <a:srgbClr val="7a24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55"/>
          <p:cNvSpPr/>
          <p:nvPr/>
        </p:nvSpPr>
        <p:spPr>
          <a:xfrm>
            <a:off x="76176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56"/>
          <p:cNvSpPr/>
          <p:nvPr/>
        </p:nvSpPr>
        <p:spPr>
          <a:xfrm>
            <a:off x="2190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7"/>
          <p:cNvSpPr/>
          <p:nvPr/>
        </p:nvSpPr>
        <p:spPr>
          <a:xfrm>
            <a:off x="361944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455"/>
                </a:solidFill>
                <a:latin typeface="HY헤드라인M"/>
                <a:ea typeface="HY헤드라인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58"/>
          <p:cNvSpPr/>
          <p:nvPr/>
        </p:nvSpPr>
        <p:spPr>
          <a:xfrm>
            <a:off x="504792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59"/>
          <p:cNvSpPr/>
          <p:nvPr/>
        </p:nvSpPr>
        <p:spPr>
          <a:xfrm>
            <a:off x="65070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60"/>
          <p:cNvSpPr/>
          <p:nvPr/>
        </p:nvSpPr>
        <p:spPr>
          <a:xfrm>
            <a:off x="7905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61"/>
          <p:cNvSpPr/>
          <p:nvPr/>
        </p:nvSpPr>
        <p:spPr>
          <a:xfrm>
            <a:off x="1785960" y="3857760"/>
            <a:ext cx="1357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2"/>
          <p:cNvSpPr/>
          <p:nvPr/>
        </p:nvSpPr>
        <p:spPr>
          <a:xfrm>
            <a:off x="1785960" y="3643200"/>
            <a:ext cx="1357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63"/>
          <p:cNvSpPr/>
          <p:nvPr/>
        </p:nvSpPr>
        <p:spPr>
          <a:xfrm>
            <a:off x="6072120" y="2071800"/>
            <a:ext cx="13575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사각형 64"/>
          <p:cNvSpPr/>
          <p:nvPr/>
        </p:nvSpPr>
        <p:spPr>
          <a:xfrm>
            <a:off x="6072120" y="1857240"/>
            <a:ext cx="13575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사각형 65"/>
          <p:cNvSpPr/>
          <p:nvPr/>
        </p:nvSpPr>
        <p:spPr>
          <a:xfrm>
            <a:off x="3214800" y="2286000"/>
            <a:ext cx="1357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사각형 66"/>
          <p:cNvSpPr/>
          <p:nvPr/>
        </p:nvSpPr>
        <p:spPr>
          <a:xfrm>
            <a:off x="3214800" y="2500200"/>
            <a:ext cx="13572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50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53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4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직사각형 31"/>
          <p:cNvSpPr/>
          <p:nvPr/>
        </p:nvSpPr>
        <p:spPr>
          <a:xfrm>
            <a:off x="35712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36"/>
          <p:cNvSpPr/>
          <p:nvPr/>
        </p:nvSpPr>
        <p:spPr>
          <a:xfrm>
            <a:off x="200016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44"/>
          <p:cNvSpPr/>
          <p:nvPr/>
        </p:nvSpPr>
        <p:spPr>
          <a:xfrm>
            <a:off x="364320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45"/>
          <p:cNvSpPr/>
          <p:nvPr/>
        </p:nvSpPr>
        <p:spPr>
          <a:xfrm>
            <a:off x="528624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46"/>
          <p:cNvSpPr/>
          <p:nvPr/>
        </p:nvSpPr>
        <p:spPr>
          <a:xfrm>
            <a:off x="692928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61"/>
          <p:cNvSpPr/>
          <p:nvPr/>
        </p:nvSpPr>
        <p:spPr>
          <a:xfrm>
            <a:off x="35712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62"/>
          <p:cNvSpPr/>
          <p:nvPr/>
        </p:nvSpPr>
        <p:spPr>
          <a:xfrm>
            <a:off x="35712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64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65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자유형 38"/>
          <p:cNvSpPr/>
          <p:nvPr/>
        </p:nvSpPr>
        <p:spPr>
          <a:xfrm>
            <a:off x="304920" y="1647720"/>
            <a:ext cx="8143920" cy="316224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8143875" h="3162300">
                <a:moveTo>
                  <a:pt x="0" y="3162300"/>
                </a:moveTo>
                <a:cubicBezTo>
                  <a:pt x="1740694" y="2840037"/>
                  <a:pt x="3481388" y="2517775"/>
                  <a:pt x="4838700" y="1990725"/>
                </a:cubicBezTo>
                <a:cubicBezTo>
                  <a:pt x="6196012" y="1463675"/>
                  <a:pt x="7169943" y="731837"/>
                  <a:pt x="8143875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타원 39"/>
          <p:cNvSpPr/>
          <p:nvPr/>
        </p:nvSpPr>
        <p:spPr>
          <a:xfrm>
            <a:off x="1643040" y="4143240"/>
            <a:ext cx="642960" cy="642960"/>
          </a:xfrm>
          <a:prstGeom prst="ellipse">
            <a:avLst/>
          </a:prstGeom>
          <a:solidFill>
            <a:srgbClr val="e6e6e6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타원 40"/>
          <p:cNvSpPr/>
          <p:nvPr/>
        </p:nvSpPr>
        <p:spPr>
          <a:xfrm>
            <a:off x="6572160" y="2428920"/>
            <a:ext cx="642960" cy="642960"/>
          </a:xfrm>
          <a:prstGeom prst="ellipse">
            <a:avLst/>
          </a:prstGeom>
          <a:solidFill>
            <a:srgbClr val="ffc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41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직사각형 42"/>
          <p:cNvSpPr/>
          <p:nvPr/>
        </p:nvSpPr>
        <p:spPr>
          <a:xfrm>
            <a:off x="200016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47"/>
          <p:cNvSpPr/>
          <p:nvPr/>
        </p:nvSpPr>
        <p:spPr>
          <a:xfrm>
            <a:off x="364320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48"/>
          <p:cNvSpPr/>
          <p:nvPr/>
        </p:nvSpPr>
        <p:spPr>
          <a:xfrm>
            <a:off x="364320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직사각형 49"/>
          <p:cNvSpPr/>
          <p:nvPr/>
        </p:nvSpPr>
        <p:spPr>
          <a:xfrm>
            <a:off x="5286240" y="41432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0"/>
          <p:cNvSpPr/>
          <p:nvPr/>
        </p:nvSpPr>
        <p:spPr>
          <a:xfrm>
            <a:off x="5286240" y="39290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51"/>
          <p:cNvSpPr/>
          <p:nvPr/>
        </p:nvSpPr>
        <p:spPr>
          <a:xfrm>
            <a:off x="6929280" y="3429000"/>
            <a:ext cx="1571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직사각형 52"/>
          <p:cNvSpPr/>
          <p:nvPr/>
        </p:nvSpPr>
        <p:spPr>
          <a:xfrm>
            <a:off x="6929280" y="3214800"/>
            <a:ext cx="157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Sky123.Org</cp:lastModifiedBy>
  <dcterms:modified xsi:type="dcterms:W3CDTF">2015-07-29T10:01:2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