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3A10-9C30-49B6-AD41-0C8F02CA7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F9BF-82B2-41B4-B1E7-27BD08F1B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FE03-E9E9-4B26-961A-AE8E11C0C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440A-72D5-4C0D-950F-ED3FE1F19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FECB-F6A3-423E-839A-6A60E6A26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460E-BA96-4175-81D1-853C39388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387F-5665-4FA4-A1A3-E018CDAEF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2410-D331-4D82-9F86-19BF12988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A8BB-1C98-4990-853A-F41E2F819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BF98-42A2-4041-9476-DB2EE72D3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3BF4-ACCA-44FC-ADF0-4264753DE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511B-883A-4E77-8E83-5CBDD850F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10B2-4924-4817-9278-0F504FA22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06D4-E721-40B3-BA13-AFD89FC9B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8405-0177-46EB-B5A0-67D7C6BEC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A258-CBF9-4F11-9BF7-A29F35978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DF75-D482-437B-8C99-F1D4C9AC9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83AB-F1BA-4C28-AC72-4AED72470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12F-3A89-4D19-BF8D-59F10185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3A5-FBA5-4E8A-969A-4A87AAC0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C32-DC97-4986-B3CA-47C99BFC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5FB-61E8-4549-A130-03B41D25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300-ACF0-45CF-906F-1B7D7426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118-D672-4F14-9701-7A7BEBC6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4EB-C245-461E-9FDC-F21FDCC1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DD9-77D4-4209-9ED5-8A559856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1D3-4738-47F0-BC56-75C77549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053-D516-4891-B059-B866D229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50C-61AE-448A-A51D-F6992E87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6B3F-0D8F-42B7-BE03-E7643C15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4100-B117-4E61-BE24-79C2AE278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20840" y="0"/>
            <a:ext cx="470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5"/>
          <p:cNvSpPr/>
          <p:nvPr/>
        </p:nvSpPr>
        <p:spPr>
          <a:xfrm>
            <a:off x="684360" y="292428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26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26" descr="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26" descr=""/>
          <p:cNvPicPr/>
          <p:nvPr/>
        </p:nvPicPr>
        <p:blipFill>
          <a:blip r:embed="rId1"/>
          <a:stretch/>
        </p:blipFill>
        <p:spPr>
          <a:xfrm>
            <a:off x="0" y="428760"/>
            <a:ext cx="4524480" cy="6000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27" descr=""/>
          <p:cNvPicPr/>
          <p:nvPr/>
        </p:nvPicPr>
        <p:blipFill>
          <a:blip r:embed="rId2"/>
          <a:stretch/>
        </p:blipFill>
        <p:spPr>
          <a:xfrm>
            <a:off x="4500720" y="428760"/>
            <a:ext cx="46432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26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27" descr=""/>
          <p:cNvPicPr/>
          <p:nvPr/>
        </p:nvPicPr>
        <p:blipFill>
          <a:blip r:embed="rId2"/>
          <a:stretch/>
        </p:blipFill>
        <p:spPr>
          <a:xfrm>
            <a:off x="4500720" y="390600"/>
            <a:ext cx="46432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43160" y="0"/>
            <a:ext cx="46576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356000" y="390600"/>
            <a:ext cx="4788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572000" y="390600"/>
            <a:ext cx="457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26" descr=""/>
          <p:cNvPicPr/>
          <p:nvPr/>
        </p:nvPicPr>
        <p:blipFill>
          <a:blip r:embed="rId1"/>
          <a:stretch/>
        </p:blipFill>
        <p:spPr>
          <a:xfrm>
            <a:off x="0" y="500040"/>
            <a:ext cx="4352760" cy="5857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27" descr=""/>
          <p:cNvPicPr/>
          <p:nvPr/>
        </p:nvPicPr>
        <p:blipFill>
          <a:blip r:embed="rId2"/>
          <a:stretch/>
        </p:blipFill>
        <p:spPr>
          <a:xfrm>
            <a:off x="4211640" y="500040"/>
            <a:ext cx="4932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26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27" descr=""/>
          <p:cNvPicPr/>
          <p:nvPr/>
        </p:nvPicPr>
        <p:blipFill>
          <a:blip r:embed="rId2"/>
          <a:stretch/>
        </p:blipFill>
        <p:spPr>
          <a:xfrm>
            <a:off x="4500720" y="390600"/>
            <a:ext cx="46432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26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7" descr=""/>
          <p:cNvPicPr/>
          <p:nvPr/>
        </p:nvPicPr>
        <p:blipFill>
          <a:blip r:embed="rId2"/>
          <a:stretch/>
        </p:blipFill>
        <p:spPr>
          <a:xfrm>
            <a:off x="4572000" y="390600"/>
            <a:ext cx="457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27" descr=""/>
          <p:cNvPicPr/>
          <p:nvPr/>
        </p:nvPicPr>
        <p:blipFill>
          <a:blip r:embed="rId1"/>
          <a:stretch/>
        </p:blipFill>
        <p:spPr>
          <a:xfrm>
            <a:off x="4284720" y="569880"/>
            <a:ext cx="4572000" cy="5718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28" descr=""/>
          <p:cNvPicPr/>
          <p:nvPr/>
        </p:nvPicPr>
        <p:blipFill>
          <a:blip r:embed="rId2"/>
          <a:stretch/>
        </p:blipFill>
        <p:spPr>
          <a:xfrm>
            <a:off x="0" y="569880"/>
            <a:ext cx="4284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26" descr=""/>
          <p:cNvPicPr/>
          <p:nvPr/>
        </p:nvPicPr>
        <p:blipFill>
          <a:blip r:embed="rId1"/>
          <a:stretch/>
        </p:blipFill>
        <p:spPr>
          <a:xfrm>
            <a:off x="4356000" y="390600"/>
            <a:ext cx="4788000" cy="6076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28" descr=""/>
          <p:cNvPicPr/>
          <p:nvPr/>
        </p:nvPicPr>
        <p:blipFill>
          <a:blip r:embed="rId2"/>
          <a:stretch/>
        </p:blipFill>
        <p:spPr>
          <a:xfrm>
            <a:off x="-181080" y="390600"/>
            <a:ext cx="457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1:12:09Z</dcterms:created>
  <dc:creator>微软用户</dc:creator>
  <dc:description/>
  <dc:language>en-US</dc:language>
  <cp:lastModifiedBy>Sky123.Org</cp:lastModifiedBy>
  <dcterms:modified xsi:type="dcterms:W3CDTF">2015-07-30T09:41:20Z</dcterms:modified>
  <cp:revision>24</cp:revision>
  <dc:subject/>
  <dc:title>幻灯片 1</dc:title>
</cp:coreProperties>
</file>