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91zuowe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08BE-C5F2-4830-8E96-E34E112153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91zuowe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115-7EE1-4F44-81FF-79D43CE7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92E-2A15-4CBB-8520-1B6CDAFA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2D6-7CE0-477F-A4B8-315F862D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271-E9CF-4F1B-A94C-90C5EE7D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02F0-F2F9-457D-BD40-3FB19A7F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6DA9-D6BB-4AD9-9471-5E7725BC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255A-D55B-4F4D-A312-5CA48CF1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087A-9F5B-4E85-BC3D-BD1B6A8D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C49C-4BB5-4452-8FFA-D431A90D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9DC8-7763-4113-BF09-3372DFB1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2A87-38B0-43E8-B09D-B58D672D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89E-58E4-4BAA-90E0-0B2FDC46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8435-F501-4493-B37A-604B695F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1314-9077-4715-8FBA-85C7EA2E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3105-B9CE-491D-A39A-894F686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F4FE-4AF7-4136-84B7-A549C153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F7D0-1F00-4FA8-AE22-988ABE6F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E390-DB25-47E2-98AE-028199D5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C0C9-3663-4415-B3D2-A02B677E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279E-EA38-48CB-922D-9BACE987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49D4-D729-4380-B179-5132EA93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2A9F-C142-4817-8BB5-BF644757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283-7264-4D1B-87A9-DCDFC286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543A-F2C0-4B23-9AEC-7FC18CC2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D4FD-31FF-40D9-99E6-B456B8BF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83AC1-943F-4FEB-9CCE-75F05894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ABD1-25E4-4F4E-970D-14FC2757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5B32-9E3F-4C49-9D03-EBF4B670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3839-0AE6-4B9E-8E3C-DFFDC3EC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3D72-4C04-45DA-A45A-BE4AA995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181-AD13-4C36-8ED1-14FEF638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8C78-F5D9-4C0E-BF5B-C2F6AFF0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A18-7093-4604-9C7E-180DAD64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D9F-1C0D-4887-9834-C8D176F5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C57-46D8-4B67-AECE-86F367A0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A71-20F4-4FF3-8F64-4BE9D3A6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2F7F-A344-479D-A893-66B1A395D7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542240" y="-11160"/>
            <a:ext cx="10686240" cy="7440120"/>
            <a:chOff x="-1542240" y="-11160"/>
            <a:chExt cx="10686240" cy="7440120"/>
          </a:xfrm>
        </p:grpSpPr>
        <p:sp>
          <p:nvSpPr>
            <p:cNvPr id="42" name="未知"/>
            <p:cNvSpPr/>
            <p:nvPr/>
          </p:nvSpPr>
          <p:spPr>
            <a:xfrm>
              <a:off x="2590920" y="648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0" y="324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5943600" y="792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3048120" y="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185760" y="168120"/>
              <a:ext cx="5562720" cy="243864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 flipH="1" rot="2703000">
              <a:off x="1285200" y="123048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31760" y="921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 rot="18703800">
              <a:off x="-1562400" y="16668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 rot="19294800">
              <a:off x="2112840" y="14634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 flipH="1" rot="2085000">
              <a:off x="2951280" y="138708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746760" y="324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0" y="62215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2590920" y="629460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0" y="629460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5943600" y="629460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048120" y="629460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0" y="62136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4100400" y="623412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 flipH="1" rot="18897000">
              <a:off x="2358720" y="618300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 flipH="1" rot="18897000">
              <a:off x="1215720" y="618300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flipH="1" rot="18897000">
              <a:off x="43920" y="613008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 flipH="1" flipV="1">
              <a:off x="913680" y="622080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flipH="1" flipV="1">
              <a:off x="380520" y="622080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 flipH="1" flipV="1">
              <a:off x="4819680" y="629676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flipH="1" flipV="1">
              <a:off x="6324480" y="622080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 flipH="1" flipV="1">
              <a:off x="5486400" y="622080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>
              <a:off x="0" y="6254640"/>
              <a:ext cx="9144000" cy="22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E506-074B-4AB8-A2EA-31D5216808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-1541160" y="-23040"/>
            <a:ext cx="10696320" cy="6893640"/>
            <a:chOff x="-1541160" y="-23040"/>
            <a:chExt cx="10696320" cy="6893640"/>
          </a:xfrm>
        </p:grpSpPr>
        <p:sp>
          <p:nvSpPr>
            <p:cNvPr id="111" name="未知"/>
            <p:cNvSpPr/>
            <p:nvPr/>
          </p:nvSpPr>
          <p:spPr>
            <a:xfrm>
              <a:off x="2590920" y="-4680"/>
              <a:ext cx="2757240" cy="68752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5280"/>
                <a:gd name="textAreaBottom" fmla="*/ 6875640 h 68752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0" y="-7920"/>
              <a:ext cx="2757600" cy="686916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69160"/>
                <a:gd name="textAreaBottom" fmla="*/ 6869520 h 6869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5943600" y="-3240"/>
              <a:ext cx="2760840" cy="687060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0600"/>
                <a:gd name="textAreaBottom" fmla="*/ 6870960 h 687060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3048120" y="-11160"/>
              <a:ext cx="3301920" cy="68612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1240"/>
                <a:gd name="textAreaBottom" fmla="*/ 6861600 h 68612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185760" y="156600"/>
              <a:ext cx="5562720" cy="243720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200"/>
                <a:gd name="textAreaBottom" fmla="*/ 2437560 h 2437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 flipH="1" rot="2703000">
              <a:off x="1286280" y="1218240"/>
              <a:ext cx="4036320" cy="1600200"/>
            </a:xfrm>
            <a:custGeom>
              <a:avLst/>
              <a:gdLst>
                <a:gd name="textAreaLeft" fmla="*/ 360 w 4036320"/>
                <a:gd name="textAreaRight" fmla="*/ 4037040 w 40363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131760" y="80640"/>
              <a:ext cx="5562720" cy="243684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6840"/>
                <a:gd name="textAreaBottom" fmla="*/ 2437200 h 24368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 rot="18703800">
              <a:off x="-1560600" y="1653840"/>
              <a:ext cx="5559840" cy="2438280"/>
            </a:xfrm>
            <a:custGeom>
              <a:avLst/>
              <a:gdLst>
                <a:gd name="textAreaLeft" fmla="*/ 0 w 5559840"/>
                <a:gd name="textAreaRight" fmla="*/ 5560200 w 555984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rot="19294800">
              <a:off x="2112840" y="1451520"/>
              <a:ext cx="5705640" cy="275292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2920"/>
                <a:gd name="textAreaBottom" fmla="*/ 2752920 h 275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 flipH="1" rot="2085000">
              <a:off x="2951280" y="1375200"/>
              <a:ext cx="5562360" cy="243720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7200"/>
                <a:gd name="textAreaBottom" fmla="*/ 2437560 h 2437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6746760" y="-7920"/>
              <a:ext cx="1729080" cy="36255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5560"/>
                <a:gd name="textAreaBottom" fmla="*/ 3625920 h 36255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0" y="387612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2590920" y="394920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0" y="394920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5943600" y="394920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3048120" y="394920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1160" y="389988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4100400" y="388872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 flipH="1" rot="18897000">
              <a:off x="2359800" y="3837600"/>
              <a:ext cx="1681560" cy="761760"/>
            </a:xfrm>
            <a:custGeom>
              <a:avLst/>
              <a:gdLst>
                <a:gd name="textAreaLeft" fmla="*/ -360 w 1681560"/>
                <a:gd name="textAreaRight" fmla="*/ 1681560 w 16815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 flipH="1" rot="18897000">
              <a:off x="1216800" y="3837600"/>
              <a:ext cx="1681560" cy="761760"/>
            </a:xfrm>
            <a:custGeom>
              <a:avLst/>
              <a:gdLst>
                <a:gd name="textAreaLeft" fmla="*/ -360 w 1681560"/>
                <a:gd name="textAreaRight" fmla="*/ 1681560 w 16815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 flipH="1" rot="18897000">
              <a:off x="44640" y="3784680"/>
              <a:ext cx="1640520" cy="772920"/>
            </a:xfrm>
            <a:custGeom>
              <a:avLst/>
              <a:gdLst>
                <a:gd name="textAreaLeft" fmla="*/ -360 w 1640520"/>
                <a:gd name="textAreaRight" fmla="*/ 1640520 w 164052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 flipH="1" flipV="1">
              <a:off x="913680" y="387612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 flipH="1" flipV="1">
              <a:off x="380520" y="387612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 flipH="1" flipV="1">
              <a:off x="4819680" y="39520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 flipH="1" flipV="1">
              <a:off x="6324480" y="387612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 flipH="1" flipV="1">
              <a:off x="5486400" y="387612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0" y="390924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0" y="4573080"/>
              <a:ext cx="9144000" cy="9136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0" y="5410440"/>
              <a:ext cx="9144000" cy="1447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21160"/>
              <a:ext cx="324000" cy="32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72C5-D5DF-4B33-B037-CFDC2D69D29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2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2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13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2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13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14.jpeg"/><Relationship Id="rId28" Type="http://schemas.openxmlformats.org/officeDocument/2006/relationships/image" Target="../media/image7.jpeg"/><Relationship Id="rId29" Type="http://schemas.openxmlformats.org/officeDocument/2006/relationships/image" Target="../media/image7.jpe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2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13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14.jpeg"/><Relationship Id="rId28" Type="http://schemas.openxmlformats.org/officeDocument/2006/relationships/image" Target="../media/image7.jpeg"/><Relationship Id="rId29" Type="http://schemas.openxmlformats.org/officeDocument/2006/relationships/image" Target="../media/image7.jpe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15.jpe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7.jpeg"/><Relationship Id="rId3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4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7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2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2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3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754200" y="1773360"/>
            <a:ext cx="7273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法制安全讲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38" descr="13"/>
          <p:cNvPicPr/>
          <p:nvPr/>
        </p:nvPicPr>
        <p:blipFill>
          <a:blip r:embed="rId19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9"/>
          <p:cNvSpPr/>
          <p:nvPr/>
        </p:nvSpPr>
        <p:spPr>
          <a:xfrm>
            <a:off x="4211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0" descr="9999"/>
          <p:cNvPicPr/>
          <p:nvPr/>
        </p:nvPicPr>
        <p:blipFill>
          <a:blip r:embed="rId20"/>
          <a:stretch/>
        </p:blipFill>
        <p:spPr>
          <a:xfrm>
            <a:off x="3419640" y="472428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1" descr="9999"/>
          <p:cNvPicPr/>
          <p:nvPr/>
        </p:nvPicPr>
        <p:blipFill>
          <a:blip r:embed="rId21"/>
          <a:stretch/>
        </p:blipFill>
        <p:spPr>
          <a:xfrm>
            <a:off x="755640" y="5950080"/>
            <a:ext cx="5904000" cy="5904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2"/>
          <p:cNvSpPr/>
          <p:nvPr/>
        </p:nvSpPr>
        <p:spPr>
          <a:xfrm>
            <a:off x="4031640" y="4724280"/>
            <a:ext cx="22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陌生的叔叔问田田家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地址，田田应该告诉他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43"/>
          <p:cNvSpPr/>
          <p:nvPr/>
        </p:nvSpPr>
        <p:spPr>
          <a:xfrm>
            <a:off x="3799080" y="590868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千万不能把自己家的地址和电话告诉陌生人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4" descr="9999"/>
          <p:cNvPicPr/>
          <p:nvPr/>
        </p:nvPicPr>
        <p:blipFill>
          <a:blip r:embed="rId22"/>
          <a:stretch/>
        </p:blipFill>
        <p:spPr>
          <a:xfrm>
            <a:off x="90000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5"/>
          <p:cNvSpPr/>
          <p:nvPr/>
        </p:nvSpPr>
        <p:spPr>
          <a:xfrm>
            <a:off x="109440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⑥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38" descr="13"/>
          <p:cNvPicPr/>
          <p:nvPr/>
        </p:nvPicPr>
        <p:blipFill>
          <a:blip r:embed="rId19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9"/>
          <p:cNvSpPr/>
          <p:nvPr/>
        </p:nvSpPr>
        <p:spPr>
          <a:xfrm>
            <a:off x="4211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0" descr="9999"/>
          <p:cNvPicPr/>
          <p:nvPr/>
        </p:nvPicPr>
        <p:blipFill>
          <a:blip r:embed="rId20"/>
          <a:stretch/>
        </p:blipFill>
        <p:spPr>
          <a:xfrm>
            <a:off x="3419640" y="472428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1" descr="9999"/>
          <p:cNvPicPr/>
          <p:nvPr/>
        </p:nvPicPr>
        <p:blipFill>
          <a:blip r:embed="rId21"/>
          <a:stretch/>
        </p:blipFill>
        <p:spPr>
          <a:xfrm>
            <a:off x="755640" y="5950080"/>
            <a:ext cx="5904000" cy="5904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42"/>
          <p:cNvSpPr/>
          <p:nvPr/>
        </p:nvSpPr>
        <p:spPr>
          <a:xfrm>
            <a:off x="4031640" y="4724280"/>
            <a:ext cx="22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陌生的叔叔问田田家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地址，田田应该告诉他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3"/>
          <p:cNvSpPr/>
          <p:nvPr/>
        </p:nvSpPr>
        <p:spPr>
          <a:xfrm>
            <a:off x="3799080" y="590868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千万不能把自己家的地址和电话告诉陌生人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4" descr="9999"/>
          <p:cNvPicPr/>
          <p:nvPr/>
        </p:nvPicPr>
        <p:blipFill>
          <a:blip r:embed="rId22"/>
          <a:stretch/>
        </p:blipFill>
        <p:spPr>
          <a:xfrm>
            <a:off x="90000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45"/>
          <p:cNvSpPr/>
          <p:nvPr/>
        </p:nvSpPr>
        <p:spPr>
          <a:xfrm>
            <a:off x="109440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⑥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46" descr="14"/>
          <p:cNvPicPr/>
          <p:nvPr/>
        </p:nvPicPr>
        <p:blipFill>
          <a:blip r:embed="rId2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47"/>
          <p:cNvSpPr/>
          <p:nvPr/>
        </p:nvSpPr>
        <p:spPr>
          <a:xfrm>
            <a:off x="75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8" descr="9999"/>
          <p:cNvPicPr/>
          <p:nvPr/>
        </p:nvPicPr>
        <p:blipFill>
          <a:blip r:embed="rId24"/>
          <a:stretch/>
        </p:blipFill>
        <p:spPr>
          <a:xfrm>
            <a:off x="637236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49"/>
          <p:cNvSpPr/>
          <p:nvPr/>
        </p:nvSpPr>
        <p:spPr>
          <a:xfrm>
            <a:off x="722556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⑦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50" descr="9999"/>
          <p:cNvPicPr/>
          <p:nvPr/>
        </p:nvPicPr>
        <p:blipFill>
          <a:blip r:embed="rId25"/>
          <a:stretch/>
        </p:blipFill>
        <p:spPr>
          <a:xfrm>
            <a:off x="2195640" y="4508640"/>
            <a:ext cx="3816360" cy="1081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1" descr="9999"/>
          <p:cNvPicPr/>
          <p:nvPr/>
        </p:nvPicPr>
        <p:blipFill>
          <a:blip r:embed="rId26"/>
          <a:stretch/>
        </p:blipFill>
        <p:spPr>
          <a:xfrm>
            <a:off x="2556000" y="5950080"/>
            <a:ext cx="5976720" cy="64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2"/>
          <p:cNvSpPr/>
          <p:nvPr/>
        </p:nvSpPr>
        <p:spPr>
          <a:xfrm>
            <a:off x="2299680" y="4541760"/>
            <a:ext cx="343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放学的路上，一个自称是田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爸爸同事的叔叔要送她回家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说：田田应该同意吗？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53"/>
          <p:cNvSpPr/>
          <p:nvPr/>
        </p:nvSpPr>
        <p:spPr>
          <a:xfrm>
            <a:off x="3484800" y="5745240"/>
            <a:ext cx="387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便相信陌生人的话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更不能随便做陌生人的车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38" descr="13"/>
          <p:cNvPicPr/>
          <p:nvPr/>
        </p:nvPicPr>
        <p:blipFill>
          <a:blip r:embed="rId19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39"/>
          <p:cNvSpPr/>
          <p:nvPr/>
        </p:nvSpPr>
        <p:spPr>
          <a:xfrm>
            <a:off x="4211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40" descr="9999"/>
          <p:cNvPicPr/>
          <p:nvPr/>
        </p:nvPicPr>
        <p:blipFill>
          <a:blip r:embed="rId20"/>
          <a:stretch/>
        </p:blipFill>
        <p:spPr>
          <a:xfrm>
            <a:off x="3419640" y="472428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1" descr="9999"/>
          <p:cNvPicPr/>
          <p:nvPr/>
        </p:nvPicPr>
        <p:blipFill>
          <a:blip r:embed="rId21"/>
          <a:stretch/>
        </p:blipFill>
        <p:spPr>
          <a:xfrm>
            <a:off x="755640" y="5950080"/>
            <a:ext cx="5904000" cy="5904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42"/>
          <p:cNvSpPr/>
          <p:nvPr/>
        </p:nvSpPr>
        <p:spPr>
          <a:xfrm>
            <a:off x="4031640" y="4724280"/>
            <a:ext cx="22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陌生的叔叔问田田家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地址，田田应该告诉他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3"/>
          <p:cNvSpPr/>
          <p:nvPr/>
        </p:nvSpPr>
        <p:spPr>
          <a:xfrm>
            <a:off x="3799080" y="590868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千万不能把自己家的地址和电话告诉陌生人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4" descr="9999"/>
          <p:cNvPicPr/>
          <p:nvPr/>
        </p:nvPicPr>
        <p:blipFill>
          <a:blip r:embed="rId22"/>
          <a:stretch/>
        </p:blipFill>
        <p:spPr>
          <a:xfrm>
            <a:off x="90000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45"/>
          <p:cNvSpPr/>
          <p:nvPr/>
        </p:nvSpPr>
        <p:spPr>
          <a:xfrm>
            <a:off x="109440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⑥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Picture 46" descr="14"/>
          <p:cNvPicPr/>
          <p:nvPr/>
        </p:nvPicPr>
        <p:blipFill>
          <a:blip r:embed="rId2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47"/>
          <p:cNvSpPr/>
          <p:nvPr/>
        </p:nvSpPr>
        <p:spPr>
          <a:xfrm>
            <a:off x="75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48" descr="9999"/>
          <p:cNvPicPr/>
          <p:nvPr/>
        </p:nvPicPr>
        <p:blipFill>
          <a:blip r:embed="rId24"/>
          <a:stretch/>
        </p:blipFill>
        <p:spPr>
          <a:xfrm>
            <a:off x="637236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49"/>
          <p:cNvSpPr/>
          <p:nvPr/>
        </p:nvSpPr>
        <p:spPr>
          <a:xfrm>
            <a:off x="722556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⑦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50" descr="9999"/>
          <p:cNvPicPr/>
          <p:nvPr/>
        </p:nvPicPr>
        <p:blipFill>
          <a:blip r:embed="rId25"/>
          <a:stretch/>
        </p:blipFill>
        <p:spPr>
          <a:xfrm>
            <a:off x="2195640" y="4508640"/>
            <a:ext cx="3816360" cy="1081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1" descr="9999"/>
          <p:cNvPicPr/>
          <p:nvPr/>
        </p:nvPicPr>
        <p:blipFill>
          <a:blip r:embed="rId26"/>
          <a:stretch/>
        </p:blipFill>
        <p:spPr>
          <a:xfrm>
            <a:off x="2556000" y="5950080"/>
            <a:ext cx="5976720" cy="6476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52"/>
          <p:cNvSpPr/>
          <p:nvPr/>
        </p:nvSpPr>
        <p:spPr>
          <a:xfrm>
            <a:off x="2299680" y="4541760"/>
            <a:ext cx="343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放学的路上，一个自称是田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爸爸同事的叔叔要送她回家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说：田田应该同意吗？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3484800" y="5745240"/>
            <a:ext cx="387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便相信陌生人的话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更不能随便做陌生人的车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54" descr="15"/>
          <p:cNvPicPr/>
          <p:nvPr/>
        </p:nvPicPr>
        <p:blipFill>
          <a:blip r:embed="rId2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55"/>
          <p:cNvSpPr/>
          <p:nvPr/>
        </p:nvSpPr>
        <p:spPr>
          <a:xfrm>
            <a:off x="399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6" descr="9999"/>
          <p:cNvPicPr/>
          <p:nvPr/>
        </p:nvPicPr>
        <p:blipFill>
          <a:blip r:embed="rId28"/>
          <a:stretch/>
        </p:blipFill>
        <p:spPr>
          <a:xfrm>
            <a:off x="826920" y="476280"/>
            <a:ext cx="1441440" cy="792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7" descr="9999"/>
          <p:cNvPicPr/>
          <p:nvPr/>
        </p:nvPicPr>
        <p:blipFill>
          <a:blip r:embed="rId29"/>
          <a:stretch/>
        </p:blipFill>
        <p:spPr>
          <a:xfrm>
            <a:off x="1979640" y="4797360"/>
            <a:ext cx="2952720" cy="792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8" descr="9999"/>
          <p:cNvPicPr/>
          <p:nvPr/>
        </p:nvPicPr>
        <p:blipFill>
          <a:blip r:embed="rId30"/>
          <a:stretch/>
        </p:blipFill>
        <p:spPr>
          <a:xfrm>
            <a:off x="2484360" y="4797360"/>
            <a:ext cx="2952720" cy="5763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9" descr="9999"/>
          <p:cNvPicPr/>
          <p:nvPr/>
        </p:nvPicPr>
        <p:blipFill>
          <a:blip r:embed="rId31"/>
          <a:stretch/>
        </p:blipFill>
        <p:spPr>
          <a:xfrm>
            <a:off x="2411280" y="595008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0"/>
          <p:cNvSpPr/>
          <p:nvPr/>
        </p:nvSpPr>
        <p:spPr>
          <a:xfrm>
            <a:off x="1023480" y="366840"/>
            <a:ext cx="71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PMincho"/>
              </a:rPr>
              <a:t>⑧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61"/>
          <p:cNvSpPr/>
          <p:nvPr/>
        </p:nvSpPr>
        <p:spPr>
          <a:xfrm>
            <a:off x="1990800" y="472428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叔叔要送给嘉恒一只小猴子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玩具并要带他去玩，嘉恒应怎么做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3133440" y="5661000"/>
            <a:ext cx="45388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意和陌生人讲话，更不能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接受陌生人的东西，以免上当受骗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38" descr="13"/>
          <p:cNvPicPr/>
          <p:nvPr/>
        </p:nvPicPr>
        <p:blipFill>
          <a:blip r:embed="rId19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9"/>
          <p:cNvSpPr/>
          <p:nvPr/>
        </p:nvSpPr>
        <p:spPr>
          <a:xfrm>
            <a:off x="4211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0" descr="9999"/>
          <p:cNvPicPr/>
          <p:nvPr/>
        </p:nvPicPr>
        <p:blipFill>
          <a:blip r:embed="rId20"/>
          <a:stretch/>
        </p:blipFill>
        <p:spPr>
          <a:xfrm>
            <a:off x="3419640" y="472428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1" descr="9999"/>
          <p:cNvPicPr/>
          <p:nvPr/>
        </p:nvPicPr>
        <p:blipFill>
          <a:blip r:embed="rId21"/>
          <a:stretch/>
        </p:blipFill>
        <p:spPr>
          <a:xfrm>
            <a:off x="755640" y="5950080"/>
            <a:ext cx="5904000" cy="5904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2"/>
          <p:cNvSpPr/>
          <p:nvPr/>
        </p:nvSpPr>
        <p:spPr>
          <a:xfrm>
            <a:off x="4031640" y="4724280"/>
            <a:ext cx="22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陌生的叔叔问田田家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地址，田田应该告诉他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3"/>
          <p:cNvSpPr/>
          <p:nvPr/>
        </p:nvSpPr>
        <p:spPr>
          <a:xfrm>
            <a:off x="3799080" y="590868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千万不能把自己家的地址和电话告诉陌生人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4" descr="9999"/>
          <p:cNvPicPr/>
          <p:nvPr/>
        </p:nvPicPr>
        <p:blipFill>
          <a:blip r:embed="rId22"/>
          <a:stretch/>
        </p:blipFill>
        <p:spPr>
          <a:xfrm>
            <a:off x="90000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45"/>
          <p:cNvSpPr/>
          <p:nvPr/>
        </p:nvSpPr>
        <p:spPr>
          <a:xfrm>
            <a:off x="109440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⑥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6" descr="14"/>
          <p:cNvPicPr/>
          <p:nvPr/>
        </p:nvPicPr>
        <p:blipFill>
          <a:blip r:embed="rId2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7"/>
          <p:cNvSpPr/>
          <p:nvPr/>
        </p:nvSpPr>
        <p:spPr>
          <a:xfrm>
            <a:off x="75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8" descr="9999"/>
          <p:cNvPicPr/>
          <p:nvPr/>
        </p:nvPicPr>
        <p:blipFill>
          <a:blip r:embed="rId24"/>
          <a:stretch/>
        </p:blipFill>
        <p:spPr>
          <a:xfrm>
            <a:off x="637236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9"/>
          <p:cNvSpPr/>
          <p:nvPr/>
        </p:nvSpPr>
        <p:spPr>
          <a:xfrm>
            <a:off x="722556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⑦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50" descr="9999"/>
          <p:cNvPicPr/>
          <p:nvPr/>
        </p:nvPicPr>
        <p:blipFill>
          <a:blip r:embed="rId25"/>
          <a:stretch/>
        </p:blipFill>
        <p:spPr>
          <a:xfrm>
            <a:off x="2195640" y="4508640"/>
            <a:ext cx="3816360" cy="10810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" descr="9999"/>
          <p:cNvPicPr/>
          <p:nvPr/>
        </p:nvPicPr>
        <p:blipFill>
          <a:blip r:embed="rId26"/>
          <a:stretch/>
        </p:blipFill>
        <p:spPr>
          <a:xfrm>
            <a:off x="2556000" y="5950080"/>
            <a:ext cx="5976720" cy="647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2"/>
          <p:cNvSpPr/>
          <p:nvPr/>
        </p:nvSpPr>
        <p:spPr>
          <a:xfrm>
            <a:off x="2299680" y="4541760"/>
            <a:ext cx="343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放学的路上，一个自称是田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爸爸同事的叔叔要送她回家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说：田田应该同意吗？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53"/>
          <p:cNvSpPr/>
          <p:nvPr/>
        </p:nvSpPr>
        <p:spPr>
          <a:xfrm>
            <a:off x="3484800" y="5745240"/>
            <a:ext cx="387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便相信陌生人的话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更不能随便做陌生人的车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54" descr="15"/>
          <p:cNvPicPr/>
          <p:nvPr/>
        </p:nvPicPr>
        <p:blipFill>
          <a:blip r:embed="rId2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55"/>
          <p:cNvSpPr/>
          <p:nvPr/>
        </p:nvSpPr>
        <p:spPr>
          <a:xfrm>
            <a:off x="399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56" descr="9999"/>
          <p:cNvPicPr/>
          <p:nvPr/>
        </p:nvPicPr>
        <p:blipFill>
          <a:blip r:embed="rId28"/>
          <a:stretch/>
        </p:blipFill>
        <p:spPr>
          <a:xfrm>
            <a:off x="826920" y="476280"/>
            <a:ext cx="1441440" cy="792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7" descr="9999"/>
          <p:cNvPicPr/>
          <p:nvPr/>
        </p:nvPicPr>
        <p:blipFill>
          <a:blip r:embed="rId29"/>
          <a:stretch/>
        </p:blipFill>
        <p:spPr>
          <a:xfrm>
            <a:off x="1979640" y="4797360"/>
            <a:ext cx="2952720" cy="792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8" descr="9999"/>
          <p:cNvPicPr/>
          <p:nvPr/>
        </p:nvPicPr>
        <p:blipFill>
          <a:blip r:embed="rId30"/>
          <a:stretch/>
        </p:blipFill>
        <p:spPr>
          <a:xfrm>
            <a:off x="2484360" y="4797360"/>
            <a:ext cx="2952720" cy="57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9" descr="9999"/>
          <p:cNvPicPr/>
          <p:nvPr/>
        </p:nvPicPr>
        <p:blipFill>
          <a:blip r:embed="rId31"/>
          <a:stretch/>
        </p:blipFill>
        <p:spPr>
          <a:xfrm>
            <a:off x="2411280" y="595008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60"/>
          <p:cNvSpPr/>
          <p:nvPr/>
        </p:nvSpPr>
        <p:spPr>
          <a:xfrm>
            <a:off x="1023480" y="366840"/>
            <a:ext cx="71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PMincho"/>
              </a:rPr>
              <a:t>⑧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61"/>
          <p:cNvSpPr/>
          <p:nvPr/>
        </p:nvSpPr>
        <p:spPr>
          <a:xfrm>
            <a:off x="1990800" y="472428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叔叔要送给嘉恒一只小猴子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玩具并要带他去玩，嘉恒应怎么做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62"/>
          <p:cNvSpPr/>
          <p:nvPr/>
        </p:nvSpPr>
        <p:spPr>
          <a:xfrm>
            <a:off x="3133440" y="5661000"/>
            <a:ext cx="45388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意和陌生人讲话，更不能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接受陌生人的东西，以免上当受骗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63" descr="17"/>
          <p:cNvPicPr/>
          <p:nvPr/>
        </p:nvPicPr>
        <p:blipFill>
          <a:blip r:embed="rId3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4"/>
          <p:cNvSpPr/>
          <p:nvPr/>
        </p:nvSpPr>
        <p:spPr>
          <a:xfrm>
            <a:off x="4140360" y="404640"/>
            <a:ext cx="352872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5" descr="9999"/>
          <p:cNvPicPr/>
          <p:nvPr/>
        </p:nvPicPr>
        <p:blipFill>
          <a:blip r:embed="rId33"/>
          <a:stretch/>
        </p:blipFill>
        <p:spPr>
          <a:xfrm>
            <a:off x="2700360" y="5300640"/>
            <a:ext cx="3024000" cy="649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6" descr="9999"/>
          <p:cNvPicPr/>
          <p:nvPr/>
        </p:nvPicPr>
        <p:blipFill>
          <a:blip r:embed="rId34"/>
          <a:stretch/>
        </p:blipFill>
        <p:spPr>
          <a:xfrm>
            <a:off x="2050920" y="5445000"/>
            <a:ext cx="2737080" cy="5907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7" descr="9999"/>
          <p:cNvPicPr/>
          <p:nvPr/>
        </p:nvPicPr>
        <p:blipFill>
          <a:blip r:embed="rId35"/>
          <a:stretch/>
        </p:blipFill>
        <p:spPr>
          <a:xfrm>
            <a:off x="755640" y="476280"/>
            <a:ext cx="2232000" cy="97956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8"/>
          <p:cNvSpPr/>
          <p:nvPr/>
        </p:nvSpPr>
        <p:spPr>
          <a:xfrm>
            <a:off x="1023480" y="404640"/>
            <a:ext cx="71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⑨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69"/>
          <p:cNvSpPr/>
          <p:nvPr/>
        </p:nvSpPr>
        <p:spPr>
          <a:xfrm>
            <a:off x="2330280" y="5300640"/>
            <a:ext cx="275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诗睿一个人在家，有陌生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来访，诗睿应该让陌生人进来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0"/>
          <p:cNvSpPr/>
          <p:nvPr/>
        </p:nvSpPr>
        <p:spPr>
          <a:xfrm>
            <a:off x="2758320" y="50328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二）课间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1952280" y="12128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仿宋_GB2312"/>
              </a:rPr>
              <a:t>在每天紧张的学习过程中，课间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仿宋_GB2312"/>
              </a:rPr>
              <a:t>动能够起到放松、调节和适当休息的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仿宋_GB2312"/>
              </a:rPr>
              <a:t>用。课间活动应当注意以下几方面：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58920" y="2973240"/>
            <a:ext cx="668808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室外空气新鲜，课间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动应当尽量在室外，但不要远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教室，以免耽误上课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2424960" y="4702320"/>
            <a:ext cx="36097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的强度要适当，不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做剧烈的活动，以保证继续上课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不疲劳、精神集中、精神饱满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0"/>
          <p:cNvSpPr/>
          <p:nvPr/>
        </p:nvSpPr>
        <p:spPr>
          <a:xfrm>
            <a:off x="3809880" y="9079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的方式要科学易行，如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做操、踢踢毽子、跳跳绳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3436920" y="402912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严禁爬围墙、爬篮球架、爬走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14"/>
          <p:cNvSpPr/>
          <p:nvPr/>
        </p:nvSpPr>
        <p:spPr>
          <a:xfrm>
            <a:off x="2430360" y="719280"/>
            <a:ext cx="42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2745720" y="1425600"/>
            <a:ext cx="42955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升旗、做操等大型活动或集会时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上下楼梯要靠右行，不得拥挤、不得推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遇见楼梯上有人摔倒的时候，要静候原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不动，不得推搡、观望。要劝阻制止后面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的同学继续往前拥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012280" y="445788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4"/>
          <p:cNvSpPr/>
          <p:nvPr/>
        </p:nvSpPr>
        <p:spPr>
          <a:xfrm>
            <a:off x="743760" y="2852640"/>
            <a:ext cx="7815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去后再捡东西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1116000" y="765000"/>
            <a:ext cx="67690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序，课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做正当游戏。严禁追、赶、打、闹和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20"/>
          <p:cNvSpPr/>
          <p:nvPr/>
        </p:nvSpPr>
        <p:spPr>
          <a:xfrm>
            <a:off x="4428000" y="260280"/>
            <a:ext cx="47196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二、食品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11280" y="1268280"/>
            <a:ext cx="821844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同学们都知道病从口入，因为吃了不干净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腐败、变质的食物，或者食物没有煮熟、煮透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吃了未经洗净、开水烫过的瓜果等，导致食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中毒。食物中毒明显症状为腹痛、腹泻、呕吐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脸色苍白，全身出冷汗。轻微者影响工作，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者危及生命，所以不能疏忽。那么我们怎样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能防止食物中毒呢？这就要求同学们不要随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到小滩小贩购买食品，应注意做好个人卫生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预防病从口入，做到六要六不要：</a:t>
            </a:r>
            <a:r>
              <a:rPr b="0" lang="zh-CN" sz="18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剧烈的运动和游戏，防止磕碰受伤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23"/>
          <p:cNvSpPr/>
          <p:nvPr/>
        </p:nvSpPr>
        <p:spPr>
          <a:xfrm>
            <a:off x="4420080" y="558720"/>
            <a:ext cx="47196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三、防火及自救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1190160" y="1762200"/>
            <a:ext cx="687312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同学们都知道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010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年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月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日吉林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商业大厦的大火吧？熊熊大火、滚滚黑烟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顷刻间室内的物品化为灰烬，人员伤亡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重，现场一片狼藉，惨不忍睹。为了防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火灾的发生和火灾发生后的自救，我们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做到以下几点：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27" descr="9999"/>
          <p:cNvPicPr/>
          <p:nvPr/>
        </p:nvPicPr>
        <p:blipFill>
          <a:blip r:embed="rId9"/>
          <a:stretch/>
        </p:blipFill>
        <p:spPr>
          <a:xfrm>
            <a:off x="0" y="6021360"/>
            <a:ext cx="9252000" cy="10080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28"/>
          <p:cNvSpPr/>
          <p:nvPr/>
        </p:nvSpPr>
        <p:spPr>
          <a:xfrm>
            <a:off x="4503240" y="5904000"/>
            <a:ext cx="90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、小学生不要随身携带火柴或打火机等火种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1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82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27"/>
          <p:cNvSpPr/>
          <p:nvPr/>
        </p:nvSpPr>
        <p:spPr>
          <a:xfrm>
            <a:off x="1440360" y="603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Picture 28" descr="6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9" descr="656"/>
          <p:cNvPicPr/>
          <p:nvPr/>
        </p:nvPicPr>
        <p:blipFill>
          <a:blip r:embed="rId10"/>
          <a:stretch/>
        </p:blipFill>
        <p:spPr>
          <a:xfrm>
            <a:off x="611280" y="5950080"/>
            <a:ext cx="723960" cy="3808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0" descr="9999"/>
          <p:cNvPicPr/>
          <p:nvPr/>
        </p:nvPicPr>
        <p:blipFill>
          <a:blip r:embed="rId11"/>
          <a:stretch/>
        </p:blipFill>
        <p:spPr>
          <a:xfrm>
            <a:off x="0" y="5734080"/>
            <a:ext cx="9252000" cy="1295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31"/>
          <p:cNvSpPr/>
          <p:nvPr/>
        </p:nvSpPr>
        <p:spPr>
          <a:xfrm>
            <a:off x="4349520" y="5300640"/>
            <a:ext cx="658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、使用台灯时，灯泡不要接触或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近可燃物，防止灯泡过热发生危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9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3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6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9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2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5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27"/>
          <p:cNvSpPr/>
          <p:nvPr/>
        </p:nvSpPr>
        <p:spPr>
          <a:xfrm>
            <a:off x="1440360" y="603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8" name="Picture 28" descr="4"/>
          <p:cNvPicPr/>
          <p:nvPr/>
        </p:nvPicPr>
        <p:blipFill>
          <a:blip r:embed="rId9"/>
          <a:stretch/>
        </p:blipFill>
        <p:spPr>
          <a:xfrm>
            <a:off x="0" y="71280"/>
            <a:ext cx="9252000" cy="70297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9" descr="9999"/>
          <p:cNvPicPr/>
          <p:nvPr/>
        </p:nvPicPr>
        <p:blipFill>
          <a:blip r:embed="rId10"/>
          <a:stretch/>
        </p:blipFill>
        <p:spPr>
          <a:xfrm>
            <a:off x="0" y="5734080"/>
            <a:ext cx="9252000" cy="136692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30"/>
          <p:cNvSpPr/>
          <p:nvPr/>
        </p:nvSpPr>
        <p:spPr>
          <a:xfrm>
            <a:off x="160020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31"/>
          <p:cNvSpPr/>
          <p:nvPr/>
        </p:nvSpPr>
        <p:spPr>
          <a:xfrm>
            <a:off x="1311120" y="5516640"/>
            <a:ext cx="671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、不能乱拉、乱动电线，不能随意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卸电器，用完电器要及时拔掉电源线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3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27"/>
          <p:cNvSpPr/>
          <p:nvPr/>
        </p:nvSpPr>
        <p:spPr>
          <a:xfrm>
            <a:off x="1440360" y="603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28" descr="8"/>
          <p:cNvPicPr/>
          <p:nvPr/>
        </p:nvPicPr>
        <p:blipFill>
          <a:blip r:embed="rId9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9" descr="9999"/>
          <p:cNvPicPr/>
          <p:nvPr/>
        </p:nvPicPr>
        <p:blipFill>
          <a:blip r:embed="rId10"/>
          <a:stretch/>
        </p:blipFill>
        <p:spPr>
          <a:xfrm>
            <a:off x="0" y="5516640"/>
            <a:ext cx="9252000" cy="158436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30"/>
          <p:cNvSpPr/>
          <p:nvPr/>
        </p:nvSpPr>
        <p:spPr>
          <a:xfrm>
            <a:off x="4307400" y="5518080"/>
            <a:ext cx="65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、发现燃气泄漏时，要关闭阀门，打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门窗，不可触动电器开关和使用明火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3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74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6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27"/>
          <p:cNvSpPr/>
          <p:nvPr/>
        </p:nvSpPr>
        <p:spPr>
          <a:xfrm>
            <a:off x="1440360" y="603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9" name="Picture 28" descr="8"/>
          <p:cNvPicPr/>
          <p:nvPr/>
        </p:nvPicPr>
        <p:blipFill>
          <a:blip r:embed="rId9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9" descr="7"/>
          <p:cNvPicPr/>
          <p:nvPr/>
        </p:nvPicPr>
        <p:blipFill>
          <a:blip r:embed="rId10"/>
          <a:stretch/>
        </p:blipFill>
        <p:spPr>
          <a:xfrm>
            <a:off x="-6480" y="0"/>
            <a:ext cx="9139320" cy="702936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30" descr="656"/>
          <p:cNvPicPr/>
          <p:nvPr/>
        </p:nvPicPr>
        <p:blipFill>
          <a:blip r:embed="rId11"/>
          <a:stretch/>
        </p:blipFill>
        <p:spPr>
          <a:xfrm>
            <a:off x="468360" y="5661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31"/>
          <p:cNvSpPr/>
          <p:nvPr/>
        </p:nvSpPr>
        <p:spPr>
          <a:xfrm>
            <a:off x="687960" y="557532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Picture 32" descr="9999"/>
          <p:cNvPicPr/>
          <p:nvPr/>
        </p:nvPicPr>
        <p:blipFill>
          <a:blip r:embed="rId12"/>
          <a:stretch/>
        </p:blipFill>
        <p:spPr>
          <a:xfrm>
            <a:off x="0" y="5661000"/>
            <a:ext cx="9252000" cy="134316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33"/>
          <p:cNvSpPr/>
          <p:nvPr/>
        </p:nvSpPr>
        <p:spPr>
          <a:xfrm>
            <a:off x="4161240" y="5589720"/>
            <a:ext cx="8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、点燃的蜡烛、蚊香应放在专用的架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上，不能靠近窗帘、蚊帐等可燃物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94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98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04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1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1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22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4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28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0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3" name="Picture 25" descr="1_副本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26" descr="未命名"/>
          <p:cNvPicPr/>
          <p:nvPr/>
        </p:nvPicPr>
        <p:blipFill>
          <a:blip r:embed="rId8"/>
          <a:stretch/>
        </p:blipFill>
        <p:spPr>
          <a:xfrm>
            <a:off x="6300720" y="260280"/>
            <a:ext cx="2843280" cy="424836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27"/>
          <p:cNvSpPr/>
          <p:nvPr/>
        </p:nvSpPr>
        <p:spPr>
          <a:xfrm>
            <a:off x="6484680" y="1068480"/>
            <a:ext cx="2542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一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突遇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灾必须穿过烟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逃生时，要用湿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毛巾捂住口鼻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身体尽量贴近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面或在地面上爬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行，迅速向安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方向转移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583360" y="620640"/>
            <a:ext cx="3971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滑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教室内地面比较光滑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要注意防止滑倒受伤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492280" y="2008080"/>
            <a:ext cx="38383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坠落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无论教室是否处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高层，都不要将身体探出窗外，谨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不慎发生坠楼的危险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500200" y="3949560"/>
            <a:ext cx="38383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挤压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教室的门、窗户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开关时容易压到手，应当处处小心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要轻轻地开关门窗，还应留意会不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夹到其他人的手。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4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4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4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5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58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0" name="Picture 25" descr="1_副本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6" descr="未命名"/>
          <p:cNvPicPr/>
          <p:nvPr/>
        </p:nvPicPr>
        <p:blipFill>
          <a:blip r:embed="rId8"/>
          <a:stretch/>
        </p:blipFill>
        <p:spPr>
          <a:xfrm>
            <a:off x="6300720" y="260280"/>
            <a:ext cx="2843280" cy="4248360"/>
          </a:xfrm>
          <a:prstGeom prst="rect">
            <a:avLst/>
          </a:prstGeom>
          <a:ln w="0">
            <a:noFill/>
          </a:ln>
        </p:spPr>
      </p:pic>
      <p:sp>
        <p:nvSpPr>
          <p:cNvPr id="962" name="Text Box 27"/>
          <p:cNvSpPr/>
          <p:nvPr/>
        </p:nvSpPr>
        <p:spPr>
          <a:xfrm>
            <a:off x="6484680" y="1068480"/>
            <a:ext cx="2542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一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突遇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灾必须穿过烟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逃生时，要用湿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毛巾捂住口鼻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身体尽量贴近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面或在地面上爬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行，迅速向安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方向转移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28" descr="2_副本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9" descr="未命名"/>
          <p:cNvPicPr/>
          <p:nvPr/>
        </p:nvPicPr>
        <p:blipFill>
          <a:blip r:embed="rId10"/>
          <a:stretch/>
        </p:blipFill>
        <p:spPr>
          <a:xfrm>
            <a:off x="6516720" y="260280"/>
            <a:ext cx="2627280" cy="367344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30"/>
          <p:cNvSpPr/>
          <p:nvPr/>
        </p:nvSpPr>
        <p:spPr>
          <a:xfrm>
            <a:off x="6525720" y="1285920"/>
            <a:ext cx="254268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二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衣服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火，不要跑，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地趴下，双手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住脸，反复地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动，直到把火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灭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7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8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0" name="Picture 25" descr="1_副本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未命名"/>
          <p:cNvPicPr/>
          <p:nvPr/>
        </p:nvPicPr>
        <p:blipFill>
          <a:blip r:embed="rId8"/>
          <a:stretch/>
        </p:blipFill>
        <p:spPr>
          <a:xfrm>
            <a:off x="6300720" y="260280"/>
            <a:ext cx="2843280" cy="4248360"/>
          </a:xfrm>
          <a:prstGeom prst="rect">
            <a:avLst/>
          </a:prstGeom>
          <a:ln w="0">
            <a:noFill/>
          </a:ln>
        </p:spPr>
      </p:pic>
      <p:sp>
        <p:nvSpPr>
          <p:cNvPr id="992" name="Text Box 27"/>
          <p:cNvSpPr/>
          <p:nvPr/>
        </p:nvSpPr>
        <p:spPr>
          <a:xfrm>
            <a:off x="6484680" y="1068480"/>
            <a:ext cx="2542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一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突遇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灾必须穿过烟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逃生时，要用湿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毛巾捂住口鼻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身体尽量贴近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面或在地面上爬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行，迅速向安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方向转移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Picture 28" descr="3_副本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29" descr="未命名"/>
          <p:cNvPicPr/>
          <p:nvPr/>
        </p:nvPicPr>
        <p:blipFill>
          <a:blip r:embed="rId10"/>
          <a:stretch/>
        </p:blipFill>
        <p:spPr>
          <a:xfrm>
            <a:off x="6659640" y="189000"/>
            <a:ext cx="2484360" cy="6119640"/>
          </a:xfrm>
          <a:prstGeom prst="rect">
            <a:avLst/>
          </a:prstGeom>
          <a:ln w="0">
            <a:noFill/>
          </a:ln>
        </p:spPr>
      </p:pic>
      <p:sp>
        <p:nvSpPr>
          <p:cNvPr id="995" name="Text Box 30"/>
          <p:cNvSpPr/>
          <p:nvPr/>
        </p:nvSpPr>
        <p:spPr>
          <a:xfrm>
            <a:off x="6756480" y="230040"/>
            <a:ext cx="254268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三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被烟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困在楼房内，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万不要惊慌，若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住在二、三楼层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可迅速将绳子或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床单、窗帘、衣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服等扎紧结牢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制作成简易的救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生绳，紧紧拴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暖气管道或窗框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上，沿自救绳慢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慢滑下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1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18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0" name="Picture 25" descr="1_副本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26" descr="未命名"/>
          <p:cNvPicPr/>
          <p:nvPr/>
        </p:nvPicPr>
        <p:blipFill>
          <a:blip r:embed="rId8"/>
          <a:stretch/>
        </p:blipFill>
        <p:spPr>
          <a:xfrm>
            <a:off x="6300720" y="260280"/>
            <a:ext cx="2843280" cy="424836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27"/>
          <p:cNvSpPr/>
          <p:nvPr/>
        </p:nvSpPr>
        <p:spPr>
          <a:xfrm>
            <a:off x="6484680" y="1068480"/>
            <a:ext cx="2542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一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突遇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灾必须穿过烟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逃生时，要用湿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毛巾捂住口鼻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身体尽量贴近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面或在地面上爬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行，迅速向安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方向转移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3" name="Picture 28" descr="4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9" descr="未命名"/>
          <p:cNvPicPr/>
          <p:nvPr/>
        </p:nvPicPr>
        <p:blipFill>
          <a:blip r:embed="rId10"/>
          <a:stretch/>
        </p:blipFill>
        <p:spPr>
          <a:xfrm>
            <a:off x="6588000" y="189000"/>
            <a:ext cx="2556000" cy="4319640"/>
          </a:xfrm>
          <a:prstGeom prst="rect">
            <a:avLst/>
          </a:prstGeom>
          <a:ln w="0">
            <a:noFill/>
          </a:ln>
        </p:spPr>
      </p:pic>
      <p:sp>
        <p:nvSpPr>
          <p:cNvPr id="1025" name="Text Box 30"/>
          <p:cNvSpPr/>
          <p:nvPr/>
        </p:nvSpPr>
        <p:spPr>
          <a:xfrm>
            <a:off x="6555960" y="907920"/>
            <a:ext cx="25426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四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居住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楼层比较高，要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想方设法延缓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火侵入室内，并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向外大声呼救等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待救援，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要贸然跳楼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3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3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4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48" name="Text Box 23"/>
          <p:cNvSpPr/>
          <p:nvPr/>
        </p:nvSpPr>
        <p:spPr>
          <a:xfrm>
            <a:off x="939960" y="907920"/>
            <a:ext cx="7664400" cy="47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纸张、木头或布起火时，可用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来扑救，而电器、汽油、酒精、食用油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火时，则用土、泥沙、干粉灭火器等灭火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若火势已大，必须立即报火警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被火围困时，应视不同情况，采取不同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法脱离险境。如俯下身体，用湿布捂住口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鼻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5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58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1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62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4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65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7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68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0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23"/>
          <p:cNvSpPr/>
          <p:nvPr/>
        </p:nvSpPr>
        <p:spPr>
          <a:xfrm>
            <a:off x="939960" y="765000"/>
            <a:ext cx="766440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发生火灾后应尽快报警，这样才能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扑救，控制火势，减轻火灾造成的损失。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警电话是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9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，这个号码应当牢记，在全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任何地区，向公安消防部门报告火警的电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号码都是一样的。不能随意拨打火警电话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假报火警是扰乱社会公共秩序的违法行为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没有电话的情况下，应大声呼喊或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取其他方法引起邻居、行人注意，协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灭火或报警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7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8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8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8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3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95" name="Text Box 24"/>
          <p:cNvSpPr/>
          <p:nvPr/>
        </p:nvSpPr>
        <p:spPr>
          <a:xfrm>
            <a:off x="4366440" y="500040"/>
            <a:ext cx="531360" cy="1130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四、交通安全常识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25"/>
          <p:cNvSpPr/>
          <p:nvPr/>
        </p:nvSpPr>
        <p:spPr>
          <a:xfrm>
            <a:off x="2948040" y="1989000"/>
            <a:ext cx="3381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人们常说，交通事故猛于虎。可是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虎再凶，也只能一口吃掉一个人，而交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事故则会一口吞噬几个甚至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十个人的生命。同学们上学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的时候，正是一天中道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交通最拥挤的时候，人多车多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所以要特别注意交通安全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28600" y="655560"/>
            <a:ext cx="861048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 Black"/>
                <a:ea typeface="黑体"/>
              </a:rPr>
              <a:t>道路交通安全小常识</a:t>
            </a:r>
            <a:br>
              <a:rPr sz="28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2880" y="213372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ө_x0002_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ө_x0002_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夜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行路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视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不清，不要走得太快或跑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）要注意路面是否平整，前面是否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水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、坑洞或其他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）要穿戴顏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明的衣帽，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行车驾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人容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辨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9" name="Picture 4" descr="图画"/>
          <p:cNvPicPr/>
          <p:nvPr/>
        </p:nvPicPr>
        <p:blipFill>
          <a:blip r:embed="rId4"/>
          <a:stretch/>
        </p:blipFill>
        <p:spPr>
          <a:xfrm>
            <a:off x="304920" y="2438280"/>
            <a:ext cx="4762440" cy="3962520"/>
          </a:xfrm>
          <a:prstGeom prst="rect">
            <a:avLst/>
          </a:prstGeom>
          <a:ln w="0">
            <a:noFill/>
          </a:ln>
        </p:spPr>
      </p:pic>
      <p:grpSp>
        <p:nvGrpSpPr>
          <p:cNvPr id="1100" name="Group 5"/>
          <p:cNvGrpSpPr/>
          <p:nvPr/>
        </p:nvGrpSpPr>
        <p:grpSpPr>
          <a:xfrm>
            <a:off x="2362320" y="1447920"/>
            <a:ext cx="3581280" cy="532440"/>
            <a:chOff x="2362320" y="1447920"/>
            <a:chExt cx="3581280" cy="532440"/>
          </a:xfrm>
        </p:grpSpPr>
        <p:sp>
          <p:nvSpPr>
            <p:cNvPr id="1101" name="Rectangle 6"/>
            <p:cNvSpPr/>
            <p:nvPr/>
          </p:nvSpPr>
          <p:spPr>
            <a:xfrm>
              <a:off x="2364120" y="1455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2" name="Group 7"/>
            <p:cNvGrpSpPr/>
            <p:nvPr/>
          </p:nvGrpSpPr>
          <p:grpSpPr>
            <a:xfrm>
              <a:off x="2362320" y="1447920"/>
              <a:ext cx="3581280" cy="532440"/>
              <a:chOff x="2362320" y="1447920"/>
              <a:chExt cx="3581280" cy="532440"/>
            </a:xfrm>
          </p:grpSpPr>
          <p:grpSp>
            <p:nvGrpSpPr>
              <p:cNvPr id="1103" name="Group 8"/>
              <p:cNvGrpSpPr/>
              <p:nvPr/>
            </p:nvGrpSpPr>
            <p:grpSpPr>
              <a:xfrm>
                <a:off x="2364120" y="1455120"/>
                <a:ext cx="3577680" cy="517680"/>
                <a:chOff x="2364120" y="1455120"/>
                <a:chExt cx="3577680" cy="517680"/>
              </a:xfrm>
            </p:grpSpPr>
            <p:sp>
              <p:nvSpPr>
                <p:cNvPr id="1104" name="Rectangle 9"/>
                <p:cNvSpPr/>
                <p:nvPr/>
              </p:nvSpPr>
              <p:spPr>
                <a:xfrm>
                  <a:off x="2364120" y="1455120"/>
                  <a:ext cx="357768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  <a:ea typeface="sө_x0002_"/>
                    </a:rPr>
                    <a:t>※</a:t>
                  </a: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</a:rPr>
                    <a:t>夜间</a:t>
                  </a: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  <a:ea typeface="sө_x0002_"/>
                    </a:rPr>
                    <a:t>行路要注意的</a:t>
                  </a: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</a:rPr>
                    <a:t>事项</a:t>
                  </a: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Rectangle 10"/>
                <p:cNvSpPr/>
                <p:nvPr/>
              </p:nvSpPr>
              <p:spPr>
                <a:xfrm>
                  <a:off x="2364120" y="1455120"/>
                  <a:ext cx="35776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Rectangle 11"/>
              <p:cNvSpPr/>
              <p:nvPr/>
            </p:nvSpPr>
            <p:spPr>
              <a:xfrm>
                <a:off x="2362320" y="1447920"/>
                <a:ext cx="3581280" cy="53244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 Black"/>
                <a:ea typeface="sө_x0002_"/>
              </a:rPr>
              <a:t>※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sө_x0002_"/>
              </a:rPr>
              <a:t>在路上逗留或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</a:rPr>
              <a:t>嬉戏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sө_x0002_"/>
              </a:rPr>
              <a:t>，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</a:rPr>
              <a:t>会发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sө_x0002_"/>
              </a:rPr>
              <a:t>生哪些不良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</a:rPr>
              <a:t>后果</a:t>
            </a:r>
            <a:r>
              <a:rPr b="1" lang="en-US" sz="4000" spc="-1" strike="noStrike">
                <a:solidFill>
                  <a:srgbClr val="0033cc"/>
                </a:solidFill>
                <a:latin typeface="Arial Black"/>
                <a:ea typeface="sө_x0002_"/>
              </a:rPr>
              <a:t>?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  <a:ea typeface="sө_x0002_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sө_x0002_"/>
            </a:endParaRPr>
          </a:p>
        </p:txBody>
      </p:sp>
      <p:pic>
        <p:nvPicPr>
          <p:cNvPr id="1109" name="Picture 4" descr="bb0013"/>
          <p:cNvPicPr/>
          <p:nvPr/>
        </p:nvPicPr>
        <p:blipFill>
          <a:blip r:embed="rId1"/>
          <a:stretch/>
        </p:blipFill>
        <p:spPr>
          <a:xfrm>
            <a:off x="539640" y="1828800"/>
            <a:ext cx="78487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110" name="Group 5"/>
          <p:cNvGrpSpPr/>
          <p:nvPr/>
        </p:nvGrpSpPr>
        <p:grpSpPr>
          <a:xfrm>
            <a:off x="457200" y="4495680"/>
            <a:ext cx="7858080" cy="1524240"/>
            <a:chOff x="457200" y="4495680"/>
            <a:chExt cx="7858080" cy="1524240"/>
          </a:xfrm>
        </p:grpSpPr>
        <p:sp>
          <p:nvSpPr>
            <p:cNvPr id="1111" name="Rectangle 6"/>
            <p:cNvSpPr/>
            <p:nvPr/>
          </p:nvSpPr>
          <p:spPr>
            <a:xfrm>
              <a:off x="461160" y="4500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2" name="Group 7"/>
            <p:cNvGrpSpPr/>
            <p:nvPr/>
          </p:nvGrpSpPr>
          <p:grpSpPr>
            <a:xfrm>
              <a:off x="457200" y="4495680"/>
              <a:ext cx="7858080" cy="1524240"/>
              <a:chOff x="457200" y="4495680"/>
              <a:chExt cx="7858080" cy="1524240"/>
            </a:xfrm>
          </p:grpSpPr>
          <p:grpSp>
            <p:nvGrpSpPr>
              <p:cNvPr id="1113" name="Group 8"/>
              <p:cNvGrpSpPr/>
              <p:nvPr/>
            </p:nvGrpSpPr>
            <p:grpSpPr>
              <a:xfrm>
                <a:off x="461160" y="4500000"/>
                <a:ext cx="7849800" cy="1514880"/>
                <a:chOff x="461160" y="4500000"/>
                <a:chExt cx="7849800" cy="1514880"/>
              </a:xfrm>
            </p:grpSpPr>
            <p:sp>
              <p:nvSpPr>
                <p:cNvPr id="1114" name="Rectangle 9"/>
                <p:cNvSpPr/>
                <p:nvPr/>
              </p:nvSpPr>
              <p:spPr>
                <a:xfrm>
                  <a:off x="461160" y="4500000"/>
                  <a:ext cx="78498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（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1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）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会妨碍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交通的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顺畅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（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2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）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会发生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交通意外事故，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导致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生命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危险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（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3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）在路上逗留、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嬉戏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，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延误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回家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时间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，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会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令父母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担心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Rectangle 10"/>
                <p:cNvSpPr/>
                <p:nvPr/>
              </p:nvSpPr>
              <p:spPr>
                <a:xfrm>
                  <a:off x="461160" y="4500000"/>
                  <a:ext cx="784980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6" name="Rectangle 11"/>
              <p:cNvSpPr/>
              <p:nvPr/>
            </p:nvSpPr>
            <p:spPr>
              <a:xfrm>
                <a:off x="457200" y="4495680"/>
                <a:ext cx="7858080" cy="152424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2" descr="bb0005"/>
          <p:cNvPicPr/>
          <p:nvPr/>
        </p:nvPicPr>
        <p:blipFill>
          <a:blip r:embed="rId1"/>
          <a:stretch/>
        </p:blipFill>
        <p:spPr>
          <a:xfrm>
            <a:off x="0" y="0"/>
            <a:ext cx="91440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118" name="Group 3"/>
          <p:cNvGrpSpPr/>
          <p:nvPr/>
        </p:nvGrpSpPr>
        <p:grpSpPr>
          <a:xfrm>
            <a:off x="914400" y="2895480"/>
            <a:ext cx="7477200" cy="381240"/>
            <a:chOff x="914400" y="2895480"/>
            <a:chExt cx="7477200" cy="381240"/>
          </a:xfrm>
        </p:grpSpPr>
        <p:sp>
          <p:nvSpPr>
            <p:cNvPr id="1119" name="Rectangle 4"/>
            <p:cNvSpPr/>
            <p:nvPr/>
          </p:nvSpPr>
          <p:spPr>
            <a:xfrm>
              <a:off x="918000" y="2899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0" name="Group 5"/>
            <p:cNvGrpSpPr/>
            <p:nvPr/>
          </p:nvGrpSpPr>
          <p:grpSpPr>
            <a:xfrm>
              <a:off x="914400" y="2895480"/>
              <a:ext cx="7477200" cy="381240"/>
              <a:chOff x="914400" y="2895480"/>
              <a:chExt cx="7477200" cy="381240"/>
            </a:xfrm>
          </p:grpSpPr>
          <p:grpSp>
            <p:nvGrpSpPr>
              <p:cNvPr id="1121" name="Group 6"/>
              <p:cNvGrpSpPr/>
              <p:nvPr/>
            </p:nvGrpSpPr>
            <p:grpSpPr>
              <a:xfrm>
                <a:off x="918000" y="2899080"/>
                <a:ext cx="7469280" cy="373320"/>
                <a:chOff x="918000" y="2899080"/>
                <a:chExt cx="7469280" cy="373320"/>
              </a:xfrm>
            </p:grpSpPr>
            <p:sp>
              <p:nvSpPr>
                <p:cNvPr id="1122" name="Rectangle 7"/>
                <p:cNvSpPr/>
                <p:nvPr/>
              </p:nvSpPr>
              <p:spPr>
                <a:xfrm>
                  <a:off x="918000" y="2899080"/>
                  <a:ext cx="746928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行人穿越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马路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要走行人穿越道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Rectangle 8"/>
                <p:cNvSpPr/>
                <p:nvPr/>
              </p:nvSpPr>
              <p:spPr>
                <a:xfrm>
                  <a:off x="918000" y="2899080"/>
                  <a:ext cx="746928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4" name="Rectangle 9"/>
              <p:cNvSpPr/>
              <p:nvPr/>
            </p:nvSpPr>
            <p:spPr>
              <a:xfrm>
                <a:off x="914400" y="2895480"/>
                <a:ext cx="7477200" cy="38124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25" name="Picture 10" descr="bb0006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1126" name="Group 11"/>
          <p:cNvGrpSpPr/>
          <p:nvPr/>
        </p:nvGrpSpPr>
        <p:grpSpPr>
          <a:xfrm>
            <a:off x="685800" y="6019920"/>
            <a:ext cx="7543800" cy="380880"/>
            <a:chOff x="685800" y="6019920"/>
            <a:chExt cx="7543800" cy="380880"/>
          </a:xfrm>
        </p:grpSpPr>
        <p:sp>
          <p:nvSpPr>
            <p:cNvPr id="1127" name="Rectangle 12"/>
            <p:cNvSpPr/>
            <p:nvPr/>
          </p:nvSpPr>
          <p:spPr>
            <a:xfrm>
              <a:off x="689400" y="6023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8" name="Group 13"/>
            <p:cNvGrpSpPr/>
            <p:nvPr/>
          </p:nvGrpSpPr>
          <p:grpSpPr>
            <a:xfrm>
              <a:off x="685800" y="6019920"/>
              <a:ext cx="7543800" cy="380880"/>
              <a:chOff x="685800" y="6019920"/>
              <a:chExt cx="7543800" cy="380880"/>
            </a:xfrm>
          </p:grpSpPr>
          <p:grpSp>
            <p:nvGrpSpPr>
              <p:cNvPr id="1129" name="Group 14"/>
              <p:cNvGrpSpPr/>
              <p:nvPr/>
            </p:nvGrpSpPr>
            <p:grpSpPr>
              <a:xfrm>
                <a:off x="689400" y="6023520"/>
                <a:ext cx="7535880" cy="372960"/>
                <a:chOff x="689400" y="6023520"/>
                <a:chExt cx="7535880" cy="372960"/>
              </a:xfrm>
            </p:grpSpPr>
            <p:sp>
              <p:nvSpPr>
                <p:cNvPr id="1130" name="Rectangle 15"/>
                <p:cNvSpPr/>
                <p:nvPr/>
              </p:nvSpPr>
              <p:spPr>
                <a:xfrm>
                  <a:off x="689400" y="6023520"/>
                  <a:ext cx="753588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上、下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学路上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，不能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边走边看书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或玩耍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Rectangle 16"/>
                <p:cNvSpPr/>
                <p:nvPr/>
              </p:nvSpPr>
              <p:spPr>
                <a:xfrm>
                  <a:off x="689400" y="6023520"/>
                  <a:ext cx="753588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2" name="Rectangle 17"/>
              <p:cNvSpPr/>
              <p:nvPr/>
            </p:nvSpPr>
            <p:spPr>
              <a:xfrm>
                <a:off x="685800" y="6019920"/>
                <a:ext cx="7543800" cy="38088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2" descr="bb0008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134" name="Group 3"/>
          <p:cNvGrpSpPr/>
          <p:nvPr/>
        </p:nvGrpSpPr>
        <p:grpSpPr>
          <a:xfrm>
            <a:off x="762120" y="2514600"/>
            <a:ext cx="7619760" cy="457200"/>
            <a:chOff x="762120" y="2514600"/>
            <a:chExt cx="7619760" cy="457200"/>
          </a:xfrm>
        </p:grpSpPr>
        <p:sp>
          <p:nvSpPr>
            <p:cNvPr id="1135" name="Rectangle 4"/>
            <p:cNvSpPr/>
            <p:nvPr/>
          </p:nvSpPr>
          <p:spPr>
            <a:xfrm>
              <a:off x="765720" y="251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6" name="Group 5"/>
            <p:cNvGrpSpPr/>
            <p:nvPr/>
          </p:nvGrpSpPr>
          <p:grpSpPr>
            <a:xfrm>
              <a:off x="762120" y="2514600"/>
              <a:ext cx="7619760" cy="457200"/>
              <a:chOff x="762120" y="2514600"/>
              <a:chExt cx="7619760" cy="457200"/>
            </a:xfrm>
          </p:grpSpPr>
          <p:grpSp>
            <p:nvGrpSpPr>
              <p:cNvPr id="1137" name="Group 6"/>
              <p:cNvGrpSpPr/>
              <p:nvPr/>
            </p:nvGrpSpPr>
            <p:grpSpPr>
              <a:xfrm>
                <a:off x="765720" y="2518920"/>
                <a:ext cx="7611840" cy="447840"/>
                <a:chOff x="765720" y="2518920"/>
                <a:chExt cx="7611840" cy="447840"/>
              </a:xfrm>
            </p:grpSpPr>
            <p:sp>
              <p:nvSpPr>
                <p:cNvPr id="1138" name="Rectangle 7"/>
                <p:cNvSpPr/>
                <p:nvPr/>
              </p:nvSpPr>
              <p:spPr>
                <a:xfrm>
                  <a:off x="765720" y="2518920"/>
                  <a:ext cx="761184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不能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随便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跨越路旁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栏杆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以免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发生危险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Rectangle 8"/>
                <p:cNvSpPr/>
                <p:nvPr/>
              </p:nvSpPr>
              <p:spPr>
                <a:xfrm>
                  <a:off x="765720" y="2518920"/>
                  <a:ext cx="761184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0" name="Rectangle 9"/>
              <p:cNvSpPr/>
              <p:nvPr/>
            </p:nvSpPr>
            <p:spPr>
              <a:xfrm>
                <a:off x="762120" y="2514600"/>
                <a:ext cx="7619760" cy="45720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41" name="Picture 10" descr="bb0011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142" name="Group 11"/>
          <p:cNvGrpSpPr/>
          <p:nvPr/>
        </p:nvGrpSpPr>
        <p:grpSpPr>
          <a:xfrm>
            <a:off x="838080" y="6172200"/>
            <a:ext cx="7543800" cy="466560"/>
            <a:chOff x="838080" y="6172200"/>
            <a:chExt cx="7543800" cy="466560"/>
          </a:xfrm>
        </p:grpSpPr>
        <p:sp>
          <p:nvSpPr>
            <p:cNvPr id="1143" name="Rectangle 12"/>
            <p:cNvSpPr/>
            <p:nvPr/>
          </p:nvSpPr>
          <p:spPr>
            <a:xfrm>
              <a:off x="841680" y="617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4" name="Group 13"/>
            <p:cNvGrpSpPr/>
            <p:nvPr/>
          </p:nvGrpSpPr>
          <p:grpSpPr>
            <a:xfrm>
              <a:off x="838080" y="6172200"/>
              <a:ext cx="7543800" cy="466560"/>
              <a:chOff x="838080" y="6172200"/>
              <a:chExt cx="7543800" cy="466560"/>
            </a:xfrm>
          </p:grpSpPr>
          <p:grpSp>
            <p:nvGrpSpPr>
              <p:cNvPr id="1145" name="Group 14"/>
              <p:cNvGrpSpPr/>
              <p:nvPr/>
            </p:nvGrpSpPr>
            <p:grpSpPr>
              <a:xfrm>
                <a:off x="841680" y="6176880"/>
                <a:ext cx="7535880" cy="457200"/>
                <a:chOff x="841680" y="6176880"/>
                <a:chExt cx="7535880" cy="457200"/>
              </a:xfrm>
            </p:grpSpPr>
            <p:sp>
              <p:nvSpPr>
                <p:cNvPr id="1146" name="Rectangle 15"/>
                <p:cNvSpPr/>
                <p:nvPr/>
              </p:nvSpPr>
              <p:spPr>
                <a:xfrm>
                  <a:off x="841680" y="6176880"/>
                  <a:ext cx="75358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勿急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冲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出巷道口，以免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发生不测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Rectangle 16"/>
                <p:cNvSpPr/>
                <p:nvPr/>
              </p:nvSpPr>
              <p:spPr>
                <a:xfrm>
                  <a:off x="841680" y="6176880"/>
                  <a:ext cx="75358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Rectangle 17"/>
              <p:cNvSpPr/>
              <p:nvPr/>
            </p:nvSpPr>
            <p:spPr>
              <a:xfrm>
                <a:off x="838080" y="6172200"/>
                <a:ext cx="7543800" cy="46656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559240" y="765000"/>
            <a:ext cx="40669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火灾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不带打火机、火柴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危险物品进校园，杜绝玩火行为；注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用电安全，不要乱摸乱动教室、走廊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公共场所的电器设备、开关、插座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675160" y="3213000"/>
            <a:ext cx="40669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意外伤害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刀具、剪子等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利、尖锐的工具，图钉、大头针等文具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使用时必须有老师指导，用后应妥善存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放起来，不能随意放在桌子上、椅子上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防止有人受到意外伤害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7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58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1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62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4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65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7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68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0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72" name="Text Box 24"/>
          <p:cNvSpPr/>
          <p:nvPr/>
        </p:nvSpPr>
        <p:spPr>
          <a:xfrm>
            <a:off x="1429200" y="539640"/>
            <a:ext cx="484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现在，我教同学们三大本领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一是会走路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二是会骑车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三是会乘车。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 Box 25"/>
          <p:cNvSpPr/>
          <p:nvPr/>
        </p:nvSpPr>
        <p:spPr>
          <a:xfrm>
            <a:off x="755640" y="2984400"/>
            <a:ext cx="849636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在道路上行走，要走人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道，没有人行道要靠路边行走。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越马路，应先看左边，再看右边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确认没有机动车通过时才可以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越马路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4" name="Picture 26" descr="1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27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8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8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8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99" name="Text Box 24"/>
          <p:cNvSpPr/>
          <p:nvPr/>
        </p:nvSpPr>
        <p:spPr>
          <a:xfrm>
            <a:off x="971640" y="549360"/>
            <a:ext cx="799308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要遵守交通规则，做到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红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停，绿灯行”，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不乱跑、不随意横穿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不在马路上追逐打闹、不攀爬栏杆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要走斑马线，在有过街天桥和过街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道的路段，应自觉走过街天桥和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通道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0" name="Picture 25" descr="2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26" descr="6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7" descr="7"/>
          <p:cNvPicPr/>
          <p:nvPr/>
        </p:nvPicPr>
        <p:blipFill>
          <a:blip r:embed="rId10"/>
          <a:stretch/>
        </p:blipFill>
        <p:spPr>
          <a:xfrm>
            <a:off x="-33480" y="-23760"/>
            <a:ext cx="924876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100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100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07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1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12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5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16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8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19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1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4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26" name="Text Box 24"/>
          <p:cNvSpPr/>
          <p:nvPr/>
        </p:nvSpPr>
        <p:spPr>
          <a:xfrm>
            <a:off x="2478960" y="747720"/>
            <a:ext cx="429552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乘车时，等车停稳先下后上；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车时不要把身体的任何部分伸出窗外，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不要向车外乱扔东西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搭乘超载车、非营运车辆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农用车、三轮车、摩托车、人货混装车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岁以下不要骑车。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车时要靠右走，车速不能过快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更不能双手离开车把手，不逆行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骑车拐弯时要伸手示意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7" name="Picture 25" descr="11_副本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6" descr="33_副本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27" descr="55_副本"/>
          <p:cNvPicPr/>
          <p:nvPr/>
        </p:nvPicPr>
        <p:blipFill>
          <a:blip r:embed="rId10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28" descr="66_副本"/>
          <p:cNvPicPr/>
          <p:nvPr/>
        </p:nvPicPr>
        <p:blipFill>
          <a:blip r:embed="rId11"/>
          <a:stretch/>
        </p:blipFill>
        <p:spPr>
          <a:xfrm>
            <a:off x="-31680" y="0"/>
            <a:ext cx="92469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100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100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1000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15832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如何乘坐交通工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乘坐公共汽（电）车，要排队候车，按先后顺序上车，不要拥挤。上下车均应等车停稳以后，先下后上，不要争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乘车时不要把头、手、胳膊伸出手窗外，以免被对面来车或路边树木等刮伤；也不要向车窗外乱扔杂物，以免伤及他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乘车时要坐稳扶好，没有座位时，要双脚自然分开，侧向站立，手应握紧扶手，以免车辆紧急刹车时摔倒受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乘坐小轿车、微型客车时，在前排乘坐时应系好安全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尽量避免乘坐卡车、拖拉机；必须乘坐时，千万不要站立在后车厢里或坐在车厢板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不要在机动车道上招呼出租汽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37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1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42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5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46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49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1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4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24"/>
          <p:cNvSpPr/>
          <p:nvPr/>
        </p:nvSpPr>
        <p:spPr>
          <a:xfrm>
            <a:off x="1748160" y="1027080"/>
            <a:ext cx="57157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在道路上遇到突发事件，要立即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大人帮忙。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遇到交通事故，如果当时头脑清醒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要立即拨打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报警电话或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交通、事故报警电话，并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撞人车辆的车牌号，车身颜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或其它特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5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66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9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70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2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73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5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8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80" name="Text Box 24"/>
          <p:cNvSpPr/>
          <p:nvPr/>
        </p:nvSpPr>
        <p:spPr>
          <a:xfrm>
            <a:off x="2769840" y="1027080"/>
            <a:ext cx="40107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6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在道路上遇到突发事件，要立即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大人帮忙。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7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遇到交通事故，如果当时头脑清醒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要立即拨打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或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、事故报警电话，并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撞人车辆的车牌号，车身颜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或其它特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1" name="Picture 25" descr="20099420295460667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82" name="Text Box 26"/>
          <p:cNvSpPr/>
          <p:nvPr/>
        </p:nvSpPr>
        <p:spPr>
          <a:xfrm>
            <a:off x="4482000" y="549360"/>
            <a:ext cx="47196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五、临危逃生的基本原则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 Box 27"/>
          <p:cNvSpPr/>
          <p:nvPr/>
        </p:nvSpPr>
        <p:spPr>
          <a:xfrm>
            <a:off x="722160" y="1916280"/>
            <a:ext cx="827280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生活中，危险很多，我们头脑中要时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树立安全意识，防患于未然。即使发生了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险，只要我们头脑冷静、方法得当，处理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时，有些危险也是可以化解的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在面临危险的时候我们要尽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做到以下几点：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88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2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6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97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9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00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2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5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07" name="Text Box 24"/>
          <p:cNvSpPr/>
          <p:nvPr/>
        </p:nvSpPr>
        <p:spPr>
          <a:xfrm>
            <a:off x="2769840" y="1027080"/>
            <a:ext cx="40107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6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在道路上遇到突发事件，要立即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大人帮忙。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7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遇到交通事故，如果当时头脑清醒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要立即拨打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或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、事故报警电话，并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撞人车辆的车牌号，车身颜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或其它特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8" name="Picture 25" descr="20099420295460667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26"/>
          <p:cNvSpPr/>
          <p:nvPr/>
        </p:nvSpPr>
        <p:spPr>
          <a:xfrm>
            <a:off x="509400" y="765000"/>
            <a:ext cx="85417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保持镇静，趋利避害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学会自救、保护自己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想方设法，不断求救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记住四个电话：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9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火警电话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 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0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急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电话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事故报警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话。打电话要说清地点、相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情况、显著的特征。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仿宋_GB2312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14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8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23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5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8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29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1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33" name="Text Box 24"/>
          <p:cNvSpPr/>
          <p:nvPr/>
        </p:nvSpPr>
        <p:spPr>
          <a:xfrm>
            <a:off x="2769840" y="1027080"/>
            <a:ext cx="40107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6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在道路上遇到突发事件，要立即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大人帮忙。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7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遇到交通事故，如果当时头脑清醒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要立即拨打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或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、事故报警电话，并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撞人车辆的车牌号，车身颜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或其它特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4" name="Picture 25" descr="20099420295460667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35" name="Text Box 26"/>
          <p:cNvSpPr/>
          <p:nvPr/>
        </p:nvSpPr>
        <p:spPr>
          <a:xfrm>
            <a:off x="509400" y="765000"/>
            <a:ext cx="85417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保持镇静，趋利避害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学会自救、保护自己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想方设法，不断求救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记住四个电话：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9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火警电话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 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0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急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电话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事故报警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话。打电话要说清地点、相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情况、显著的特征。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仿宋_GB2312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6" name="Picture 27" descr="www.91zuowen.com"/>
          <p:cNvPicPr/>
          <p:nvPr/>
        </p:nvPicPr>
        <p:blipFill>
          <a:blip r:embed="rId9"/>
          <a:stretch/>
        </p:blipFill>
        <p:spPr>
          <a:xfrm>
            <a:off x="34920" y="-22320"/>
            <a:ext cx="9252000" cy="7024680"/>
          </a:xfrm>
          <a:prstGeom prst="rect">
            <a:avLst/>
          </a:prstGeom>
          <a:ln w="0">
            <a:noFill/>
          </a:ln>
        </p:spPr>
      </p:pic>
      <p:sp>
        <p:nvSpPr>
          <p:cNvPr id="1337" name="Text Box 28"/>
          <p:cNvSpPr/>
          <p:nvPr/>
        </p:nvSpPr>
        <p:spPr>
          <a:xfrm>
            <a:off x="1042920" y="1268280"/>
            <a:ext cx="727416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祝愿同学们：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          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身体健康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幼圆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              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学习进步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幼圆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                  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开心快乐！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2"/>
          <p:cNvSpPr/>
          <p:nvPr/>
        </p:nvSpPr>
        <p:spPr>
          <a:xfrm>
            <a:off x="2579400" y="4684680"/>
            <a:ext cx="271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东东和楠楠在教室里做什么呢？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969720" y="562608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4" descr="9999"/>
          <p:cNvPicPr/>
          <p:nvPr/>
        </p:nvPicPr>
        <p:blipFill>
          <a:blip r:embed="rId5"/>
          <a:stretch/>
        </p:blipFill>
        <p:spPr>
          <a:xfrm>
            <a:off x="3924360" y="404640"/>
            <a:ext cx="3527280" cy="432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5"/>
          <p:cNvSpPr/>
          <p:nvPr/>
        </p:nvSpPr>
        <p:spPr>
          <a:xfrm>
            <a:off x="4696200" y="528480"/>
            <a:ext cx="24058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ww.91zuowen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755640" y="404640"/>
            <a:ext cx="316872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3995640" y="358920"/>
            <a:ext cx="356256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ww.91zuowen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1:46:40Z</dcterms:created>
  <dc:creator>walkinnet</dc:creator>
  <dc:description/>
  <cp:keywords/>
  <dc:language>en-US</dc:language>
  <cp:lastModifiedBy>Administrator</cp:lastModifiedBy>
  <cp:lastPrinted>1899-12-30T00:00:00Z</cp:lastPrinted>
  <dcterms:modified xsi:type="dcterms:W3CDTF">2015-09-10T03:17:10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