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A56BA-CE99-42E6-98D0-52969CE2A29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2CD1C-F762-4A0F-9541-A68D08120B5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98AE-69C8-4832-939C-66A5DB127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2755-D2A1-440D-B94E-10121E0F3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A32F-BA76-4294-BE70-4C21636A4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D8B4-B61A-4358-849E-CEBBA9F19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A63ED-5708-484F-80D8-54A9A636A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EA21C-9C69-4CC6-84D9-882E598CB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26A7B-DA70-496C-AF3A-3A13BCEA1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5F9EB-6604-49C1-A1D9-EC1A261B3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F4ACD-DE3D-4709-AFE7-D512A713E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37BF6-69AA-46B8-B34B-7400297F4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DA8A5-1F57-4057-BB8B-49183106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153A-3976-42D3-AB21-C5A3D4E23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0B6D8-1784-4932-B675-4C02435A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B5522-5F6E-40F3-88CA-7E0003D1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438BE-34DB-42EF-8B51-0E5036253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7E881-8886-4631-A6F3-27DF66CC3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3AEC4-A96F-44C4-8037-C0D7843BF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32740-2C66-49DD-8D15-3873A036A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32B9E-C8C8-42F6-863D-F8DF545DB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E57BB-1651-4A81-9111-3921E2316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77E16-D12A-4E55-A682-A59C2ED7E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D4F27-412D-4D85-B94A-93E92C887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D322-409B-405A-A13F-87F3EE828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A5EFC-5F88-45DC-AB7D-61F28E63D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0E9B1-F57B-4354-8BA7-3623B1D3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F2DA4-1042-494E-8C98-D5FBAF8B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87EEF-B6BE-4C45-ADB9-C18B7F46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08B1C-64CB-4A19-9B8B-77A29A50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7A193-1623-4809-BFA7-BFC9058F9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65FBF-0C06-475C-B434-045C09965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30838-67A3-4545-BF5D-8F213B3E8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F3792-1B8D-4A97-8C11-BC95FD1AE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982EE-802E-42EF-A4F0-63958DBAA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0059-4230-4718-83B3-19A371176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F89F0-95C1-4130-B07D-054930650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F9D47-F7EF-4F33-961A-DE609296D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A4160-5EEA-42C8-A96A-ABACFFA44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6A178-67E8-4E55-A228-0F56F9A9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1E8FC-A9A8-40E6-A4C8-88F1997D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99D38-F618-4873-9DBF-EC1921D4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453BE-BAB3-461D-8271-174B1DDCE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FB611-7F76-4214-BD98-71AA72A8E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EC35D-51EE-49C3-9672-498B876E1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84847-9C3E-40E4-BB1D-FDE6384CC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D2A5-B694-46B8-BAD0-EFE3A480B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B1056-A7FC-4861-A1C2-F6C325E93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4D5F3-4AC7-49EC-A95D-9C5450523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8EB1A-55BF-4F7C-A408-BA364293B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20462-B8A5-48E9-A2BB-3167545A1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D2EE1-ACE1-4C2F-9A84-D346AF3BF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EB916-BF1D-466D-A0C1-8FB69C30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10658-6025-4CB5-B3D3-5CC54060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8629D-C456-48D0-A91C-D5919C36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F7CBA-1F58-4399-97AE-C8CE3F571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7761C-7F8A-4DF0-9A12-D109CDAB4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45BA-AB73-49B1-A468-01317FF93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C5020-0D49-4CC5-8579-3F2F93CE2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7E52-2BCE-46F4-8D0B-2D38EF94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BF08-A5AB-41CC-B3AC-6136D531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C6BF-0B30-4940-BB42-DE60EA62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矩形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矩形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63AF0-127B-4A97-A92C-F72B452B121C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矩形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矩形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直接连接符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6B5C5-0CEE-4555-9819-3A18778C630E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矩形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矩形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2BF6-B7B2-46ED-8058-E7C898FCEFAF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矩形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CEBE0-64AE-4196-A21E-E7C672812EC0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矩形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矩形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CC4EA-7E6F-4D16-A8C9-10605735BDCE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5" descr="8d6aa6b1a242ca98d9335a87"/>
          <p:cNvPicPr/>
          <p:nvPr/>
        </p:nvPicPr>
        <p:blipFill>
          <a:blip r:embed="rId1"/>
          <a:stretch/>
        </p:blipFill>
        <p:spPr>
          <a:xfrm>
            <a:off x="0" y="0"/>
            <a:ext cx="9325080" cy="74581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9" descr="1c4246de862c8e7294ee37b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TextBox 7"/>
          <p:cNvSpPr/>
          <p:nvPr/>
        </p:nvSpPr>
        <p:spPr>
          <a:xfrm>
            <a:off x="3143160" y="571680"/>
            <a:ext cx="5857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rebuchet MS"/>
              </a:rPr>
              <a:t>        </a:t>
            </a:r>
            <a:r>
              <a:rPr b="1" lang="zh-CN" sz="3600" spc="-1" strike="noStrike">
                <a:solidFill>
                  <a:srgbClr val="a34b73"/>
                </a:solidFill>
                <a:latin typeface="Trebuchet MS"/>
              </a:rPr>
              <a:t>大家好，我是来自六（</a:t>
            </a:r>
            <a:r>
              <a:rPr b="1" lang="en-US" sz="3600" spc="-1" strike="noStrike">
                <a:solidFill>
                  <a:srgbClr val="a34b73"/>
                </a:solidFill>
                <a:latin typeface="Trebuchet MS"/>
              </a:rPr>
              <a:t>5</a:t>
            </a:r>
            <a:r>
              <a:rPr b="1" lang="zh-CN" sz="3600" spc="-1" strike="noStrike">
                <a:solidFill>
                  <a:srgbClr val="a34b73"/>
                </a:solidFill>
                <a:latin typeface="Trebuchet MS"/>
              </a:rPr>
              <a:t>）中队的顾文雯！拿破仑曾说过“不想当将军的士兵，不是好士兵”。而我一直认为，不想当大队长的少先队员不是一个好队员。今天我带着一颗积极向上的心来到这里，目的只有一个：</a:t>
            </a:r>
            <a:r>
              <a:rPr b="1" lang="zh-CN" sz="4000" spc="-1" strike="noStrike">
                <a:solidFill>
                  <a:srgbClr val="591f4d"/>
                </a:solidFill>
                <a:latin typeface="Trebuchet MS"/>
              </a:rPr>
              <a:t>要当上大队长！</a:t>
            </a:r>
            <a:r>
              <a:rPr b="1" lang="zh-CN" sz="3600" spc="-1" strike="noStrike">
                <a:solidFill>
                  <a:srgbClr val="a34b73"/>
                </a:solidFill>
                <a:latin typeface="Trebuchet MS"/>
              </a:rPr>
              <a:t>这样就能为班级增光添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1000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5" descr="7837dbac2e344c4a4a36d6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TextBox 5"/>
          <p:cNvSpPr/>
          <p:nvPr/>
        </p:nvSpPr>
        <p:spPr>
          <a:xfrm>
            <a:off x="3143160" y="214200"/>
            <a:ext cx="60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34b73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a34b73"/>
                </a:solidFill>
                <a:latin typeface="宋体"/>
              </a:rPr>
              <a:t>从一年级到现在，我一直连任中队长和班长这两个职位，这无疑是老师和同学对我的肯定。五年来，在老师的栽培下，我逐渐从一个什么都不懂的小丫头成为了一个能干的大姑娘了。在班级中经常能受到老师和同学的赞扬。但我需要一个更高的平台来展示自己的能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2000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5" descr="9f6d21596cfe5d352934f05e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29200"/>
          </a:xfrm>
          <a:prstGeom prst="rect">
            <a:avLst/>
          </a:prstGeom>
          <a:ln w="0">
            <a:noFill/>
          </a:ln>
        </p:spPr>
      </p:pic>
      <p:sp>
        <p:nvSpPr>
          <p:cNvPr id="233" name="矩形 4"/>
          <p:cNvSpPr/>
          <p:nvPr/>
        </p:nvSpPr>
        <p:spPr>
          <a:xfrm>
            <a:off x="0" y="2857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34b73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a34b73"/>
                </a:solidFill>
                <a:latin typeface="宋体"/>
              </a:rPr>
              <a:t>我人缘好，社交力强，并一直能胜任中队长的工作，这对我是有些影响的，这会让我大队长做得更好</a:t>
            </a:r>
            <a:r>
              <a:rPr b="1" lang="en-US" sz="3200" spc="-1" strike="noStrike">
                <a:solidFill>
                  <a:srgbClr val="a34b73"/>
                </a:solidFill>
                <a:latin typeface="宋体"/>
              </a:rPr>
              <a:t>!</a:t>
            </a:r>
            <a:r>
              <a:rPr b="1" lang="zh-CN" sz="3200" spc="-1" strike="noStrike">
                <a:solidFill>
                  <a:srgbClr val="a34b73"/>
                </a:solidFill>
                <a:latin typeface="宋体"/>
              </a:rPr>
              <a:t>在学校里，我对同学总是非常的友好。每当有同学向我请教问题时，我总会耐心的讲解给他听；每当同学生病了，我总会主动去照顾他们；每当有同学忘带东西了，我也会第一时间借给他</a:t>
            </a:r>
            <a:r>
              <a:rPr b="1" lang="en-US" sz="3200" spc="-1" strike="noStrike">
                <a:solidFill>
                  <a:srgbClr val="a34b73"/>
                </a:solidFill>
                <a:latin typeface="宋体"/>
              </a:rPr>
              <a:t>……</a:t>
            </a:r>
            <a:r>
              <a:rPr b="1" lang="zh-CN" sz="3200" spc="-1" strike="noStrike">
                <a:solidFill>
                  <a:srgbClr val="a34b73"/>
                </a:solidFill>
                <a:latin typeface="宋体"/>
              </a:rPr>
              <a:t>因此，同学们都爱和我做朋友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2000">
    <p:split dir="in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4" descr="illustration_cartoon_girl_B10-PSD-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TextBox 6"/>
          <p:cNvSpPr/>
          <p:nvPr/>
        </p:nvSpPr>
        <p:spPr>
          <a:xfrm>
            <a:off x="2957400" y="1714680"/>
            <a:ext cx="61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34b73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a34b73"/>
                </a:solidFill>
                <a:latin typeface="宋体"/>
              </a:rPr>
              <a:t>我相信自己具备一个好大队长应有的品质。大队长的工作是很艰辛的，但我如果当上了大队长，一定会认认真真地做好每一件事，并且负责到底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9000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5" descr="bfc54f671666bab6f73654f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7" name="TextBox 4"/>
          <p:cNvSpPr/>
          <p:nvPr/>
        </p:nvSpPr>
        <p:spPr>
          <a:xfrm>
            <a:off x="142920" y="1714680"/>
            <a:ext cx="371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34b73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a34b73"/>
                </a:solidFill>
                <a:latin typeface="宋体"/>
              </a:rPr>
              <a:t>我在此向大家许下诺言：我一定要做一个尽职尽责的好大队长！希望大家能够支持我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5" descr="cef1d6c53be0828f8326acd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TextBox 4"/>
          <p:cNvSpPr/>
          <p:nvPr/>
        </p:nvSpPr>
        <p:spPr>
          <a:xfrm>
            <a:off x="307800" y="1857240"/>
            <a:ext cx="8693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34b73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a34b73"/>
                </a:solidFill>
                <a:latin typeface="Arial"/>
              </a:rPr>
              <a:t>如果当选了，我一定会更加严格要求自己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34b73"/>
                </a:solidFill>
                <a:latin typeface="Arial"/>
              </a:rPr>
              <a:t>时时刻刻注意自己的言行举止，以身作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34b73"/>
                </a:solidFill>
                <a:latin typeface="Arial"/>
              </a:rPr>
              <a:t>如果落选了，一定是我还没被大家认可，还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34b73"/>
                </a:solidFill>
                <a:latin typeface="Arial"/>
              </a:rPr>
              <a:t>许多不足，但我不会气馁，还是会继续努力的！但我还是衷心的希望大家能够支持我，向我投出你们宝贵的一票！口说无凭，我会用实际行动来实现今天的诺言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7000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4" descr="cdc8768842434dedfd1f10b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1" name="矩形 4" descr=""/>
          <p:cNvPicPr/>
          <p:nvPr/>
        </p:nvPicPr>
        <p:blipFill>
          <a:blip r:embed="rId2"/>
          <a:stretch/>
        </p:blipFill>
        <p:spPr>
          <a:xfrm>
            <a:off x="133200" y="4627440"/>
            <a:ext cx="9017280" cy="1182960"/>
          </a:xfrm>
          <a:prstGeom prst="rect">
            <a:avLst/>
          </a:prstGeom>
          <a:ln w="0">
            <a:noFill/>
          </a:ln>
        </p:spPr>
      </p:pic>
      <p:pic>
        <p:nvPicPr>
          <p:cNvPr id="242" name="矩形 5" descr=""/>
          <p:cNvPicPr/>
          <p:nvPr/>
        </p:nvPicPr>
        <p:blipFill>
          <a:blip r:embed="rId3"/>
          <a:stretch/>
        </p:blipFill>
        <p:spPr>
          <a:xfrm>
            <a:off x="1957320" y="2706840"/>
            <a:ext cx="5229360" cy="13777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3T11:30:15Z</dcterms:created>
  <dc:creator>微软中国</dc:creator>
  <dc:description/>
  <dc:language>en-US</dc:language>
  <cp:lastModifiedBy>Administrator</cp:lastModifiedBy>
  <dcterms:modified xsi:type="dcterms:W3CDTF">2015-08-25T02:17:31Z</dcterms:modified>
  <cp:revision>26</cp:revision>
  <dc:subject/>
  <dc:title>幻灯片 1</dc:title>
</cp:coreProperties>
</file>