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09C-789A-4F99-BD1A-5B7D4041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2CB-DCA0-42B6-823A-A4C741E2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9FB-E897-4E3F-AE2E-A935FEB4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DEF-EBE0-4A72-9CCB-FFE2B02B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950-CF9E-4A5B-80F7-149FEB67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785-57BD-46BC-BC30-525CFE94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3C9-83FA-4C5E-91AC-DB150198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041-1811-464D-AFC3-D30F4ED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6A8-D76D-42A5-A9CF-9863D931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D63-4BEC-41A6-B56A-4E7E71C6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26F-01DD-4B9B-8B8E-1758D5A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4E3-AC71-4CD7-8917-B95C4D77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ED8C-20DA-4124-9554-72EF606D33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DE18-99D5-4A12-A897-2C2D41E2FC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528920"/>
            <a:ext cx="9434520" cy="656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822480" cy="447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954760" y="2363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幸福的一家幻灯片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34920" y="-385920"/>
            <a:ext cx="1438200" cy="724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1528920"/>
            <a:ext cx="9434520" cy="656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-1698480" y="2197080"/>
            <a:ext cx="3822480" cy="44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6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831600" y="20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心家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4432320" y="6292800"/>
            <a:ext cx="11174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34920" y="-385920"/>
            <a:ext cx="1438200" cy="724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31600" y="20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心家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5"/>
          <a:stretch/>
        </p:blipFill>
        <p:spPr>
          <a:xfrm>
            <a:off x="241200" y="2730600"/>
            <a:ext cx="9239400" cy="501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7-30T00:52:12Z</dcterms:modified>
  <cp:revision>4</cp:revision>
  <dc:subject/>
  <dc:title>www.1ppt.com</dc:title>
</cp:coreProperties>
</file>