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05A-DA9E-469C-AD06-7A166DF7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C4D-29EA-4212-AFD4-B8242CF6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78A26-1B8B-4901-AD20-53D62483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48D06-CD08-40AB-8D53-B06343E5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18D87-7C7D-4D6A-B074-11D9D049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F660D-8CD4-4F83-AF6E-58E24CA4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2D2CE-5025-46E9-8E8C-78141668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60645-9262-42EF-9B1E-013FDAC6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B5859-8CF7-4CA3-BA27-30C6819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B9ECB-9751-42F6-8DB0-A104C55C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508F9-B544-413C-AB66-DD66EE98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ED2C5-C213-430F-93C3-AAE4070E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CDA-8D3C-4A60-928E-578098E9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058EC-801D-4791-82FC-AAA89C34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99740-0021-4F8B-894E-83FBB635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3004F-CA13-49BC-A822-E4383C19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D3E4A-1F9D-44BA-8ED4-6EFA6929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4F112-DF29-48A4-9CBF-5698ED6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8AE11-0142-4AEF-9A7D-87533183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FF9C3-02B6-4A35-81F3-5098ECF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BCE61-94B5-48AB-8C3C-57B8984B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C8817-5592-46A4-9912-59F06915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05E38-4691-408B-A2C0-83B29751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823-CFAD-4277-83EA-C9109A6C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58E50-DA79-4788-81AD-5E8B427E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43821-66A3-4646-BD22-D4BADC78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C4D63-443A-4EB1-B4E9-4D1B9AA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A2145-9854-4FAA-951A-7815E5A1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E7A21-B94A-4DBC-BD02-290027DD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879BC-A3B8-4AAC-B1EC-A2880E8F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3E96A-BC74-4406-BFC3-C94EC568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7EFD0-390B-4444-93BE-97BE077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ED6FE-F4CD-4ACF-8090-4126A88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3FBE1-9B9A-4681-96D4-DC925CEB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CBBD-8FA3-45AE-A2C6-46026F88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60609-77C9-431A-88C8-6C7F8AE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A1A42-E8BD-4068-A437-0AB405DE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2E148-7D15-4671-8231-152F1361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6C5927-FD54-4B8B-AEAB-FDD187E8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4806B2-52CE-4396-980B-693EBAE6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3E11DE-0A78-4B85-9552-BB90F611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B34740-0545-414E-B930-BFBED06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50288C-3697-4BD3-95BE-790BDB87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1326E3-3290-413A-A0CE-36DEA740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F85CD5-1781-4959-9C42-86B8042E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C92-E9E5-4407-A52A-BA0104CC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413E15-0658-4F89-BAC7-84D617CD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E93701-FE6F-4AE4-9AE4-091B0A4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705666-5C70-4927-A59D-5B449D24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87BA28-1935-4C69-BF3A-CB82BAA6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A2D5B2-8AD3-4E34-8755-806B4ECA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AF73B-BE85-4FF5-A35B-485524E0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9DF09-40E7-4743-9DF1-BF201D9C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679BB-D10A-4ADD-9B2C-F575287D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B87C9-D959-443A-9160-E08B9F1B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75D0B-8B19-4F6F-89EC-11863C7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205F-5EE0-402B-AEA6-A8A7DF7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C799C-17CA-4409-872F-4A3BA247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097F8-A123-4681-97D4-3ABA98C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3AF1E-0D1E-4DD9-B9BE-E1CF3A7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85CE0-5FA2-48BC-86CC-98CC8AE0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03BC9-5E94-4B1B-A506-2482EC15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E868A-D180-4688-BD43-9F03E10A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73016-E03D-4A44-B152-CA361CF3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F4C57-AF61-4DC0-933E-C9A51C22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9013B-796F-4EC2-B288-4A01ADEA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12606-102A-4AE7-A607-6F6AA5CA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930A-862B-452C-A12A-02709D7B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4CCA3-5D6F-4791-9A25-B2FB935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7494E-75AA-4B9A-A86F-5D2E5CD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7894A-15E8-4F5D-873E-9C7E9CE8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50B1D-7BAE-4AD4-9CD2-30F0E534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106F5-0470-421D-B60F-C01D576A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1F23A-5A4B-4C11-AC8A-945A15D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FFEA6-28BC-407D-9705-E2CFAE5F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FF7CC-6E51-4D95-8501-E2326D21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9DE3E-D869-4E70-8A8D-5C0265D9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6ACC7-42F4-4EC0-AEF4-EB40E09F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2364-E127-494A-AB48-95195C82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620A6-CFAE-44C0-B5D4-67529FF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791F6-CD7C-4F7C-80A2-FB264442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A405F-F41B-4D58-A4A6-6F290285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7460D-E6C2-4F9C-A33F-1B91FC4A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8762A-CCC3-41C7-9F04-6479500B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0F326-F3D6-4D4A-A4FD-75BF191F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3B8D3-1161-4DFB-B94C-FF99437E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A42A5-4812-4C64-A6A8-19B5E7D7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A81FA-1CA3-4D68-B58D-8217C246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6B198-5084-489B-94F2-73C06478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252D-26CF-43C1-83C8-88D0BBEF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6B692-A146-414D-A212-D82674C4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8DB0F-CFA0-47BA-B58F-7CFDA26A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D360D-16B0-42E3-8E39-A98002A2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9A9457-5159-439E-965F-5EB5BCE5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7E474-B647-4CB2-9770-E3E64DF6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9BF57-25D6-4B1B-95AB-AABB061A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F9D67-DC3E-4F9B-B3B9-C9DAD0E0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7DA62-C44B-40AC-9403-0A1074F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A4CB0-839B-4BB6-98D0-739710A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8A8E3-F145-47BF-9DE7-2A888FA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AFE8-DAF8-413F-91C9-23FEBF85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E97EE-E10B-4F2E-81C1-269C3B93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67FE5-503C-4BBC-B886-BCC50D24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93962-A3A3-445B-B7FD-6B2122EC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DB5-17F7-486B-A0A3-E8264FBE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5502-3B8A-4D58-8F4F-0BB9D460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8A1B-FCC3-44E8-880B-DE0D0C2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187-5EB2-46CF-B950-ACA0E2A8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297-DB34-4901-B6DD-3C9F764C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5F21-B635-4B0D-90B3-3308ED4A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BFF8-56AB-4503-A4D3-A0EEF736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76AB-71CB-4F1D-80D5-2D1E63DD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484F-8E19-4BE3-8E8D-5090A040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5787-5880-4585-9C3B-ECCC0848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DF06-24AB-4EFA-9B9C-6A42D392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E14-5E48-4F5C-8EBF-1D77FFA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05B9-1964-4703-ADEA-6E02B6CE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C06A-FFDE-4B1B-96FC-03F949D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BE83-D6DA-44DA-9A25-5065E647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DEAF-A883-41A1-8643-41985BB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FCD7-D97C-49B6-AB9E-CEDC54B3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0FB5-7F1B-4588-80D5-FEFE8250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671B-ADBD-4E90-9863-9046C34D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6579-3904-4F07-ADB0-31CDB14D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617B-ABBB-42E0-9CE0-74D4E0A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0801-2A36-4E07-98B7-B51CB0E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C47-B4CC-4E2B-9C98-B7882C04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2B11-91AD-46FD-9994-2169F06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CC7C-39D5-4E3D-B848-BB8E2B18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D2E4-6C74-4C49-AB45-C38A09D2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5608-890E-49E4-8805-84793515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AD81-AF30-44BC-BAE2-11852AB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C34C-613B-47D3-9E72-0B6C361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7511-B25F-4C46-B904-3DFE8BF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854A-4EBB-4AE9-B873-994F6BAD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D39C-310C-4417-B8F2-AFD7191B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9F84F-801C-4B7B-8712-882CA11F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170-0B16-4D3C-96AB-EF867507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1454-DE1E-4D46-BCCB-B05C4C8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B3732-DCEB-4113-B010-0147CD10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1533-0C84-4F48-A6FD-3FE2A043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D6E2-3EA8-4426-B598-024469EB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BF9C9-2067-49D9-8C75-CCF43645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D9D0-5840-46BC-B1C9-634996B5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AAAD4-7BB2-4D52-BB7F-45E3356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8290E-FD78-436D-A2DA-EE8DDEF4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B903-56F8-4CAB-8A00-DF5062F2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03D5E-B613-4B1F-9238-36F55FCE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90E-4524-45B8-92AD-FCCD2A4D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49BE-573A-4DCB-AED9-B79F72D4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5BA8-4671-4251-B05E-481B7210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9B4C-C903-4D64-84A5-D171D009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3E719-BB25-443A-BCC5-7DE161CC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A371E-648D-4995-AADF-14D14102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05E78-A7E9-4B00-A1A8-16DFF0F3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BEA23-8E26-4A30-A4CA-449A585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21B04-28E4-4F89-BF19-2467C9CD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7772-1ED7-4D43-BFBA-763BD9C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77C06-3655-4689-AC89-6D569040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4E3-961F-4841-B2E0-07AC869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4D7EF-C85E-41C4-9531-62A198C5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AF2B7-C67A-4FF9-80A3-4B8620A0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8BB71-2281-4B9F-984E-32E7EBBE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077B0-21F7-4416-968B-8DAD44E8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D7717-7242-4278-9AED-FC15454B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1423-3071-4CB8-879A-ACA74D8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4AD5D-6DB1-42E8-8B82-E3BB242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3E8B4-3A33-48C7-A452-88B172B4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6C4D0-397A-4092-920D-98F7A8C0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D498-0D18-42DA-B1E5-07DA787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090-D28F-4983-AB32-A53D65B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1F8D8-C358-4EA7-824C-62A4DD8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89EED-AA4D-47D0-90AD-7632A36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BC55F-058F-41A9-A9FA-3B929A81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8870-F131-45E5-A959-4ECD7A8A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B7CC-F5DC-49CD-85EE-27F9B49D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F1BED-9B93-4381-AD78-568877FA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0DF9-8B43-46A8-9EE5-25477374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026DC-05E8-45AC-AB37-67EDA0AC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455F4-72AE-4584-905C-BDEEC37A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C1BAB-9CC2-44BA-8B27-8AEC3945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B59-C7B4-4397-82A9-82EF473B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132E-94A8-4BE5-B199-B47F2A9D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0BAD-5900-4F56-B0AA-5FF1F88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CFEF2-BE94-4982-9350-BF15839E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94B27-229E-4809-8219-24E02CFD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E88DF-CA9D-4DA5-8468-9952B479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18DB-7BBA-48CA-A845-F5C5064B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024E5-569A-418D-A56D-05BDE784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6D374-958C-42FA-BE3B-26824235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78DC2-7CB9-4E0F-8215-67F0772F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DE427-B063-44DF-A1ED-066C7EB7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EA63-7C7B-4AE6-9BD1-D177C6FF09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E08F-B1FD-471D-AA97-32A3720A4CC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60E4-33E2-4E1D-B031-DB56353B05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C5A-E38F-4AAD-A40F-5266402765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2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7C86-C19E-499B-BB3A-99AEA54BB8A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28A9-5AF8-4585-A3DE-BB71340D760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2C4-C5EC-4D01-A7F6-B1CBD9E3972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1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1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2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2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2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2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5C76-3CAB-4322-94F2-F6DC5977058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0488-0D32-4C26-87EE-AA82C0784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944D-FCD6-435A-B460-6C426A2275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5530-0C63-4E37-9D63-EEC50322E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79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25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39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53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67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81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95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09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11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B11E-F20A-4C51-8994-B04579BDFF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67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81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C00D-A966-4C76-ACE8-25A4061CA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31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8B3-9D48-4501-B5FE-5725C896A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02D0-46F6-41FC-ACE3-7721B89B44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5931-B7C6-47D5-AC57-E94A35F7D4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&#28436;&#31034;&#25991;&#31295;1.ppt" TargetMode="External"/><Relationship Id="rId3" Type="http://schemas.openxmlformats.org/officeDocument/2006/relationships/slide" Target="slide13.xml"/><Relationship Id="rId4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 txBox="1"/>
          <p:nvPr/>
        </p:nvSpPr>
        <p:spPr>
          <a:xfrm rot="5400000">
            <a:off x="5758920" y="3009960"/>
            <a:ext cx="5095800" cy="1057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蟋蟀的住宅</a:t>
            </a:r>
            <a:endParaRPr b="1" lang="en-US" sz="8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1675080" y="425520"/>
            <a:ext cx="54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为什么说蟋蟀用挖掘的工具“是那样简单”？又为什么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蟋蟀的住宅“真可以算是伟大的工程了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032560" y="184464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为蟋蟀盖房子的工具，只是简单的四只脚和钳子，所以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蟋蟀用来挖掘的工具是那样简单。又因为蟋蟀用如此简单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具，建造出那么平坦、清洁、干燥，卫生的住宅，所以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算是一个伟大的工程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252240" y="3500280"/>
            <a:ext cx="22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这座住宅真可以算是伟大的工程了。”这句话出现在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一段的最后起什么样用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38360" y="4940280"/>
            <a:ext cx="219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句话总结了前文，赞美了蟋蟀辛勤劳动，不肯随遇而安的精神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时，这句话又是承接上一句来写的。蟋蟀的住宅是靠自己用简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而柔弱的工具一点一点挖掘出来的，非常不容易，另外也写出了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者对蟋蟀住宅的总的印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469800" y="404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013120" y="177336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请同学们默读这一部分，想一想，这一部分从几个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面介绍了蟋蟀怎样建造住宅的，课文是怎样写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568320" y="2997360"/>
            <a:ext cx="144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部分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建造时间、怎样建造、整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面介绍了蟋蟀怎样建造住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35120" y="45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52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2843280" y="0"/>
            <a:ext cx="3240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学习第三部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1778040" y="2421000"/>
            <a:ext cx="545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蟋蟀工作很辛苦是从哪里看出来的呢？请同学们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段，找出写蟋蟀盖房动作的句子，并划出动词，体会蟋蟀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房的艰难与辛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>
            <a:hlinkClick r:id="rId2"/>
          </p:cNvPr>
          <p:cNvSpPr/>
          <p:nvPr/>
        </p:nvSpPr>
        <p:spPr>
          <a:xfrm>
            <a:off x="2882520" y="4097160"/>
            <a:ext cx="38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扒、搬、踏、推、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都从不同方面反映了蟋蟀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房子的艰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391480" y="3524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蟋蟀是在什么时候建造住宅的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620520" y="98100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蟋蟀盖房子大多是在十月，秋天初寒的时候。”是蟋蟀盖房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时间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>
            <a:hlinkClick r:id="rId3" action="ppaction://hlinksldjump"/>
          </p:cNvPr>
          <p:cNvSpPr/>
          <p:nvPr/>
        </p:nvSpPr>
        <p:spPr>
          <a:xfrm>
            <a:off x="8186760" y="6443280"/>
            <a:ext cx="509760" cy="423000"/>
          </a:xfrm>
          <a:custGeom>
            <a:avLst/>
            <a:gdLst>
              <a:gd name="textAreaLeft" fmla="*/ 27360 w 509760"/>
              <a:gd name="textAreaRight" fmla="*/ 482400 w 509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6027" h="21600">
                <a:moveTo>
                  <a:pt x="0" y="0"/>
                </a:moveTo>
                <a:lnTo>
                  <a:pt x="26027" y="0"/>
                </a:lnTo>
                <a:lnTo>
                  <a:pt x="26027" y="21600"/>
                </a:lnTo>
                <a:lnTo>
                  <a:pt x="0" y="21600"/>
                </a:lnTo>
                <a:close/>
              </a:path>
              <a:path fill="lightenLess" w="26027" h="21600">
                <a:moveTo>
                  <a:pt x="0" y="0"/>
                </a:moveTo>
                <a:lnTo>
                  <a:pt x="26027" y="0"/>
                </a:lnTo>
                <a:lnTo>
                  <a:pt x="24627" y="1400"/>
                </a:lnTo>
                <a:lnTo>
                  <a:pt x="1400" y="1400"/>
                </a:lnTo>
                <a:close/>
              </a:path>
              <a:path fill="darken" w="26027" h="21600">
                <a:moveTo>
                  <a:pt x="26027" y="0"/>
                </a:moveTo>
                <a:lnTo>
                  <a:pt x="26027" y="21600"/>
                </a:lnTo>
                <a:lnTo>
                  <a:pt x="24627" y="20200"/>
                </a:lnTo>
                <a:lnTo>
                  <a:pt x="24627" y="1400"/>
                </a:lnTo>
                <a:close/>
              </a:path>
              <a:path fill="darkenLess" w="26027" h="21600">
                <a:moveTo>
                  <a:pt x="26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7" y="20200"/>
                </a:lnTo>
                <a:close/>
              </a:path>
              <a:path fill="lighten" w="26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课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333360"/>
            <a:ext cx="17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0" y="1341360"/>
            <a:ext cx="896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蟋蟀盖房子大多是在十月，秋天初寒的时候．它用前足扒土。还用钳子搬掉较大的土块。它用强有力的后足踏地。后腿有两排锯，用它将泥土推到后面，倾斜地铺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工作做得很快。蟋蟀钻到土底下，如果感到疲劳，它就在未完工的家门口休息一会儿，头朝着外面，触须轻微地摆动。不大一会儿，它又进去，用钳子和耙继续工作。我一连看了两个钟头，看得有些不耐烦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87640" y="1844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68360" y="1844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2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35640" y="22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17080" y="227664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>
            <a:hlinkClick r:id="rId1" action="ppaction://hlinksldjump"/>
          </p:cNvPr>
          <p:cNvSpPr/>
          <p:nvPr/>
        </p:nvSpPr>
        <p:spPr>
          <a:xfrm>
            <a:off x="7989840" y="6062400"/>
            <a:ext cx="509760" cy="423000"/>
          </a:xfrm>
          <a:custGeom>
            <a:avLst/>
            <a:gdLst>
              <a:gd name="textAreaLeft" fmla="*/ 27360 w 509760"/>
              <a:gd name="textAreaRight" fmla="*/ 482400 w 509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6027" h="21600">
                <a:moveTo>
                  <a:pt x="0" y="0"/>
                </a:moveTo>
                <a:lnTo>
                  <a:pt x="26027" y="0"/>
                </a:lnTo>
                <a:lnTo>
                  <a:pt x="26027" y="21600"/>
                </a:lnTo>
                <a:lnTo>
                  <a:pt x="0" y="21600"/>
                </a:lnTo>
                <a:close/>
              </a:path>
              <a:path fill="lightenLess" w="26027" h="21600">
                <a:moveTo>
                  <a:pt x="0" y="0"/>
                </a:moveTo>
                <a:lnTo>
                  <a:pt x="26027" y="0"/>
                </a:lnTo>
                <a:lnTo>
                  <a:pt x="24627" y="1400"/>
                </a:lnTo>
                <a:lnTo>
                  <a:pt x="1400" y="1400"/>
                </a:lnTo>
                <a:close/>
              </a:path>
              <a:path fill="darken" w="26027" h="21600">
                <a:moveTo>
                  <a:pt x="26027" y="0"/>
                </a:moveTo>
                <a:lnTo>
                  <a:pt x="26027" y="21600"/>
                </a:lnTo>
                <a:lnTo>
                  <a:pt x="24627" y="20200"/>
                </a:lnTo>
                <a:lnTo>
                  <a:pt x="24627" y="1400"/>
                </a:lnTo>
                <a:close/>
              </a:path>
              <a:path fill="darkenLess" w="26027" h="21600">
                <a:moveTo>
                  <a:pt x="26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7" y="20200"/>
                </a:lnTo>
                <a:close/>
              </a:path>
              <a:path fill="lighten" w="26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194920" y="54936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蟋蟀的住宅建好了，可是它好像并没有满足，它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做了什么事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482560" y="265572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蟋蟀是怎样整修的呢？整修的目的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32640" y="3716280"/>
            <a:ext cx="89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今天做一点，明天做一点，即使在冬天只要气候温和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还在不停地进行整修。长时间整修是为了这个洞可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随天气的变冷和这的身体的增长而加深加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203640" y="1125360"/>
            <a:ext cx="1249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>
                    <a:alpha val="90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修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>
                  <a:alpha val="90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0" name=""/>
          <p:cNvSpPr txBox="1"/>
          <p:nvPr/>
        </p:nvSpPr>
        <p:spPr>
          <a:xfrm rot="5400000">
            <a:off x="540360" y="2419920"/>
            <a:ext cx="576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对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1979640" y="299736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觉得蟋蟀坚持不懈，认真工作，以辛勤的劳动建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住宅的精神非常了不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395280" y="1125360"/>
            <a:ext cx="8259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了蟋蟀建造住宅这一部分。你有什么想法呢？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539640" y="206064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蟋蟀的住宅主要讲的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者为什么把蟋蟀的巢穴比喻为住宅，这样写有什么好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348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735560" y="5229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样写很形象，能引发读者的阅读兴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52000" y="278136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蟋蟀的住宅主要描写了蟋蟀挖掘、建造巢穴的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2700360" y="0"/>
            <a:ext cx="26636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总结全文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4923360" y="272880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请同学们用第一人称复述课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276720" y="333360"/>
            <a:ext cx="374472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 txBox="1"/>
          <p:nvPr/>
        </p:nvSpPr>
        <p:spPr>
          <a:xfrm>
            <a:off x="1332000" y="2133720"/>
            <a:ext cx="4752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红头高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蟋蟀出名有几个原因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住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将第二句话改成“它的出名不光由于它的住宅，还由于它的唱歌。”行不行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1627560" y="1368360"/>
            <a:ext cx="569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请同学们朗读第二部分，想一想，这一部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从几个方面讲蟋蟀住宅的特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每个方面写了蟋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住宅的什么特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249720" y="337356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这段主要是从选址、工具和洞内外三方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讲述了蟋蟀住宅的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2916360" y="0"/>
            <a:ext cx="2736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二部分</a:t>
            </a:r>
            <a:endParaRPr b="0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9" name=""/>
          <p:cNvSpPr/>
          <p:nvPr/>
        </p:nvSpPr>
        <p:spPr>
          <a:xfrm>
            <a:off x="7380360" y="0"/>
            <a:ext cx="1224000" cy="1125360"/>
          </a:xfrm>
          <a:prstGeom prst="smileyFace">
            <a:avLst>
              <a:gd name="adj" fmla="val 9282"/>
            </a:avLst>
          </a:pr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1675080" y="476280"/>
            <a:ext cx="54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蟋蟀和别的昆虫不同，蟋蟀不肯随遇而安，“随遇而安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什意思？课文哪些地方表现了蟋蟀“不肯随遇而安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14360" y="1989000"/>
            <a:ext cx="252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Times New Roman"/>
              </a:rPr>
              <a:t>课文中讲到蟋蟀慎重选择住址，一定要排水优良，并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Times New Roman"/>
              </a:rPr>
              <a:t>有温和的阳光。它不利用现成的洞穴。从这些地方可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Times New Roman"/>
              </a:rPr>
              <a:t>看出蟋蟀不肯随遇而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842920" y="380844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蟋蟀的住宅是自己一点一点挖掘的。可是人们为什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它的劳动成果感到惊奇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013840" y="522936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b7"/>
                </a:solidFill>
                <a:latin typeface="Times New Roman"/>
              </a:rPr>
              <a:t>蟋蟀盖房子的工具，非常柔弱。正是因为蟋蟀用如此简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b7"/>
                </a:solidFill>
                <a:latin typeface="Times New Roman"/>
              </a:rPr>
              <a:t>的工具建造了排水优良，有温和阳光的住宅，所以令人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b7"/>
                </a:solidFill>
                <a:latin typeface="Times New Roman"/>
              </a:rPr>
              <a:t>对它的劳动成果感到惊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954800" y="35244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也是蟋蟀吸引作者关注的地方，所以作者决定要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究它，请同学继续读书，看一看住宅内外的情况怎样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684800" y="1484280"/>
            <a:ext cx="5563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．是向阳，“朝着阳光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．是隐蔽，“青草丛中隐藏着一条倾斜的隧道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．是干燥，“即使有骤雨，这里也立刻会干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四．是“弯弯曲曲”“最多不过九寸深”“一指宽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五．是有“门”，“出口的地方总是有一丛草半掩着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六．是有“平台”，那微斜的门口“经过仔细耙扫，收拾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很平坦”，就成了蟋蟀住宅的“平台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从里面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简朴“没什么布置”、光滑、平整、简朴、清洁、干燥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卫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79280" y="1413000"/>
            <a:ext cx="359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蟋蟀住宅内外各具特色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从外面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2643120" y="533520"/>
            <a:ext cx="3857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蟋蟀的住宅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682720" cy="237780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2"/>
          <a:stretch/>
        </p:blipFill>
        <p:spPr>
          <a:xfrm>
            <a:off x="838080" y="4214880"/>
            <a:ext cx="2249640" cy="172872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3"/>
          <a:stretch/>
        </p:blipFill>
        <p:spPr>
          <a:xfrm>
            <a:off x="4067280" y="3068640"/>
            <a:ext cx="4086000" cy="233352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 txBox="1"/>
          <p:nvPr/>
        </p:nvSpPr>
        <p:spPr>
          <a:xfrm>
            <a:off x="2987640" y="335772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隐蔽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3059280" y="2349360"/>
            <a:ext cx="933120" cy="5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干燥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7812000" y="299736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有平台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4" name=""/>
          <p:cNvSpPr txBox="1"/>
          <p:nvPr/>
        </p:nvSpPr>
        <p:spPr>
          <a:xfrm rot="5400000">
            <a:off x="3119040" y="473724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c99ff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光滑</a:t>
            </a:r>
            <a:endParaRPr b="1" lang="en-US" sz="2400" spc="1" strike="noStrike">
              <a:ln w="12600">
                <a:solidFill>
                  <a:srgbClr val="cc99ff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492360" y="573408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ff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平整</a:t>
            </a:r>
            <a:endParaRPr b="1" lang="en-US" sz="2400" spc="1" strike="noStrike">
              <a:ln w="12600">
                <a:solidFill>
                  <a:srgbClr val="99ccff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5292720" y="587700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简朴</a:t>
            </a:r>
            <a:endParaRPr b="1" lang="en-US" sz="2400" spc="1" strike="noStrike">
              <a:ln w="12600">
                <a:solidFill>
                  <a:srgbClr val="99cc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6804000" y="587700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清洁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8" name=""/>
          <p:cNvSpPr txBox="1"/>
          <p:nvPr/>
        </p:nvSpPr>
        <p:spPr>
          <a:xfrm rot="5400000">
            <a:off x="8159400" y="552924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cc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卫生</a:t>
            </a:r>
            <a:endParaRPr b="1" lang="en-US" sz="2400" spc="1" strike="noStrike">
              <a:ln w="12600">
                <a:solidFill>
                  <a:srgbClr val="ff99cc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1960" y="-53280"/>
            <a:ext cx="715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859280" y="2060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向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796000" y="2349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弯弯曲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24720" y="21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有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1:22:08Z</dcterms:created>
  <dc:creator>wangliping</dc:creator>
  <dc:description/>
  <dc:language>en-US</dc:language>
  <cp:lastModifiedBy>zmj</cp:lastModifiedBy>
  <dcterms:modified xsi:type="dcterms:W3CDTF">2012-07-29T14:05:31Z</dcterms:modified>
  <cp:revision>13</cp:revision>
  <dc:subject/>
  <dc:title>PowerPoint 演示文稿</dc:title>
</cp:coreProperties>
</file>