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9" descr="new masterset-028-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4" descr="new masterset-028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8"/>
          <p:cNvSpPr/>
          <p:nvPr/>
        </p:nvSpPr>
        <p:spPr>
          <a:xfrm>
            <a:off x="1100160" y="2046240"/>
            <a:ext cx="66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宋体"/>
              </a:rPr>
              <a:t>SC.CHINAZ.COM</a:t>
            </a: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HY견고딕"/>
              </a:rPr>
              <a:t>PRESTATION TEMPLATES</a:t>
            </a:r>
            <a:endParaRPr b="1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75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71" descr="new masterset-028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81" descr="object63"/>
          <p:cNvPicPr/>
          <p:nvPr/>
        </p:nvPicPr>
        <p:blipFill>
          <a:blip r:embed="rId2"/>
          <a:srcRect l="0" t="18171" r="0" b="68259"/>
          <a:stretch/>
        </p:blipFill>
        <p:spPr>
          <a:xfrm>
            <a:off x="5219640" y="1370160"/>
            <a:ext cx="2541600" cy="66960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472"/>
          <p:cNvSpPr/>
          <p:nvPr/>
        </p:nvSpPr>
        <p:spPr>
          <a:xfrm>
            <a:off x="4940280" y="2238480"/>
            <a:ext cx="3792600" cy="47448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AutoShape 473"/>
          <p:cNvSpPr/>
          <p:nvPr/>
        </p:nvSpPr>
        <p:spPr>
          <a:xfrm>
            <a:off x="4940280" y="5448240"/>
            <a:ext cx="3792600" cy="47484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AutoShape 474"/>
          <p:cNvSpPr/>
          <p:nvPr/>
        </p:nvSpPr>
        <p:spPr>
          <a:xfrm>
            <a:off x="4940280" y="4805280"/>
            <a:ext cx="3792600" cy="47484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AutoShape 475"/>
          <p:cNvSpPr/>
          <p:nvPr/>
        </p:nvSpPr>
        <p:spPr>
          <a:xfrm>
            <a:off x="4940280" y="4164120"/>
            <a:ext cx="3792600" cy="47448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AutoShape 476"/>
          <p:cNvSpPr/>
          <p:nvPr/>
        </p:nvSpPr>
        <p:spPr>
          <a:xfrm>
            <a:off x="4940280" y="3521160"/>
            <a:ext cx="3792600" cy="47448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AutoShape 477"/>
          <p:cNvSpPr/>
          <p:nvPr/>
        </p:nvSpPr>
        <p:spPr>
          <a:xfrm>
            <a:off x="4940280" y="2879640"/>
            <a:ext cx="3792600" cy="47484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427640" y="2238480"/>
            <a:ext cx="476280" cy="474480"/>
            <a:chOff x="4427640" y="2238480"/>
            <a:chExt cx="476280" cy="474480"/>
          </a:xfrm>
        </p:grpSpPr>
        <p:grpSp>
          <p:nvGrpSpPr>
            <p:cNvPr id="86" name=""/>
            <p:cNvGrpSpPr/>
            <p:nvPr/>
          </p:nvGrpSpPr>
          <p:grpSpPr>
            <a:xfrm>
              <a:off x="4427640" y="2238480"/>
              <a:ext cx="476280" cy="474480"/>
              <a:chOff x="4427640" y="2238480"/>
              <a:chExt cx="476280" cy="474480"/>
            </a:xfrm>
          </p:grpSpPr>
          <p:sp>
            <p:nvSpPr>
              <p:cNvPr id="87" name="AutoShape 480"/>
              <p:cNvSpPr/>
              <p:nvPr/>
            </p:nvSpPr>
            <p:spPr>
              <a:xfrm>
                <a:off x="4427640" y="2238480"/>
                <a:ext cx="476280" cy="47448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8" name="AutoShape 481"/>
              <p:cNvSpPr/>
              <p:nvPr/>
            </p:nvSpPr>
            <p:spPr>
              <a:xfrm>
                <a:off x="4451400" y="2263680"/>
                <a:ext cx="426960" cy="42660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615529"/>
                  </a:gs>
                  <a:gs pos="100000">
                    <a:srgbClr val="3831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89" name="Picture 482" descr="바코드"/>
              <p:cNvPicPr/>
              <p:nvPr/>
            </p:nvPicPr>
            <p:blipFill>
              <a:blip r:embed="rId3"/>
              <a:srcRect l="16802" t="9783" r="20325" b="5978"/>
              <a:stretch/>
            </p:blipFill>
            <p:spPr>
              <a:xfrm>
                <a:off x="4767480" y="2285640"/>
                <a:ext cx="82440" cy="5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AutoShape 483"/>
              <p:cNvSpPr/>
              <p:nvPr/>
            </p:nvSpPr>
            <p:spPr>
              <a:xfrm>
                <a:off x="4464000" y="2276280"/>
                <a:ext cx="401760" cy="759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bfad69"/>
                  </a:gs>
                  <a:gs pos="100000">
                    <a:srgbClr val="7c6d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91" name="Text Box 484"/>
            <p:cNvSpPr/>
            <p:nvPr/>
          </p:nvSpPr>
          <p:spPr>
            <a:xfrm>
              <a:off x="4564080" y="2382480"/>
              <a:ext cx="204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427640" y="5448240"/>
            <a:ext cx="476280" cy="474840"/>
            <a:chOff x="4427640" y="5448240"/>
            <a:chExt cx="476280" cy="474840"/>
          </a:xfrm>
        </p:grpSpPr>
        <p:grpSp>
          <p:nvGrpSpPr>
            <p:cNvPr id="93" name=""/>
            <p:cNvGrpSpPr/>
            <p:nvPr/>
          </p:nvGrpSpPr>
          <p:grpSpPr>
            <a:xfrm>
              <a:off x="4427640" y="5448240"/>
              <a:ext cx="476280" cy="474840"/>
              <a:chOff x="4427640" y="5448240"/>
              <a:chExt cx="476280" cy="474840"/>
            </a:xfrm>
          </p:grpSpPr>
          <p:sp>
            <p:nvSpPr>
              <p:cNvPr id="94" name="AutoShape 487"/>
              <p:cNvSpPr/>
              <p:nvPr/>
            </p:nvSpPr>
            <p:spPr>
              <a:xfrm>
                <a:off x="4427640" y="5448240"/>
                <a:ext cx="476280" cy="47484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" name="AutoShape 488"/>
              <p:cNvSpPr/>
              <p:nvPr/>
            </p:nvSpPr>
            <p:spPr>
              <a:xfrm>
                <a:off x="4451400" y="5473800"/>
                <a:ext cx="426960" cy="42696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615529"/>
                  </a:gs>
                  <a:gs pos="100000">
                    <a:srgbClr val="3831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96" name="Picture 489" descr="바코드"/>
              <p:cNvPicPr/>
              <p:nvPr/>
            </p:nvPicPr>
            <p:blipFill>
              <a:blip r:embed="rId4"/>
              <a:srcRect l="16802" t="9783" r="20325" b="5978"/>
              <a:stretch/>
            </p:blipFill>
            <p:spPr>
              <a:xfrm>
                <a:off x="4767480" y="5495760"/>
                <a:ext cx="82440" cy="5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AutoShape 490"/>
              <p:cNvSpPr/>
              <p:nvPr/>
            </p:nvSpPr>
            <p:spPr>
              <a:xfrm>
                <a:off x="4464000" y="5486400"/>
                <a:ext cx="401760" cy="7632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bfad69"/>
                  </a:gs>
                  <a:gs pos="100000">
                    <a:srgbClr val="7c6d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98" name="Text Box 491"/>
            <p:cNvSpPr/>
            <p:nvPr/>
          </p:nvSpPr>
          <p:spPr>
            <a:xfrm>
              <a:off x="4564080" y="5592600"/>
              <a:ext cx="204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427640" y="4805280"/>
            <a:ext cx="476280" cy="474840"/>
            <a:chOff x="4427640" y="4805280"/>
            <a:chExt cx="476280" cy="474840"/>
          </a:xfrm>
        </p:grpSpPr>
        <p:grpSp>
          <p:nvGrpSpPr>
            <p:cNvPr id="100" name=""/>
            <p:cNvGrpSpPr/>
            <p:nvPr/>
          </p:nvGrpSpPr>
          <p:grpSpPr>
            <a:xfrm>
              <a:off x="4427640" y="4805280"/>
              <a:ext cx="476280" cy="474840"/>
              <a:chOff x="4427640" y="4805280"/>
              <a:chExt cx="476280" cy="474840"/>
            </a:xfrm>
          </p:grpSpPr>
          <p:sp>
            <p:nvSpPr>
              <p:cNvPr id="101" name="AutoShape 494"/>
              <p:cNvSpPr/>
              <p:nvPr/>
            </p:nvSpPr>
            <p:spPr>
              <a:xfrm>
                <a:off x="4427640" y="4805280"/>
                <a:ext cx="476280" cy="47484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2" name="AutoShape 495"/>
              <p:cNvSpPr/>
              <p:nvPr/>
            </p:nvSpPr>
            <p:spPr>
              <a:xfrm>
                <a:off x="4451400" y="4830840"/>
                <a:ext cx="426960" cy="42696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615529"/>
                  </a:gs>
                  <a:gs pos="100000">
                    <a:srgbClr val="3831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103" name="Picture 496" descr="바코드"/>
              <p:cNvPicPr/>
              <p:nvPr/>
            </p:nvPicPr>
            <p:blipFill>
              <a:blip r:embed="rId5"/>
              <a:srcRect l="16802" t="9783" r="20325" b="5978"/>
              <a:stretch/>
            </p:blipFill>
            <p:spPr>
              <a:xfrm>
                <a:off x="4767480" y="4852800"/>
                <a:ext cx="82440" cy="5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AutoShape 497"/>
              <p:cNvSpPr/>
              <p:nvPr/>
            </p:nvSpPr>
            <p:spPr>
              <a:xfrm>
                <a:off x="4464000" y="4843440"/>
                <a:ext cx="401760" cy="7632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bfad69"/>
                  </a:gs>
                  <a:gs pos="100000">
                    <a:srgbClr val="7c6d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05" name="Text Box 498"/>
            <p:cNvSpPr/>
            <p:nvPr/>
          </p:nvSpPr>
          <p:spPr>
            <a:xfrm>
              <a:off x="4564080" y="4949640"/>
              <a:ext cx="204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427640" y="4164120"/>
            <a:ext cx="476280" cy="474480"/>
            <a:chOff x="4427640" y="4164120"/>
            <a:chExt cx="476280" cy="474480"/>
          </a:xfrm>
        </p:grpSpPr>
        <p:grpSp>
          <p:nvGrpSpPr>
            <p:cNvPr id="107" name=""/>
            <p:cNvGrpSpPr/>
            <p:nvPr/>
          </p:nvGrpSpPr>
          <p:grpSpPr>
            <a:xfrm>
              <a:off x="4427640" y="4164120"/>
              <a:ext cx="476280" cy="474480"/>
              <a:chOff x="4427640" y="4164120"/>
              <a:chExt cx="476280" cy="474480"/>
            </a:xfrm>
          </p:grpSpPr>
          <p:sp>
            <p:nvSpPr>
              <p:cNvPr id="108" name="AutoShape 501"/>
              <p:cNvSpPr/>
              <p:nvPr/>
            </p:nvSpPr>
            <p:spPr>
              <a:xfrm>
                <a:off x="4427640" y="4164120"/>
                <a:ext cx="476280" cy="47448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9" name="AutoShape 502"/>
              <p:cNvSpPr/>
              <p:nvPr/>
            </p:nvSpPr>
            <p:spPr>
              <a:xfrm>
                <a:off x="4451400" y="4189320"/>
                <a:ext cx="426960" cy="42660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615529"/>
                  </a:gs>
                  <a:gs pos="100000">
                    <a:srgbClr val="3831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110" name="Picture 503" descr="바코드"/>
              <p:cNvPicPr/>
              <p:nvPr/>
            </p:nvPicPr>
            <p:blipFill>
              <a:blip r:embed="rId6"/>
              <a:srcRect l="16802" t="9783" r="20325" b="5978"/>
              <a:stretch/>
            </p:blipFill>
            <p:spPr>
              <a:xfrm>
                <a:off x="4767480" y="4216320"/>
                <a:ext cx="82440" cy="5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AutoShape 504"/>
              <p:cNvSpPr/>
              <p:nvPr/>
            </p:nvSpPr>
            <p:spPr>
              <a:xfrm>
                <a:off x="4464000" y="4201920"/>
                <a:ext cx="401760" cy="759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bfad69"/>
                  </a:gs>
                  <a:gs pos="100000">
                    <a:srgbClr val="7c6d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12" name="Text Box 505"/>
            <p:cNvSpPr/>
            <p:nvPr/>
          </p:nvSpPr>
          <p:spPr>
            <a:xfrm>
              <a:off x="4564080" y="4308120"/>
              <a:ext cx="204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427640" y="3521160"/>
            <a:ext cx="476280" cy="474480"/>
            <a:chOff x="4427640" y="3521160"/>
            <a:chExt cx="476280" cy="474480"/>
          </a:xfrm>
        </p:grpSpPr>
        <p:grpSp>
          <p:nvGrpSpPr>
            <p:cNvPr id="114" name=""/>
            <p:cNvGrpSpPr/>
            <p:nvPr/>
          </p:nvGrpSpPr>
          <p:grpSpPr>
            <a:xfrm>
              <a:off x="4427640" y="3521160"/>
              <a:ext cx="476280" cy="474480"/>
              <a:chOff x="4427640" y="3521160"/>
              <a:chExt cx="476280" cy="474480"/>
            </a:xfrm>
          </p:grpSpPr>
          <p:sp>
            <p:nvSpPr>
              <p:cNvPr id="115" name="AutoShape 508"/>
              <p:cNvSpPr/>
              <p:nvPr/>
            </p:nvSpPr>
            <p:spPr>
              <a:xfrm>
                <a:off x="4427640" y="3521160"/>
                <a:ext cx="476280" cy="47448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6" name="AutoShape 509"/>
              <p:cNvSpPr/>
              <p:nvPr/>
            </p:nvSpPr>
            <p:spPr>
              <a:xfrm>
                <a:off x="4451400" y="3546360"/>
                <a:ext cx="426960" cy="42660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615529"/>
                  </a:gs>
                  <a:gs pos="100000">
                    <a:srgbClr val="3831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117" name="Picture 510" descr="바코드"/>
              <p:cNvPicPr/>
              <p:nvPr/>
            </p:nvPicPr>
            <p:blipFill>
              <a:blip r:embed="rId7"/>
              <a:srcRect l="16802" t="9783" r="20325" b="5978"/>
              <a:stretch/>
            </p:blipFill>
            <p:spPr>
              <a:xfrm>
                <a:off x="4767480" y="3573360"/>
                <a:ext cx="82440" cy="5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AutoShape 511"/>
              <p:cNvSpPr/>
              <p:nvPr/>
            </p:nvSpPr>
            <p:spPr>
              <a:xfrm>
                <a:off x="4464000" y="3558960"/>
                <a:ext cx="401760" cy="759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bfad69"/>
                  </a:gs>
                  <a:gs pos="100000">
                    <a:srgbClr val="7c6d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19" name="Text Box 512"/>
            <p:cNvSpPr/>
            <p:nvPr/>
          </p:nvSpPr>
          <p:spPr>
            <a:xfrm>
              <a:off x="4564080" y="3665160"/>
              <a:ext cx="204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427640" y="2879640"/>
            <a:ext cx="476280" cy="474840"/>
            <a:chOff x="4427640" y="2879640"/>
            <a:chExt cx="476280" cy="474840"/>
          </a:xfrm>
        </p:grpSpPr>
        <p:grpSp>
          <p:nvGrpSpPr>
            <p:cNvPr id="121" name=""/>
            <p:cNvGrpSpPr/>
            <p:nvPr/>
          </p:nvGrpSpPr>
          <p:grpSpPr>
            <a:xfrm>
              <a:off x="4427640" y="2879640"/>
              <a:ext cx="476280" cy="474840"/>
              <a:chOff x="4427640" y="2879640"/>
              <a:chExt cx="476280" cy="474840"/>
            </a:xfrm>
          </p:grpSpPr>
          <p:sp>
            <p:nvSpPr>
              <p:cNvPr id="122" name="AutoShape 515"/>
              <p:cNvSpPr/>
              <p:nvPr/>
            </p:nvSpPr>
            <p:spPr>
              <a:xfrm>
                <a:off x="4427640" y="2879640"/>
                <a:ext cx="476280" cy="47484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3" name="AutoShape 516"/>
              <p:cNvSpPr/>
              <p:nvPr/>
            </p:nvSpPr>
            <p:spPr>
              <a:xfrm>
                <a:off x="4451400" y="2905200"/>
                <a:ext cx="426960" cy="42696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615529"/>
                  </a:gs>
                  <a:gs pos="100000">
                    <a:srgbClr val="3831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124" name="Picture 517" descr="바코드"/>
              <p:cNvPicPr/>
              <p:nvPr/>
            </p:nvPicPr>
            <p:blipFill>
              <a:blip r:embed="rId8"/>
              <a:srcRect l="16802" t="9783" r="20325" b="5978"/>
              <a:stretch/>
            </p:blipFill>
            <p:spPr>
              <a:xfrm>
                <a:off x="4767480" y="2928960"/>
                <a:ext cx="82440" cy="5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AutoShape 518"/>
              <p:cNvSpPr/>
              <p:nvPr/>
            </p:nvSpPr>
            <p:spPr>
              <a:xfrm>
                <a:off x="4464000" y="2917800"/>
                <a:ext cx="401760" cy="7632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bfad69"/>
                  </a:gs>
                  <a:gs pos="100000">
                    <a:srgbClr val="7c6d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26" name="Text Box 519"/>
            <p:cNvSpPr/>
            <p:nvPr/>
          </p:nvSpPr>
          <p:spPr>
            <a:xfrm>
              <a:off x="4564080" y="3024000"/>
              <a:ext cx="204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27" name="TextBox 2" descr=""/>
          <p:cNvPicPr/>
          <p:nvPr/>
        </p:nvPicPr>
        <p:blipFill>
          <a:blip r:embed="rId9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35" descr="new masterset-028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136"/>
          <p:cNvSpPr/>
          <p:nvPr/>
        </p:nvSpPr>
        <p:spPr>
          <a:xfrm>
            <a:off x="2386080" y="2746440"/>
            <a:ext cx="5435640" cy="78876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531800" y="2746440"/>
            <a:ext cx="790560" cy="788760"/>
            <a:chOff x="1531800" y="2746440"/>
            <a:chExt cx="790560" cy="788760"/>
          </a:xfrm>
        </p:grpSpPr>
        <p:sp>
          <p:nvSpPr>
            <p:cNvPr id="132" name="AutoShape 138"/>
            <p:cNvSpPr/>
            <p:nvPr/>
          </p:nvSpPr>
          <p:spPr>
            <a:xfrm>
              <a:off x="1531800" y="2746440"/>
              <a:ext cx="790560" cy="78876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" name="AutoShape 139"/>
            <p:cNvSpPr/>
            <p:nvPr/>
          </p:nvSpPr>
          <p:spPr>
            <a:xfrm>
              <a:off x="1571400" y="2788920"/>
              <a:ext cx="709560" cy="70920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615529"/>
                </a:gs>
                <a:gs pos="100000">
                  <a:srgbClr val="3831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34" name="Picture 140" descr="바코드"/>
            <p:cNvPicPr/>
            <p:nvPr/>
          </p:nvPicPr>
          <p:blipFill>
            <a:blip r:embed="rId2"/>
            <a:srcRect l="16802" t="9783" r="20325" b="5978"/>
            <a:stretch/>
          </p:blipFill>
          <p:spPr>
            <a:xfrm>
              <a:off x="2116080" y="2844360"/>
              <a:ext cx="82440" cy="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AutoShape 141"/>
            <p:cNvSpPr/>
            <p:nvPr/>
          </p:nvSpPr>
          <p:spPr>
            <a:xfrm>
              <a:off x="1592280" y="2809440"/>
              <a:ext cx="668160" cy="126720"/>
            </a:xfrm>
            <a:prstGeom prst="roundRect">
              <a:avLst>
                <a:gd name="adj" fmla="val 20227"/>
              </a:avLst>
            </a:prstGeom>
            <a:gradFill rotWithShape="0">
              <a:gsLst>
                <a:gs pos="0">
                  <a:srgbClr val="bfad69"/>
                </a:gs>
                <a:gs pos="100000">
                  <a:srgbClr val="7c6d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36" name="Text Box 142"/>
          <p:cNvSpPr/>
          <p:nvPr/>
        </p:nvSpPr>
        <p:spPr>
          <a:xfrm>
            <a:off x="1751040" y="2928960"/>
            <a:ext cx="339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37" name="TextBox 2" descr=""/>
          <p:cNvPicPr/>
          <p:nvPr/>
        </p:nvPicPr>
        <p:blipFill>
          <a:blip r:embed="rId3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21"/>
          <p:cNvSpPr/>
          <p:nvPr/>
        </p:nvSpPr>
        <p:spPr>
          <a:xfrm>
            <a:off x="879480" y="250920"/>
            <a:ext cx="644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내용을 입력하세요</a:t>
            </a:r>
            <a:endParaRPr b="1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Text Box 122"/>
          <p:cNvSpPr/>
          <p:nvPr/>
        </p:nvSpPr>
        <p:spPr>
          <a:xfrm>
            <a:off x="268200" y="25092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41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new masterset-028-4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3060000" y="2544840"/>
            <a:ext cx="272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Arial"/>
                <a:ea typeface="HY견고딕"/>
              </a:rPr>
              <a:t>감 사 합 니 다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HY견고딕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45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09:52:09Z</dcterms:created>
  <dc:creator>cacao</dc:creator>
  <dc:description/>
  <dc:language>en-US</dc:language>
  <cp:lastModifiedBy>闄堥瓉</cp:lastModifiedBy>
  <dcterms:modified xsi:type="dcterms:W3CDTF">2015-07-23T02:44:56Z</dcterms:modified>
  <cp:revision>53</cp:revision>
  <dc:subject/>
  <dc:title>鞀澕鞚措摐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