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19C-E1A2-4E0D-BEBD-E1C0862A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7CC-00A3-454A-BDE0-5F5CC8EB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04C-3E59-406F-957B-AC084FEF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AB3-1827-42EC-8146-9113CE5A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254-15C2-4238-82C4-E533A7ED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D24-D7EC-4228-A864-672CD2B3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3A3F-9DC3-4EA3-82F9-C8E75DE9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4AE-021C-4E41-88FC-7191AD3D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7D3-5720-4899-A6C3-77B87C4C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0CA-52BA-4FF4-847C-7E8F14B9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9E2-6C77-4205-8320-65FE1FB8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83E-E326-4DCF-9A49-2DDFB5B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 flipH="1">
            <a:off x="8153280" y="0"/>
            <a:ext cx="990720" cy="685800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68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6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68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3BFA-7F08-4882-B969-CA6DC7BE8146}" type="datetime">
              <a:rPr b="0" lang="zh-CN" sz="1000" spc="-1" strike="noStrike">
                <a:solidFill>
                  <a:srgbClr val="b13f9a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D0B6-0723-4092-9EAE-11D601D2D837}" type="slidenum">
              <a:rPr b="0" lang="zh-CN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"/>
          <p:cNvSpPr/>
          <p:nvPr/>
        </p:nvSpPr>
        <p:spPr>
          <a:xfrm flipH="1">
            <a:off x="2666880" y="0"/>
            <a:ext cx="6477120" cy="685800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66880" y="0"/>
            <a:ext cx="360" cy="6858000"/>
            <a:chOff x="2666880" y="0"/>
            <a:chExt cx="360" cy="6858000"/>
          </a:xfrm>
        </p:grpSpPr>
        <p:sp>
          <p:nvSpPr>
            <p:cNvPr id="44" name="直接连接符 8"/>
            <p:cNvSpPr/>
            <p:nvPr/>
          </p:nvSpPr>
          <p:spPr>
            <a:xfrm flipV="1">
              <a:off x="2666880" y="0"/>
              <a:ext cx="0" cy="6858000"/>
            </a:xfrm>
            <a:prstGeom prst="line">
              <a:avLst/>
            </a:prstGeom>
            <a:ln w="1152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 rot="16200000">
              <a:off x="-761760" y="342864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rebuchet MS"/>
              </a:rPr>
              <a:t>个人简历</a:t>
            </a:r>
            <a:endParaRPr b="1" lang="en-US" sz="9600" spc="-1" strike="noStrike">
              <a:solidFill>
                <a:srgbClr val="b13f9a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2407320" y="23493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新魏"/>
              </a:rPr>
              <a:t>谢谢欣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6F48-42D7-4FC4-A0B9-03CC622110B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476360" y="907560"/>
            <a:ext cx="7559640" cy="5113800"/>
            <a:chOff x="1476360" y="907560"/>
            <a:chExt cx="7559640" cy="5113800"/>
          </a:xfrm>
        </p:grpSpPr>
        <p:sp>
          <p:nvSpPr>
            <p:cNvPr id="48" name=""/>
            <p:cNvSpPr/>
            <p:nvPr/>
          </p:nvSpPr>
          <p:spPr>
            <a:xfrm rot="10800000">
              <a:off x="1889280" y="90720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c65bb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95920" y="90792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个人情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76360" y="907920"/>
              <a:ext cx="826200" cy="581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1889280" y="166248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75ec0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95920" y="166320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专业技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76360" y="1663200"/>
              <a:ext cx="826200" cy="581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1889280" y="241776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7a3c7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95920" y="241848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教育背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76360" y="2418480"/>
              <a:ext cx="826200" cy="581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1889280" y="317304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ca95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95920" y="317376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社会实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76360" y="3173760"/>
              <a:ext cx="826200" cy="581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1889280" y="392832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1d147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95920" y="392904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人生态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929040"/>
              <a:ext cx="826200" cy="581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1889280" y="468360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ad63e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95920" y="468432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个人爱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76360" y="4684320"/>
              <a:ext cx="826200" cy="581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1889280" y="543924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6d37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95920" y="543996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自我评价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6360" y="5439960"/>
              <a:ext cx="826200" cy="581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20C8-222C-421C-AE25-35A7C273A1E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46240" y="1123920"/>
            <a:ext cx="1661760" cy="4483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c0c0c"/>
                </a:solidFill>
                <a:latin typeface="华文新魏"/>
              </a:rPr>
              <a:t>  </a:t>
            </a:r>
            <a:r>
              <a:rPr b="0" lang="zh-CN" sz="9600" spc="-1" strike="noStrike">
                <a:solidFill>
                  <a:srgbClr val="0c0c0c"/>
                </a:solidFill>
                <a:latin typeface="华文新魏"/>
              </a:rPr>
              <a:t>目 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652680" y="189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个人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2060640"/>
          <a:ext cx="7199280" cy="3024000"/>
        </p:xfrm>
        <a:graphic>
          <a:graphicData uri="http://schemas.openxmlformats.org/drawingml/2006/table">
            <a:tbl>
              <a:tblPr/>
              <a:tblGrid>
                <a:gridCol w="1186920"/>
                <a:gridCol w="1833120"/>
                <a:gridCol w="1318680"/>
                <a:gridCol w="844560"/>
                <a:gridCol w="2016000"/>
              </a:tblGrid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姓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王佳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性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7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籍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浙江平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出生年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995/1/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政治面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团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学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大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毕业院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平湖职业中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专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服装工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联系方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5728040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Q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608466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Em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608466427QQ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邮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314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通讯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浙江省平湖市曹桥街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3" name="图片 8" descr="8_105874_8b7151eeaac7cce.jpg"/>
          <p:cNvPicPr/>
          <p:nvPr/>
        </p:nvPicPr>
        <p:blipFill>
          <a:blip r:embed="rId1"/>
          <a:stretch/>
        </p:blipFill>
        <p:spPr>
          <a:xfrm>
            <a:off x="5651640" y="2565360"/>
            <a:ext cx="1752480" cy="2246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F40A-D401-4E42-AC74-CD1CE6E8CE3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545400" y="20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专业技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1116000" y="198900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服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AD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服装市场营销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服装流行趋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hoto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3014640" cy="4522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E436-2F92-4B15-815C-C0E393CD85A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600120" y="54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教育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11280" y="2349360"/>
          <a:ext cx="6624720" cy="2087640"/>
        </p:xfrm>
        <a:graphic>
          <a:graphicData uri="http://schemas.openxmlformats.org/drawingml/2006/table">
            <a:tbl>
              <a:tblPr/>
              <a:tblGrid>
                <a:gridCol w="3005280"/>
                <a:gridCol w="3619440"/>
              </a:tblGrid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013—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至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12240">
                      <a:solidFill>
                        <a:srgbClr val="cf6da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浙江纺织服装职业技术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12240">
                      <a:solidFill>
                        <a:srgbClr val="cf6da4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013-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1224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solidFill>
                      <a:srgbClr val="f5e1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平湖职业中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1224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solidFill>
                      <a:srgbClr val="f5e1ec"/>
                    </a:solidFill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010--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平湖南市中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007--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solidFill>
                      <a:srgbClr val="f5e1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平湖通界小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solidFill>
                      <a:srgbClr val="f5e1ec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DD4A-1120-4155-8F55-DDE8A48D859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555840" y="4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社会实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1383120" y="24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暑假打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250920" y="2249640"/>
            <a:ext cx="5113440" cy="10969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" descr=""/>
          <p:cNvPicPr/>
          <p:nvPr/>
        </p:nvPicPr>
        <p:blipFill>
          <a:blip r:embed="rId2"/>
          <a:stretch/>
        </p:blipFill>
        <p:spPr>
          <a:xfrm>
            <a:off x="3276720" y="836640"/>
            <a:ext cx="4521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7ADF-B48D-44F1-9782-F1962F5163E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618480" y="9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人生态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450720" y="2421000"/>
            <a:ext cx="541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乐观看待世界，世上无难事，只怕有心人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用平常心态面对困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4528-6E09-4978-AB76-2F79257F21D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574200" y="9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个人爱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2740320" y="49816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乐、看书、旅游、运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91EC-6599-4B72-9F09-E142ED12081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520720" cy="15350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"/>
          <p:cNvPicPr/>
          <p:nvPr/>
        </p:nvPicPr>
        <p:blipFill>
          <a:blip r:embed="rId2"/>
          <a:stretch/>
        </p:blipFill>
        <p:spPr>
          <a:xfrm>
            <a:off x="2911320" y="2276640"/>
            <a:ext cx="2895840" cy="22953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" descr=""/>
          <p:cNvPicPr/>
          <p:nvPr/>
        </p:nvPicPr>
        <p:blipFill>
          <a:blip r:embed="rId3"/>
          <a:stretch/>
        </p:blipFill>
        <p:spPr>
          <a:xfrm>
            <a:off x="5292720" y="471600"/>
            <a:ext cx="2203560" cy="322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5900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自我评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1260360" y="177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是一个乐观、积极向上、开朗、孝敬父母、尊敬长辈、友待他人的一个女生。我勇于挑战自己，且追求完美。乐于助人是我的专长。我是朋友们眼中的乖乖女，父母眼中的孝顺女儿。我脾气温和，不爱计较小事，处理事情不急不慢，妥善处理。我对待工作认真负责，一丝不苟；我对于学习努力认真，为每一门课都取得好成绩，而奋斗；为未来美好生活而拼搏。我是个对自己很严格的人，我要争取的东西就会拼到底，不会半路放弃，我坚信要么坚持要么死的信念，所以朋友们度说我很疯狂。我不轻言放弃，遇到困难，坚持到底，因为我相信不放手就有结果，一旦放手，机会就此错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就是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A9FB-3902-4D4B-A44A-B8373FE58EB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1:29:00Z</dcterms:created>
  <dc:creator>admin</dc:creator>
  <dc:description/>
  <dc:language>en-US</dc:language>
  <cp:lastModifiedBy>admin</cp:lastModifiedBy>
  <dcterms:modified xsi:type="dcterms:W3CDTF">2014-10-20T13:34:39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