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whoosh.wav" ContentType="audio/x-wav"/>
  <Override PartName="/ppt/media/image5.png" ContentType="image/png"/>
  <Override PartName="/ppt/media/image9.png" ContentType="image/png"/>
  <Override PartName="/ppt/media/type.wav" ContentType="audio/x-wav"/>
  <Override PartName="/ppt/media/wind.wav" ContentType="audio/x-wav"/>
  <Override PartName="/ppt/media/chimes.wav" ContentType="audio/x-wav"/>
  <Override PartName="/ppt/media/image16.png" ContentType="image/pn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11.jpeg" ContentType="image/jpeg"/>
  <Override PartName="/ppt/media/applause.wav" ContentType="audio/x-wav"/>
  <Override PartName="/ppt/media/drumroll.wav" ContentType="audio/x-wav"/>
  <Override PartName="/ppt/media/image1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EDC1-4849-4FCF-9561-CCB177F245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CF7E-B361-4963-994E-576D7F6B0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334-8479-4294-9BFD-29E6B27D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EE3-7C45-405F-8858-B7948619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C32-576F-4751-B3F0-E09942F8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816-EA9D-4DDD-A1EA-A6FF15E6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C201-7644-423F-88EA-9AE143D6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CB5A-3F1A-4232-9570-BC156094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0FDD-70E3-45BA-8250-69CD5DD4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2EC2-410D-4591-8069-826B7794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8831-D97E-40E3-951D-06F94591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9569-99E8-4F04-B6F6-6752213A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C9ED-B391-4FA4-B9F1-EC659C7A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D89-46D4-4369-99F3-3C847D27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BFCB-AB47-464A-8161-3D19CBF6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BED0-61C9-4317-BC25-7B04929D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A5B4-F0A2-48F5-BED9-630D7DE0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ADA9-DC1E-4B55-9180-E4A0F8CD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415F-B261-4AA2-AFA0-01F90C01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A7507-4631-40B2-9C21-F8C2BEE4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A44A-FE0D-46B2-BA0A-2E65B2C3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42439-84BA-48DD-BB76-6CA38614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7E42D-8122-48AF-B4EF-80B94B5C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D7A8D-AB5B-48F0-AEE0-514DAF61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49A-AB3D-430C-B00F-808764A1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2DAD-9525-4AD9-98FE-881E55F5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6EF1B-608C-491E-9D12-3EDDD2A1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C666-AC53-452F-92D4-A6779A69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B8AF-08C9-4F91-BB4F-793D38BB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2C02-B595-48EB-A106-3A75E850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7D39A-EF93-43E0-A60F-440280D0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6A436-4AC4-4AD1-8F5A-B8B78B5B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A40A6-6880-44D6-8D79-95587E23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6D821-240C-4566-B9F7-3FACC1CF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1FBCF-438B-4807-85CF-0FF31F6A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2C6-F3B2-49DA-9B25-EAA8273D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4E3A4-ADBD-445A-A8BD-8AD18F52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F9151-FAC4-49C1-BD8F-CBADB183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17B64-E118-4056-A3FF-34021481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78E0D-DCBC-4AD8-9463-9568B87B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3EB29-C58A-488B-BFEF-9B95F214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5FB1B-8071-4DFF-B062-EBFA5879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272DD-749F-419C-BAC8-E49D2D23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939F4-95F6-43EE-90A8-19F71A26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3C02-97A1-4F10-BC64-C7904B3F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868-BEC2-4EAB-9E3F-7D2ED534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8ED-526C-4489-A2EF-0B0F3349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F03-25E4-4F0A-8C0F-01188D6C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588-E462-4552-A554-0EAD0759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8E6-1D2E-435E-BFE3-77556682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1907-3783-49C9-B9FC-7260EFAA4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9A0C-B86B-4F8C-A07E-B96E6D45D5BF}" type="slidenum"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A3FA-AE84-4735-A63A-DB0EE7031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0E91-AF51-48E7-BF11-61532239AAC8}" type="slidenum"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6.png"/><Relationship Id="rId5" Type="http://schemas.openxmlformats.org/officeDocument/2006/relationships/audio" Target="file:///tmp/home/.config/libreoffice/4/user/gallery/drumroll.wav" TargetMode="External"/><Relationship Id="rId6" Type="http://schemas.microsoft.com/office/2007/relationships/media" Target="file:///tmp/home/.config/libreoffice/4/user/gallery/drumroll.wav" TargetMode="External"/><Relationship Id="rId7" Type="http://schemas.openxmlformats.org/officeDocument/2006/relationships/image" Target="../media/image16.png"/><Relationship Id="rId8" Type="http://schemas.openxmlformats.org/officeDocument/2006/relationships/audio" Target="file:///usr/lib/libreoffice/share/gallery/sounds/applause.wav" TargetMode="External"/><Relationship Id="rId9" Type="http://schemas.microsoft.com/office/2007/relationships/media" Target="file:///usr/lib/libreoffice/share/gallery/sounds/applause.wav" TargetMode="External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3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00"/>
                </a:solidFill>
                <a:latin typeface="Arial"/>
              </a:rPr>
              <a:t>数学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7816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音乐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819520" y="2971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8006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480060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80089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41404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57522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563400"/>
            <a:ext cx="426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下课铃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22096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听到下课铃响时，若老师还未宣布下课，学生应该安心的听讲，不要忙着收拾书本，或把桌子弄得乒乓作响，这是对老师的不尊重。下课时，全体同学仍需起立，与老师互道：“再见”。待老师离开教室后，学生方可离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" descr=""/>
          <p:cNvPicPr/>
          <p:nvPr/>
        </p:nvPicPr>
        <p:blipFill>
          <a:blip r:embed="rId1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52280" y="228600"/>
            <a:ext cx="673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课前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2743200"/>
            <a:ext cx="52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本在上面，本子在下面，叠在一起，坐在左边的小朋友放在左角，右边的放在右角，铅笔盒桌面正前方。在放铅笔盒前，要检查一下，铅笔有没有刨好，要不要在刨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0960" y="157320"/>
            <a:ext cx="519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侯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05120"/>
            <a:ext cx="697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课铃响了，就是告诉你：上课啦！快进教室！同学们都立即停止一切活动，依次走进教室，赶快坐在自己的位子上，看看学习用品有没有放整齐，静下心来，放好小手，等老师来上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835280" y="76320"/>
            <a:ext cx="5762520" cy="133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专心听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58920" y="1700280"/>
            <a:ext cx="7200720" cy="482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小眼睛，看老师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小耳朵，仔细听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小嘴巴，不说话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小小手，放桌上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请安静，我安静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棒棒棒，我真棒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cover dir="r"/>
    <p:sndAc>
      <p:stSnd>
        <p:snd r:embed="rId1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4360" y="1484280"/>
            <a:ext cx="7920000" cy="365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新学期、新开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欢迎各位小朋友来到这个大家庭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p:transition spd="slow">
    <p:zoom dir="out"/>
    <p:sndAc>
      <p:stSnd>
        <p:snd r:embed="rId2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339a"/>
                </a:solidFill>
                <a:latin typeface="Franklin Gothic Medium"/>
              </a:rPr>
              <a:t>教师的自我介绍</a:t>
            </a:r>
            <a:endParaRPr b="1" lang="en-US" sz="88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294920" y="3123720"/>
            <a:ext cx="72010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11401"/>
                </a:solidFill>
                <a:latin typeface="Franklin Gothic Book"/>
              </a:rPr>
              <a:t>数学老师：</a:t>
            </a:r>
            <a:endParaRPr b="0" lang="en-US" sz="44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365760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990720"/>
            <a:ext cx="8686800" cy="4115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我叫         ，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最喜欢   </a:t>
            </a: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跳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           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最不喜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不守课堂纪律的学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谢谢大家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590920" y="1830240"/>
            <a:ext cx="4495680" cy="7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3048120"/>
            <a:ext cx="3352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4343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3" descr=""/>
          <p:cNvPicPr/>
          <p:nvPr/>
        </p:nvPicPr>
        <p:blipFill>
          <a:blip r:embed="rId1"/>
          <a:stretch/>
        </p:blipFill>
        <p:spPr>
          <a:xfrm>
            <a:off x="76320" y="0"/>
            <a:ext cx="9032760" cy="67816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3+4=</a:t>
            </a:r>
            <a:r>
              <a:rPr b="0" lang="zh-CN" sz="8000" spc="-1" strike="noStrike">
                <a:solidFill>
                  <a:srgbClr val="339966"/>
                </a:solidFill>
                <a:latin typeface="Arial"/>
              </a:rPr>
              <a:t>   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5+2=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8-5=      9-3=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5+6=     7+8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11-5=    12-4=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133360" y="182844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3276720"/>
            <a:ext cx="1461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380880"/>
            <a:ext cx="98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00680" y="1879560"/>
            <a:ext cx="145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342900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4800600"/>
            <a:ext cx="202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4800600"/>
            <a:ext cx="2525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2" name="typ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9T08:08:55Z</dcterms:created>
  <dc:creator/>
  <dc:description/>
  <cp:keywords/>
  <dc:language>en-US</dc:language>
  <cp:lastModifiedBy>Sky123.Org</cp:lastModifiedBy>
  <dcterms:modified xsi:type="dcterms:W3CDTF">2015-08-20T01:18:42Z</dcterms:modified>
  <cp:revision>5</cp:revision>
  <dc:subject/>
  <dc:title>数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Version">
    <vt:r8>1</vt:r8>
  </property>
</Properties>
</file>