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gif" ContentType="image/gif"/>
  <Override PartName="/ppt/media/arrow.wav" ContentType="audio/x-wav"/>
  <Override PartName="/ppt/media/image20.png" ContentType="image/png"/>
  <Override PartName="/ppt/media/image18.png" ContentType="image/png"/>
  <Override PartName="/ppt/media/type.wav" ContentType="audio/x-wav"/>
  <Override PartName="/ppt/media/image22.png" ContentType="image/png"/>
  <Override PartName="/ppt/media/image24.jpeg" ContentType="image/jpeg"/>
  <Override PartName="/ppt/media/image8.jpeg" ContentType="image/jpeg"/>
  <Override PartName="/ppt/media/image29.jpeg" ContentType="image/jpeg"/>
  <Override PartName="/ppt/media/image11.gif" ContentType="image/gif"/>
  <Override PartName="/ppt/media/image7.png" ContentType="image/png"/>
  <Override PartName="/ppt/media/image34.jpeg" ContentType="image/jpeg"/>
  <Override PartName="/ppt/media/image12.png" ContentType="image/png"/>
  <Override PartName="/ppt/media/image13.png" ContentType="image/png"/>
  <Override PartName="/ppt/media/image14.jpeg" ContentType="image/jpeg"/>
  <Override PartName="/ppt/media/image28.png" ContentType="image/png"/>
  <Override PartName="/ppt/media/image5.gif" ContentType="image/gif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4.png" ContentType="image/png"/>
  <Override PartName="/ppt/media/laser.wav" ContentType="audio/x-wav"/>
  <Override PartName="/ppt/media/image9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6.gif" ContentType="image/gif"/>
  <Override PartName="/ppt/media/image19.png" ContentType="image/png"/>
  <Override PartName="/ppt/media/image27.jpeg" ContentType="image/jpeg"/>
  <Override PartName="/ppt/media/image17.gif" ContentType="image/gif"/>
  <Override PartName="/ppt/media/image21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8918-841A-43D0-A0AB-1564256B0D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5415-4E17-4E30-9EED-AB51560D5A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0D1-4140-41D1-85F9-1EA6965F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CC6-64D6-4470-8D6E-009532D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F4A-C406-4AD3-B6E5-A3CE3969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CC3-1E5F-4748-AAC7-99DAFFF3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A9F-10BA-4FC5-9487-5D9790AB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41C-18CC-4E87-B6BE-BA52CA69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1FD-6745-4C63-B551-93FAAE5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32F-4C85-463A-9C07-665C9D71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B95-E1AC-4689-B86E-736A059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793-105C-4052-A436-BEA934FD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414-3FA0-4067-A619-A0D3CF94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029-8285-40A6-91AF-06784323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E953-17CA-49A0-8BDA-C675DC0C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" Target="slide4.xml"/><Relationship Id="rId8" Type="http://schemas.openxmlformats.org/officeDocument/2006/relationships/image" Target="../media/image9.gif"/><Relationship Id="rId9" Type="http://schemas.openxmlformats.org/officeDocument/2006/relationships/image" Target="../media/image6.gif"/><Relationship Id="rId10" Type="http://schemas.openxmlformats.org/officeDocument/2006/relationships/slide" Target="slide5.xml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slide" Target="slide2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" Target="slide2.xml"/><Relationship Id="rId6" Type="http://schemas.openxmlformats.org/officeDocument/2006/relationships/image" Target="../media/image12.png"/><Relationship Id="rId7" Type="http://schemas.openxmlformats.org/officeDocument/2006/relationships/slide" Target="slide2.xml"/><Relationship Id="rId8" Type="http://schemas.openxmlformats.org/officeDocument/2006/relationships/image" Target="../media/image11.gif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slide6.xml"/><Relationship Id="rId5" Type="http://schemas.openxmlformats.org/officeDocument/2006/relationships/image" Target="../media/image10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" Target="slide5.xml"/><Relationship Id="rId4" Type="http://schemas.openxmlformats.org/officeDocument/2006/relationships/slide" Target="slide19.xml"/><Relationship Id="rId5" Type="http://schemas.openxmlformats.org/officeDocument/2006/relationships/image" Target="../media/image9.gif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slide" Target="slide7.xm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0.xml"/><Relationship Id="rId3" Type="http://schemas.openxmlformats.org/officeDocument/2006/relationships/image" Target="../media/image9.gif"/><Relationship Id="rId4" Type="http://schemas.openxmlformats.org/officeDocument/2006/relationships/image" Target="../media/image17.gif"/><Relationship Id="rId5" Type="http://schemas.openxmlformats.org/officeDocument/2006/relationships/slide" Target="slide8.xml"/><Relationship Id="rId6" Type="http://schemas.openxmlformats.org/officeDocument/2006/relationships/image" Target="../media/image10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" Target="slide21.xml"/><Relationship Id="rId4" Type="http://schemas.openxmlformats.org/officeDocument/2006/relationships/image" Target="../media/image9.gif"/><Relationship Id="rId5" Type="http://schemas.openxmlformats.org/officeDocument/2006/relationships/slide" Target="slide9.xml"/><Relationship Id="rId6" Type="http://schemas.openxmlformats.org/officeDocument/2006/relationships/image" Target="../media/image10.png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9.png"/><Relationship Id="rId4" Type="http://schemas.openxmlformats.org/officeDocument/2006/relationships/image" Target="../media/image10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704181012239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14400" y="37339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23623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ordArt 5" descr=""/>
          <p:cNvPicPr/>
          <p:nvPr/>
        </p:nvPicPr>
        <p:blipFill>
          <a:blip r:embed="rId2"/>
          <a:stretch/>
        </p:blipFill>
        <p:spPr>
          <a:xfrm>
            <a:off x="-347760" y="2152800"/>
            <a:ext cx="8680680" cy="5570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495680" y="563868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mg219851483"/>
          <p:cNvPicPr/>
          <p:nvPr/>
        </p:nvPicPr>
        <p:blipFill>
          <a:blip r:embed="rId3"/>
          <a:stretch/>
        </p:blipFill>
        <p:spPr>
          <a:xfrm>
            <a:off x="1523880" y="4572000"/>
            <a:ext cx="2401920" cy="237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mg219851483"/>
          <p:cNvPicPr/>
          <p:nvPr/>
        </p:nvPicPr>
        <p:blipFill>
          <a:blip r:embed="rId4"/>
          <a:stretch/>
        </p:blipFill>
        <p:spPr>
          <a:xfrm>
            <a:off x="3456000" y="4267080"/>
            <a:ext cx="2259000" cy="237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mg219851483"/>
          <p:cNvPicPr/>
          <p:nvPr/>
        </p:nvPicPr>
        <p:blipFill>
          <a:blip r:embed="rId5"/>
          <a:stretch/>
        </p:blipFill>
        <p:spPr>
          <a:xfrm>
            <a:off x="2514600" y="4525920"/>
            <a:ext cx="2286000" cy="237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g219851483"/>
          <p:cNvPicPr/>
          <p:nvPr/>
        </p:nvPicPr>
        <p:blipFill>
          <a:blip r:embed="rId6"/>
          <a:stretch/>
        </p:blipFill>
        <p:spPr>
          <a:xfrm>
            <a:off x="4038480" y="4678200"/>
            <a:ext cx="2286000" cy="23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mg219851483"/>
          <p:cNvPicPr/>
          <p:nvPr/>
        </p:nvPicPr>
        <p:blipFill>
          <a:blip r:embed="rId7"/>
          <a:stretch/>
        </p:blipFill>
        <p:spPr>
          <a:xfrm>
            <a:off x="4648320" y="4637160"/>
            <a:ext cx="2514600" cy="237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18"/>
          <p:cNvPicPr/>
          <p:nvPr/>
        </p:nvPicPr>
        <p:blipFill>
          <a:blip r:embed="rId8"/>
          <a:stretch/>
        </p:blipFill>
        <p:spPr>
          <a:xfrm>
            <a:off x="1523880" y="4100400"/>
            <a:ext cx="144000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018"/>
          <p:cNvPicPr/>
          <p:nvPr/>
        </p:nvPicPr>
        <p:blipFill>
          <a:blip r:embed="rId9"/>
          <a:stretch/>
        </p:blipFill>
        <p:spPr>
          <a:xfrm>
            <a:off x="2725560" y="3781440"/>
            <a:ext cx="144000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018"/>
          <p:cNvPicPr/>
          <p:nvPr/>
        </p:nvPicPr>
        <p:blipFill>
          <a:blip r:embed="rId10"/>
          <a:stretch/>
        </p:blipFill>
        <p:spPr>
          <a:xfrm>
            <a:off x="4675320" y="4202280"/>
            <a:ext cx="1825560" cy="151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018r"/>
          <p:cNvPicPr/>
          <p:nvPr/>
        </p:nvPicPr>
        <p:blipFill>
          <a:blip r:embed="rId11"/>
          <a:stretch/>
        </p:blipFill>
        <p:spPr>
          <a:xfrm flipH="1">
            <a:off x="7225920" y="534528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" descr=""/>
          <p:cNvPicPr/>
          <p:nvPr/>
        </p:nvPicPr>
        <p:blipFill>
          <a:blip r:embed="rId12"/>
          <a:stretch/>
        </p:blipFill>
        <p:spPr>
          <a:xfrm>
            <a:off x="512640" y="3621240"/>
            <a:ext cx="6802560" cy="21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2" descr=""/>
          <p:cNvPicPr/>
          <p:nvPr/>
        </p:nvPicPr>
        <p:blipFill>
          <a:blip r:embed="rId2"/>
          <a:stretch/>
        </p:blipFill>
        <p:spPr>
          <a:xfrm>
            <a:off x="66600" y="0"/>
            <a:ext cx="7712280" cy="11462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多处运用了前后照应的手法，使文章层次分明。你可以找出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第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“苏珊？你能告诉我‘修理’这个词怎么拼写吗”与第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“‘修理’这个词怎么拼写”照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第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“她沉默了一会儿，说：‘我希望你的手指已经好了’”与第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“我对小精灵说：‘我一个人在家，我的手指被锤子砸伤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’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照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最后一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汤米，我要到另一个世界去歌唱”与第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“你知道吗，这只可爱的小鸟，它要到另一个世界去歌唱”照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kfhj"/>
          <p:cNvPicPr/>
          <p:nvPr/>
        </p:nvPicPr>
        <p:blipFill>
          <a:blip r:embed="rId2"/>
          <a:srcRect l="0" t="0" r="0" b="15601"/>
          <a:stretch/>
        </p:blipFill>
        <p:spPr>
          <a:xfrm>
            <a:off x="5791320" y="4762440"/>
            <a:ext cx="3352680" cy="209556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380880" y="3049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说一说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71680" y="2438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用自己的语言说说你心中的苏珊吧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76320" y="0"/>
            <a:ext cx="3429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议一议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55680" y="16048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　　在这个大千世界中，值得我们用心灵去倾听的有些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92040" y="45720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人间真情冷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c"/>
          <p:cNvPicPr/>
          <p:nvPr/>
        </p:nvPicPr>
        <p:blipFill>
          <a:blip r:embed="rId2"/>
          <a:srcRect l="33976" t="0" r="0" b="0"/>
          <a:stretch/>
        </p:blipFill>
        <p:spPr>
          <a:xfrm>
            <a:off x="5410080" y="3581280"/>
            <a:ext cx="3834000" cy="32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468360" y="1523880"/>
            <a:ext cx="8142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如果你是汤米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你会对去世的苏珊说些什么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请写几句话感激她对你的安慰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 Box 6" descr=""/>
          <p:cNvPicPr/>
          <p:nvPr/>
        </p:nvPicPr>
        <p:blipFill>
          <a:blip r:embed="rId2"/>
          <a:stretch/>
        </p:blipFill>
        <p:spPr>
          <a:xfrm>
            <a:off x="-6480" y="115920"/>
            <a:ext cx="5730840" cy="1255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04d"/>
          <p:cNvPicPr/>
          <p:nvPr/>
        </p:nvPicPr>
        <p:blipFill>
          <a:blip r:embed="rId3"/>
          <a:stretch/>
        </p:blipFill>
        <p:spPr>
          <a:xfrm>
            <a:off x="6324480" y="-46080"/>
            <a:ext cx="251964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200611240446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 rot="5400000">
            <a:off x="304560" y="1676160"/>
            <a:ext cx="3809880" cy="2743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_248_11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34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61976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再读课文，边读边想：</a:t>
            </a:r>
            <a:br>
              <a:rPr sz="48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课文中的哪些内容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，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你的语句划出来，与大家交流。（特别注意那些描写人物言行、心理的语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967040" y="13176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做为第二份课件，内容全部被隐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71640" y="1125360"/>
            <a:ext cx="74880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</a:rPr>
              <a:t>讨论题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99"/>
                </a:solidFill>
                <a:latin typeface="Tahoma"/>
              </a:rPr>
              <a:t>苏珊给了小时候的我有哪些帮助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4" descr="1129266218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14400" y="213372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想想这篇课文主要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中写了苏珊和“我”之间发生的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感受苏珊的美好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83720" y="533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kfhj"/>
          <p:cNvPicPr/>
          <p:nvPr/>
        </p:nvPicPr>
        <p:blipFill>
          <a:blip r:embed="rId2"/>
          <a:stretch/>
        </p:blipFill>
        <p:spPr>
          <a:xfrm>
            <a:off x="6705720" y="152280"/>
            <a:ext cx="243828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3" descr="1179121448_b"/>
          <p:cNvPicPr/>
          <p:nvPr/>
        </p:nvPicPr>
        <p:blipFill>
          <a:blip r:embed="rId1">
            <a:lum bright="24000"/>
          </a:blip>
          <a:srcRect l="2512" t="0" r="25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533520" y="1295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、想想这篇课文主要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838080" y="2438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课文真实地记录了“我”与问讯处工作人员苏珊交往的过程，赞美了苏珊用心灵倾听孩子的心声、用爱心帮助孩子的善良品质，表达了“我”对苏珊的深切怀念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banner_service"/>
          <p:cNvPicPr/>
          <p:nvPr/>
        </p:nvPicPr>
        <p:blipFill>
          <a:blip r:embed="rId2"/>
          <a:srcRect l="53134" t="10810" r="0" b="0"/>
          <a:stretch/>
        </p:blipFill>
        <p:spPr>
          <a:xfrm>
            <a:off x="6791400" y="4971960"/>
            <a:ext cx="235260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725480" y="189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我找到了听我说话的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不由得放声大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87520" y="1600200"/>
            <a:ext cx="8480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黑体"/>
                <a:ea typeface="黑体"/>
              </a:rPr>
              <a:t>    “</a:t>
            </a:r>
            <a:r>
              <a:rPr b="1" lang="zh-CN" sz="3800" spc="-1" strike="noStrike">
                <a:solidFill>
                  <a:srgbClr val="993300"/>
                </a:solidFill>
                <a:latin typeface="黑体"/>
                <a:ea typeface="黑体"/>
              </a:rPr>
              <a:t>我”的手指被锤子砸伤了，可是“家里没有人，哭也不会有谁听见”。“我”只好把希望寄托在那个叫“问讯处”的小精灵身上。听到苏珊温柔的嗓音，“我”孤独的心灵一下子得到了抚慰，我终于放声大哭。这既是伤痛带来的痛苦的哭，更是在孤独中找到了希望的幸福的哭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8"/>
          <p:cNvGrpSpPr/>
          <p:nvPr/>
        </p:nvGrpSpPr>
        <p:grpSpPr>
          <a:xfrm>
            <a:off x="7115040" y="5715000"/>
            <a:ext cx="1952640" cy="1171440"/>
            <a:chOff x="7115040" y="5715000"/>
            <a:chExt cx="1952640" cy="1171440"/>
          </a:xfrm>
        </p:grpSpPr>
        <p:pic>
          <p:nvPicPr>
            <p:cNvPr id="191" name="图片 9" descr=""/>
            <p:cNvPicPr/>
            <p:nvPr/>
          </p:nvPicPr>
          <p:blipFill>
            <a:blip r:embed="rId2"/>
            <a:stretch/>
          </p:blipFill>
          <p:spPr>
            <a:xfrm>
              <a:off x="7262640" y="5715000"/>
              <a:ext cx="1805040" cy="112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矩形 10" descr=""/>
            <p:cNvPicPr/>
            <p:nvPr/>
          </p:nvPicPr>
          <p:blipFill>
            <a:blip r:embed="rId3"/>
            <a:stretch/>
          </p:blipFill>
          <p:spPr>
            <a:xfrm>
              <a:off x="7115040" y="5735160"/>
              <a:ext cx="1887840" cy="115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Picture 7" descr="13-t3"/>
          <p:cNvPicPr/>
          <p:nvPr/>
        </p:nvPicPr>
        <p:blipFill>
          <a:blip r:embed="rId4"/>
          <a:srcRect l="49373" t="20826" r="20303" b="29283"/>
          <a:stretch/>
        </p:blipFill>
        <p:spPr>
          <a:xfrm>
            <a:off x="7850160" y="0"/>
            <a:ext cx="1293840" cy="1657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2466778939,2909028368&amp;fm=0&amp;gp=2"/>
          <p:cNvPicPr/>
          <p:nvPr/>
        </p:nvPicPr>
        <p:blipFill>
          <a:blip r:embed="rId5"/>
          <a:srcRect l="14765" t="8887" r="32318" b="0"/>
          <a:stretch/>
        </p:blipFill>
        <p:spPr>
          <a:xfrm>
            <a:off x="30240" y="0"/>
            <a:ext cx="126504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1160" y="1295280"/>
            <a:ext cx="913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１、放声自由朗读课文，注意把句子读通顺、读正确，读得不畅的地方再多读一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２、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⑴课文主要讲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［边读边框出主要人物以及关键词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苏珊电话交往，赞美她用心倾听，用爱心帮助孩子的善良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⑵苏珊给了小时候的“我”哪些帮助？［边读边在文中标注出来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396720" y="-152280"/>
            <a:ext cx="562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自读要求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6" name="TextBox 1">
            <a:hlinkClick r:id="rId2" action="ppaction://hlinksldjump"/>
          </p:cNvPr>
          <p:cNvSpPr/>
          <p:nvPr/>
        </p:nvSpPr>
        <p:spPr>
          <a:xfrm>
            <a:off x="1066680" y="5345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>
            <a:hlinkClick r:id="rId3" action="ppaction://hlinksldjump"/>
          </p:cNvPr>
          <p:cNvSpPr/>
          <p:nvPr/>
        </p:nvSpPr>
        <p:spPr>
          <a:xfrm>
            <a:off x="74520" y="1376280"/>
            <a:ext cx="89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6720" y="1295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"/>
          <p:cNvPicPr/>
          <p:nvPr/>
        </p:nvPicPr>
        <p:blipFill>
          <a:blip r:embed="rId6"/>
          <a:stretch/>
        </p:blipFill>
        <p:spPr>
          <a:xfrm>
            <a:off x="351000" y="28954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2960" y="51735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018r"/>
          <p:cNvPicPr/>
          <p:nvPr/>
        </p:nvPicPr>
        <p:blipFill>
          <a:blip r:embed="rId9"/>
          <a:stretch/>
        </p:blipFill>
        <p:spPr>
          <a:xfrm flipH="1">
            <a:off x="6934320" y="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矩形 14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070840" y="4664160"/>
            <a:ext cx="1390680" cy="26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1219320" y="376200"/>
            <a:ext cx="823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②小精灵总是耐心地回答我的问题，一遍遍地向我解释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930240" y="192420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苏珊面对“我”一个个简单而幼稚的问题，就像一位母亲那样耐心为我解释。在一次次心与心的交流中，两个人的心走到了一起，结成了母子般的情谊。这句话形象地写出了苏珊的爱心。语言虽然朴实，读来却令人十分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2" descr="kefu"/>
          <p:cNvPicPr/>
          <p:nvPr/>
        </p:nvPicPr>
        <p:blipFill>
          <a:blip r:embed="rId2"/>
          <a:stretch/>
        </p:blipFill>
        <p:spPr>
          <a:xfrm>
            <a:off x="0" y="0"/>
            <a:ext cx="1971720" cy="1781280"/>
          </a:xfrm>
          <a:prstGeom prst="rect">
            <a:avLst/>
          </a:prstGeom>
          <a:ln w="0">
            <a:noFill/>
          </a:ln>
        </p:spPr>
      </p:pic>
      <p:grpSp>
        <p:nvGrpSpPr>
          <p:cNvPr id="199" name="组合 8"/>
          <p:cNvGrpSpPr/>
          <p:nvPr/>
        </p:nvGrpSpPr>
        <p:grpSpPr>
          <a:xfrm>
            <a:off x="7115040" y="5715000"/>
            <a:ext cx="1952640" cy="1171440"/>
            <a:chOff x="7115040" y="5715000"/>
            <a:chExt cx="1952640" cy="1171440"/>
          </a:xfrm>
        </p:grpSpPr>
        <p:pic>
          <p:nvPicPr>
            <p:cNvPr id="200" name="图片 9" descr=""/>
            <p:cNvPicPr/>
            <p:nvPr/>
          </p:nvPicPr>
          <p:blipFill>
            <a:blip r:embed="rId3"/>
            <a:stretch/>
          </p:blipFill>
          <p:spPr>
            <a:xfrm>
              <a:off x="7262640" y="5715000"/>
              <a:ext cx="1805040" cy="112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矩形 10" descr=""/>
            <p:cNvPicPr/>
            <p:nvPr/>
          </p:nvPicPr>
          <p:blipFill>
            <a:blip r:embed="rId4"/>
            <a:stretch/>
          </p:blipFill>
          <p:spPr>
            <a:xfrm>
              <a:off x="7115040" y="5735160"/>
              <a:ext cx="1887840" cy="1151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181160" y="76320"/>
            <a:ext cx="83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③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知道吗，这只可爱的小鸟，它要到另一个世界去歌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14400" y="1523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心爱的金丝雀突然死了，“我”不仅痛苦，同时对死亡也充满了恐惧。苏珊说小鸟到另外一个世界去唱歌，这是多么美好的事啊！听了这样的话，笼罩在孩子心头的阴影立刻消散了，快乐又回到了孩子的身边。苏珊的善良、乐观由此可见一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kefu"/>
          <p:cNvPicPr/>
          <p:nvPr/>
        </p:nvPicPr>
        <p:blipFill>
          <a:blip r:embed="rId2"/>
          <a:stretch/>
        </p:blipFill>
        <p:spPr>
          <a:xfrm>
            <a:off x="0" y="0"/>
            <a:ext cx="1971720" cy="1781280"/>
          </a:xfrm>
          <a:prstGeom prst="rect">
            <a:avLst/>
          </a:prstGeom>
          <a:ln w="0">
            <a:noFill/>
          </a:ln>
        </p:spPr>
      </p:pic>
      <p:grpSp>
        <p:nvGrpSpPr>
          <p:cNvPr id="206" name="组合 11"/>
          <p:cNvGrpSpPr/>
          <p:nvPr/>
        </p:nvGrpSpPr>
        <p:grpSpPr>
          <a:xfrm>
            <a:off x="7115040" y="5715000"/>
            <a:ext cx="1952640" cy="1171440"/>
            <a:chOff x="7115040" y="5715000"/>
            <a:chExt cx="1952640" cy="1171440"/>
          </a:xfrm>
        </p:grpSpPr>
        <p:pic>
          <p:nvPicPr>
            <p:cNvPr id="207" name="图片 12" descr=""/>
            <p:cNvPicPr/>
            <p:nvPr/>
          </p:nvPicPr>
          <p:blipFill>
            <a:blip r:embed="rId3"/>
            <a:stretch/>
          </p:blipFill>
          <p:spPr>
            <a:xfrm>
              <a:off x="7262640" y="5715000"/>
              <a:ext cx="1805040" cy="112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矩形 13" descr=""/>
            <p:cNvPicPr/>
            <p:nvPr/>
          </p:nvPicPr>
          <p:blipFill>
            <a:blip r:embed="rId4"/>
            <a:stretch/>
          </p:blipFill>
          <p:spPr>
            <a:xfrm>
              <a:off x="7115040" y="5735160"/>
              <a:ext cx="1887840" cy="115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4" descr="yuekejunjinsique_s"/>
          <p:cNvPicPr/>
          <p:nvPr/>
        </p:nvPicPr>
        <p:blipFill>
          <a:blip r:embed="rId5"/>
          <a:stretch/>
        </p:blipFill>
        <p:spPr>
          <a:xfrm>
            <a:off x="-457200" y="4343400"/>
            <a:ext cx="2133720" cy="25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600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④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但是我非常想认识苏珊，认识这个从未谋面却如同我第二个母亲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80880" y="195264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黑体"/>
                <a:ea typeface="黑体"/>
              </a:rPr>
              <a:t>  “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谋面”就是见面，用“如同我第二个母亲”来形容苏珊，看得出“我”对苏珊的爱。我们也从没见过面，是电话线把两个人紧紧地连在一起：苏珊就像母亲那样，耐心倾听“我”的心声，困难时给予帮助，痛苦时予以安慰。这就是“我”长大后，离开家乡，知道电话是怎么回事后想见到苏珊的真正原因。这样写，也为下文“我”回到家乡后主动与苏珊联系作铺垫，推动了情节的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7"/>
          <p:cNvGrpSpPr/>
          <p:nvPr/>
        </p:nvGrpSpPr>
        <p:grpSpPr>
          <a:xfrm>
            <a:off x="7267680" y="5838840"/>
            <a:ext cx="1952640" cy="1171440"/>
            <a:chOff x="7267680" y="5838840"/>
            <a:chExt cx="1952640" cy="1171440"/>
          </a:xfrm>
        </p:grpSpPr>
        <p:pic>
          <p:nvPicPr>
            <p:cNvPr id="214" name="图片 8" descr=""/>
            <p:cNvPicPr/>
            <p:nvPr/>
          </p:nvPicPr>
          <p:blipFill>
            <a:blip r:embed="rId2"/>
            <a:stretch/>
          </p:blipFill>
          <p:spPr>
            <a:xfrm>
              <a:off x="7415280" y="5838840"/>
              <a:ext cx="18050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矩形 9" descr=""/>
            <p:cNvPicPr/>
            <p:nvPr/>
          </p:nvPicPr>
          <p:blipFill>
            <a:blip r:embed="rId3"/>
            <a:stretch/>
          </p:blipFill>
          <p:spPr>
            <a:xfrm>
              <a:off x="7267680" y="5857200"/>
              <a:ext cx="1887840" cy="115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8" descr="200692091959919"/>
          <p:cNvPicPr/>
          <p:nvPr/>
        </p:nvPicPr>
        <p:blipFill>
          <a:blip r:embed="rId4"/>
          <a:srcRect l="3580" t="4729" r="54525" b="17259"/>
          <a:stretch/>
        </p:blipFill>
        <p:spPr>
          <a:xfrm>
            <a:off x="0" y="-47520"/>
            <a:ext cx="160020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2" descr="1179121448_b"/>
          <p:cNvPicPr/>
          <p:nvPr/>
        </p:nvPicPr>
        <p:blipFill>
          <a:blip r:embed="rId1">
            <a:lum bright="24000"/>
          </a:blip>
          <a:srcRect l="2512" t="0" r="25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762120" y="228600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当“我”的手指被砸伤时，她从孩子的哭声中，听出了孤单、恐惧与无助，她用悦耳的声音帮助孩子消除恐惧，指导孩子实现自救，赢得了孩子的信任；“我”总是问她很多事情，她总是耐心地回答我的问题，一遍遍地向我解释；当“我”因心爱的金丝雀突然死去伤心时，苏珊宽慰孩子，消除孩子对死亡的恐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5800" y="6858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中写了苏珊和“我”之间发生的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1179121448_b"/>
          <p:cNvPicPr/>
          <p:nvPr/>
        </p:nvPicPr>
        <p:blipFill>
          <a:blip r:embed="rId1">
            <a:lum bright="24000"/>
          </a:blip>
          <a:srcRect l="2512" t="0" r="25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苏珊作为问讯处一名普通的工作人员，尽心尽力做好服务工作。对于文中的孩子，苏珊不仅用心灵倾听，更用心与孩子交流，抚慰孩子幼小的心灵，做孩子健康成长的心灵守护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676520" y="1371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感受苏珊的美好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20061122110672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762120" y="33526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苏珊？你能告诉我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‘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修理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’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这个词怎么拼写吗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她沉默了一会儿，说：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我希望你的手指已经好了。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汤米，我要到另一个世界去歌唱。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85800" y="2286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课文中找出与这些句子相对应的句子。说说这样写有什么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09480" y="2209680"/>
            <a:ext cx="822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着迷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乘机　拿着　砸伤　水槽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密语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召唤　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谋面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立即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苏珊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无所不知　兴高采烈　问讯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304920" y="316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我会读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" y="1828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133720" y="2895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419720" y="1828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7924680" y="1905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7772400" y="2925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457200" y="23623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460440" y="5646600"/>
            <a:ext cx="71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人或事难以舍弃的爱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315200" y="23702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3962520" y="32432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457200" y="56386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彼此见面，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810560" y="335268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514600" y="33876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449280" y="5638680"/>
            <a:ext cx="74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秘密的通信用语，也叫暗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09480" y="317196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428760" y="5638680"/>
            <a:ext cx="12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马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5676840" y="32464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"/>
          <p:cNvGrpSpPr/>
          <p:nvPr/>
        </p:nvGrpSpPr>
        <p:grpSpPr>
          <a:xfrm>
            <a:off x="7191360" y="5686560"/>
            <a:ext cx="1952640" cy="1171440"/>
            <a:chOff x="7191360" y="5686560"/>
            <a:chExt cx="1952640" cy="1171440"/>
          </a:xfrm>
        </p:grpSpPr>
        <p:pic>
          <p:nvPicPr>
            <p:cNvPr id="93" name="图片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341480" y="5686560"/>
              <a:ext cx="180252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矩形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191360" y="5704920"/>
              <a:ext cx="1885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990720" y="44136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“我”的手指被砸伤时，她用悦耳的声音帮助“我”消除恐惧，指导“我”实施自救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914400" y="364176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“我”因心爱的金丝雀突然死去而伤心时，苏珊宽慰“我”，消除了“我”对死亡的恐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990720" y="23464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我在学习上遇到难题时，她耐心地帮我解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1" descr=""/>
          <p:cNvPicPr/>
          <p:nvPr/>
        </p:nvPicPr>
        <p:blipFill>
          <a:blip r:embed="rId2"/>
          <a:stretch/>
        </p:blipFill>
        <p:spPr>
          <a:xfrm>
            <a:off x="345960" y="4302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2" descr=""/>
          <p:cNvPicPr/>
          <p:nvPr/>
        </p:nvPicPr>
        <p:blipFill>
          <a:blip r:embed="rId3"/>
          <a:stretch/>
        </p:blipFill>
        <p:spPr>
          <a:xfrm>
            <a:off x="345960" y="25131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3" descr=""/>
          <p:cNvPicPr/>
          <p:nvPr/>
        </p:nvPicPr>
        <p:blipFill>
          <a:blip r:embed="rId4"/>
          <a:stretch/>
        </p:blipFill>
        <p:spPr>
          <a:xfrm>
            <a:off x="345960" y="38098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02" name="矩形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29360" y="5705640"/>
            <a:ext cx="2041560" cy="120168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15"/>
          <p:cNvGrpSpPr/>
          <p:nvPr/>
        </p:nvGrpSpPr>
        <p:grpSpPr>
          <a:xfrm>
            <a:off x="7191360" y="5686560"/>
            <a:ext cx="1952640" cy="1171440"/>
            <a:chOff x="7191360" y="5686560"/>
            <a:chExt cx="1952640" cy="1171440"/>
          </a:xfrm>
        </p:grpSpPr>
        <p:pic>
          <p:nvPicPr>
            <p:cNvPr id="104" name="图片 1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341480" y="5686560"/>
              <a:ext cx="180252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矩形 1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191360" y="5704920"/>
              <a:ext cx="1885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16"/>
          <p:cNvSpPr/>
          <p:nvPr/>
        </p:nvSpPr>
        <p:spPr>
          <a:xfrm>
            <a:off x="1523880" y="6400800"/>
            <a:ext cx="15264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kfhj"/>
          <p:cNvPicPr/>
          <p:nvPr/>
        </p:nvPicPr>
        <p:blipFill>
          <a:blip r:embed="rId2"/>
          <a:srcRect l="0" t="0" r="0" b="15601"/>
          <a:stretch/>
        </p:blipFill>
        <p:spPr>
          <a:xfrm>
            <a:off x="5486400" y="4762440"/>
            <a:ext cx="335268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85800" y="1581120"/>
            <a:ext cx="79628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故事中的哪些内容感动了你？请默读全文，用“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画出感动你的句子（重点关注描写人物言行、心理的语句），并多读几遍，待会儿和大家一起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0" y="-76320"/>
            <a:ext cx="557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我会读，我会品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111" name="Picture 12" descr="图片2"/>
          <p:cNvPicPr/>
          <p:nvPr/>
        </p:nvPicPr>
        <p:blipFill>
          <a:blip r:embed="rId3"/>
          <a:stretch/>
        </p:blipFill>
        <p:spPr>
          <a:xfrm>
            <a:off x="0" y="5029200"/>
            <a:ext cx="4572000" cy="182088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1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70840" y="4664160"/>
            <a:ext cx="1390680" cy="2651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8r"/>
          <p:cNvPicPr/>
          <p:nvPr/>
        </p:nvPicPr>
        <p:blipFill>
          <a:blip r:embed="rId6"/>
          <a:stretch/>
        </p:blipFill>
        <p:spPr>
          <a:xfrm flipH="1">
            <a:off x="4191120" y="5334120"/>
            <a:ext cx="16761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kfhj"/>
          <p:cNvPicPr/>
          <p:nvPr/>
        </p:nvPicPr>
        <p:blipFill>
          <a:blip r:embed="rId2"/>
          <a:srcRect l="0" t="0" r="0" b="15601"/>
          <a:stretch/>
        </p:blipFill>
        <p:spPr>
          <a:xfrm>
            <a:off x="5791320" y="4762440"/>
            <a:ext cx="3352680" cy="2095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85800" y="1447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找到了听我说话的人，不由得放声大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80880" y="2990880"/>
            <a:ext cx="93726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这哭既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    　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更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    　      　　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哭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>
            <a:hlinkClick r:id="rId3" action="ppaction://hlinksldjump"/>
          </p:cNvPr>
          <p:cNvSpPr/>
          <p:nvPr/>
        </p:nvSpPr>
        <p:spPr>
          <a:xfrm>
            <a:off x="5181480" y="6477120"/>
            <a:ext cx="3812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819520" y="2990880"/>
            <a:ext cx="52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伤痛带来的痛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481040" y="4092480"/>
            <a:ext cx="68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在孤独中找到希望的幸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-11160" y="-152280"/>
            <a:ext cx="557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我会读，我会品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122" name="图片 1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145404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r_too_sad"/>
          <p:cNvPicPr/>
          <p:nvPr/>
        </p:nvPicPr>
        <p:blipFill>
          <a:blip r:embed="rId6"/>
          <a:stretch/>
        </p:blipFill>
        <p:spPr>
          <a:xfrm>
            <a:off x="685800" y="5200560"/>
            <a:ext cx="10666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www6Lucn0007"/>
          <p:cNvPicPr/>
          <p:nvPr/>
        </p:nvPicPr>
        <p:blipFill>
          <a:blip r:embed="rId7"/>
          <a:stretch/>
        </p:blipFill>
        <p:spPr>
          <a:xfrm>
            <a:off x="3290760" y="4962600"/>
            <a:ext cx="1295640" cy="1514520"/>
          </a:xfrm>
          <a:prstGeom prst="rect">
            <a:avLst/>
          </a:prstGeom>
          <a:ln w="0">
            <a:noFill/>
          </a:ln>
        </p:spPr>
      </p:pic>
      <p:cxnSp>
        <p:nvCxnSpPr>
          <p:cNvPr id="125" name="直接箭头连接符 2"/>
          <p:cNvCxnSpPr>
            <a:stCxn id="123" idx="3"/>
          </p:cNvCxnSpPr>
          <p:nvPr/>
        </p:nvCxnSpPr>
        <p:spPr>
          <a:xfrm>
            <a:off x="1752120" y="5810040"/>
            <a:ext cx="1677240" cy="1080"/>
          </a:xfrm>
          <a:prstGeom prst="straightConnector1">
            <a:avLst/>
          </a:prstGeom>
          <a:ln w="85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直接箭头连接符 21"/>
          <p:cNvCxnSpPr/>
          <p:nvPr/>
        </p:nvCxnSpPr>
        <p:spPr>
          <a:xfrm>
            <a:off x="4495320" y="5719320"/>
            <a:ext cx="1600920" cy="1080"/>
          </a:xfrm>
          <a:prstGeom prst="straightConnector1">
            <a:avLst/>
          </a:prstGeom>
          <a:ln w="856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7" name="矩形 7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70840" y="4664160"/>
            <a:ext cx="1390680" cy="26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80880" y="13716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精灵总是耐心地回答我的问题，一遍遍地向我解释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2280" y="2824200"/>
            <a:ext cx="967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怎样回答才叫“耐心”地回答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声音悦耳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生气不着急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厌其烦解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990720" y="41482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觉得苏珊是个怎样的人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471680" y="4865760"/>
            <a:ext cx="69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有耐心、有爱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0" y="-152280"/>
            <a:ext cx="557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我会读，我会品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134" name="图片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1398600"/>
            <a:ext cx="1119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20059180627600"/>
          <p:cNvPicPr/>
          <p:nvPr/>
        </p:nvPicPr>
        <p:blipFill>
          <a:blip r:embed="rId4"/>
          <a:stretch/>
        </p:blipFill>
        <p:spPr>
          <a:xfrm>
            <a:off x="6172200" y="4865760"/>
            <a:ext cx="2438280" cy="2001600"/>
          </a:xfrm>
          <a:prstGeom prst="rect">
            <a:avLst/>
          </a:prstGeom>
          <a:ln w="0">
            <a:noFill/>
          </a:ln>
        </p:spPr>
      </p:pic>
      <p:pic>
        <p:nvPicPr>
          <p:cNvPr id="136" name="矩形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70840" y="4664160"/>
            <a:ext cx="1390680" cy="26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83996E-006 L -0.80833 0.00023 E">
                                      <p:cBhvr>
                                        <p:cTn id="216" dur="10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762120" y="1066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知道吗，这只可爱的小鸟，它要到另一个世界去歌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2378160"/>
            <a:ext cx="977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什么原因让苏珊说这番话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鸟死了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想让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太伤心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安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yuekejunjinsique_s"/>
          <p:cNvPicPr/>
          <p:nvPr/>
        </p:nvPicPr>
        <p:blipFill>
          <a:blip r:embed="rId2"/>
          <a:stretch/>
        </p:blipFill>
        <p:spPr>
          <a:xfrm>
            <a:off x="5407200" y="5570640"/>
            <a:ext cx="2962080" cy="1296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04920" y="3605040"/>
            <a:ext cx="92962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苏珊为什么不直接告诉作者金丝雀死了呢？这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怕让我幼小的心灵再次受到伤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00200" y="557064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善良、乐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0" y="-152280"/>
            <a:ext cx="557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我会读，我会品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144" name="图片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5960" y="1149480"/>
            <a:ext cx="1066680" cy="714240"/>
          </a:xfrm>
          <a:prstGeom prst="rect">
            <a:avLst/>
          </a:prstGeom>
          <a:ln w="0">
            <a:noFill/>
          </a:ln>
        </p:spPr>
      </p:pic>
      <p:pic>
        <p:nvPicPr>
          <p:cNvPr id="145" name="矩形 1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70840" y="4664160"/>
            <a:ext cx="1390680" cy="26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21324_200432223455886571"/>
          <p:cNvPicPr/>
          <p:nvPr/>
        </p:nvPicPr>
        <p:blipFill>
          <a:blip r:embed="rId1"/>
          <a:srcRect l="782" t="5207" r="60938" b="46875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457200" y="1447920"/>
            <a:ext cx="92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是我非常想认识苏珊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识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从未谋面却如同我第二个母亲的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28600" y="278136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但是我非常想认识苏珊。因为＿＿＿＿＿＿＿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_____________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要求：联系上下文进行合理想象，话尽量用文中的语言进行补白。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5181480" y="6477120"/>
            <a:ext cx="3049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209680" y="2286000"/>
            <a:ext cx="11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· 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676520" y="2286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0" y="-152280"/>
            <a:ext cx="557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我会读，我会品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153" name="图片 11" descr=""/>
          <p:cNvPicPr/>
          <p:nvPr/>
        </p:nvPicPr>
        <p:blipFill>
          <a:blip r:embed="rId2"/>
          <a:stretch/>
        </p:blipFill>
        <p:spPr>
          <a:xfrm>
            <a:off x="79200" y="1454040"/>
            <a:ext cx="1105200" cy="714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20060704125600891"/>
          <p:cNvPicPr/>
          <p:nvPr/>
        </p:nvPicPr>
        <p:blipFill>
          <a:blip r:embed="rId3"/>
          <a:srcRect l="11224" t="32314" r="30008" b="0"/>
          <a:stretch/>
        </p:blipFill>
        <p:spPr>
          <a:xfrm>
            <a:off x="6715080" y="3581280"/>
            <a:ext cx="2428920" cy="4284720"/>
          </a:xfrm>
          <a:prstGeom prst="rect">
            <a:avLst/>
          </a:prstGeom>
          <a:ln w="0">
            <a:noFill/>
          </a:ln>
        </p:spPr>
      </p:pic>
      <p:pic>
        <p:nvPicPr>
          <p:cNvPr id="155" name="矩形 13" descr=""/>
          <p:cNvPicPr/>
          <p:nvPr/>
        </p:nvPicPr>
        <p:blipFill>
          <a:blip r:embed="rId4"/>
          <a:stretch/>
        </p:blipFill>
        <p:spPr>
          <a:xfrm>
            <a:off x="8070840" y="4664160"/>
            <a:ext cx="1390680" cy="265104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>
            <a:off x="76320" y="4289400"/>
            <a:ext cx="79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慈母般的她曾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帮助安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xp</cp:lastModifiedBy>
  <dcterms:modified xsi:type="dcterms:W3CDTF">2010-10-12T14:55:04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