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14.png" ContentType="image/pn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2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768-DD44-44A0-B552-C248060A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7F1-9C97-476D-AEAB-28C70C6C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863-7B8D-42A1-8A41-3972CED9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E04-DB1D-4476-9AA3-4010C00D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3CE-1D88-4844-A28B-58E8CF6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E9E-81CB-423A-9A66-F9B6AB87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92B-C7ED-4A80-9F4D-286C8603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20C-97AC-492E-A581-6BD35E53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A63-41A4-42F2-B52E-35E59F8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8A2-7AFE-46C5-AC04-C72B246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65D-AE2E-4A5C-BC40-55B3010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E6C-2AC1-4046-B33D-629FBF41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507B-E9C0-420C-98A7-2A0E7471A3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373392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533520"/>
            <a:ext cx="50292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1523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在马克思墓前的讲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47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主讲：张海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485748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53272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30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066680"/>
            <a:ext cx="8686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巴尔扎克葬词》节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各位先生，面对着这样一种损失，不管我们怎样悲痛，就忍受一下这样的重大打击吧。打击再伤心，再严重，也先接受下来再说吧。在我们这样一个时代里，一个伟人的逝世，不时地使那些疑虑重重受怀疑论折磨的人对宗教产生动摇。这也许是一桩好事，这也许是必要的。上天在让人民面对崇高的奥秘，并对死亡加以思考的时候，知道自己做的是什么；死亡是伟大的平等，也是伟大的自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上天知道自己做的是什么，因为这是最高的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训  。当一个崇高的英灵庄严地走进另一世界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比较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不，那不是未知之乡！我在另一个沉痛的场合已经说过，现在我也永不厌烦地还要再说──这不是黑夜，而是光明！这不是结束，而是开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不是虚无，而是永恒！我说的难道不是真话吗，听我说话的诸位先生？这样的坟墓，就是不朽的明证！面对某些鼎鼎大名的与世长辞的人物，人们更清晰地感到这个睿智的人的神圣使命，他经历人世是为了受苦和净化，大家称他为大丈夫，而且心想，生前凡是天才的人，死后就不可能不化作灵魂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3352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一个人张开他的有目共睹的天才的翅膀，久久飞翔在群众的上空，忽而展开另外的看不见的翅膀，消失在未知之乡的时候，我们的心中只能充满严肃和诚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5400" y="1828800"/>
            <a:ext cx="87152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面对逝者，人们感到悲痛，课文通过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，这句话表达人们对马克思的悼念与敬仰，选文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过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，这句话表达对巴尔扎克的尊敬与悼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课文用的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句式，其语言特点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；选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运用了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修辞手法，其语言特点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343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的第二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2528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双重否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9404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准确严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2056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672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诚挚富于文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0840" y="739800"/>
            <a:ext cx="53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照课文第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段，回答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2205000"/>
            <a:ext cx="8819640" cy="1800720"/>
            <a:chOff x="0" y="2205000"/>
            <a:chExt cx="8819640" cy="1800720"/>
          </a:xfrm>
        </p:grpSpPr>
        <p:sp>
          <p:nvSpPr>
            <p:cNvPr id="162" name=""/>
            <p:cNvSpPr/>
            <p:nvPr/>
          </p:nvSpPr>
          <p:spPr>
            <a:xfrm>
              <a:off x="0" y="2433600"/>
              <a:ext cx="88196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从西伯利亚矿井到加利福尼亚，千百万战友无不对他表示尊敬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爱戴和悼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2560" y="2205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在整个欧洲和美洲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97534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阅读《在马克思墓前的讲话》的第一段，完成下列各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对详细记叙时间理解不恰当的一项是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为这是在葬礼上的讲话，需要向全世界公布逝世的准确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强调这是全世界无产阶级应当永远不忘的时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马克思生命的每一时刻对世界无产阶级都是十分宝贵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明确指出马克思停止工作的最后时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对两个“睡着了”解释不确切的一项是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个“睡着了”都指马克思的逝世，前一个是虚写，后一个是实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个“睡着了”写出发现马克思逝世的过程，前一个是说以为他睡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了，后一个是确认他已经逝世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是讳饰的手法，含蓄表达了作者对马克思的崇敬和哀悼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恩格斯表达感情的方式相当含蓄。他的巨大的悲痛浓缩在“但已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 永远地睡着了”这几个字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知识迁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219320"/>
            <a:ext cx="761760" cy="761760"/>
          </a:xfrm>
          <a:prstGeom prst="irregularSeal2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352680"/>
            <a:ext cx="761760" cy="762120"/>
          </a:xfrm>
          <a:prstGeom prst="irregularSeal2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1371600"/>
            <a:ext cx="6324480" cy="435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一、完成课后第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3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二、校园中有些同学染黄发，戴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饰，穿奇装异服扮“酷”。针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这一现象，以说“时髦”为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谈谈自己的看法，注意语言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准确、严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049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229600" cy="6019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191120" y="45720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前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4191120" y="19810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习新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191120" y="12193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出示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4191120" y="274320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4191120" y="35053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1911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比较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8769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知识迁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56386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066680"/>
            <a:ext cx="1447560" cy="44960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马克思墓前的讲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38640" y="1882800"/>
            <a:ext cx="453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从哪几方面介绍马克思的伟大贡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介绍一下有哪些伟大贡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课文的结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040" y="2860560"/>
            <a:ext cx="40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9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040" y="3089160"/>
            <a:ext cx="56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720" y="354636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前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53080" y="4343400"/>
            <a:ext cx="1170000" cy="10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137160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抓住文章的重点语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其表达作用进而理解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的思想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议论文语言准确严密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议论文语言准确严密的特点，培养同学们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准确严密的语言表达自己思想观点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克思两大发现的划时代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段复杂单句的语法分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05740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447920"/>
            <a:ext cx="914400" cy="9471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819520"/>
            <a:ext cx="914400" cy="9471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914400" cy="9471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666880"/>
            <a:ext cx="670536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4038480"/>
            <a:ext cx="670536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2860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出示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57880" y="1246320"/>
            <a:ext cx="35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引导学生共同完成一些语句的揣摩理解，归纳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摩重点语句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精读课文，揣摩下列语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152280"/>
            <a:ext cx="312408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习新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962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归纳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1143000"/>
            <a:ext cx="6933960" cy="4419360"/>
            <a:chOff x="1066680" y="1143000"/>
            <a:chExt cx="6933960" cy="44193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066680" y="1143000"/>
              <a:ext cx="693396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057040" y="2057400"/>
              <a:ext cx="5181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一段为什么说马克思“停止思想”“安静地睡着了” “永远地睡着了”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05120" y="34290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明确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含蓄地表示马克思的逝世，尤其“停止思想”用得极为准确，因为马克思是一位伟大的思想家，他的逝世也意味着他在理论研究方面的探索与思考的终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143000"/>
            <a:ext cx="6933960" cy="4419360"/>
            <a:chOff x="1066680" y="1143000"/>
            <a:chExt cx="6933960" cy="441936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066680" y="1143000"/>
              <a:ext cx="693396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057040" y="2057400"/>
              <a:ext cx="51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讳饰修辞手法的运用有什么作用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057400" y="35053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明确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达了作者对马克思的哀悼与尊敬 以及不忍再说，而又不 得不说的沉痛心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66680" y="1143000"/>
            <a:ext cx="6933960" cy="4419360"/>
            <a:chOff x="1066680" y="1143000"/>
            <a:chExt cx="6933960" cy="441936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1066680" y="1143000"/>
              <a:ext cx="693396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57040" y="2057400"/>
              <a:ext cx="5181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三段是一个复杂的单句，它的句子主干是什么？冒号后面作为宾语的复指成分可以分为哪几层意思？“正像达尔文……一样”在句子中是什么成分？起什么作用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12193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143000"/>
            <a:ext cx="6858000" cy="24861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子的主干是“马克思发现了发展规律”。复指成分分为三层意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质决定精神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基础决定上层建筑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经济基础解释上层建筑，而不是由上层建筑解释经济基础。“正像达尔文……一样”在句中是“发现”的状语，恩格斯把马克思的伟大发现与达尔文的生物进化论相比，意在突出说明马克思这一发现的重要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219320"/>
            <a:ext cx="67057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引导学生共同完成一些语句的揣摩理解，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纳揣摩重点语句的方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精读课文，揣摩下列语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 归纳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4114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从句子本身去理解，抓主干，理枝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层次；然后联系时代背景、上下文去理解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的深层含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5080" y="93492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精读课文，分组讨论，运用揣摩语言的基本方法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体会课文的语言特点，然后分析下列句子的表达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67560" y="1981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第八段在赞扬马克思的崇高人格所产生的巨大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用了哪些极具感情色彩的词语，有何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0560" y="304812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词语分别表明敌人和战友对马克思的不同态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词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360" y="4114800"/>
            <a:ext cx="41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第二段所写“这个人的逝世，对于欧美战斗的无产阶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历史科学都是不可估量的损失”一句，在全文中有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2480" y="54100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该句将马克思逝世这一事件放在国际工人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社会科学发展的广阔背景中来考察，从理论和实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方面评价马克思的伟大贡献，是全文的总纲。（抓重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52280"/>
            <a:ext cx="312408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6705720"/>
                <a:ext cx="914400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0" y="0"/>
                <a:ext cx="0" cy="685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2280" y="0"/>
                <a:ext cx="0" cy="685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2794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40400" y="1066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他的毕生的真正使命，就是以这种或那种方式参加推翻资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义社会及其所建立的国家制度的事业。“使命”和“事业”的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饰成分各有哪几层？“推翻”一词的支配对象是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1040" y="2362320"/>
            <a:ext cx="50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使命”一词的修饰成分有三层，分别是“他”“毕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正”。“事业”的修饰成分有一层，“推翻资本主义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其所建立的国家制度”。 “推翻” 的支配对象是“资本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义社会及其所建立的国家制度”。（理枝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05480" y="4038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找出第五段的关联词，分析其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5000" y="487692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       也           但是        甚至     而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0" y="6705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2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315200" y="4952880"/>
            <a:ext cx="12794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23623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一句承接上段最后一句话，概括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的内容，也与第二段中的对于历史科学相呼应；后一句开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文，与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“因为马克思首先是一个革命家”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为从实践方面介绍马克思的成就埋下伏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过渡、承接和呼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86720" y="13716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说说第六段前两句在全文中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0" y="6705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279440" cy="1314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32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56800" y="1143000"/>
            <a:ext cx="6991920" cy="3809880"/>
            <a:chOff x="856800" y="1143000"/>
            <a:chExt cx="6991920" cy="3809880"/>
          </a:xfrm>
        </p:grpSpPr>
        <p:sp>
          <p:nvSpPr>
            <p:cNvPr id="135" name=""/>
            <p:cNvSpPr/>
            <p:nvPr/>
          </p:nvSpPr>
          <p:spPr>
            <a:xfrm>
              <a:off x="856800" y="2133360"/>
              <a:ext cx="9118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Times New Roman"/>
                  <a:ea typeface="黑体"/>
                </a:rPr>
                <a:t>揣摩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抓重点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760" y="25146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析句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0384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揣摩理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840" y="1371600"/>
              <a:ext cx="304920" cy="2895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53040" y="1904760"/>
              <a:ext cx="609480" cy="17528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38840" y="17524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抓主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840" y="2590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理枝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840" y="3352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分层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4114800"/>
              <a:ext cx="1981440" cy="380880"/>
            </a:xfrm>
            <a:custGeom>
              <a:avLst/>
              <a:gdLst>
                <a:gd name="textAreaLeft" fmla="*/ 309600 w 1981440"/>
                <a:gd name="textAreaRight" fmla="*/ 1733760 w 1981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2720" y="3657600"/>
              <a:ext cx="533520" cy="12952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6240" y="34290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联系背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19920" y="4648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联系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黑体"/>
              </a:rPr>
              <a:t>议论文语言特点：准确、严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4:09:17Z</dcterms:created>
  <dc:creator>陈泽滨</dc:creator>
  <dc:description/>
  <dc:language>en-US</dc:language>
  <cp:lastModifiedBy>语政英A</cp:lastModifiedBy>
  <dcterms:modified xsi:type="dcterms:W3CDTF">2004-04-20T01:07:33Z</dcterms:modified>
  <cp:revision>26</cp:revision>
  <dc:subject/>
  <dc:title>PowerPoint 演示文稿</dc:title>
</cp:coreProperties>
</file>