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CCE-8088-4DCB-8F14-65AF9755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FD8-3938-422C-BF15-46A6E85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691-6EEE-4ECE-B8E3-434782F9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C0C-A8D8-4D12-A0C9-B63134C4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FEC-5A50-436E-A806-8B0910F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34B-062F-446A-B614-1DE18567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BA0-6759-45DD-B6D8-AA952EA6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1EF-FD25-4C96-9F92-6E8B96B8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90F-DA53-4131-9A13-5F79CB8B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9C2-7B6A-483A-878F-C80B404B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829-6094-4D0B-A31B-9F82A7B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CE2-E2BC-477F-961C-D9E9509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7C63-08D9-4058-B641-458F17F280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A015-08C6-4BB7-9D8F-0F279D13FD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7e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3"/>
          <p:cNvSpPr/>
          <p:nvPr/>
        </p:nvSpPr>
        <p:spPr>
          <a:xfrm>
            <a:off x="4533840" y="5276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锐普学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44" name="椭圆 11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74a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9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15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47" name="椭圆 16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e58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8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50" name="椭圆 19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8d2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7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1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53" name="椭圆 22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b61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1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4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56" name="椭圆 25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15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5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16667E-007 7.40741E-007 L 0.51575 7.40741E-007 E">
                                      <p:cBhvr>
                                        <p:cTn id="31" dur="6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3 7.40741E-007 L 0.38685 7.40741E-007 E">
                                      <p:cBhvr>
                                        <p:cTn id="33" dur="6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195 7.40741E-007 L 0.25781 7.40741E-007 E">
                                      <p:cBhvr>
                                        <p:cTn id="35" dur="6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104 7.40741E-007 L 0.12878 7.40741E-007 E">
                                      <p:cBhvr>
                                        <p:cTn id="37" dur="6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04:00Z</dcterms:created>
  <dc:creator>李彦勋</dc:creator>
  <dc:description/>
  <dc:language>en-US</dc:language>
  <cp:lastModifiedBy>YANGS-PC</cp:lastModifiedBy>
  <dcterms:modified xsi:type="dcterms:W3CDTF">2015-11-12T09:43:5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