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902-25D2-46D7-8220-99BF9800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D080-8DEA-4214-84C9-1113223D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F55A-22CD-4C0C-AB8B-A5E7759E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944-989E-4F5C-A0A0-AC7B45E3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205C-D036-4FB7-BE8B-9E9B1DD8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D9E1-8006-43DA-9139-319DB5DF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A06B-FB9B-40C7-BE35-C0F4EED9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13EC-044B-481C-BB18-580E1F0D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A295-0BB3-4657-8EF4-BD8BA747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1F46-57B0-44A0-9DFC-64EB461E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0F23-D65D-498F-85FA-E6D2DB8C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E64-C83D-4CDB-8F2E-0811A5E9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8DF8-1A54-4097-82E7-85FC037D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7AF8-B907-4BCD-AD30-1F8D758F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38FA-04B7-4D8B-8690-886A3AFF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B80E-3882-4F22-9699-3614CB85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D792-164F-431B-B5D9-D54CCBBA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C4BD-A8A5-4FFE-855F-D85FFD5E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70F-17DB-43E0-910C-5DE798D3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274-3DF9-498C-B87E-5A1C0D14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E616-2DE7-4B0D-8876-48734962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DD3-2D4D-4E4A-A043-D98143FF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CE4-AE9B-4EF2-B465-406E96AD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4BF1-4F68-4B8D-A8EB-49033085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5948-766D-4E2E-89BF-DC7F2D6542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桌布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CD7B-D73F-4B56-A500-E678C0C58EB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4572000" y="1371600"/>
            <a:ext cx="3044880" cy="4114800"/>
            <a:chOff x="4572000" y="1371600"/>
            <a:chExt cx="3044880" cy="4114800"/>
          </a:xfrm>
        </p:grpSpPr>
        <p:grpSp>
          <p:nvGrpSpPr>
            <p:cNvPr id="84" name=""/>
            <p:cNvGrpSpPr/>
            <p:nvPr/>
          </p:nvGrpSpPr>
          <p:grpSpPr>
            <a:xfrm>
              <a:off x="4572000" y="1371600"/>
              <a:ext cx="3044880" cy="4114800"/>
              <a:chOff x="4572000" y="1371600"/>
              <a:chExt cx="3044880" cy="4114800"/>
            </a:xfrm>
          </p:grpSpPr>
          <p:sp>
            <p:nvSpPr>
              <p:cNvPr id="85" name="Rounded Rectangle 140"/>
              <p:cNvSpPr/>
              <p:nvPr/>
            </p:nvSpPr>
            <p:spPr>
              <a:xfrm rot="10800000">
                <a:off x="4572000" y="1371600"/>
                <a:ext cx="3044880" cy="4114800"/>
              </a:xfrm>
              <a:custGeom>
                <a:avLst/>
                <a:gdLst>
                  <a:gd name="textAreaLeft" fmla="*/ 14040 w 3044880"/>
                  <a:gd name="textAreaRight" fmla="*/ 3030840 w 3044880"/>
                  <a:gd name="textAreaTop" fmla="*/ 14040 h 4114800"/>
                  <a:gd name="textAreaBottom" fmla="*/ 4100760 h 4114800"/>
                </a:gdLst>
                <a:ahLst/>
                <a:rect l="textAreaLeft" t="textAreaTop" r="textAreaRight" b="textAreaBottom"/>
                <a:pathLst>
                  <a:path w="21600" h="29189">
                    <a:moveTo>
                      <a:pt x="341" y="0"/>
                    </a:moveTo>
                    <a:arcTo wR="341" hR="341" stAng="16200000" swAng="-5400000"/>
                    <a:lnTo>
                      <a:pt x="0" y="28848"/>
                    </a:lnTo>
                    <a:arcTo wR="341" hR="341" stAng="10800000" swAng="-5400000"/>
                    <a:lnTo>
                      <a:pt x="21259" y="29189"/>
                    </a:lnTo>
                    <a:arcTo wR="341" hR="341" stAng="5400000" swAng="-5400000"/>
                    <a:lnTo>
                      <a:pt x="21600" y="341"/>
                    </a:lnTo>
                    <a:arcTo wR="341" hR="341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32523"/>
                  </a:gs>
                  <a:gs pos="100000">
                    <a:srgbClr val="9537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Rectangle 141"/>
              <p:cNvSpPr/>
              <p:nvPr/>
            </p:nvSpPr>
            <p:spPr>
              <a:xfrm rot="10800000">
                <a:off x="4572000" y="1449360"/>
                <a:ext cx="2880360" cy="3959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10800000"/>
              </a:gradFill>
              <a:ln w="0">
                <a:noFill/>
              </a:ln>
              <a:effectLst>
                <a:outerShdw dist="38160" dir="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" name="TextBox 142"/>
            <p:cNvSpPr/>
            <p:nvPr/>
          </p:nvSpPr>
          <p:spPr>
            <a:xfrm>
              <a:off x="5072040" y="2000160"/>
              <a:ext cx="1676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第一届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162920" y="1453680"/>
              <a:ext cx="246600" cy="3950280"/>
              <a:chOff x="7162920" y="1453680"/>
              <a:chExt cx="246600" cy="3950280"/>
            </a:xfrm>
          </p:grpSpPr>
          <p:sp>
            <p:nvSpPr>
              <p:cNvPr id="89" name="Straight Connector 160"/>
              <p:cNvSpPr/>
              <p:nvPr/>
            </p:nvSpPr>
            <p:spPr>
              <a:xfrm flipH="1">
                <a:off x="723744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Straight Connector 161"/>
              <p:cNvSpPr/>
              <p:nvPr/>
            </p:nvSpPr>
            <p:spPr>
              <a:xfrm flipH="1">
                <a:off x="729252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Straight Connector 162"/>
              <p:cNvSpPr/>
              <p:nvPr/>
            </p:nvSpPr>
            <p:spPr>
              <a:xfrm flipH="1">
                <a:off x="733104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Straight Connector 163"/>
              <p:cNvSpPr/>
              <p:nvPr/>
            </p:nvSpPr>
            <p:spPr>
              <a:xfrm flipH="1">
                <a:off x="736956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Straight Connector 164"/>
              <p:cNvSpPr/>
              <p:nvPr/>
            </p:nvSpPr>
            <p:spPr>
              <a:xfrm flipH="1">
                <a:off x="740808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Straight Connector 165"/>
              <p:cNvSpPr/>
              <p:nvPr/>
            </p:nvSpPr>
            <p:spPr>
              <a:xfrm flipH="1">
                <a:off x="716292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4572000" y="1371600"/>
            <a:ext cx="3048120" cy="4114800"/>
            <a:chOff x="4572000" y="1371600"/>
            <a:chExt cx="3048120" cy="4114800"/>
          </a:xfrm>
        </p:grpSpPr>
        <p:grpSp>
          <p:nvGrpSpPr>
            <p:cNvPr id="96" name=""/>
            <p:cNvGrpSpPr/>
            <p:nvPr/>
          </p:nvGrpSpPr>
          <p:grpSpPr>
            <a:xfrm>
              <a:off x="4572000" y="1371600"/>
              <a:ext cx="3048120" cy="4114800"/>
              <a:chOff x="4572000" y="1371600"/>
              <a:chExt cx="3048120" cy="4114800"/>
            </a:xfrm>
          </p:grpSpPr>
          <p:pic>
            <p:nvPicPr>
              <p:cNvPr id="97" name="Rounded Rectangle 26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0" y="1371600"/>
                <a:ext cx="3048120" cy="411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4609440" y="1409040"/>
                <a:ext cx="2979360" cy="40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" name="Rounded Rectangle 83"/>
            <p:cNvSpPr/>
            <p:nvPr/>
          </p:nvSpPr>
          <p:spPr>
            <a:xfrm>
              <a:off x="4590000" y="1389600"/>
              <a:ext cx="660960" cy="4084560"/>
            </a:xfrm>
            <a:custGeom>
              <a:avLst/>
              <a:gdLst>
                <a:gd name="textAreaLeft" fmla="*/ 3960 w 660960"/>
                <a:gd name="textAreaRight" fmla="*/ 657000 w 660960"/>
                <a:gd name="textAreaTop" fmla="*/ 3960 h 4084560"/>
                <a:gd name="textAreaBottom" fmla="*/ 4080600 h 4084560"/>
              </a:gdLst>
              <a:ahLst/>
              <a:rect l="textAreaLeft" t="textAreaTop" r="textAreaRight" b="textAreaBottom"/>
              <a:pathLst>
                <a:path w="21600" h="133421">
                  <a:moveTo>
                    <a:pt x="474" y="0"/>
                  </a:moveTo>
                  <a:arcTo wR="474" hR="474" stAng="16200000" swAng="-5400000"/>
                  <a:lnTo>
                    <a:pt x="0" y="132947"/>
                  </a:lnTo>
                  <a:arcTo wR="474" hR="474" stAng="10800000" swAng="-5400000"/>
                  <a:lnTo>
                    <a:pt x="21126" y="133421"/>
                  </a:lnTo>
                  <a:arcTo wR="474" hR="474" stAng="5400000" swAng="-5400000"/>
                  <a:lnTo>
                    <a:pt x="21600" y="474"/>
                  </a:lnTo>
                  <a:arcTo wR="474" hR="474" stAng="0" swAng="-54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4572000" y="3870720"/>
              <a:ext cx="694080" cy="96480"/>
              <a:chOff x="4572000" y="3870720"/>
              <a:chExt cx="694080" cy="96480"/>
            </a:xfrm>
          </p:grpSpPr>
          <p:pic>
            <p:nvPicPr>
              <p:cNvPr id="101" name="Rounded Rectangle 87" descr=""/>
              <p:cNvPicPr/>
              <p:nvPr/>
            </p:nvPicPr>
            <p:blipFill>
              <a:blip r:embed="rId2"/>
              <a:stretch/>
            </p:blipFill>
            <p:spPr>
              <a:xfrm>
                <a:off x="4572000" y="3870720"/>
                <a:ext cx="694080" cy="9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4600440" y="3896280"/>
                <a:ext cx="639720" cy="5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572000" y="4929840"/>
              <a:ext cx="694080" cy="96480"/>
              <a:chOff x="4572000" y="4929840"/>
              <a:chExt cx="694080" cy="96480"/>
            </a:xfrm>
          </p:grpSpPr>
          <p:pic>
            <p:nvPicPr>
              <p:cNvPr id="104" name="Rounded Rectangle 97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0" y="4929840"/>
                <a:ext cx="694080" cy="9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4600440" y="4955400"/>
                <a:ext cx="639720" cy="5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4572000" y="2805840"/>
              <a:ext cx="694080" cy="102600"/>
              <a:chOff x="4572000" y="2805840"/>
              <a:chExt cx="694080" cy="102600"/>
            </a:xfrm>
          </p:grpSpPr>
          <p:pic>
            <p:nvPicPr>
              <p:cNvPr id="107" name="Rounded Rectangle 98" descr=""/>
              <p:cNvPicPr/>
              <p:nvPr/>
            </p:nvPicPr>
            <p:blipFill>
              <a:blip r:embed="rId4"/>
              <a:stretch/>
            </p:blipFill>
            <p:spPr>
              <a:xfrm>
                <a:off x="4572000" y="2805840"/>
                <a:ext cx="694080" cy="1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4600440" y="2837520"/>
                <a:ext cx="639720" cy="5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572000" y="1752840"/>
              <a:ext cx="687960" cy="96480"/>
              <a:chOff x="4572000" y="1752840"/>
              <a:chExt cx="687960" cy="96480"/>
            </a:xfrm>
          </p:grpSpPr>
          <p:pic>
            <p:nvPicPr>
              <p:cNvPr id="110" name="Rounded Rectangle 99" descr=""/>
              <p:cNvPicPr/>
              <p:nvPr/>
            </p:nvPicPr>
            <p:blipFill>
              <a:blip r:embed="rId5"/>
              <a:stretch/>
            </p:blipFill>
            <p:spPr>
              <a:xfrm>
                <a:off x="4572000" y="1752840"/>
                <a:ext cx="687960" cy="9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4600440" y="1778400"/>
                <a:ext cx="639720" cy="5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2" name="TextBox 31"/>
            <p:cNvSpPr/>
            <p:nvPr/>
          </p:nvSpPr>
          <p:spPr>
            <a:xfrm>
              <a:off x="5367960" y="2226240"/>
              <a:ext cx="2051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PPT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相册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527120" y="1371600"/>
            <a:ext cx="3044880" cy="4114800"/>
            <a:chOff x="1527120" y="1371600"/>
            <a:chExt cx="3044880" cy="4114800"/>
          </a:xfrm>
        </p:grpSpPr>
        <p:sp>
          <p:nvSpPr>
            <p:cNvPr id="114" name="Rounded Rectangle 102"/>
            <p:cNvSpPr/>
            <p:nvPr/>
          </p:nvSpPr>
          <p:spPr>
            <a:xfrm>
              <a:off x="1527120" y="1371600"/>
              <a:ext cx="3044880" cy="4114800"/>
            </a:xfrm>
            <a:custGeom>
              <a:avLst/>
              <a:gdLst>
                <a:gd name="textAreaLeft" fmla="*/ 14040 w 3044880"/>
                <a:gd name="textAreaRight" fmla="*/ 3030840 w 3044880"/>
                <a:gd name="textAreaTop" fmla="*/ 14040 h 4114800"/>
                <a:gd name="textAreaBottom" fmla="*/ 4100760 h 4114800"/>
              </a:gdLst>
              <a:ahLst/>
              <a:rect l="textAreaLeft" t="textAreaTop" r="textAreaRight" b="textAreaBottom"/>
              <a:pathLst>
                <a:path w="21600" h="29189">
                  <a:moveTo>
                    <a:pt x="341" y="0"/>
                  </a:moveTo>
                  <a:arcTo wR="341" hR="341" stAng="16200000" swAng="-5400000"/>
                  <a:lnTo>
                    <a:pt x="0" y="28848"/>
                  </a:lnTo>
                  <a:arcTo wR="341" hR="341" stAng="10800000" swAng="-5400000"/>
                  <a:lnTo>
                    <a:pt x="21259" y="29189"/>
                  </a:lnTo>
                  <a:arcTo wR="341" hR="341" stAng="5400000" swAng="-5400000"/>
                  <a:lnTo>
                    <a:pt x="21600" y="341"/>
                  </a:lnTo>
                  <a:arcTo wR="341" hR="341" stAng="0" swAng="-5400000"/>
                  <a:close/>
                </a:path>
              </a:pathLst>
            </a:custGeom>
            <a:gradFill rotWithShape="0">
              <a:gsLst>
                <a:gs pos="0">
                  <a:srgbClr val="632523"/>
                </a:gs>
                <a:gs pos="100000">
                  <a:srgbClr val="95373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107"/>
            <p:cNvSpPr/>
            <p:nvPr/>
          </p:nvSpPr>
          <p:spPr>
            <a:xfrm>
              <a:off x="1691640" y="1449000"/>
              <a:ext cx="2880360" cy="3959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6" name="图片 24" descr="主持人题目.jpg"/>
            <p:cNvPicPr/>
            <p:nvPr/>
          </p:nvPicPr>
          <p:blipFill>
            <a:blip r:embed="rId6"/>
            <a:stretch/>
          </p:blipFill>
          <p:spPr>
            <a:xfrm>
              <a:off x="1857240" y="2214360"/>
              <a:ext cx="2500560" cy="1857240"/>
            </a:xfrm>
            <a:prstGeom prst="rect">
              <a:avLst/>
            </a:prstGeom>
            <a:ln w="31680">
              <a:solidFill>
                <a:srgbClr val="ffc000"/>
              </a:solidFill>
              <a:miter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7" presetSubtype="8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527120" y="1371600"/>
            <a:ext cx="3044880" cy="4114800"/>
            <a:chOff x="1527120" y="1371600"/>
            <a:chExt cx="3044880" cy="4114800"/>
          </a:xfrm>
        </p:grpSpPr>
        <p:sp>
          <p:nvSpPr>
            <p:cNvPr id="118" name="Rounded Rectangle 102"/>
            <p:cNvSpPr/>
            <p:nvPr/>
          </p:nvSpPr>
          <p:spPr>
            <a:xfrm>
              <a:off x="1527120" y="1371600"/>
              <a:ext cx="3044880" cy="4114800"/>
            </a:xfrm>
            <a:custGeom>
              <a:avLst/>
              <a:gdLst>
                <a:gd name="textAreaLeft" fmla="*/ 14040 w 3044880"/>
                <a:gd name="textAreaRight" fmla="*/ 3030840 w 3044880"/>
                <a:gd name="textAreaTop" fmla="*/ 14040 h 4114800"/>
                <a:gd name="textAreaBottom" fmla="*/ 4100760 h 4114800"/>
              </a:gdLst>
              <a:ahLst/>
              <a:rect l="textAreaLeft" t="textAreaTop" r="textAreaRight" b="textAreaBottom"/>
              <a:pathLst>
                <a:path w="21600" h="29189">
                  <a:moveTo>
                    <a:pt x="341" y="0"/>
                  </a:moveTo>
                  <a:arcTo wR="341" hR="341" stAng="16200000" swAng="-5400000"/>
                  <a:lnTo>
                    <a:pt x="0" y="28848"/>
                  </a:lnTo>
                  <a:arcTo wR="341" hR="341" stAng="10800000" swAng="-5400000"/>
                  <a:lnTo>
                    <a:pt x="21259" y="29189"/>
                  </a:lnTo>
                  <a:arcTo wR="341" hR="341" stAng="5400000" swAng="-5400000"/>
                  <a:lnTo>
                    <a:pt x="21600" y="341"/>
                  </a:lnTo>
                  <a:arcTo wR="341" hR="341" stAng="0" swAng="-5400000"/>
                  <a:close/>
                </a:path>
              </a:pathLst>
            </a:custGeom>
            <a:gradFill rotWithShape="0">
              <a:gsLst>
                <a:gs pos="0">
                  <a:srgbClr val="632523"/>
                </a:gs>
                <a:gs pos="100000">
                  <a:srgbClr val="95373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107"/>
            <p:cNvSpPr/>
            <p:nvPr/>
          </p:nvSpPr>
          <p:spPr>
            <a:xfrm>
              <a:off x="1691640" y="1449000"/>
              <a:ext cx="2880360" cy="3959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0" name="图片 57" descr="主持人题目.jpg"/>
            <p:cNvPicPr/>
            <p:nvPr/>
          </p:nvPicPr>
          <p:blipFill>
            <a:blip r:embed="rId1"/>
            <a:stretch/>
          </p:blipFill>
          <p:spPr>
            <a:xfrm>
              <a:off x="1857240" y="2214360"/>
              <a:ext cx="2500560" cy="1857240"/>
            </a:xfrm>
            <a:prstGeom prst="rect">
              <a:avLst/>
            </a:prstGeom>
            <a:ln w="31680">
              <a:solidFill>
                <a:srgbClr val="ffc000"/>
              </a:solidFill>
              <a:miter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4572000" y="1371600"/>
            <a:ext cx="3044880" cy="4114800"/>
            <a:chOff x="4572000" y="1371600"/>
            <a:chExt cx="3044880" cy="4114800"/>
          </a:xfrm>
        </p:grpSpPr>
        <p:grpSp>
          <p:nvGrpSpPr>
            <p:cNvPr id="122" name=""/>
            <p:cNvGrpSpPr/>
            <p:nvPr/>
          </p:nvGrpSpPr>
          <p:grpSpPr>
            <a:xfrm>
              <a:off x="4572000" y="1371600"/>
              <a:ext cx="3044880" cy="4114800"/>
              <a:chOff x="4572000" y="1371600"/>
              <a:chExt cx="3044880" cy="411480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4572000" y="1371600"/>
                <a:ext cx="3044880" cy="4114800"/>
                <a:chOff x="4572000" y="1371600"/>
                <a:chExt cx="3044880" cy="4114800"/>
              </a:xfrm>
            </p:grpSpPr>
            <p:sp>
              <p:nvSpPr>
                <p:cNvPr id="124" name="Rounded Rectangle 56"/>
                <p:cNvSpPr/>
                <p:nvPr/>
              </p:nvSpPr>
              <p:spPr>
                <a:xfrm rot="10800000">
                  <a:off x="4572000" y="1371600"/>
                  <a:ext cx="3044880" cy="4114800"/>
                </a:xfrm>
                <a:custGeom>
                  <a:avLst/>
                  <a:gdLst>
                    <a:gd name="textAreaLeft" fmla="*/ 14040 w 3044880"/>
                    <a:gd name="textAreaRight" fmla="*/ 3030840 w 3044880"/>
                    <a:gd name="textAreaTop" fmla="*/ 14040 h 4114800"/>
                    <a:gd name="textAreaBottom" fmla="*/ 4100760 h 4114800"/>
                  </a:gdLst>
                  <a:ahLst/>
                  <a:rect l="textAreaLeft" t="textAreaTop" r="textAreaRight" b="textAreaBottom"/>
                  <a:pathLst>
                    <a:path w="21600" h="29189">
                      <a:moveTo>
                        <a:pt x="341" y="0"/>
                      </a:moveTo>
                      <a:arcTo wR="341" hR="341" stAng="16200000" swAng="-5400000"/>
                      <a:lnTo>
                        <a:pt x="0" y="28848"/>
                      </a:lnTo>
                      <a:arcTo wR="341" hR="341" stAng="10800000" swAng="-5400000"/>
                      <a:lnTo>
                        <a:pt x="21259" y="29189"/>
                      </a:lnTo>
                      <a:arcTo wR="341" hR="341" stAng="5400000" swAng="-5400000"/>
                      <a:lnTo>
                        <a:pt x="21600" y="341"/>
                      </a:lnTo>
                      <a:arcTo wR="341" hR="341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632523"/>
                    </a:gs>
                    <a:gs pos="100000">
                      <a:srgbClr val="95373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" name="Rectangle 60"/>
                <p:cNvSpPr/>
                <p:nvPr/>
              </p:nvSpPr>
              <p:spPr>
                <a:xfrm rot="10800000">
                  <a:off x="4572000" y="1449360"/>
                  <a:ext cx="2880360" cy="3959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a6a6a6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38160" dir="0" blurRad="0" rotWithShape="0">
                    <a:srgbClr val="000000">
                      <a:alpha val="39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7162920" y="1453680"/>
                <a:ext cx="246600" cy="3950280"/>
                <a:chOff x="7162920" y="1453680"/>
                <a:chExt cx="246600" cy="3950280"/>
              </a:xfrm>
            </p:grpSpPr>
            <p:sp>
              <p:nvSpPr>
                <p:cNvPr id="127" name="Straight Connector 48"/>
                <p:cNvSpPr/>
                <p:nvPr/>
              </p:nvSpPr>
              <p:spPr>
                <a:xfrm flipH="1">
                  <a:off x="7237440" y="1453680"/>
                  <a:ext cx="1440" cy="395028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" name="Straight Connector 50"/>
                <p:cNvSpPr/>
                <p:nvPr/>
              </p:nvSpPr>
              <p:spPr>
                <a:xfrm flipH="1">
                  <a:off x="7292520" y="1453680"/>
                  <a:ext cx="1440" cy="395028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" name="Straight Connector 51"/>
                <p:cNvSpPr/>
                <p:nvPr/>
              </p:nvSpPr>
              <p:spPr>
                <a:xfrm flipH="1">
                  <a:off x="7331040" y="1453680"/>
                  <a:ext cx="1440" cy="395028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Straight Connector 52"/>
                <p:cNvSpPr/>
                <p:nvPr/>
              </p:nvSpPr>
              <p:spPr>
                <a:xfrm flipH="1">
                  <a:off x="7369560" y="1453680"/>
                  <a:ext cx="1440" cy="395028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Straight Connector 53"/>
                <p:cNvSpPr/>
                <p:nvPr/>
              </p:nvSpPr>
              <p:spPr>
                <a:xfrm flipH="1">
                  <a:off x="7408080" y="1453680"/>
                  <a:ext cx="1440" cy="395028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Straight Connector 54"/>
                <p:cNvSpPr/>
                <p:nvPr/>
              </p:nvSpPr>
              <p:spPr>
                <a:xfrm flipH="1">
                  <a:off x="7162920" y="1453680"/>
                  <a:ext cx="1440" cy="395028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3" name="TextBox 75"/>
            <p:cNvSpPr/>
            <p:nvPr/>
          </p:nvSpPr>
          <p:spPr>
            <a:xfrm>
              <a:off x="4777920" y="2111040"/>
              <a:ext cx="223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届沈阳五中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比赛举行在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9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。为了做好汶川地震后灾区教师来我校考察访问，我校师生共同准备了这样一个比赛活动。虽然是第一次，但取得了非常好的效果，得到访问教师的高度赞扬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692360" y="1469880"/>
            <a:ext cx="2879640" cy="3959280"/>
            <a:chOff x="1692360" y="1469880"/>
            <a:chExt cx="2879640" cy="3959280"/>
          </a:xfrm>
        </p:grpSpPr>
        <p:sp>
          <p:nvSpPr>
            <p:cNvPr id="135" name="Inside-left"/>
            <p:cNvSpPr/>
            <p:nvPr/>
          </p:nvSpPr>
          <p:spPr>
            <a:xfrm>
              <a:off x="1692360" y="1469880"/>
              <a:ext cx="2879640" cy="39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67"/>
            <p:cNvSpPr/>
            <p:nvPr/>
          </p:nvSpPr>
          <p:spPr>
            <a:xfrm>
              <a:off x="2072160" y="187776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观看比赛的教师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7" name="Picture 97" descr="18789366_barnlight.jpg"/>
            <p:cNvPicPr/>
            <p:nvPr/>
          </p:nvPicPr>
          <p:blipFill>
            <a:blip r:embed="rId2"/>
            <a:stretch/>
          </p:blipFill>
          <p:spPr>
            <a:xfrm>
              <a:off x="1983960" y="2663640"/>
              <a:ext cx="231336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Straight Connector 121"/>
            <p:cNvSpPr/>
            <p:nvPr/>
          </p:nvSpPr>
          <p:spPr>
            <a:xfrm flipH="1">
              <a:off x="1806480" y="1469880"/>
              <a:ext cx="1440" cy="39502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Straight Connector 122"/>
            <p:cNvSpPr/>
            <p:nvPr/>
          </p:nvSpPr>
          <p:spPr>
            <a:xfrm flipH="1">
              <a:off x="1752480" y="1469880"/>
              <a:ext cx="1440" cy="39502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71640" y="1428840"/>
            <a:ext cx="2879640" cy="3959280"/>
            <a:chOff x="4571640" y="1428840"/>
            <a:chExt cx="2879640" cy="3959280"/>
          </a:xfrm>
        </p:grpSpPr>
        <p:sp>
          <p:nvSpPr>
            <p:cNvPr id="141" name="Inside-right"/>
            <p:cNvSpPr/>
            <p:nvPr/>
          </p:nvSpPr>
          <p:spPr>
            <a:xfrm rot="10800000">
              <a:off x="4571640" y="1428840"/>
              <a:ext cx="2879640" cy="39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46"/>
            <p:cNvSpPr/>
            <p:nvPr/>
          </p:nvSpPr>
          <p:spPr>
            <a:xfrm>
              <a:off x="4929120" y="433728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曹老师观看比赛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3" name="Picture 81" descr="18789367_barn.png"/>
            <p:cNvPicPr/>
            <p:nvPr/>
          </p:nvPicPr>
          <p:blipFill>
            <a:blip r:embed="rId3"/>
            <a:stretch/>
          </p:blipFill>
          <p:spPr>
            <a:xfrm>
              <a:off x="4857480" y="2309400"/>
              <a:ext cx="2142720" cy="144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7162200" y="1433160"/>
              <a:ext cx="246600" cy="3950280"/>
              <a:chOff x="7162200" y="1433160"/>
              <a:chExt cx="246600" cy="3950280"/>
            </a:xfrm>
          </p:grpSpPr>
          <p:sp>
            <p:nvSpPr>
              <p:cNvPr id="145" name="Straight Connector 113"/>
              <p:cNvSpPr/>
              <p:nvPr/>
            </p:nvSpPr>
            <p:spPr>
              <a:xfrm flipH="1">
                <a:off x="723672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Straight Connector 114"/>
              <p:cNvSpPr/>
              <p:nvPr/>
            </p:nvSpPr>
            <p:spPr>
              <a:xfrm flipH="1">
                <a:off x="729180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Straight Connector 115"/>
              <p:cNvSpPr/>
              <p:nvPr/>
            </p:nvSpPr>
            <p:spPr>
              <a:xfrm flipH="1">
                <a:off x="733032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Straight Connector 116"/>
              <p:cNvSpPr/>
              <p:nvPr/>
            </p:nvSpPr>
            <p:spPr>
              <a:xfrm flipH="1">
                <a:off x="736884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Straight Connector 117"/>
              <p:cNvSpPr/>
              <p:nvPr/>
            </p:nvSpPr>
            <p:spPr>
              <a:xfrm flipH="1">
                <a:off x="740736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Straight Connector 118"/>
              <p:cNvSpPr/>
              <p:nvPr/>
            </p:nvSpPr>
            <p:spPr>
              <a:xfrm flipH="1">
                <a:off x="716220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4571640" y="1469880"/>
            <a:ext cx="2879640" cy="3959280"/>
            <a:chOff x="4571640" y="1469880"/>
            <a:chExt cx="2879640" cy="3959280"/>
          </a:xfrm>
        </p:grpSpPr>
        <p:sp>
          <p:nvSpPr>
            <p:cNvPr id="152" name="Inside-right"/>
            <p:cNvSpPr/>
            <p:nvPr/>
          </p:nvSpPr>
          <p:spPr>
            <a:xfrm rot="10800000">
              <a:off x="4571640" y="1469880"/>
              <a:ext cx="2879640" cy="39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Box 128"/>
            <p:cNvSpPr/>
            <p:nvPr/>
          </p:nvSpPr>
          <p:spPr>
            <a:xfrm>
              <a:off x="4929120" y="437832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观看比赛的四川教师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4" name="Picture 81" descr="18789367_barn.png"/>
            <p:cNvPicPr/>
            <p:nvPr/>
          </p:nvPicPr>
          <p:blipFill>
            <a:blip r:embed="rId4"/>
            <a:stretch/>
          </p:blipFill>
          <p:spPr>
            <a:xfrm>
              <a:off x="4857480" y="2376000"/>
              <a:ext cx="2142720" cy="139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"/>
            <p:cNvGrpSpPr/>
            <p:nvPr/>
          </p:nvGrpSpPr>
          <p:grpSpPr>
            <a:xfrm>
              <a:off x="7162200" y="1474200"/>
              <a:ext cx="246600" cy="3950280"/>
              <a:chOff x="7162200" y="1474200"/>
              <a:chExt cx="246600" cy="3950280"/>
            </a:xfrm>
          </p:grpSpPr>
          <p:sp>
            <p:nvSpPr>
              <p:cNvPr id="156" name="Straight Connector 113"/>
              <p:cNvSpPr/>
              <p:nvPr/>
            </p:nvSpPr>
            <p:spPr>
              <a:xfrm flipH="1">
                <a:off x="7236720" y="147420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Straight Connector 114"/>
              <p:cNvSpPr/>
              <p:nvPr/>
            </p:nvSpPr>
            <p:spPr>
              <a:xfrm flipH="1">
                <a:off x="7291800" y="147420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Straight Connector 115"/>
              <p:cNvSpPr/>
              <p:nvPr/>
            </p:nvSpPr>
            <p:spPr>
              <a:xfrm flipH="1">
                <a:off x="7330320" y="147420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Straight Connector 116"/>
              <p:cNvSpPr/>
              <p:nvPr/>
            </p:nvSpPr>
            <p:spPr>
              <a:xfrm flipH="1">
                <a:off x="7368840" y="147420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Straight Connector 117"/>
              <p:cNvSpPr/>
              <p:nvPr/>
            </p:nvSpPr>
            <p:spPr>
              <a:xfrm flipH="1">
                <a:off x="7407360" y="147420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Straight Connector 118"/>
              <p:cNvSpPr/>
              <p:nvPr/>
            </p:nvSpPr>
            <p:spPr>
              <a:xfrm flipH="1">
                <a:off x="7162200" y="147420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4571640" y="1428840"/>
            <a:ext cx="2879640" cy="3959280"/>
            <a:chOff x="4571640" y="1428840"/>
            <a:chExt cx="2879640" cy="3959280"/>
          </a:xfrm>
        </p:grpSpPr>
        <p:sp>
          <p:nvSpPr>
            <p:cNvPr id="163" name="Inside-right"/>
            <p:cNvSpPr/>
            <p:nvPr/>
          </p:nvSpPr>
          <p:spPr>
            <a:xfrm rot="10800000">
              <a:off x="4571640" y="1428840"/>
              <a:ext cx="2879640" cy="39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Box 109"/>
            <p:cNvSpPr/>
            <p:nvPr/>
          </p:nvSpPr>
          <p:spPr>
            <a:xfrm>
              <a:off x="4929120" y="433728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持人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5" name="Picture 81" descr="18789367_barn.png"/>
            <p:cNvPicPr/>
            <p:nvPr/>
          </p:nvPicPr>
          <p:blipFill>
            <a:blip r:embed="rId5"/>
            <a:stretch/>
          </p:blipFill>
          <p:spPr>
            <a:xfrm>
              <a:off x="4857480" y="2359080"/>
              <a:ext cx="2214000" cy="139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" name=""/>
            <p:cNvGrpSpPr/>
            <p:nvPr/>
          </p:nvGrpSpPr>
          <p:grpSpPr>
            <a:xfrm>
              <a:off x="7162200" y="1433160"/>
              <a:ext cx="246600" cy="3950280"/>
              <a:chOff x="7162200" y="1433160"/>
              <a:chExt cx="246600" cy="3950280"/>
            </a:xfrm>
          </p:grpSpPr>
          <p:sp>
            <p:nvSpPr>
              <p:cNvPr id="167" name="Straight Connector 113"/>
              <p:cNvSpPr/>
              <p:nvPr/>
            </p:nvSpPr>
            <p:spPr>
              <a:xfrm flipH="1">
                <a:off x="723672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Straight Connector 114"/>
              <p:cNvSpPr/>
              <p:nvPr/>
            </p:nvSpPr>
            <p:spPr>
              <a:xfrm flipH="1">
                <a:off x="729180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Straight Connector 115"/>
              <p:cNvSpPr/>
              <p:nvPr/>
            </p:nvSpPr>
            <p:spPr>
              <a:xfrm flipH="1">
                <a:off x="733032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Straight Connector 116"/>
              <p:cNvSpPr/>
              <p:nvPr/>
            </p:nvSpPr>
            <p:spPr>
              <a:xfrm flipH="1">
                <a:off x="736884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Straight Connector 117"/>
              <p:cNvSpPr/>
              <p:nvPr/>
            </p:nvSpPr>
            <p:spPr>
              <a:xfrm flipH="1">
                <a:off x="740736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Straight Connector 118"/>
              <p:cNvSpPr/>
              <p:nvPr/>
            </p:nvSpPr>
            <p:spPr>
              <a:xfrm flipH="1">
                <a:off x="716220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4571640" y="1428840"/>
            <a:ext cx="2879640" cy="3959280"/>
            <a:chOff x="4571640" y="1428840"/>
            <a:chExt cx="2879640" cy="3959280"/>
          </a:xfrm>
        </p:grpSpPr>
        <p:sp>
          <p:nvSpPr>
            <p:cNvPr id="174" name="Inside-right"/>
            <p:cNvSpPr/>
            <p:nvPr/>
          </p:nvSpPr>
          <p:spPr>
            <a:xfrm rot="10800000">
              <a:off x="4571640" y="1428840"/>
              <a:ext cx="2879640" cy="39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Box 78"/>
            <p:cNvSpPr/>
            <p:nvPr/>
          </p:nvSpPr>
          <p:spPr>
            <a:xfrm>
              <a:off x="4929120" y="433728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川教师点评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6" name="Picture 81" descr="18789367_barn.png"/>
            <p:cNvPicPr/>
            <p:nvPr/>
          </p:nvPicPr>
          <p:blipFill>
            <a:blip r:embed="rId6"/>
            <a:stretch/>
          </p:blipFill>
          <p:spPr>
            <a:xfrm>
              <a:off x="4857480" y="2278800"/>
              <a:ext cx="2142720" cy="150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7162200" y="1433160"/>
              <a:ext cx="246600" cy="3950280"/>
              <a:chOff x="7162200" y="1433160"/>
              <a:chExt cx="246600" cy="3950280"/>
            </a:xfrm>
          </p:grpSpPr>
          <p:sp>
            <p:nvSpPr>
              <p:cNvPr id="178" name="Straight Connector 113"/>
              <p:cNvSpPr/>
              <p:nvPr/>
            </p:nvSpPr>
            <p:spPr>
              <a:xfrm flipH="1">
                <a:off x="723672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Straight Connector 114"/>
              <p:cNvSpPr/>
              <p:nvPr/>
            </p:nvSpPr>
            <p:spPr>
              <a:xfrm flipH="1">
                <a:off x="729180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Straight Connector 115"/>
              <p:cNvSpPr/>
              <p:nvPr/>
            </p:nvSpPr>
            <p:spPr>
              <a:xfrm flipH="1">
                <a:off x="733032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Straight Connector 116"/>
              <p:cNvSpPr/>
              <p:nvPr/>
            </p:nvSpPr>
            <p:spPr>
              <a:xfrm flipH="1">
                <a:off x="736884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Straight Connector 117"/>
              <p:cNvSpPr/>
              <p:nvPr/>
            </p:nvSpPr>
            <p:spPr>
              <a:xfrm flipH="1">
                <a:off x="740736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Straight Connector 118"/>
              <p:cNvSpPr/>
              <p:nvPr/>
            </p:nvSpPr>
            <p:spPr>
              <a:xfrm flipH="1">
                <a:off x="7162200" y="143316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4571640" y="1449360"/>
            <a:ext cx="2879640" cy="3959280"/>
            <a:chOff x="4571640" y="1449360"/>
            <a:chExt cx="2879640" cy="3959280"/>
          </a:xfrm>
        </p:grpSpPr>
        <p:sp>
          <p:nvSpPr>
            <p:cNvPr id="185" name="Inside-right"/>
            <p:cNvSpPr/>
            <p:nvPr/>
          </p:nvSpPr>
          <p:spPr>
            <a:xfrm rot="10800000">
              <a:off x="4571640" y="1449360"/>
              <a:ext cx="2879640" cy="39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Box 80"/>
            <p:cNvSpPr/>
            <p:nvPr/>
          </p:nvSpPr>
          <p:spPr>
            <a:xfrm>
              <a:off x="4929120" y="435780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等待中的学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7" name="Picture 81" descr="18789367_barn.png"/>
            <p:cNvPicPr/>
            <p:nvPr/>
          </p:nvPicPr>
          <p:blipFill>
            <a:blip r:embed="rId7"/>
            <a:stretch/>
          </p:blipFill>
          <p:spPr>
            <a:xfrm>
              <a:off x="4857480" y="2316600"/>
              <a:ext cx="2142720" cy="147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"/>
            <p:cNvGrpSpPr/>
            <p:nvPr/>
          </p:nvGrpSpPr>
          <p:grpSpPr>
            <a:xfrm>
              <a:off x="7162200" y="1453680"/>
              <a:ext cx="246600" cy="3950280"/>
              <a:chOff x="7162200" y="1453680"/>
              <a:chExt cx="246600" cy="3950280"/>
            </a:xfrm>
          </p:grpSpPr>
          <p:sp>
            <p:nvSpPr>
              <p:cNvPr id="189" name="Straight Connector 113"/>
              <p:cNvSpPr/>
              <p:nvPr/>
            </p:nvSpPr>
            <p:spPr>
              <a:xfrm flipH="1">
                <a:off x="723672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Straight Connector 114"/>
              <p:cNvSpPr/>
              <p:nvPr/>
            </p:nvSpPr>
            <p:spPr>
              <a:xfrm flipH="1">
                <a:off x="729180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Straight Connector 115"/>
              <p:cNvSpPr/>
              <p:nvPr/>
            </p:nvSpPr>
            <p:spPr>
              <a:xfrm flipH="1">
                <a:off x="733032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Straight Connector 116"/>
              <p:cNvSpPr/>
              <p:nvPr/>
            </p:nvSpPr>
            <p:spPr>
              <a:xfrm flipH="1">
                <a:off x="736884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Straight Connector 117"/>
              <p:cNvSpPr/>
              <p:nvPr/>
            </p:nvSpPr>
            <p:spPr>
              <a:xfrm flipH="1">
                <a:off x="740736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Straight Connector 118"/>
              <p:cNvSpPr/>
              <p:nvPr/>
            </p:nvSpPr>
            <p:spPr>
              <a:xfrm flipH="1">
                <a:off x="7162200" y="1453680"/>
                <a:ext cx="1440" cy="395028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1692360" y="1428840"/>
            <a:ext cx="2879640" cy="3970080"/>
            <a:chOff x="1692360" y="1428840"/>
            <a:chExt cx="2879640" cy="3970080"/>
          </a:xfrm>
        </p:grpSpPr>
        <p:sp>
          <p:nvSpPr>
            <p:cNvPr id="196" name="Inside-left"/>
            <p:cNvSpPr/>
            <p:nvPr/>
          </p:nvSpPr>
          <p:spPr>
            <a:xfrm>
              <a:off x="1692360" y="1428840"/>
              <a:ext cx="2879640" cy="395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TextBox 98"/>
            <p:cNvSpPr/>
            <p:nvPr/>
          </p:nvSpPr>
          <p:spPr>
            <a:xfrm>
              <a:off x="2072160" y="185724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校领导和学生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8" name="Picture 97" descr="18789366_barnlight.jpg"/>
            <p:cNvPicPr/>
            <p:nvPr/>
          </p:nvPicPr>
          <p:blipFill>
            <a:blip r:embed="rId8"/>
            <a:stretch/>
          </p:blipFill>
          <p:spPr>
            <a:xfrm>
              <a:off x="1983960" y="2664360"/>
              <a:ext cx="23133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Straight Connector 121"/>
            <p:cNvSpPr/>
            <p:nvPr/>
          </p:nvSpPr>
          <p:spPr>
            <a:xfrm flipH="1">
              <a:off x="1806480" y="1449360"/>
              <a:ext cx="1440" cy="394956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Straight Connector 122"/>
            <p:cNvSpPr/>
            <p:nvPr/>
          </p:nvSpPr>
          <p:spPr>
            <a:xfrm flipH="1">
              <a:off x="1752480" y="1449360"/>
              <a:ext cx="1440" cy="394956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692360" y="1469880"/>
            <a:ext cx="2879640" cy="3959280"/>
            <a:chOff x="1692360" y="1469880"/>
            <a:chExt cx="2879640" cy="3959280"/>
          </a:xfrm>
        </p:grpSpPr>
        <p:sp>
          <p:nvSpPr>
            <p:cNvPr id="202" name="Inside-left"/>
            <p:cNvSpPr/>
            <p:nvPr/>
          </p:nvSpPr>
          <p:spPr>
            <a:xfrm>
              <a:off x="1692360" y="1469880"/>
              <a:ext cx="2879640" cy="39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Box 94"/>
            <p:cNvSpPr/>
            <p:nvPr/>
          </p:nvSpPr>
          <p:spPr>
            <a:xfrm>
              <a:off x="2072160" y="187776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金校长观看比赛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4" name="Picture 97" descr="18789366_barnlight.jpg"/>
            <p:cNvPicPr/>
            <p:nvPr/>
          </p:nvPicPr>
          <p:blipFill>
            <a:blip r:embed="rId9"/>
            <a:stretch/>
          </p:blipFill>
          <p:spPr>
            <a:xfrm>
              <a:off x="1983960" y="2949840"/>
              <a:ext cx="2313360" cy="145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Straight Connector 121"/>
            <p:cNvSpPr/>
            <p:nvPr/>
          </p:nvSpPr>
          <p:spPr>
            <a:xfrm flipH="1">
              <a:off x="1806480" y="1469880"/>
              <a:ext cx="1440" cy="39502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Straight Connector 122"/>
            <p:cNvSpPr/>
            <p:nvPr/>
          </p:nvSpPr>
          <p:spPr>
            <a:xfrm flipH="1">
              <a:off x="1752480" y="1469880"/>
              <a:ext cx="1440" cy="39502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692360" y="1428840"/>
            <a:ext cx="2879640" cy="3959280"/>
            <a:chOff x="1692360" y="1428840"/>
            <a:chExt cx="2879640" cy="3959280"/>
          </a:xfrm>
        </p:grpSpPr>
        <p:sp>
          <p:nvSpPr>
            <p:cNvPr id="208" name="Inside-left"/>
            <p:cNvSpPr/>
            <p:nvPr/>
          </p:nvSpPr>
          <p:spPr>
            <a:xfrm>
              <a:off x="1692360" y="1428840"/>
              <a:ext cx="2879640" cy="39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57"/>
            <p:cNvSpPr/>
            <p:nvPr/>
          </p:nvSpPr>
          <p:spPr>
            <a:xfrm>
              <a:off x="2072160" y="183672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等待比赛的学生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0" name="Picture 97" descr="18789366_barnlight.jpg"/>
            <p:cNvPicPr/>
            <p:nvPr/>
          </p:nvPicPr>
          <p:blipFill>
            <a:blip r:embed="rId10"/>
            <a:stretch/>
          </p:blipFill>
          <p:spPr>
            <a:xfrm>
              <a:off x="2157120" y="2622600"/>
              <a:ext cx="196704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Straight Connector 121"/>
            <p:cNvSpPr/>
            <p:nvPr/>
          </p:nvSpPr>
          <p:spPr>
            <a:xfrm flipH="1">
              <a:off x="1806480" y="1428840"/>
              <a:ext cx="1440" cy="39502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Straight Connector 122"/>
            <p:cNvSpPr/>
            <p:nvPr/>
          </p:nvSpPr>
          <p:spPr>
            <a:xfrm flipH="1">
              <a:off x="1752480" y="1428840"/>
              <a:ext cx="1440" cy="39502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692360" y="1428840"/>
            <a:ext cx="2879640" cy="3959280"/>
            <a:chOff x="1692360" y="1428840"/>
            <a:chExt cx="2879640" cy="3959280"/>
          </a:xfrm>
        </p:grpSpPr>
        <p:sp>
          <p:nvSpPr>
            <p:cNvPr id="214" name="Inside-left"/>
            <p:cNvSpPr/>
            <p:nvPr/>
          </p:nvSpPr>
          <p:spPr>
            <a:xfrm>
              <a:off x="1692360" y="1428840"/>
              <a:ext cx="2879640" cy="39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Box 163"/>
            <p:cNvSpPr/>
            <p:nvPr/>
          </p:nvSpPr>
          <p:spPr>
            <a:xfrm>
              <a:off x="2072160" y="183672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评委教师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Picture 97" descr="18789366_barnlight.jpg"/>
            <p:cNvPicPr/>
            <p:nvPr/>
          </p:nvPicPr>
          <p:blipFill>
            <a:blip r:embed="rId11"/>
            <a:stretch/>
          </p:blipFill>
          <p:spPr>
            <a:xfrm>
              <a:off x="1983960" y="2837880"/>
              <a:ext cx="2313360" cy="15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Straight Connector 121"/>
            <p:cNvSpPr/>
            <p:nvPr/>
          </p:nvSpPr>
          <p:spPr>
            <a:xfrm flipH="1">
              <a:off x="1806480" y="1428840"/>
              <a:ext cx="1440" cy="39502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Straight Connector 122"/>
            <p:cNvSpPr/>
            <p:nvPr/>
          </p:nvSpPr>
          <p:spPr>
            <a:xfrm flipH="1">
              <a:off x="1752480" y="1428840"/>
              <a:ext cx="1440" cy="39502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692360" y="1428840"/>
            <a:ext cx="2879640" cy="3959280"/>
            <a:chOff x="1692360" y="1428840"/>
            <a:chExt cx="2879640" cy="3959280"/>
          </a:xfrm>
        </p:grpSpPr>
        <p:sp>
          <p:nvSpPr>
            <p:cNvPr id="220" name="Inside-left"/>
            <p:cNvSpPr/>
            <p:nvPr/>
          </p:nvSpPr>
          <p:spPr>
            <a:xfrm>
              <a:off x="1692360" y="1428840"/>
              <a:ext cx="2879640" cy="39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Box 169"/>
            <p:cNvSpPr/>
            <p:nvPr/>
          </p:nvSpPr>
          <p:spPr>
            <a:xfrm>
              <a:off x="2072160" y="183672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即将上场的学生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2" name="Picture 97" descr="18789366_barnlight.jpg"/>
            <p:cNvPicPr/>
            <p:nvPr/>
          </p:nvPicPr>
          <p:blipFill>
            <a:blip r:embed="rId12"/>
            <a:stretch/>
          </p:blipFill>
          <p:spPr>
            <a:xfrm>
              <a:off x="1983960" y="2696040"/>
              <a:ext cx="2313360" cy="187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Straight Connector 121"/>
            <p:cNvSpPr/>
            <p:nvPr/>
          </p:nvSpPr>
          <p:spPr>
            <a:xfrm flipH="1">
              <a:off x="1806480" y="1428840"/>
              <a:ext cx="1440" cy="39502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Straight Connector 122"/>
            <p:cNvSpPr/>
            <p:nvPr/>
          </p:nvSpPr>
          <p:spPr>
            <a:xfrm flipH="1">
              <a:off x="1752480" y="1428840"/>
              <a:ext cx="1440" cy="39502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571640" y="1454040"/>
            <a:ext cx="2879640" cy="3962520"/>
            <a:chOff x="4571640" y="1454040"/>
            <a:chExt cx="2879640" cy="3962520"/>
          </a:xfrm>
        </p:grpSpPr>
        <p:sp>
          <p:nvSpPr>
            <p:cNvPr id="226" name="Inside-right"/>
            <p:cNvSpPr/>
            <p:nvPr/>
          </p:nvSpPr>
          <p:spPr>
            <a:xfrm rot="10800000">
              <a:off x="4571640" y="1456560"/>
              <a:ext cx="2879640" cy="396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0"/>
            </a:gradFill>
            <a:ln w="0">
              <a:noFill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TextBox 86"/>
            <p:cNvSpPr/>
            <p:nvPr/>
          </p:nvSpPr>
          <p:spPr>
            <a:xfrm>
              <a:off x="5039280" y="2000160"/>
              <a:ext cx="1676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第一届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7139520" y="1454040"/>
              <a:ext cx="246600" cy="3951000"/>
              <a:chOff x="7139520" y="1454040"/>
              <a:chExt cx="246600" cy="3951000"/>
            </a:xfrm>
          </p:grpSpPr>
          <p:sp>
            <p:nvSpPr>
              <p:cNvPr id="229" name="Straight Connector 137"/>
              <p:cNvSpPr/>
              <p:nvPr/>
            </p:nvSpPr>
            <p:spPr>
              <a:xfrm flipH="1">
                <a:off x="7214040" y="1454040"/>
                <a:ext cx="1440" cy="39510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Straight Connector 138"/>
              <p:cNvSpPr/>
              <p:nvPr/>
            </p:nvSpPr>
            <p:spPr>
              <a:xfrm flipH="1">
                <a:off x="7269120" y="1454040"/>
                <a:ext cx="1440" cy="39510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Straight Connector 139"/>
              <p:cNvSpPr/>
              <p:nvPr/>
            </p:nvSpPr>
            <p:spPr>
              <a:xfrm flipH="1">
                <a:off x="7307640" y="1454040"/>
                <a:ext cx="1440" cy="39510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Straight Connector 140"/>
              <p:cNvSpPr/>
              <p:nvPr/>
            </p:nvSpPr>
            <p:spPr>
              <a:xfrm flipH="1">
                <a:off x="7346160" y="1454040"/>
                <a:ext cx="1440" cy="39510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Straight Connector 141"/>
              <p:cNvSpPr/>
              <p:nvPr/>
            </p:nvSpPr>
            <p:spPr>
              <a:xfrm flipH="1">
                <a:off x="7384680" y="1454040"/>
                <a:ext cx="1440" cy="39510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Straight Connector 142"/>
              <p:cNvSpPr/>
              <p:nvPr/>
            </p:nvSpPr>
            <p:spPr>
              <a:xfrm flipH="1">
                <a:off x="7139520" y="1454040"/>
                <a:ext cx="1440" cy="39510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xit" presetID="17" presetSubtype="8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xit" presetID="17" presetSubtype="8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exit" presetID="17" presetSubtype="8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4000"/>
                            </p:stCondLst>
                            <p:childTnLst>
                              <p:par>
                                <p:cTn id="64" nodeType="afterEffect" fill="hold" presetClass="exit" presetID="17" presetSubtype="8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3000"/>
                            </p:stCondLst>
                            <p:childTnLst>
                              <p:par>
                                <p:cTn id="7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4000"/>
                            </p:stCondLst>
                            <p:childTnLst>
                              <p:par>
                                <p:cTn id="78" nodeType="afterEffect" fill="hold" presetClass="exit" presetID="17" presetSubtype="8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3000"/>
                            </p:stCondLst>
                            <p:childTnLst>
                              <p:par>
                                <p:cTn id="8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4000"/>
                            </p:stCondLst>
                            <p:childTnLst>
                              <p:par>
                                <p:cTn id="92" nodeType="afterEffect" fill="hold" presetClass="exit" presetID="17" presetSubtype="8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3000"/>
                            </p:stCondLst>
                            <p:childTnLst>
                              <p:par>
                                <p:cTn id="9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3:35:24Z</dcterms:created>
  <dc:creator/>
  <dc:description/>
  <dc:language>en-US</dc:language>
  <cp:lastModifiedBy>GZB</cp:lastModifiedBy>
  <dcterms:modified xsi:type="dcterms:W3CDTF">2013-01-14T08:12:18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