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1216-0B2B-475F-BD8C-E602D57C6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B38D-F622-4111-B8C1-CB285803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3C88-2F45-4084-95DB-0DC461F98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72A1-0488-481C-A608-9FFEA51F1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0290-9D59-4197-8307-F8000E6D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4564-876C-4F4B-8215-518BB978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A2D8-65AF-411A-939F-49D349EF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FD92-7A00-42E8-9CB4-8C72C595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spcBef>
                <a:spcPts val="499"/>
              </a:spcBef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FC57-B550-4F3A-9C9C-585F4C41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A084-420D-4117-9EC1-DAFD287D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AFAC-A3CF-42C7-BF55-9E3D8DCF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65E8-23C6-4AD6-ADEE-F2CF30BF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SzPct val="25000"/>
              <a:buFont typeface="Arial"/>
              <a:buChar char="•"/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SzPct val="25000"/>
              <a:buFont typeface="Arial"/>
              <a:buChar char="•"/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5" marL="2057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6" marL="2057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宋体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07A7-3EEA-450C-B638-6BC4BF28B477}" type="datetime">
              <a:rPr b="0" lang="zh-CN" sz="1200" spc="-1" strike="noStrike">
                <a:solidFill>
                  <a:srgbClr val="898989"/>
                </a:solidFill>
                <a:latin typeface="微软雅黑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10A4-69EB-4586-93A7-1682E714BDAC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1"/>
          <p:cNvSpPr/>
          <p:nvPr/>
        </p:nvSpPr>
        <p:spPr>
          <a:xfrm>
            <a:off x="1927080" y="2133720"/>
            <a:ext cx="1584360" cy="1584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2"/>
          <p:cNvSpPr/>
          <p:nvPr/>
        </p:nvSpPr>
        <p:spPr>
          <a:xfrm>
            <a:off x="3967200" y="2098800"/>
            <a:ext cx="1584360" cy="1584360"/>
          </a:xfrm>
          <a:prstGeom prst="ellipse">
            <a:avLst/>
          </a:prstGeom>
          <a:solidFill>
            <a:srgbClr val="9bbb5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33"/>
          <p:cNvSpPr/>
          <p:nvPr/>
        </p:nvSpPr>
        <p:spPr>
          <a:xfrm>
            <a:off x="5940360" y="2143080"/>
            <a:ext cx="1584360" cy="1584360"/>
          </a:xfrm>
          <a:prstGeom prst="ellipse">
            <a:avLst/>
          </a:prstGeom>
          <a:solidFill>
            <a:srgbClr val="4bacc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11"/>
          <p:cNvSpPr/>
          <p:nvPr/>
        </p:nvSpPr>
        <p:spPr>
          <a:xfrm>
            <a:off x="1927080" y="2133720"/>
            <a:ext cx="1584360" cy="1584360"/>
          </a:xfrm>
          <a:prstGeom prst="donut">
            <a:avLst>
              <a:gd name="adj" fmla="val 1786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222"/>
          <p:cNvSpPr/>
          <p:nvPr/>
        </p:nvSpPr>
        <p:spPr>
          <a:xfrm>
            <a:off x="3967200" y="2098800"/>
            <a:ext cx="1584360" cy="1584360"/>
          </a:xfrm>
          <a:prstGeom prst="donut">
            <a:avLst>
              <a:gd name="adj" fmla="val 17865"/>
            </a:avLst>
          </a:prstGeom>
          <a:solidFill>
            <a:srgbClr val="9bbb5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333"/>
          <p:cNvSpPr/>
          <p:nvPr/>
        </p:nvSpPr>
        <p:spPr>
          <a:xfrm>
            <a:off x="5940360" y="2143080"/>
            <a:ext cx="1584360" cy="1584360"/>
          </a:xfrm>
          <a:prstGeom prst="donut">
            <a:avLst>
              <a:gd name="adj" fmla="val 17865"/>
            </a:avLst>
          </a:prstGeom>
          <a:solidFill>
            <a:srgbClr val="4bacc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255240" y="3789360"/>
            <a:ext cx="59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1. ADD YOUR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1"/>
          <p:cNvSpPr/>
          <p:nvPr/>
        </p:nvSpPr>
        <p:spPr>
          <a:xfrm>
            <a:off x="-4320" y="4581360"/>
            <a:ext cx="59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2. ADD YOUR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-69480" y="4870440"/>
            <a:ext cx="59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3. ADD YOUR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11111E-006 L 0.14757 -0.20995 E">
                                      <p:cBhvr>
                                        <p:cTn id="14" dur="4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400" fill="hold"/>
                                        <p:tgtEl>
                                          <p:spTgt spid="4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4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11111E-006 L 0.14757 -0.20995 E">
                                      <p:cBhvr>
                                        <p:cTn id="21" dur="4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400" fill="hold"/>
                                        <p:tgtEl>
                                          <p:spTgt spid="4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4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L -0.0033 -0.20648 E">
                                      <p:cBhvr>
                                        <p:cTn id="28" dur="4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0" dur="400" fill="hold"/>
                                        <p:tgtEl>
                                          <p:spTgt spid="4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L -0.0033 -0.20648 E">
                                      <p:cBhvr>
                                        <p:cTn id="32" dur="4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4" dur="400" fill="hold"/>
                                        <p:tgtEl>
                                          <p:spTgt spid="4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4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4.72222E-006 1.11111E-006 L -0.14965 -0.20995 E">
                                      <p:cBhvr>
                                        <p:cTn id="39" dur="4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41" dur="400" fill="hold"/>
                                        <p:tgtEl>
                                          <p:spTgt spid="4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4.72222E-006 1.11111E-006 L -0.14965 -0.20995 E">
                                      <p:cBhvr>
                                        <p:cTn id="43" dur="4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45" dur="400" fill="hold"/>
                                        <p:tgtEl>
                                          <p:spTgt spid="4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"/>
                            </p:stCondLst>
                            <p:childTnLst>
                              <p:par>
                                <p:cTn id="4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757 -0.20995 C 0.20903 -0.22361 0.27049 -0.23727 0.33663 -0.21644 C 0.40278 -0.1956 0.51233 -0.14977 0.54393 -0.08472 C 0.57552 -0.01968 0.56111 0.13356 0.52587 0.17361 C 0.49063 0.21366 0.37309 0.15972 0.33299 0.15602 E">
                                      <p:cBhvr>
                                        <p:cTn id="48" dur="5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500" fill="hold"/>
                                        <p:tgtEl>
                                          <p:spTgt spid="41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500" fill="hold"/>
                                        <p:tgtEl>
                                          <p:spTgt spid="4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757 -0.20995 C 0.20903 -0.22361 0.27049 -0.23727 0.33663 -0.21644 C 0.40278 -0.1956 0.51216 -0.14977 0.54393 -0.08472 C 0.5757 -0.01968 0.56216 0.13356 0.52709 0.17361 C 0.49202 0.21366 0.37344 0.15972 0.33299 0.15602 E">
                                      <p:cBhvr>
                                        <p:cTn id="54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033 -0.20649 C 0.03837 -0.22107 0.08003 -0.23542 0.14427 -0.18866 C 0.2085 -0.1419 0.34288 0.000469999999999998 0.38212 0.07476 C 0.42135 0.14907 0.39739 0.20787 0.37969 0.25694 C 0.36198 0.30601 0.31458 0.35208 0.27604 0.36921 E">
                                      <p:cBhvr>
                                        <p:cTn id="56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58" dur="500" fill="hold"/>
                                        <p:tgtEl>
                                          <p:spTgt spid="42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60" dur="500" fill="hold"/>
                                        <p:tgtEl>
                                          <p:spTgt spid="45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033 -0.20649 C 0.03837 -0.22107 0.08003 -0.23542 0.14427 -0.18866 C 0.2085 -0.1419 0.34288 0.000469999999999998 0.38212 0.07476 C 0.42135 0.14907 0.39739 0.20787 0.37969 0.25694 C 0.36198 0.30601 0.31458 0.35208 0.27604 0.36921 E">
                                      <p:cBhvr>
                                        <p:cTn id="62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xit" presetID="6" presetSubtype="32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14964 -0.20996 C -0.08228 -0.20139 -0.01475 -0.19283 0.0356 -0.14977 C 0.08595 -0.10672 0.16563 1.48148000000264E-006 0.15279 0.04861 E">
                                      <p:cBhvr>
                                        <p:cTn id="69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14964 -0.20996 C -0.08228 -0.20139 -0.01475 -0.19283 0.0356 -0.14977 C 0.08595 -0.10672 0.16563 1.48148000000264E-006 0.15279 0.04861 E">
                                      <p:cBhvr>
                                        <p:cTn id="71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73" dur="500" fill="hold"/>
                                        <p:tgtEl>
                                          <p:spTgt spid="4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75" dur="500" fill="hold"/>
                                        <p:tgtEl>
                                          <p:spTgt spid="46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xit" presetID="6" presetSubtype="32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" fill="hold"/>
                                        <p:tgtEl>
                                          <p:spTgt spid="4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200" fill="hold"/>
                                        <p:tgtEl>
                                          <p:spTgt spid="4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00"/>
                            </p:stCondLst>
                            <p:childTnLst>
                              <p:par>
                                <p:cTn id="98" dur="indefinite" nodeType="after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" dur="2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" dur="2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900"/>
                            </p:stCondLst>
                            <p:childTnLst>
                              <p:par>
                                <p:cTn id="111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500" fill="hold"/>
                                        <p:tgtEl>
                                          <p:spTgt spid="42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500" fill="hold"/>
                                        <p:tgtEl>
                                          <p:spTgt spid="45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299 0.15602 C 0.33906 0.1287 0.33316 0.02592 0.36979 -0.00857 C 0.40643 -0.04306 0.51441 -0.04167 0.55243 -0.05046 E">
                                      <p:cBhvr>
                                        <p:cTn id="116" dur="5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299 0.15602 C 0.33889 0.12917 0.33195 0.02917 0.36858 -0.00533 C 0.40521 -0.03982 0.51424 -0.04097 0.55243 -0.05046 E">
                                      <p:cBhvr>
                                        <p:cTn id="118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603 0.36921 C 0.26614 0.31342 0.25624 0.25787 0.22846 0.24236 C 0.20069 0.22685 0.12933 0.26967 0.10902 0.27638 E">
                                      <p:cBhvr>
                                        <p:cTn id="120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603 0.36921 C 0.26614 0.31342 0.25624 0.25787 0.22846 0.24236 C 0.20069 0.22685 0.12933 0.26967 0.10902 0.27638 E">
                                      <p:cBhvr>
                                        <p:cTn id="122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278 0.04861 C 0.17379 0.08518 0.1948 0.12199 0.20035 0.1787 C 0.20591 0.23542 0.21737 0.34653 0.1856 0.38843 C 0.15382 0.43032 0.04671 0.42176 0.01007 0.43055 E">
                                      <p:cBhvr>
                                        <p:cTn id="124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278 0.04861 C 0.17379 0.08518 0.1948 0.12199 0.20035 0.1787 C 0.20591 0.23542 0.21737 0.34653 0.1856 0.38843 C 0.15382 0.43032 0.04671 0.42176 0.01007 0.43055 E">
                                      <p:cBhvr>
                                        <p:cTn id="126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400"/>
                            </p:stCondLst>
                            <p:childTnLst>
                              <p:par>
                                <p:cTn id="12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" dur="200" fill="hold"/>
                                        <p:tgtEl>
                                          <p:spTgt spid="4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200" fill="hold"/>
                                        <p:tgtEl>
                                          <p:spTgt spid="4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00"/>
                            </p:stCondLst>
                            <p:childTnLst>
                              <p:par>
                                <p:cTn id="144" dur="indefinite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" dur="2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2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2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" dur="2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900"/>
                            </p:stCondLst>
                            <p:childTnLst>
                              <p:par>
                                <p:cTn id="157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" dur="500" fill="hold"/>
                                        <p:tgtEl>
                                          <p:spTgt spid="43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0" dur="500" fill="hold"/>
                                        <p:tgtEl>
                                          <p:spTgt spid="46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903 0.27639 C 0.11528 0.23889 0.1217 0.20162 0.16146 0.18032 C 0.20121 0.15903 0.30746 0.14444 0.34791 0.14791 C 0.38837 0.15139 0.39531 0.19259 0.40416 0.20139 E">
                                      <p:cBhvr>
                                        <p:cTn id="162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903 0.27639 C 0.11528 0.23889 0.1217 0.20162 0.16146 0.18032 C 0.20121 0.15903 0.30746 0.14444 0.34791 0.14791 C 0.38837 0.15139 0.39531 0.19259 0.40416 0.20139 E">
                                      <p:cBhvr>
                                        <p:cTn id="164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0.43056 C -0.0519 0.42662 -0.11371 0.42292 -0.0802 0.30694 E">
                                      <p:cBhvr>
                                        <p:cTn id="166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0.43056 C -0.0519 0.42662 -0.11371 0.42292 -0.0802 0.30694 E">
                                      <p:cBhvr>
                                        <p:cTn id="168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243 -0.05046 C 0.61788 0.09375 0.68334 0.23796 0.68785 0.32176 C 0.69236 0.40555 0.60972 0.43542 0.57934 0.45185 C 0.54896 0.46829 0.52066 0.42731 0.50521 0.42083 E">
                                      <p:cBhvr>
                                        <p:cTn id="170" dur="5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243 -0.05046 C 0.61788 0.09375 0.68334 0.23796 0.68785 0.32176 C 0.69236 0.40555 0.61025 0.43634 0.57934 0.45185 C 0.54844 0.46736 0.51875 0.42222 0.50278 0.41435 E">
                                      <p:cBhvr>
                                        <p:cTn id="172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400"/>
                            </p:stCondLst>
                            <p:childTnLst>
                              <p:par>
                                <p:cTn id="174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6:51:00Z</dcterms:created>
  <dc:creator>chen.zhb</dc:creator>
  <dc:description/>
  <dc:language>en-US</dc:language>
  <cp:lastModifiedBy>YANGS-PC</cp:lastModifiedBy>
  <dcterms:modified xsi:type="dcterms:W3CDTF">2015-11-12T07:08:34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  <property fmtid="{D5CDD505-2E9C-101B-9397-08002B2CF9AE}" pid="3" name="VIP等级">
    <vt:lpwstr>2</vt:lpwstr>
  </property>
  <property fmtid="{D5CDD505-2E9C-101B-9397-08002B2CF9AE}" pid="4" name="价格">
    <vt:lpwstr>40</vt:lpwstr>
  </property>
  <property fmtid="{D5CDD505-2E9C-101B-9397-08002B2CF9AE}" pid="5" name="使用说明">
    <vt:lpwstr>请使用PPT打开</vt:lpwstr>
  </property>
  <property fmtid="{D5CDD505-2E9C-101B-9397-08002B2CF9AE}" pid="6" name="使用软件">
    <vt:lpwstr>ppt</vt:lpwstr>
  </property>
  <property fmtid="{D5CDD505-2E9C-101B-9397-08002B2CF9AE}" pid="7" name="关键字">
    <vt:lpwstr>文本 白 白色 红色 蓝色 绿色 圆 圆形 引出 旋转 矩形 排列 排版 V2 多个 PPT动画模板 开场动画 </vt:lpwstr>
  </property>
  <property fmtid="{D5CDD505-2E9C-101B-9397-08002B2CF9AE}" pid="8" name="操作代码">
    <vt:lpwstr>1</vt:lpwstr>
  </property>
  <property fmtid="{D5CDD505-2E9C-101B-9397-08002B2CF9AE}" pid="9" name="是否可购买">
    <vt:lpwstr>1</vt:lpwstr>
  </property>
  <property fmtid="{D5CDD505-2E9C-101B-9397-08002B2CF9AE}" pid="10" name="显示VIP等级">
    <vt:lpwstr>2</vt:lpwstr>
  </property>
  <property fmtid="{D5CDD505-2E9C-101B-9397-08002B2CF9AE}" pid="11" name="标题">
    <vt:lpwstr>3项圆形动画</vt:lpwstr>
  </property>
  <property fmtid="{D5CDD505-2E9C-101B-9397-08002B2CF9AE}" pid="12" name="模板ID">
    <vt:lpwstr>A60620130509A02</vt:lpwstr>
  </property>
  <property fmtid="{D5CDD505-2E9C-101B-9397-08002B2CF9AE}" pid="13" name="模板缩略图">
    <vt:lpwstr>A60620130509A02.png</vt:lpwstr>
  </property>
  <property fmtid="{D5CDD505-2E9C-101B-9397-08002B2CF9AE}" pid="14" name="相关案例">
    <vt:lpwstr>854</vt:lpwstr>
  </property>
  <property fmtid="{D5CDD505-2E9C-101B-9397-08002B2CF9AE}" pid="15" name="缩略图标题">
    <vt:lpwstr>A60620130509A0201.mp4</vt:lpwstr>
  </property>
  <property fmtid="{D5CDD505-2E9C-101B-9397-08002B2CF9AE}" pid="16" name="适用软件">
    <vt:lpwstr>PowerPoint 2007 及以上版本</vt:lpwstr>
  </property>
  <property fmtid="{D5CDD505-2E9C-101B-9397-08002B2CF9AE}" pid="17" name="附件ID">
    <vt:lpwstr>A60620130509A0201</vt:lpwstr>
  </property>
  <property fmtid="{D5CDD505-2E9C-101B-9397-08002B2CF9AE}" pid="18" name="附件缩略图">
    <vt:lpwstr>A60620130509A0201.png</vt:lpwstr>
  </property>
  <property fmtid="{D5CDD505-2E9C-101B-9397-08002B2CF9AE}" pid="19" name="附件路径">
    <vt:lpwstr>A60620130509A0201.pptx</vt:lpwstr>
  </property>
</Properties>
</file>