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138-013B-4799-916E-98F74D42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863-DDF9-4363-AEE3-86752405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A92-8B18-400E-BC7B-01898142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E90-38BA-4FF8-8860-BE47E98A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881-C1BF-40CF-8BC9-C29B58B1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342-80C9-481C-A1AA-5A6CE5A6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8A2-1E12-4550-B8A5-A48FE48D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7BE-D499-4040-A050-DCA2B36A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81E-F167-4EAF-9D4A-5631365A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94B-408A-4222-806F-9BF1D1C1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203-BED0-4F19-A688-D5329F2A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AFA-9E30-4A76-889E-A271BCC5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C142-3109-425B-98AA-B647B94C2E3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55DC-F2F0-459C-93E8-0C64E058A1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676520"/>
            <a:ext cx="91440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87200" y="3301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eckerliOne"/>
                <a:ea typeface="Open Sans"/>
              </a:rPr>
              <a:t>City Themed Tabs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 Same Side Corner Rectangle 8"/>
          <p:cNvSpPr/>
          <p:nvPr/>
        </p:nvSpPr>
        <p:spPr>
          <a:xfrm>
            <a:off x="152280" y="1143000"/>
            <a:ext cx="2133720" cy="533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Tab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387520" y="1143000"/>
            <a:ext cx="2133720" cy="533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Tab 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 Same Side Corner Rectangle 10"/>
          <p:cNvSpPr/>
          <p:nvPr/>
        </p:nvSpPr>
        <p:spPr>
          <a:xfrm>
            <a:off x="4622760" y="1143000"/>
            <a:ext cx="2133720" cy="533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Tab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 Same Side Corner Rectangle 11"/>
          <p:cNvSpPr/>
          <p:nvPr/>
        </p:nvSpPr>
        <p:spPr>
          <a:xfrm>
            <a:off x="6858000" y="1143000"/>
            <a:ext cx="2133720" cy="533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Tab F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7"/>
          <p:cNvSpPr/>
          <p:nvPr/>
        </p:nvSpPr>
        <p:spPr>
          <a:xfrm>
            <a:off x="4800600" y="2359080"/>
            <a:ext cx="3978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ckerliOne"/>
              </a:rPr>
              <a:t>Tab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Pellentesque habitant morbi tristique senectus et netus et malesuada fames ac turpis egestas. Proin pharetra nonummy pede. Mauris et or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 Same Side Corner Rectangle 18"/>
          <p:cNvSpPr/>
          <p:nvPr/>
        </p:nvSpPr>
        <p:spPr>
          <a:xfrm>
            <a:off x="152280" y="1143000"/>
            <a:ext cx="2133720" cy="53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Open Sans"/>
                <a:ea typeface="Open Sans"/>
              </a:rPr>
              <a:t>Tab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0" y="1676520"/>
            <a:ext cx="91440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187200" y="3301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eckerliOne"/>
                <a:ea typeface="Open Sans"/>
              </a:rPr>
              <a:t>City Themed Tabs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 Same Side Corner Rectangle 8"/>
          <p:cNvSpPr/>
          <p:nvPr/>
        </p:nvSpPr>
        <p:spPr>
          <a:xfrm>
            <a:off x="152280" y="1143000"/>
            <a:ext cx="2133720" cy="533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Tab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 Same Side Corner Rectangle 9"/>
          <p:cNvSpPr/>
          <p:nvPr/>
        </p:nvSpPr>
        <p:spPr>
          <a:xfrm>
            <a:off x="2387520" y="1143000"/>
            <a:ext cx="2133720" cy="533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Tab 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 Same Side Corner Rectangle 10"/>
          <p:cNvSpPr/>
          <p:nvPr/>
        </p:nvSpPr>
        <p:spPr>
          <a:xfrm>
            <a:off x="4622760" y="1143000"/>
            <a:ext cx="2133720" cy="533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Tab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 Same Side Corner Rectangle 11"/>
          <p:cNvSpPr/>
          <p:nvPr/>
        </p:nvSpPr>
        <p:spPr>
          <a:xfrm>
            <a:off x="6858000" y="1143000"/>
            <a:ext cx="2133720" cy="533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Tab F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4800600" y="2359080"/>
            <a:ext cx="3978360" cy="36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ckerliOne"/>
              </a:rPr>
              <a:t>Tab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Lorem ipsum dolor sit amet, consectetuer adipiscing elit. Maecenas porttitor congue mas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Pellentesque habitant morbi tristique senectus et netus et malesuada fames ac turpis egest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Proin pharetra nonummy pede. Mauris et or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 Same Side Corner Rectangle 18"/>
          <p:cNvSpPr/>
          <p:nvPr/>
        </p:nvSpPr>
        <p:spPr>
          <a:xfrm>
            <a:off x="2368440" y="1143000"/>
            <a:ext cx="2133720" cy="53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Open Sans"/>
                <a:ea typeface="Open Sans"/>
              </a:rPr>
              <a:t>Tab 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0" y="1676520"/>
            <a:ext cx="91440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87200" y="3301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eckerliOne"/>
                <a:ea typeface="Open Sans"/>
              </a:rPr>
              <a:t>City Themed Tabs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 Same Side Corner Rectangle 8"/>
          <p:cNvSpPr/>
          <p:nvPr/>
        </p:nvSpPr>
        <p:spPr>
          <a:xfrm>
            <a:off x="152280" y="1143000"/>
            <a:ext cx="2133720" cy="533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Tab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 Same Side Corner Rectangle 9"/>
          <p:cNvSpPr/>
          <p:nvPr/>
        </p:nvSpPr>
        <p:spPr>
          <a:xfrm>
            <a:off x="2387520" y="1143000"/>
            <a:ext cx="2133720" cy="533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Tab 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 Same Side Corner Rectangle 10"/>
          <p:cNvSpPr/>
          <p:nvPr/>
        </p:nvSpPr>
        <p:spPr>
          <a:xfrm>
            <a:off x="4622760" y="1143000"/>
            <a:ext cx="2133720" cy="533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Tab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 Same Side Corner Rectangle 11"/>
          <p:cNvSpPr/>
          <p:nvPr/>
        </p:nvSpPr>
        <p:spPr>
          <a:xfrm>
            <a:off x="6858000" y="1143000"/>
            <a:ext cx="2133720" cy="533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Tab F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4800600" y="2359080"/>
            <a:ext cx="397836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ckerliOne"/>
              </a:rPr>
              <a:t>Tab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Pellentesque habitant morbi tristique senectus et netus et malesuada fames ac turpis egest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Proin pharetra nonummy pede. Mauris et or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Fusce posuere, magna sed pulvinar ultricies, purus lectus malesuada libero, sit amet commodo magna eros quis urna. Lipsum dolor sit amet, consectetuer adipiscing elit. Maecenas porttitor congue mas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 Same Side Corner Rectangle 18"/>
          <p:cNvSpPr/>
          <p:nvPr/>
        </p:nvSpPr>
        <p:spPr>
          <a:xfrm>
            <a:off x="4635360" y="1143000"/>
            <a:ext cx="2133720" cy="53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Open Sans"/>
                <a:ea typeface="Open Sans"/>
              </a:rPr>
              <a:t>Tab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9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0" y="1676520"/>
            <a:ext cx="91440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87200" y="3301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eckerliOne"/>
                <a:ea typeface="Open Sans"/>
              </a:rPr>
              <a:t>City Themed Tabs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 Same Side Corner Rectangle 8"/>
          <p:cNvSpPr/>
          <p:nvPr/>
        </p:nvSpPr>
        <p:spPr>
          <a:xfrm>
            <a:off x="152280" y="1143000"/>
            <a:ext cx="2133720" cy="533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Tab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 Same Side Corner Rectangle 9"/>
          <p:cNvSpPr/>
          <p:nvPr/>
        </p:nvSpPr>
        <p:spPr>
          <a:xfrm>
            <a:off x="2387520" y="1143000"/>
            <a:ext cx="2133720" cy="533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Tab 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 Same Side Corner Rectangle 10"/>
          <p:cNvSpPr/>
          <p:nvPr/>
        </p:nvSpPr>
        <p:spPr>
          <a:xfrm>
            <a:off x="4622760" y="1143000"/>
            <a:ext cx="2133720" cy="533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Tab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 Same Side Corner Rectangle 11"/>
          <p:cNvSpPr/>
          <p:nvPr/>
        </p:nvSpPr>
        <p:spPr>
          <a:xfrm>
            <a:off x="6858000" y="1143000"/>
            <a:ext cx="2133720" cy="533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Tab F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4800600" y="2359080"/>
            <a:ext cx="397836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ckerliOne"/>
              </a:rPr>
              <a:t>Tab 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Lorem ipsum dolor sit amet, consectetuer adipiscing elit. Maecenas porttitor congue mas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Pellentesque habitant morbi tristique senectus et netus et malesuada fames ac turpis egestas. Proin pharetra nonummy pede. Mauris et or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 Same Side Corner Rectangle 18"/>
          <p:cNvSpPr/>
          <p:nvPr/>
        </p:nvSpPr>
        <p:spPr>
          <a:xfrm>
            <a:off x="6858000" y="1149480"/>
            <a:ext cx="2133720" cy="533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Open Sans"/>
                <a:ea typeface="Open Sans"/>
              </a:rPr>
              <a:t>Tab F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9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4T20:16:00Z</dcterms:created>
  <dc:creator>Nicole</dc:creator>
  <dc:description/>
  <dc:language>en-US</dc:language>
  <cp:lastModifiedBy>YANGS-PC</cp:lastModifiedBy>
  <dcterms:modified xsi:type="dcterms:W3CDTF">2015-11-12T05:45:3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25A6232-AC42-4E0B-951B-1860E392ED52</vt:lpwstr>
  </property>
  <property fmtid="{D5CDD505-2E9C-101B-9397-08002B2CF9AE}" pid="3" name="ArticulatePath">
    <vt:lpwstr>Presentation1</vt:lpwstr>
  </property>
  <property fmtid="{D5CDD505-2E9C-101B-9397-08002B2CF9AE}" pid="4" name="ArticulateProjectFull">
    <vt:lpwstr>C:\Users\Nicole\Desktop\CityTemplate\City_TabsTemplate.ppta</vt:lpwstr>
  </property>
  <property fmtid="{D5CDD505-2E9C-101B-9397-08002B2CF9AE}" pid="5" name="ArticulateProjectVersion">
    <vt:lpwstr>7</vt:lpwstr>
  </property>
  <property fmtid="{D5CDD505-2E9C-101B-9397-08002B2CF9AE}" pid="6" name="ArticulateUseProject">
    <vt:lpwstr>1</vt:lpwstr>
  </property>
  <property fmtid="{D5CDD505-2E9C-101B-9397-08002B2CF9AE}" pid="7" name="KSOProductBuildVer">
    <vt:lpwstr>2052-9.1.0.5218</vt:lpwstr>
  </property>
</Properties>
</file>