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F6C9-EDF9-4DA5-AD9D-7D7B1ABA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4A2D-AAF2-4967-A326-6A72169D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6AA8-D6CC-4D55-831C-2D616AFA0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460D-D380-49CE-8FD1-0A4561E3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883D-F66E-4C30-B245-2C346C43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DCBB-D7B7-48A2-9191-13026F1E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E142-BDB1-4E22-86E6-31AA22DA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B42A-566D-489F-B712-A86CA1C5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EC17-B597-43FA-9A1A-B128972E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AC2D-7389-4940-9238-19FE251A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FD71-1A3C-4AD5-B124-E7C76E05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CA3-4A3C-4C47-9212-D9115763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3549-D2DE-4CB2-9C0E-6AB9CB97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23D2-A1C1-4D80-9DC0-CA3FB4EB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A65A-4EA8-4F10-8CA7-16A8439F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FB6D-809A-4322-B486-C27EF7C8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4710-492A-472B-9D0B-71AF232C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5185-1A5D-4887-AD60-8D4BA3C2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DD8B-13EF-47A2-AEF8-9A74DB45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83D3-1E73-4CC1-994E-E121356D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0E8B-40AF-4886-922D-E810DEB4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8A17-660D-48DC-9056-5FC59C80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0524-16E1-40A3-AC82-87DFB723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4E65-6B58-4C0E-9B8C-7D94D894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35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"/>
          <p:cNvPicPr/>
          <p:nvPr/>
        </p:nvPicPr>
        <p:blipFill>
          <a:blip r:embed="rId3"/>
          <a:stretch/>
        </p:blipFill>
        <p:spPr>
          <a:xfrm>
            <a:off x="-324000" y="3933720"/>
            <a:ext cx="10117440" cy="319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A222-AEE7-45E7-88FF-A6520CF5DF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2" descr=""/>
          <p:cNvPicPr/>
          <p:nvPr/>
        </p:nvPicPr>
        <p:blipFill>
          <a:blip r:embed="rId2"/>
          <a:stretch/>
        </p:blipFill>
        <p:spPr>
          <a:xfrm>
            <a:off x="-1260360" y="907920"/>
            <a:ext cx="9361440" cy="6438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635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1944-9E5D-42C5-9E68-F7BB69B39CCC}" type="slidenum">
              <a:rPr b="0" lang="zh-CN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7" descr=""/>
          <p:cNvPicPr/>
          <p:nvPr/>
        </p:nvPicPr>
        <p:blipFill>
          <a:blip r:embed="rId2"/>
          <a:stretch/>
        </p:blipFill>
        <p:spPr>
          <a:xfrm>
            <a:off x="4427640" y="1366920"/>
            <a:ext cx="4052880" cy="1041480"/>
          </a:xfrm>
          <a:prstGeom prst="rect">
            <a:avLst/>
          </a:prstGeom>
          <a:ln w="0">
            <a:noFill/>
          </a:ln>
        </p:spPr>
      </p:pic>
      <p:sp>
        <p:nvSpPr>
          <p:cNvPr id="83" name="矩形 8"/>
          <p:cNvSpPr/>
          <p:nvPr/>
        </p:nvSpPr>
        <p:spPr>
          <a:xfrm>
            <a:off x="1979640" y="2787480"/>
            <a:ext cx="690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6526080"/>
            <a:ext cx="50799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3:5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11-11T06:18:18Z</dcterms:modified>
  <cp:revision>10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