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A5D-975C-46CA-BB93-AB13D790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2A78-D260-406E-B65E-3DA1DC67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3A5A-C061-4368-A1A6-E7465EB8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A9C2-347C-4FD5-82B7-2134690C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D710-A443-4B79-9965-98F28AB5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BDDC-D7A1-4F70-BB9C-25559185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8F1-5D88-46EB-B1CC-5739EB2C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D903-4066-4B47-B972-7321783A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666-3C9F-4174-8782-E89EB425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D8D-3535-4C24-BEBD-AFC004E9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2FBD-DDC5-48DA-A89E-F7AFD84A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3270-DEF0-440E-BACC-C54CDBAE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2D75-3EF3-41E0-A51B-BD07BFB36F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419720" y="2712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500720" y="321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621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9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63640" y="1243080"/>
            <a:ext cx="7172280" cy="562752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0" y="0"/>
            <a:ext cx="6012000" cy="4149720"/>
            <a:chOff x="0" y="0"/>
            <a:chExt cx="6012000" cy="4149720"/>
          </a:xfrm>
        </p:grpSpPr>
        <p:sp>
          <p:nvSpPr>
            <p:cNvPr id="60" name=""/>
            <p:cNvSpPr/>
            <p:nvPr/>
          </p:nvSpPr>
          <p:spPr>
            <a:xfrm>
              <a:off x="0" y="0"/>
              <a:ext cx="6012000" cy="4149720"/>
            </a:xfrm>
            <a:prstGeom prst="cloudCallout">
              <a:avLst>
                <a:gd name="adj1" fmla="val 22087"/>
                <a:gd name="adj2" fmla="val 2785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653760" y="428760"/>
              <a:ext cx="4442040" cy="301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美叮当跌下台，小老鼠阿朗接住她。一起逃走把身藏。老鼠们吓得吱吱叫，村长想一定要找女婿比猫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16080" y="-12600"/>
            <a:ext cx="8577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太阳光照身上，黑猫悄悄躲开睡一旁。村长发现太阳比猫强。他问太阳：“你是不是世界上最强的新郎。”太阳说：“我的光会照，我是最强的新郎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75664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片乌云飘过来，遮住了太阳。村长问乌云：“你是不是世界上最强的新郎？”乌云说：“我会遮太阳，我是最强的新郎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868356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205000"/>
            <a:ext cx="842472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阵风吹来，吹散了乌云。村长问风：“你是不是世界上最强的新郎？”风说：“我会吹，我是最强的新郎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autoRev="1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5 -0.05718 C -0.46163 -0.08102 -0.42309 -0.10463 -0.37083 -0.09421 C -0.31858 -0.0838 -0.24965 0.00509 -0.18576 0.00463 C -0.12187 0.00417 -0.04618 -0.07593 0.01215 -0.09653 C 0.07101 -0.11713 0.11163 -0.13657 0.1658 -0.11875 C 0.21997 -0.10093 0.28212 0.00463 0.33715 0.01088 C 0.39236 0.01713 0.44427 -0.03241 0.49635 -0.08171 E">
                                      <p:cBhvr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村长被风吹着走，碰到前面一堵墙，挡住了风挡住了老村长。村长问墙：“你是不是世界上最强的新郎？”墙说：“我会挡，我是最强的新郎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突然，只听“咯吱咯吱”响，村长只见墙角破了一个洞。洞里钻出老鼠小阿郎。村长问：“难道你是世界上最强的新郎？”阿郎说：“我会打洞，我是最强的新郎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村长迷糊了：“可是猫比你强，到底谁是最强的新郎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156360" y="476280"/>
            <a:ext cx="2808360" cy="2513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156360" y="3716280"/>
            <a:ext cx="2808360" cy="2481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203640" y="3789360"/>
            <a:ext cx="2663640" cy="2430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250920" y="620640"/>
            <a:ext cx="2808360" cy="252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3276720" y="476280"/>
            <a:ext cx="2663640" cy="2521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250920" y="3645000"/>
            <a:ext cx="2808360" cy="2498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56000" y="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80000" y="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5435280" y="6124320"/>
            <a:ext cx="1152360" cy="733320"/>
          </a:xfrm>
          <a:custGeom>
            <a:avLst/>
            <a:gdLst>
              <a:gd name="textAreaLeft" fmla="*/ 195480 w 1152360"/>
              <a:gd name="textAreaRight" fmla="*/ 841680 w 115236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28" hR="21600" stAng="10800000" swAng="5400000"/>
                <a:lnTo>
                  <a:pt x="12113" y="0"/>
                </a:lnTo>
                <a:arcTo wR="7328" hR="21600" stAng="-5400000" swAng="2477441"/>
                <a:lnTo>
                  <a:pt x="21108" y="13817"/>
                </a:lnTo>
                <a:lnTo>
                  <a:pt x="17048" y="21600"/>
                </a:lnTo>
                <a:lnTo>
                  <a:pt x="12003" y="13817"/>
                </a:lnTo>
                <a:lnTo>
                  <a:pt x="14163" y="13817"/>
                </a:lnTo>
                <a:arcTo wR="7328" hR="21600" stAng="-2922559" swAng="-2076413"/>
                <a:lnTo>
                  <a:pt x="9720" y="1184"/>
                </a:lnTo>
                <a:arcTo wR="7328" hR="21600" stAng="-5801028" swAng="-4998972"/>
                <a:close/>
              </a:path>
              <a:path fill="darkenLess" w="21600" h="21600">
                <a:moveTo>
                  <a:pt x="0" y="21600"/>
                </a:moveTo>
                <a:arcTo wR="7328" hR="21600" stAng="10800000" swAng="5400000"/>
                <a:lnTo>
                  <a:pt x="7328" y="0"/>
                </a:lnTo>
                <a:arcTo wR="7328" hR="21600" stAng="-5400000" swAng="401028"/>
                <a:lnTo>
                  <a:pt x="9720" y="1184"/>
                </a:lnTo>
                <a:arcTo wR="7328" hR="21600" stAng="-5801028" swAng="-499897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2627280" y="6124320"/>
            <a:ext cx="1152720" cy="733320"/>
          </a:xfrm>
          <a:custGeom>
            <a:avLst/>
            <a:gdLst>
              <a:gd name="textAreaLeft" fmla="*/ 195480 w 1152720"/>
              <a:gd name="textAreaRight" fmla="*/ 842040 w 115272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28" hR="21600" stAng="10800000" swAng="5400000"/>
                <a:lnTo>
                  <a:pt x="12113" y="0"/>
                </a:lnTo>
                <a:arcTo wR="7328" hR="21600" stAng="-5400000" swAng="2477441"/>
                <a:lnTo>
                  <a:pt x="21108" y="13817"/>
                </a:lnTo>
                <a:lnTo>
                  <a:pt x="17048" y="21600"/>
                </a:lnTo>
                <a:lnTo>
                  <a:pt x="12003" y="13817"/>
                </a:lnTo>
                <a:lnTo>
                  <a:pt x="14163" y="13817"/>
                </a:lnTo>
                <a:arcTo wR="7328" hR="21600" stAng="-2922559" swAng="-2076413"/>
                <a:lnTo>
                  <a:pt x="9720" y="1184"/>
                </a:lnTo>
                <a:arcTo wR="7328" hR="21600" stAng="-5801028" swAng="-4998972"/>
                <a:close/>
              </a:path>
              <a:path fill="darkenLess" w="21600" h="21600">
                <a:moveTo>
                  <a:pt x="0" y="21600"/>
                </a:moveTo>
                <a:arcTo wR="7328" hR="21600" stAng="10800000" swAng="5400000"/>
                <a:lnTo>
                  <a:pt x="7328" y="0"/>
                </a:lnTo>
                <a:arcTo wR="7328" hR="21600" stAng="-5400000" swAng="401028"/>
                <a:lnTo>
                  <a:pt x="9720" y="1184"/>
                </a:lnTo>
                <a:arcTo wR="7328" hR="21600" stAng="-5801028" swAng="-499897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36000" y="2852640"/>
            <a:ext cx="558720" cy="905040"/>
          </a:xfrm>
          <a:prstGeom prst="downArrow">
            <a:avLst>
              <a:gd name="adj1" fmla="val 50000"/>
              <a:gd name="adj2" fmla="val 404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1115640" y="2852640"/>
            <a:ext cx="701640" cy="936720"/>
          </a:xfrm>
          <a:prstGeom prst="downArrow">
            <a:avLst>
              <a:gd name="adj1" fmla="val 50000"/>
              <a:gd name="adj2" fmla="val 333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世界上没有最强的新郎，只有最合适的新郎。美叮当，想一想，还是找到阿郎做新郎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9182160" cy="6896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看，叮叮矿，叮叮矿，大小老鼠来帮忙，今夜老鼠娶新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4643280" y="333360"/>
              <a:ext cx="4176720" cy="3100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儿歌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小白菜，地里黄，老鼠村，老村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村长女儿美叮当，想找女婿比猫强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太阳最强嫁太阳，太阳不行嫁给云，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云不行，嫁给风，风不行，嫁给墙，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墙不行，想一想，还是嫁给老鼠郎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花对花，柳对柳，鸡嫁鸡，狗嫁狗，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簸箕簸箕配扫帚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月一，年初一。一月二，年初二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年初三，早上床，今夜老鼠娶新娘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大小老鼠来帮忙，抬花轿，搬嫁妆，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新郎新娘早拜堂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拜堂，二拜堂，三拜堂来入洞房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276720" y="1773360"/>
            <a:ext cx="2462040" cy="216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619280" y="3933720"/>
            <a:ext cx="604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9240" y="200160"/>
            <a:ext cx="8705520" cy="64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852640"/>
            <a:ext cx="854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一个村庄的墙脚下，有一个老鼠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18960" y="142920"/>
            <a:ext cx="8506080" cy="6572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859280" y="2565360"/>
            <a:ext cx="34830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852640"/>
            <a:ext cx="864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村长有个女儿叫美叮当，美叮当很漂亮，小伙子都想娶她做新娘。可是，到底谁来做新郎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219640" y="115920"/>
            <a:ext cx="39243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881000" y="836640"/>
            <a:ext cx="5057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美叮当想了一个办法，在墙角高台上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美叮当抛绣球，接住绣球的就是新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一天，村里的老鼠都聚拢来，等接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球做新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但是，美叮当的绣球刚抛下，突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喵唔，窜出一只大黑猫，一爪打在高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08:45:02Z</dcterms:created>
  <dc:creator>User</dc:creator>
  <dc:description/>
  <dc:language>en-US</dc:language>
  <cp:lastModifiedBy>123</cp:lastModifiedBy>
  <dcterms:modified xsi:type="dcterms:W3CDTF">2012-06-04T14:58:38Z</dcterms:modified>
  <cp:revision>34</cp:revision>
  <dc:subject/>
  <dc:title>幻灯片 1</dc:title>
</cp:coreProperties>
</file>