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media/image19.jpeg" ContentType="image/jpe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2D31-E5B4-43D3-9F38-37A0D3432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3FA8-3648-44F7-B8E6-A73D24CEA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95E554-9449-4930-9358-FD4C28F70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5AA814-EB7F-4AE7-9E8F-D80506CC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610F30-7F80-41D8-8C17-0952314EF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D5174C-FA86-40F7-8D20-712D8BD4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5FA27D-387E-40EB-AED8-681E7CF1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3B4605-AACF-4A63-8309-4D2EFACE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8A7527-EC05-4346-91F2-AA333367C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F916A8-FF9A-4293-85E8-539AEF70A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DB983D-BEEB-4F53-93AC-22F6E8401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B7A26A-1FA8-492A-9A56-C40B2A92D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9D02-5FFE-40A5-9E6D-41FD07809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F7D1F3-8C89-4DD0-9C53-6225F211E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E6846E-731F-4C6A-BDB9-4E88A88FE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FD8810-F369-4F57-A20E-FA8DD8D9E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FF1FC8-72CF-4D05-9235-4FAD43D8F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D7139D-3717-4C9A-BD6A-F3B39244F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EB7222-1D64-4482-A105-7E9032EB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47FC5C-568D-449F-BC53-BF15FBDC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D80C0C-C00F-4FE3-B580-D6E12D3D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3FB0BA-CFAC-41CE-B354-F36B6CA61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6AAF13-4A09-4949-916B-18C622860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AA11-F919-4FD7-95DD-694B4D82D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7B3E67-8F9E-4C4B-A8E1-1A3BD3871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5C7B2E-B204-4B52-97C8-1C40A291B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D517C7-C6FC-4B7A-8C5D-E7B3214F4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02204D-78B4-4855-AB03-CF9D7E3D5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5B8726-8E07-4FEF-8393-C6E700791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0CB0B2-FA5A-452D-9065-2F7436723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BE7225-2907-43EA-A436-9760684F9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40B003-77F8-48C0-BC1F-F033409E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DF0784-D78A-4039-A9F0-CB223750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7A4657-D445-411F-9E12-36807D13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8C6DF-3A4C-4A48-B4B2-CEAB6D1C2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4A2C65-4435-4D3A-904E-411BDC49C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D273A4-6A5D-46FE-A748-2509690D6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B0A9A6-29BA-4659-9DB6-F724F32D9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6C9C20-BD3B-4694-8CED-46E8FE7DF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807F4A-AF41-4B9C-919F-B4061C893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30B13C-6252-4C44-A36A-732297E51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AC1ED7-0967-4F12-9F8C-92AF60F45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2995D7-D5B3-472B-B1BA-902819338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8C5633-CDBC-4043-B45E-FDC2A6F23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662D79-4935-40DA-81CF-C1EDB3B4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CE7F9-01D2-4E71-910D-C65D01DBA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E5BDB6-9FDF-4E03-879E-F83412E0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F32C7C-C008-49EB-847B-C22C1969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8999D7-ABFB-411A-8ECF-25E6E48F7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140651-0E7A-4678-BD2E-55189C4C0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DC9555-E293-4A19-A3B0-4100C01E2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60F36B-4FAC-4F5D-AB30-E1EF8C5C4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5DB0E7-4BCE-4A98-B801-74C7F27F8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188CAB-E0C4-4F4A-84A2-2FD46A8B3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6991FA-5DF7-4505-AF12-A833BB71C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D43BE9-8AF3-4347-BB51-5D771D805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4492B-CE3C-4549-8701-F1CE2BB23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BC946D-E966-499E-A4E8-CB9193FF3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3C8326-979B-4F3D-9CA1-98DAE15A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BE5266-6897-4D98-AEE2-8A0328EA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B08F84-E584-451E-A235-DCCF6D04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D741BD-2C86-4050-A5BC-D93673854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6B0872-CFC0-4E4C-8180-6AE0BB88E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C1D5AA-9F88-4736-918F-A49D0FD63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AC0F31-A9A5-44C6-A31B-1572F5616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6B0CD9-71BE-4DEC-B066-5F0AB114E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E07B49-5E24-4D80-B6D7-E7CEC4CC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CF5FC-4ACF-47A9-9026-A051B5F50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93AA10-A1CC-484A-88C1-933C5237D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A73B0C-B61F-4364-9E80-E2E427D34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57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E06685-C1EB-4B69-8748-0388B61F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BA41B5-31BE-4942-B8CF-20025500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DBC14D-DDFB-4F0D-BBB2-22C4900E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152BE8-AB86-4F20-9717-42406B0A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F472CC-B886-4045-ABB2-7ACA34855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73EE5E-AB48-428F-9334-C3F4C2713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D7ADCD-63C6-45F6-BD7D-82723A512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F00F9-03F2-4DA0-AAAB-E59214F95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457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25B99-7BEC-40E2-B216-B71E5EC11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457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EEF7D-9DE7-4632-9C22-4BDA0CCB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457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F06E-9D1D-4FCE-BD98-A9EEE709E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109CB-6E4B-4327-949B-58D9C2C6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88200-7148-403D-9EB1-88CB0B2E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F2CC0-71D1-431F-A9BE-447BCFE76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457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E6B6F23-AD9D-40D5-A67C-5B2D8721B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DA03C-E0BB-4E49-9273-3FB1D77E7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3CE9708-BCF4-435E-BED0-BDF7B836F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B4DA833-3DF1-4F04-AA7A-56259AB0F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65D2343-95AF-4BED-BDFE-74B9E3813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DD7AC5F-E09F-49FD-9285-C2E98DEBA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457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86FF1C8-6EDB-47DA-A51D-361E29A02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08730D9-9AFD-465C-919A-8D359FA9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80AE71B-13D9-409F-8C39-57B2F8AE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7CFB356-1051-4CB0-8CA8-8758635D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21CF60F-2252-4DA3-A137-D849A081B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D48D5B1-1886-448F-B34F-0EE0CBA24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FA658-8F5B-4CE0-A7B9-D8CD40C00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D109A6C-5F9D-40B6-A298-1FC2F2B60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C27ADEF-4EC7-4975-8CB2-930235759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29C623C-8916-4ECC-9E0D-0631DA15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E7DA394-1E64-47C2-B9EF-D31B7EDED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5077C87-B9C8-4F08-986C-A5FE07C19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F1BB8C8-D784-4B40-8546-14CA8315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ubTitle"/>
          </p:nvPr>
        </p:nvSpPr>
        <p:spPr>
          <a:xfrm>
            <a:off x="457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063C63F-318D-400D-BEDE-EF40230F4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9207213-3B39-4F77-8AED-FC11B558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417B4F8-7F1D-4BAD-BDC8-02CEC46A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A90E418-31D6-429D-8556-BB470568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3DC09-A114-4BD8-BE5F-1C233429B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A4A0C82-49D5-49EB-B2D1-EA5090268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3D51266-6B6F-4860-8F05-4EDE40449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8D2CED2-9266-4DB7-85ED-0EE27563B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5875C6B-D017-4CE3-9FA0-166369272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FEDBF02-1D1A-434B-A73D-A6D59F20F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5749500-B804-4BB1-AF86-F356A15FF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A004559-BA94-4D0F-A12D-A9AB39494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90637C4-D7BC-4DC2-858A-0D05DDFF6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457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FE436FC-7D4A-4EB5-A0DF-F755175D1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9082ECF-5265-45FA-A4B6-2F6D4524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A8281-FF16-4631-8450-7561D060C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01911F9-18DD-4507-B20D-AD892661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3027FCA-651A-4E37-94A9-CA3E0D98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6DA0E0B-5856-49BA-B1D8-6FAFF040C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9689FC7-312A-455E-A349-7FDEBCFD2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01D5B63-932B-471A-9169-0C26780D4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206FA-FC17-4480-BBF8-6040ADA65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ubTitle"/>
          </p:nvPr>
        </p:nvSpPr>
        <p:spPr>
          <a:xfrm>
            <a:off x="457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7F056-4A54-4B2B-BEA8-8230866F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917D1-7BD1-49A6-B63A-41417339C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CFB0-312C-4BD7-A795-2CD104C55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20C3C-B855-4908-97CD-9E2006CBC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B7C0E-6E3F-4643-AA31-9C154925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656CE-AB6B-4168-A327-CC93C6BE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0D83D-E45B-43BA-B8B9-0CBD0804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60512-5FDF-4EA3-A1EB-7849B3B2D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159FC-0CE0-40FC-BF72-AE021ACF6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9C67E-C43B-42DD-AC5F-CD3741FDF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B045C-604B-4548-A10E-5FCBE67C0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21015-B078-4AFA-A37F-BE71C5886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94B23-0F40-42E5-A512-7BC4F852E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ADD6-1B76-4D1C-A017-4E403F30C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520EC-2DDB-4998-9D2E-453D5FA0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49253-5137-4BA8-B00A-73E3569D9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8BF02-07FC-4915-808A-C988D4124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2A927-4F79-49BC-A63A-A441AD79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6FE8E-FB65-437D-9129-4E108E83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1BEE6-0C84-46BD-8870-222F82A7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F8023-9180-4DC1-8834-02BFA616A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DC0DE-CDFE-486A-A32A-5E7FD4976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EA75D-7E79-4CDE-9ADB-5D48E08EB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A23E3-0F4D-43D6-96D4-0D98C878C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7047-32B6-42E4-9827-16019C2C5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897A6-0CD2-4E81-906C-5B1227FBE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680A5-A6A0-4F0C-A6AD-CEE42BE82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251A5-D97F-4C13-BD5C-2932E9B2E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60341-1B0D-40B2-A4BA-D37C1941F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6BD21-15CC-427A-97B9-0BDF22E51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431FD-2E27-41F4-8180-CC059B87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89464-9D6C-4245-B938-9C200DF8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B9081-F5B0-4207-8FFD-A22C8E23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4829A-BFDB-4817-A319-A542DB12D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6C6F3-9551-4548-B28B-DECF55A96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4689-0D48-4014-BCB2-C27642541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75E07-481F-4B93-A058-5C29B59F6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707BA-19E2-4F51-99A7-C89C3D684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657FF-630C-4352-A26E-27BB23EE7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1AA14-8254-4EE0-BAE1-E877B6255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68F40-26BF-426C-A679-81690D493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3F0C7-0877-435C-B76A-F7B743602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3D4D7-CA16-44E9-97BF-778AE4ADF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F8570-AD9D-4274-BA19-C0BB7A11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456B5-019E-4519-9172-1219A814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6846F-0D86-4C50-86C5-DD36E043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9211-EA1E-4339-B56B-B8216F4A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0AB1E-AAF3-4C0E-86E6-1D16F752E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13D2E-C6D1-4D59-8926-4B3AF81BA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8A4FD-5B2C-45BD-8E8F-A5C78CE7A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869197-2623-444C-8132-61A02B5DD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91DE9-A6E2-44DB-AF43-9733638A1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DD6AA-34D0-41B4-B254-A590D56C2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E73A8F-A447-4DDE-863E-9ACA4BC4C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ABB7B-3542-4EF6-BF12-2CAA4CE70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E5FF8-83EA-4533-AF6D-A87CCBD45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2401BE-735D-4DFE-A097-E5E43B72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50B5-5230-48AC-87FF-B9BAB552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8A4431-2E8E-4DF3-BE8F-6EFB6C3B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B5073-6F67-4653-A7C2-97C2B758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38BAE-47E3-44D8-8479-1BA1FC956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C25C0-BD46-4D44-90D8-F0BA082FB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AF803-F28B-44D1-B004-4326922E4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8E6531-E697-4194-AD22-6D3FAF3A5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879625-ACCF-4804-8BE4-CCCCDC32B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AFAF82-87DC-4A71-82AB-C6071ABEC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398D8A-6036-42F8-8072-9400B07AD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05D370-C47B-46AE-AD68-7B6B8C650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7402-CBF0-44F1-964D-C1652A12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121345-BA14-44E0-A3CF-95BD061E5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402A3E-EE2B-4FB5-AC04-6AE009D6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21C8F9-015C-471C-9FC2-24F94A9A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3BB29D-56B3-4C28-B54B-C986E310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CB63C0-79F3-4B0E-84D5-F030525F1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AA4E54-D34D-40D4-B0C6-6E1ED3199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0296E6-EE73-47FC-B3A9-257310536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6E56AD-7FE0-4C13-AFA8-05A5B34DD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99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BC34FD-C61C-4091-8D1A-50FAB106D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78B147-DCA1-438F-8E84-9473DD852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E6941-2970-4E67-ABAB-64C45F1C784B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376" name="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PlaceHolder 1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55DF0-1358-42C6-99B9-83AF3DB7651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5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65f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A8E32-ED3F-45CB-8E9D-FF6571A1579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666520" y="2130120"/>
            <a:ext cx="579132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5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65f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98D75-9B42-4554-B6FD-C2999B41662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09B9B-A3BB-495A-A20F-1DF28C06CB4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1A045-D096-4323-ABDC-103CA7075CA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FDC49-6828-4D58-904E-94CD23853C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746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87480" indent="-265320"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ftr" idx="43"/>
          </p:nvPr>
        </p:nvSpPr>
        <p:spPr>
          <a:xfrm>
            <a:off x="3124080" y="636588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5"/>
          <p:cNvSpPr/>
          <p:nvPr/>
        </p:nvSpPr>
        <p:spPr>
          <a:xfrm>
            <a:off x="219240" y="6365880"/>
            <a:ext cx="13428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fld id="{BDD1970F-36DD-43E4-9257-B8A0BF759A54}" type="slidenum">
              <a:rPr b="0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665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457200" y="1555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cc6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e151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e1517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e15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e151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ae151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e151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e151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ae151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e15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e151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ae151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ae151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e151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ae151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ae151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e151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ae151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e151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ae151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e151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ae151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39640" y="206064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e1517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ae151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D03EC-8789-4B1C-B78A-7E6B52E5DEF1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dt" idx="4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ftr" idx="4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sldNum" idx="4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9DA21-59EA-4457-97CD-670AB65B576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 type="body"/>
          </p:nvPr>
        </p:nvSpPr>
        <p:spPr>
          <a:xfrm>
            <a:off x="4460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buClr>
                <a:srgbClr val="ff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15000"/>
              </a:lnSpc>
              <a:buClr>
                <a:srgbClr val="33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15000"/>
              </a:lnSpc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15000"/>
              </a:lnSpc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115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115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dt" idx="4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ftr" idx="4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 type="sldNum" idx="4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901F3-F8D4-4630-B7C2-26F3A4B011F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dt" idx="5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D1404-CC51-4576-95CC-B82A7E85DCE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5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 type="sldNum" idx="5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AB24E-4FC1-4932-8915-B15016012E3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99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86CE0-AD8B-4A53-94C2-F656873973C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E2784-C08F-4220-BB8F-497590BDCA1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63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229CE-AF01-4CFE-96D3-579B7721DB3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C02B7-A2F0-4048-84F8-EF39F494298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5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65f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2F5A6-B110-4121-9D59-BF818398AD7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666520" y="2130120"/>
            <a:ext cx="579132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5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65f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7FB4E-0E09-4801-8558-84927CEE065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"/>
          <p:cNvGrpSpPr/>
          <p:nvPr/>
        </p:nvGrpSpPr>
        <p:grpSpPr>
          <a:xfrm>
            <a:off x="1071360" y="304920"/>
            <a:ext cx="7615440" cy="1105920"/>
            <a:chOff x="1071360" y="304920"/>
            <a:chExt cx="7615440" cy="1105920"/>
          </a:xfrm>
        </p:grpSpPr>
        <p:sp>
          <p:nvSpPr>
            <p:cNvPr id="329" name=""/>
            <p:cNvSpPr/>
            <p:nvPr/>
          </p:nvSpPr>
          <p:spPr>
            <a:xfrm flipH="1">
              <a:off x="4868280" y="304920"/>
              <a:ext cx="1104840" cy="11044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7583760" y="304920"/>
              <a:ext cx="1103040" cy="11044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1071000" y="30600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6324120" y="304920"/>
              <a:ext cx="1103400" cy="11044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2358360" y="304920"/>
              <a:ext cx="1103400" cy="11044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231FB-0557-432A-ABDA-196201AE6A4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0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7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0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6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8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2519280" y="1160640"/>
            <a:ext cx="8229600" cy="22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新加坡十大旅游景点</a:t>
            </a:r>
            <a:endParaRPr b="0" lang="en-US" sz="4800" spc="-1" strike="noStrike">
              <a:solidFill>
                <a:srgbClr val="265f00"/>
              </a:solidFill>
              <a:latin typeface="Arial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5724360" y="3602160"/>
            <a:ext cx="8229600" cy="45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作者：张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.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裕廊飞禽公园 </a:t>
            </a:r>
            <a:br>
              <a:rPr sz="3200"/>
            </a:br>
            <a:endParaRPr b="1" lang="en-US" sz="3200" spc="-1" strike="noStrike">
              <a:solidFill>
                <a:srgbClr val="ae1517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e15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e1517"/>
                </a:solidFill>
                <a:latin typeface="Arial"/>
              </a:rPr>
              <a:t>裕廊飞禽公园坐落在新加坡裕廊山上，建于</a:t>
            </a:r>
            <a:r>
              <a:rPr b="0" lang="en-US" sz="2400" spc="-1" strike="noStrike">
                <a:solidFill>
                  <a:srgbClr val="ae1517"/>
                </a:solidFill>
                <a:latin typeface="Arial"/>
              </a:rPr>
              <a:t>1971</a:t>
            </a:r>
            <a:r>
              <a:rPr b="0" lang="zh-CN" sz="2400" spc="-1" strike="noStrike">
                <a:solidFill>
                  <a:srgbClr val="ae1517"/>
                </a:solidFill>
                <a:latin typeface="Arial"/>
              </a:rPr>
              <a:t>年，面积达</a:t>
            </a:r>
            <a:r>
              <a:rPr b="0" lang="en-US" sz="2400" spc="-1" strike="noStrike">
                <a:solidFill>
                  <a:srgbClr val="ae1517"/>
                </a:solidFill>
                <a:latin typeface="Arial"/>
              </a:rPr>
              <a:t>20.2</a:t>
            </a:r>
            <a:r>
              <a:rPr b="0" lang="zh-CN" sz="2400" spc="-1" strike="noStrike">
                <a:solidFill>
                  <a:srgbClr val="ae1517"/>
                </a:solidFill>
                <a:latin typeface="Arial"/>
              </a:rPr>
              <a:t>公顷，被誉为东南亚最壮观的“鸟类天堂”，也是世界上少数规模庞大的禽鸟公园之一。</a:t>
            </a:r>
            <a:endParaRPr b="0" lang="en-US" sz="2400" spc="-1" strike="noStrike">
              <a:solidFill>
                <a:srgbClr val="ae151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e151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e15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e1517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ae1517"/>
              </a:solidFill>
              <a:latin typeface="Arial"/>
            </a:endParaRPr>
          </a:p>
        </p:txBody>
      </p:sp>
      <p:pic>
        <p:nvPicPr>
          <p:cNvPr id="965" name="" descr=""/>
          <p:cNvPicPr/>
          <p:nvPr/>
        </p:nvPicPr>
        <p:blipFill>
          <a:blip r:embed="rId2"/>
          <a:stretch/>
        </p:blipFill>
        <p:spPr>
          <a:xfrm rot="60000">
            <a:off x="4444560" y="1766520"/>
            <a:ext cx="4197600" cy="36021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NO. 10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圣淘沙岛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46040" y="1350720"/>
            <a:ext cx="4038480" cy="47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从市中心出发，仅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分钟即可到达圣陶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一座风景旖旎的度假岛屿圣淘沙，在马来语中即“和平安宁”的意思。这里有纯净的海滩、世界级的旅游景点、海上运动场所、高尔夫球场和度假休闲中心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68" name="" descr=""/>
          <p:cNvPicPr/>
          <p:nvPr/>
        </p:nvPicPr>
        <p:blipFill>
          <a:blip r:embed="rId2"/>
          <a:stretch/>
        </p:blipFill>
        <p:spPr>
          <a:xfrm rot="20880000">
            <a:off x="4727160" y="1761840"/>
            <a:ext cx="4038480" cy="2646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1266840" y="2738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Calibri"/>
              </a:rPr>
              <a:t>谢谢您的观赏</a:t>
            </a:r>
            <a:endParaRPr b="1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.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滨海湾金沙</a:t>
            </a:r>
            <a:endParaRPr b="1" lang="en-US" sz="3200" spc="-1" strike="noStrike">
              <a:solidFill>
                <a:srgbClr val="ff7c80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在滨海湾金沙的中心地区，有三座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55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层高的酒店高楼拔地而起，提供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2500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多间豪华客房。餐吧，酒吧，休闲吧，及名店汇聚。并设有两座一流的剧院，你可欣赏到各种风格各种流派各种地区的表演艺术。更为酒店观赏荣耀之光的是令人惊叹的金沙空中花园，并拥有一个广阔无垠的泳池，在这里能够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360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度的拳脚俯瞰新加坡的繁华之美。如临世界之巅，你将感受到误伤的尊贵体验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8" name="文本占位符 2" descr=""/>
          <p:cNvPicPr/>
          <p:nvPr/>
        </p:nvPicPr>
        <p:blipFill>
          <a:blip r:embed="rId2"/>
          <a:stretch/>
        </p:blipFill>
        <p:spPr>
          <a:xfrm>
            <a:off x="4645080" y="1698480"/>
            <a:ext cx="4041720" cy="41022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828360" y="-168120"/>
            <a:ext cx="822492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.2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环球影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84000" y="907920"/>
            <a:ext cx="295092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新加坡环球影城坐落于全球投资额最高、内容最丰富的顶级家庭旅游目的地圣淘沙名胜世界之内，其将推出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4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个过山车和景点，大部分景点为世界级的首创亮点或是特地为新加坡量身定造的，堪称环球影城的又一鸿篇巨制。环球影城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4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个景点和云霄飞车等项目中，有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8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个专为新加坡设计，全球独有的游乐项目，包括科幻影集太空堡垒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Battlestar Galactica)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为蓝本，高度达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2.5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米的双轨云霄飞车；以及拥有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500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个观众席、全球最多座位的未来水世界剧场等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1" name="Espace réservé du texte 2" descr=""/>
          <p:cNvPicPr/>
          <p:nvPr/>
        </p:nvPicPr>
        <p:blipFill>
          <a:blip r:embed="rId2"/>
          <a:stretch/>
        </p:blipFill>
        <p:spPr>
          <a:xfrm>
            <a:off x="3637080" y="1054080"/>
            <a:ext cx="5256000" cy="43909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新加坡摩天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788000" y="1483920"/>
            <a:ext cx="4038480" cy="47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新加坡摩天轮耗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4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亿元新币，历经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年打造完工，其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65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米高的巨姿震撼全亚洲。由东京知名建筑师黑山纪章与新加坡缔博建筑师事务所携手合作，从埃菲尔塔及伦敦眼汲取设计灵感，创造出前所未有的观景轮。周边设施还有购物休闲中心，户外希腊剧院，湾畔餐饮长廊以及热带雨林庭园，为游客带来独特的全新体验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4" name="" descr=""/>
          <p:cNvPicPr/>
          <p:nvPr/>
        </p:nvPicPr>
        <p:blipFill>
          <a:blip r:embed="rId2"/>
          <a:stretch/>
        </p:blipFill>
        <p:spPr>
          <a:xfrm>
            <a:off x="684360" y="1413000"/>
            <a:ext cx="4038480" cy="4176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10920" y="259920"/>
            <a:ext cx="82234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.4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新加坡夜间动物园</a:t>
            </a:r>
            <a:br>
              <a:rPr sz="3600"/>
            </a:br>
            <a:r>
              <a:rPr b="0" lang="zh-CN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946" name="" descr=""/>
          <p:cNvPicPr/>
          <p:nvPr/>
        </p:nvPicPr>
        <p:blipFill>
          <a:blip r:embed="rId1"/>
          <a:stretch/>
        </p:blipFill>
        <p:spPr>
          <a:xfrm>
            <a:off x="2556000" y="1268280"/>
            <a:ext cx="3024000" cy="2448000"/>
          </a:xfrm>
          <a:prstGeom prst="rect">
            <a:avLst/>
          </a:prstGeom>
          <a:ln w="0">
            <a:noFill/>
          </a:ln>
        </p:spPr>
      </p:pic>
      <p:pic>
        <p:nvPicPr>
          <p:cNvPr id="947" name="" descr=""/>
          <p:cNvPicPr/>
          <p:nvPr/>
        </p:nvPicPr>
        <p:blipFill>
          <a:blip r:embed="rId2"/>
          <a:stretch/>
        </p:blipFill>
        <p:spPr>
          <a:xfrm>
            <a:off x="5796000" y="1268280"/>
            <a:ext cx="3097080" cy="2448000"/>
          </a:xfrm>
          <a:prstGeom prst="rect">
            <a:avLst/>
          </a:prstGeom>
          <a:ln w="0">
            <a:noFill/>
          </a:ln>
        </p:spPr>
      </p:pic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10920" y="4076280"/>
            <a:ext cx="64818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这是全球唯一一座夜间野生动物园，耗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0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元，运用岩石，溪流，及花草树木等天然环境，营造出适合夜间动物居住的丛林世界。园内目前拥有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只的夜间动物，通过先进的照明科技，在不干扰动物的生活状况下，让游客能清楚的观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-1979640" y="40428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5f00"/>
                </a:solidFill>
                <a:latin typeface="Arial"/>
              </a:rPr>
              <a:t>NO.5</a:t>
            </a:r>
            <a:r>
              <a:rPr b="0" lang="zh-CN" sz="3200" spc="-1" strike="noStrike">
                <a:solidFill>
                  <a:srgbClr val="265f00"/>
                </a:solidFill>
                <a:latin typeface="Arial"/>
              </a:rPr>
              <a:t>新加坡植物园</a:t>
            </a:r>
            <a:br>
              <a:rPr sz="3200"/>
            </a:br>
            <a:endParaRPr b="0" lang="en-US" sz="3200" spc="-1" strike="noStrike">
              <a:solidFill>
                <a:srgbClr val="265f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43280" y="1196640"/>
            <a:ext cx="401184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加坡植物园占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公顷，以研究和收集热带植物、园艺花卉而著称。园内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多种亚热带、热带的奇异花卉和珍贵的树木，可分为热带、亚热带常绿乔木、灌木、蔓藤、棕榈、竹类园艺花卉、水生植物、沼生植物、寄生植物和沙漠植物等。园中的热带丛林、繁花似锦的小花园和温室，占地约四公顷，分外清新迷人。维多利亚式建筑的胡姬亭，种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0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多株名贵兰花，其中包都有远近驰名的新加坡国花卓锦万黛兰，该园曾成功地引进和培植原产于巴西的三叶橡胶树，从而改变了东南亚经济，使马来西亚、印度尼西亚等国成为主要的橡胶生产地。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2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起，新加坡植物园就致力于观赏植物的杂交育种工作，特别是对胡姬花及其杂交品种的研究工作取得出重大成果，使新加坡胡姬花出口居世界领先地位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2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4392360" cy="4968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NO.6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新加坡乌节路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乌节路是新加坡的百货商圈，各大购物中心沿着道路两侧排列开来，热闹景象让人无法想象。长长的乌节路设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座地铁站，无论从哪一站下车，都将陷入丛林般的购物商场与汹涌人潮，更过名牌精品竞相争艳。逛累了，小型酒吧，露天咖啡及三明治简餐无所不在，仿佛置身巴黎香榭里大道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5" name="" descr=""/>
          <p:cNvPicPr/>
          <p:nvPr/>
        </p:nvPicPr>
        <p:blipFill>
          <a:blip r:embed="rId1"/>
          <a:stretch/>
        </p:blipFill>
        <p:spPr>
          <a:xfrm>
            <a:off x="5033880" y="1627200"/>
            <a:ext cx="3259080" cy="2190600"/>
          </a:xfrm>
          <a:prstGeom prst="rect">
            <a:avLst/>
          </a:prstGeom>
          <a:ln w="0">
            <a:noFill/>
          </a:ln>
        </p:spPr>
      </p:pic>
      <p:pic>
        <p:nvPicPr>
          <p:cNvPr id="956" name="" descr=""/>
          <p:cNvPicPr/>
          <p:nvPr/>
        </p:nvPicPr>
        <p:blipFill>
          <a:blip r:embed="rId2"/>
          <a:stretch/>
        </p:blipFill>
        <p:spPr>
          <a:xfrm>
            <a:off x="5084640" y="3940200"/>
            <a:ext cx="3165480" cy="21906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86920" y="404640"/>
            <a:ext cx="85201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.7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克拉码头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87440" y="1585800"/>
            <a:ext cx="4038480" cy="56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克拉码头是位于新加坡河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ver Vally Rd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角的旅游名胜地。这里有餐厅、购物城、娱乐设施，当地人和外国游客都很多。只是这里白天店铺开门的很少，要想充分享受，还是傍晚以后前往最佳。每到周末，举家出游来此的人络绎不绝。整条河滨街道充满浪漫气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9" name="Rectangle 3" descr=""/>
          <p:cNvPicPr/>
          <p:nvPr/>
        </p:nvPicPr>
        <p:blipFill>
          <a:blip r:embed="rId2"/>
          <a:stretch/>
        </p:blipFill>
        <p:spPr>
          <a:xfrm>
            <a:off x="4635360" y="1566720"/>
            <a:ext cx="4184640" cy="3544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-4354560" y="620640"/>
            <a:ext cx="8226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.8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新加坡动物园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55592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新加坡动物园位于新加坡北部的万里湖路，占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83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公顷，采用全开放式的模式，是世界十大动物园之一。园内以天然屏障代替栅栏，为各种动物创造天然的生活环境，有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72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个品种约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700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多只动物在没有人为屏障的舒适环境下过着自由自在的生活，与游客和平共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2" name="" descr=""/>
          <p:cNvPicPr/>
          <p:nvPr/>
        </p:nvPicPr>
        <p:blipFill>
          <a:blip r:embed="rId2"/>
          <a:stretch/>
        </p:blipFill>
        <p:spPr>
          <a:xfrm>
            <a:off x="4648320" y="1635120"/>
            <a:ext cx="4038480" cy="355428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4T16:47:09Z</dcterms:created>
  <dc:creator/>
  <dc:description/>
  <dc:language>en-US</dc:language>
  <cp:lastModifiedBy>u</cp:lastModifiedBy>
  <cp:lastPrinted>1899-12-30T00:00:00Z</cp:lastPrinted>
  <dcterms:modified xsi:type="dcterms:W3CDTF">2012-10-01T03:58:15Z</dcterms:modified>
  <cp:revision>6</cp:revision>
  <dc:subject/>
  <dc:title>新加坡旅游景点十大不得不去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05</vt:lpwstr>
  </property>
</Properties>
</file>