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9.png" ContentType="image/png"/>
  <Override PartName="/ppt/media/image3.jpeg" ContentType="image/jpeg"/>
  <Override PartName="/ppt/media/image17.gif" ContentType="image/gif"/>
  <Override PartName="/ppt/media/image2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5.gif" ContentType="image/gif"/>
  <Override PartName="/ppt/media/image1.jpeg" ContentType="image/jpeg"/>
  <Override PartName="/ppt/media/image4.jpeg" ContentType="image/jpeg"/>
  <Override PartName="/ppt/media/image6.wmf" ContentType="image/x-wmf"/>
  <Override PartName="/ppt/media/image13.jpeg" ContentType="image/jpeg"/>
  <Override PartName="/ppt/media/image18.gif" ContentType="image/gif"/>
  <Override PartName="/ppt/media/image20.gif" ContentType="image/gi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9860-D75F-4666-93EE-6A5DA78E3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04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C81C-D685-4563-847F-41DCD385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2B40-D37E-4664-948F-3D779EAF4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451B-72BD-4C89-856F-460A60550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0E146-A86E-45D6-909A-E7554F152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4A279-F610-43E5-9CA2-0A7F1C4C0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F28E0-9938-4C2D-9D31-AB4AD51E7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930C0-4AB5-4A47-8477-CD7FB48C2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B64AA-1F1C-4891-B858-5C99F6DE4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817FF-FEBB-4DC6-BA2C-6EADBB296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7F001-8BE5-493F-A26F-A2BE8C26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33D0-F4F4-478B-9D63-2B1CE35A5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75815-5D4C-477C-8DD3-40DFF761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F95D3-8D15-4ABC-824D-9FB3BDD3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704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3380C-8B2E-4BC1-BAE2-C276F6287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47D1C-6A04-4DB8-91A9-2BD650956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2A28B-7A40-4C2F-80D2-44713683E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511A-E4E4-4C66-BC36-EB6268433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B0B3-4018-4994-84C2-B3B5E30F7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278D-0426-4223-86E7-E02F8D40B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62E0-1C9E-4BE7-BC28-0B17F1574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2BAA-C664-44A6-803E-A7DA064C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F136-7F5A-49F5-90F1-E9C720AD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14BA-756C-4B2C-9DCC-5C359B49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42A2C-FF48-449E-9FE1-8235F1A778E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6000" y="2133720"/>
            <a:ext cx="71280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114E2-12A0-4127-A653-FCB19F9A407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99,10,&#24187;&#28783;&#29255; 10" TargetMode="External"/><Relationship Id="rId3" Type="http://schemas.openxmlformats.org/officeDocument/2006/relationships/hyperlink" Target="282,16,&#24187;&#28783;&#29255; 16" TargetMode="External"/><Relationship Id="rId4" Type="http://schemas.openxmlformats.org/officeDocument/2006/relationships/hyperlink" Target="309,16,&#24187;&#28783;&#29255; 16" TargetMode="External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image" Target="../media/image17.gif"/><Relationship Id="rId11" Type="http://schemas.openxmlformats.org/officeDocument/2006/relationships/image" Target="../media/image18.gif"/><Relationship Id="rId12" Type="http://schemas.openxmlformats.org/officeDocument/2006/relationships/image" Target="../media/image18.gif"/><Relationship Id="rId13" Type="http://schemas.openxmlformats.org/officeDocument/2006/relationships/image" Target="../media/image18.gif"/><Relationship Id="rId14" Type="http://schemas.openxmlformats.org/officeDocument/2006/relationships/image" Target="../media/image19.png"/><Relationship Id="rId1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6000" y="2133720"/>
            <a:ext cx="71280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Black"/>
              </a:rPr>
              <a:t>时间管理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012000" y="3500280"/>
            <a:ext cx="18684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Rounded MT Bold"/>
              </a:rPr>
              <a:t>第六讲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 Black"/>
              </a:rPr>
              <a:t>GT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909440" y="1339920"/>
            <a:ext cx="539892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GTD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流程图 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Getting Things Done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的缩写。来自于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David Allen 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戴维 艾伦 的一本畅销书《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Getting Things Done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》，国内的中文翻译本《尽管去做：无压工作的艺术》。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Black"/>
              </a:rPr>
              <a:t>主要原则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09800" y="1339920"/>
            <a:ext cx="54720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一个人需要通过记录的方式把头脑中的各种任务移出来，通过这样的方式，头脑可以不用塞满各种需要完成的事情，而集中精力在正在完成的事情，是一种消灭压力的高效工作方法。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Black"/>
              </a:rPr>
              <a:t>与众不同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09440" y="1339920"/>
            <a:ext cx="539892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Allen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并不把重点放在设置任务的优先级。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他也建议任何两分钟之内就能完成的任务应该马上做。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Black"/>
              </a:rPr>
              <a:t>过人之处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907640" y="1339920"/>
            <a:ext cx="5473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我们的脑力上的“提醒系统”相当的低效，很少能够在恰当的时间和地点提醒我们需要做的事情。因此，把“下一步行动”根据场景分类存放在“可信的系统”当中，是一个能使我们在正确的时间得到正确的提醒的手段。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GTD</a:t>
            </a:r>
            <a:r>
              <a:rPr b="1" lang="zh-CN" sz="4400" spc="-1" strike="noStrike">
                <a:solidFill>
                  <a:srgbClr val="000000"/>
                </a:solidFill>
                <a:latin typeface="Arial Black"/>
              </a:rPr>
              <a:t>的核心原则如下：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08000" y="1339920"/>
            <a:ext cx="6778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 Rounded MT Bold"/>
                <a:hlinkClick r:id="rId2"/>
              </a:rPr>
              <a:t>搜集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 Rounded MT Bold"/>
                <a:hlinkClick r:id="rId3"/>
              </a:rPr>
              <a:t>处理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 Rounded MT Bold"/>
                <a:hlinkClick r:id="rId4"/>
              </a:rPr>
              <a:t>组织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 Rounded MT Bold"/>
              </a:rPr>
              <a:t>检查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 Rounded MT Bold"/>
              </a:rPr>
              <a:t>做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19" name="箭头 314"/>
          <p:cNvSpPr/>
          <p:nvPr/>
        </p:nvSpPr>
        <p:spPr>
          <a:xfrm flipH="1">
            <a:off x="4932360" y="1844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588000" y="1701720"/>
            <a:ext cx="18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们记得的事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箭头 317"/>
          <p:cNvSpPr/>
          <p:nvPr/>
        </p:nvSpPr>
        <p:spPr>
          <a:xfrm flipH="1">
            <a:off x="5363640" y="3284640"/>
            <a:ext cx="1081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588000" y="3068640"/>
            <a:ext cx="15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遗忘的承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476360" y="44280"/>
            <a:ext cx="5940360" cy="61819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948360" y="117360"/>
            <a:ext cx="19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你以为你忘了，其实你还记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237440" y="3573360"/>
            <a:ext cx="17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追求意识和实现的一致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02920" y="43920"/>
            <a:ext cx="6697800" cy="669636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txBody>
          <a:bodyPr lIns="90000" rIns="90000" tIns="47160" bIns="4716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 Rounded MT Bold"/>
              </a:rPr>
              <a:t>“ </a:t>
            </a:r>
            <a:r>
              <a:rPr b="0" lang="zh-CN" sz="6000" spc="-1" strike="noStrike">
                <a:solidFill>
                  <a:srgbClr val="000000"/>
                </a:solidFill>
                <a:latin typeface="Arial Rounded MT Bold"/>
              </a:rPr>
              <a:t>把杂事放在</a:t>
            </a:r>
            <a:endParaRPr b="0" lang="en-US" sz="6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7c80"/>
                </a:solidFill>
                <a:latin typeface="Arial Rounded MT Bold"/>
              </a:rPr>
              <a:t>头脑以外</a:t>
            </a:r>
            <a:r>
              <a:rPr b="0" lang="zh-CN" sz="6000" spc="-1" strike="noStrike">
                <a:solidFill>
                  <a:srgbClr val="000000"/>
                </a:solidFill>
                <a:latin typeface="Arial Rounded MT Bold"/>
              </a:rPr>
              <a:t>的</a:t>
            </a:r>
            <a:r>
              <a:rPr b="0" lang="zh-CN" sz="6000" spc="-1" strike="noStrike">
                <a:solidFill>
                  <a:srgbClr val="ff7c80"/>
                </a:solidFill>
                <a:latin typeface="Arial Rounded MT Bold"/>
              </a:rPr>
              <a:t>收件箱</a:t>
            </a:r>
            <a:r>
              <a:rPr b="0" lang="zh-CN" sz="6000" spc="-1" strike="noStrike">
                <a:solidFill>
                  <a:srgbClr val="000000"/>
                </a:solidFill>
                <a:latin typeface="Arial Rounded MT Bold"/>
              </a:rPr>
              <a:t>”</a:t>
            </a:r>
            <a:endParaRPr b="0" lang="en-US" sz="60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900000" y="1701720"/>
            <a:ext cx="2565360" cy="24638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 flipV="1" rot="20340000">
            <a:off x="3780000" y="1701000"/>
            <a:ext cx="1800000" cy="503280"/>
          </a:xfrm>
          <a:prstGeom prst="rightArrow">
            <a:avLst>
              <a:gd name="adj1" fmla="val 50000"/>
              <a:gd name="adj2" fmla="val 89413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540000">
            <a:off x="3779640" y="3068640"/>
            <a:ext cx="1800000" cy="504720"/>
          </a:xfrm>
          <a:prstGeom prst="rightArrow">
            <a:avLst>
              <a:gd name="adj1" fmla="val 50000"/>
              <a:gd name="adj2" fmla="val 89158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651640" y="333360"/>
            <a:ext cx="2762280" cy="20080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5651640" y="2708280"/>
            <a:ext cx="232704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403280" y="692280"/>
            <a:ext cx="6361200" cy="48052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 rot="21539400">
            <a:off x="7596000" y="5589360"/>
            <a:ext cx="65376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08000" y="692280"/>
            <a:ext cx="9144000" cy="54194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4920" y="692280"/>
            <a:ext cx="924228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96720" y="117360"/>
            <a:ext cx="8401320" cy="62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 Black"/>
              </a:rPr>
              <a:t>两分钟原则：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909440" y="1339920"/>
            <a:ext cx="539892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任何事情如果花的时间少于</a:t>
            </a:r>
            <a:r>
              <a:rPr b="0" lang="zh-CN" sz="3200" spc="-1" strike="noStrike">
                <a:solidFill>
                  <a:srgbClr val="cc0000"/>
                </a:solidFill>
                <a:latin typeface="Arial Rounded MT Bold"/>
              </a:rPr>
              <a:t>两分钟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，那么马上就去做。两分钟是一个分水岭，这样的时间和正式地推迟一个动作所花的时间差不多。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8" name=""/>
          <p:cNvSpPr/>
          <p:nvPr/>
        </p:nvSpPr>
        <p:spPr>
          <a:xfrm>
            <a:off x="1403280" y="47520"/>
            <a:ext cx="6913800" cy="669636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 Rounded MT Bold"/>
              </a:rPr>
              <a:t>“</a:t>
            </a:r>
            <a:r>
              <a:rPr b="0" lang="zh-CN" sz="5400" spc="-1" strike="noStrike">
                <a:solidFill>
                  <a:srgbClr val="000000"/>
                </a:solidFill>
                <a:latin typeface="Arial Rounded MT Bold"/>
              </a:rPr>
              <a:t>决定下一步行动只要</a:t>
            </a:r>
            <a:r>
              <a:rPr b="0" lang="zh-CN" sz="5400" spc="-1" strike="noStrike">
                <a:solidFill>
                  <a:srgbClr val="ff7c80"/>
                </a:solidFill>
                <a:latin typeface="Arial Rounded MT Bold"/>
              </a:rPr>
              <a:t>十秒钟</a:t>
            </a:r>
            <a:r>
              <a:rPr b="0" lang="zh-CN" sz="5400" spc="-1" strike="noStrike">
                <a:solidFill>
                  <a:srgbClr val="000000"/>
                </a:solidFill>
                <a:latin typeface="Arial Rounded MT Bold"/>
              </a:rPr>
              <a:t>，大部分人却</a:t>
            </a:r>
            <a:r>
              <a:rPr b="0" lang="zh-CN" sz="5400" spc="-1" strike="noStrike">
                <a:solidFill>
                  <a:srgbClr val="ff7c80"/>
                </a:solidFill>
                <a:latin typeface="Arial Rounded MT Bold"/>
              </a:rPr>
              <a:t>做不到</a:t>
            </a:r>
            <a:r>
              <a:rPr b="0" lang="zh-CN" sz="6000" spc="-1" strike="noStrike">
                <a:solidFill>
                  <a:srgbClr val="000000"/>
                </a:solidFill>
                <a:latin typeface="Arial Rounded MT Bold"/>
              </a:rPr>
              <a:t>  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909440" y="1339920"/>
            <a:ext cx="539892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cc0000"/>
                </a:solidFill>
                <a:latin typeface="Arial Rounded MT Bold"/>
              </a:rPr>
              <a:t>快 </a:t>
            </a:r>
            <a:r>
              <a:rPr b="0" lang="zh-CN" sz="6600" spc="-1" strike="noStrike">
                <a:solidFill>
                  <a:srgbClr val="000000"/>
                </a:solidFill>
                <a:latin typeface="Arial Rounded MT Bold"/>
              </a:rPr>
              <a:t>      </a:t>
            </a:r>
            <a:r>
              <a:rPr b="0" lang="zh-CN" sz="6600" spc="-1" strike="noStrike">
                <a:solidFill>
                  <a:srgbClr val="cc0000"/>
                </a:solidFill>
                <a:latin typeface="Arial Rounded MT Bold"/>
              </a:rPr>
              <a:t> 乐</a:t>
            </a:r>
            <a:endParaRPr b="0" lang="en-US" sz="6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1" name=""/>
          <p:cNvSpPr/>
          <p:nvPr/>
        </p:nvSpPr>
        <p:spPr>
          <a:xfrm>
            <a:off x="2989440" y="314172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速行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651640" y="3141720"/>
            <a:ext cx="15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其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7596360" y="508464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5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828720" y="692280"/>
            <a:ext cx="792000" cy="7938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971640" y="1773360"/>
            <a:ext cx="647640" cy="6458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900000" y="263700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900000" y="371808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7453440" y="26028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7"/>
          <a:stretch/>
        </p:blipFill>
        <p:spPr>
          <a:xfrm>
            <a:off x="7524720" y="134136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8"/>
          <a:stretch/>
        </p:blipFill>
        <p:spPr>
          <a:xfrm>
            <a:off x="7451640" y="2708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9"/>
          <a:stretch/>
        </p:blipFill>
        <p:spPr>
          <a:xfrm>
            <a:off x="7380360" y="364500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692360" y="189000"/>
            <a:ext cx="1728720" cy="576000"/>
          </a:xfrm>
          <a:prstGeom prst="wedgeRoundRectCallout">
            <a:avLst>
              <a:gd name="adj1" fmla="val -54208"/>
              <a:gd name="adj2" fmla="val 82680"/>
              <a:gd name="adj3" fmla="val 16667"/>
            </a:avLst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怎么了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5940360" y="981000"/>
            <a:ext cx="1657440" cy="503280"/>
          </a:xfrm>
          <a:prstGeom prst="wedgeRoundRectCallout">
            <a:avLst>
              <a:gd name="adj1" fmla="val -43750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车胎扎破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5076720" y="1988280"/>
            <a:ext cx="2810160" cy="576360"/>
          </a:xfrm>
          <a:prstGeom prst="wedgeRoundRectCallout">
            <a:avLst>
              <a:gd name="adj1" fmla="val -43750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是的，我要了解怎么修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4426920" y="2996640"/>
            <a:ext cx="2881080" cy="502920"/>
          </a:xfrm>
          <a:prstGeom prst="wedgeRoundRectCallout">
            <a:avLst>
              <a:gd name="adj1" fmla="val -43750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自己打车回去，让朋友帮我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3640" y="3429000"/>
            <a:ext cx="1871640" cy="360360"/>
          </a:xfrm>
          <a:prstGeom prst="wedgeRoundRectCallout">
            <a:avLst>
              <a:gd name="adj1" fmla="val -54208"/>
              <a:gd name="adj2" fmla="val 82680"/>
              <a:gd name="adj3" fmla="val 16667"/>
            </a:avLst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你有他电话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63640" y="1054080"/>
            <a:ext cx="2449440" cy="647640"/>
          </a:xfrm>
          <a:prstGeom prst="wedgeRoundRectCallout">
            <a:avLst>
              <a:gd name="adj1" fmla="val -54208"/>
              <a:gd name="adj2" fmla="val 82680"/>
              <a:gd name="adj3" fmla="val 16667"/>
            </a:avLst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需要你自己采取行动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35280" y="2276640"/>
            <a:ext cx="2232000" cy="431640"/>
          </a:xfrm>
          <a:prstGeom prst="wedgeRoundRectCallout">
            <a:avLst>
              <a:gd name="adj1" fmla="val -54208"/>
              <a:gd name="adj2" fmla="val 82680"/>
              <a:gd name="adj3" fmla="val 16667"/>
            </a:avLst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下一步你怎么办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0"/>
          <a:stretch/>
        </p:blipFill>
        <p:spPr>
          <a:xfrm>
            <a:off x="1044720" y="4797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1"/>
          <a:stretch/>
        </p:blipFill>
        <p:spPr>
          <a:xfrm>
            <a:off x="7308720" y="479736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 flipH="1" flipV="1">
            <a:off x="6084000" y="5517360"/>
            <a:ext cx="1513080" cy="358920"/>
          </a:xfrm>
          <a:prstGeom prst="wedgeRoundRectCallout">
            <a:avLst>
              <a:gd name="adj1" fmla="val -43750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是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2"/>
          <a:stretch/>
        </p:blipFill>
        <p:spPr>
          <a:xfrm>
            <a:off x="7308720" y="378936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979640" y="4653000"/>
            <a:ext cx="1871640" cy="360360"/>
          </a:xfrm>
          <a:prstGeom prst="wedgeRoundRectCallout">
            <a:avLst>
              <a:gd name="adj1" fmla="val -54208"/>
              <a:gd name="adj2" fmla="val 82680"/>
              <a:gd name="adj3" fmla="val 16667"/>
            </a:avLst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那你就等等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3"/>
          <a:stretch/>
        </p:blipFill>
        <p:spPr>
          <a:xfrm>
            <a:off x="7435800" y="391644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 flipH="1" flipV="1">
            <a:off x="5218920" y="4149720"/>
            <a:ext cx="2303640" cy="504720"/>
          </a:xfrm>
          <a:prstGeom prst="wedgeRoundRectCallout">
            <a:avLst>
              <a:gd name="adj1" fmla="val -43750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有，我现在给他打电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4"/>
          <a:stretch/>
        </p:blipFill>
        <p:spPr>
          <a:xfrm>
            <a:off x="468360" y="5805360"/>
            <a:ext cx="71892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0" name=""/>
          <p:cNvSpPr/>
          <p:nvPr/>
        </p:nvSpPr>
        <p:spPr>
          <a:xfrm>
            <a:off x="2987640" y="260280"/>
            <a:ext cx="3529080" cy="64944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关注项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5400000">
            <a:off x="4391280" y="-711720"/>
            <a:ext cx="720720" cy="4249800"/>
          </a:xfrm>
          <a:custGeom>
            <a:avLst/>
            <a:gdLst>
              <a:gd name="textAreaLeft" fmla="*/ 460440 w 720720"/>
              <a:gd name="textAreaRight" fmla="*/ 721080 w 720720"/>
              <a:gd name="textAreaTop" fmla="*/ 332280 h 4249800"/>
              <a:gd name="textAreaBottom" fmla="*/ 3917520 h 424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00"/>
                  <a:pt x="10800" y="5400"/>
                </a:cubicBezTo>
                <a:lnTo>
                  <a:pt x="10800" y="5400"/>
                </a:lnTo>
                <a:cubicBezTo>
                  <a:pt x="10800" y="8100"/>
                  <a:pt x="5400" y="10800"/>
                  <a:pt x="0" y="10800"/>
                </a:cubicBezTo>
                <a:cubicBezTo>
                  <a:pt x="5400" y="10800"/>
                  <a:pt x="10800" y="13500"/>
                  <a:pt x="10800" y="16200"/>
                </a:cubicBezTo>
                <a:lnTo>
                  <a:pt x="10800" y="16200"/>
                </a:lnTo>
                <a:cubicBezTo>
                  <a:pt x="10800" y="189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052720" y="1917720"/>
            <a:ext cx="865080" cy="2806560"/>
          </a:xfrm>
          <a:custGeom>
            <a:avLst/>
            <a:gdLst>
              <a:gd name="textAreaLeft" fmla="*/ 42120 w 865080"/>
              <a:gd name="textAreaRight" fmla="*/ 822960 w 865080"/>
              <a:gd name="textAreaTop" fmla="*/ 42120 h 2806560"/>
              <a:gd name="textAreaBottom" fmla="*/ 2764440 h 2806560"/>
            </a:gdLst>
            <a:ahLst/>
            <a:rect l="textAreaLeft" t="textAreaTop" r="textAreaRight" b="textAreaBottom"/>
            <a:pathLst>
              <a:path w="21600" h="70056">
                <a:moveTo>
                  <a:pt x="3600" y="0"/>
                </a:moveTo>
                <a:arcTo wR="3600" hR="3600" stAng="16200000" swAng="-5400000"/>
                <a:lnTo>
                  <a:pt x="0" y="66456"/>
                </a:lnTo>
                <a:arcTo wR="3600" hR="3600" stAng="10800000" swAng="-5400000"/>
                <a:lnTo>
                  <a:pt x="18000" y="7005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781440" y="1917720"/>
            <a:ext cx="863640" cy="2879640"/>
          </a:xfrm>
          <a:custGeom>
            <a:avLst/>
            <a:gdLst>
              <a:gd name="textAreaLeft" fmla="*/ 42120 w 863640"/>
              <a:gd name="textAreaRight" fmla="*/ 821520 w 863640"/>
              <a:gd name="textAreaTop" fmla="*/ 42120 h 2879640"/>
              <a:gd name="textAreaBottom" fmla="*/ 2837520 h 2879640"/>
            </a:gdLst>
            <a:ahLst/>
            <a:rect l="textAreaLeft" t="textAreaTop" r="textAreaRight" b="textAreaBottom"/>
            <a:pathLst>
              <a:path w="21600" h="72000">
                <a:moveTo>
                  <a:pt x="3600" y="0"/>
                </a:moveTo>
                <a:arcTo wR="3600" hR="3600" stAng="16200000" swAng="-5400000"/>
                <a:lnTo>
                  <a:pt x="0" y="68400"/>
                </a:lnTo>
                <a:arcTo wR="3600" hR="3600" stAng="10800000" swAng="-5400000"/>
                <a:lnTo>
                  <a:pt x="18000" y="720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149800" y="1917720"/>
            <a:ext cx="863640" cy="2952720"/>
          </a:xfrm>
          <a:custGeom>
            <a:avLst/>
            <a:gdLst>
              <a:gd name="textAreaLeft" fmla="*/ 42120 w 863640"/>
              <a:gd name="textAreaRight" fmla="*/ 821520 w 863640"/>
              <a:gd name="textAreaTop" fmla="*/ 42120 h 2952720"/>
              <a:gd name="textAreaBottom" fmla="*/ 2910600 h 2952720"/>
            </a:gdLst>
            <a:ahLst/>
            <a:rect l="textAreaLeft" t="textAreaTop" r="textAreaRight" b="textAreaBottom"/>
            <a:pathLst>
              <a:path w="21600" h="73827">
                <a:moveTo>
                  <a:pt x="3600" y="0"/>
                </a:moveTo>
                <a:arcTo wR="3600" hR="3600" stAng="16200000" swAng="-5400000"/>
                <a:lnTo>
                  <a:pt x="0" y="70227"/>
                </a:lnTo>
                <a:arcTo wR="3600" hR="3600" stAng="10800000" swAng="-5400000"/>
                <a:lnTo>
                  <a:pt x="18000" y="738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588000" y="1989000"/>
            <a:ext cx="793800" cy="2880000"/>
          </a:xfrm>
          <a:custGeom>
            <a:avLst/>
            <a:gdLst>
              <a:gd name="textAreaLeft" fmla="*/ 38520 w 793800"/>
              <a:gd name="textAreaRight" fmla="*/ 755280 w 793800"/>
              <a:gd name="textAreaTop" fmla="*/ 38520 h 2880000"/>
              <a:gd name="textAreaBottom" fmla="*/ 2841480 h 2880000"/>
            </a:gdLst>
            <a:ahLst/>
            <a:rect l="textAreaLeft" t="textAreaTop" r="textAreaRight" b="textAreaBottom"/>
            <a:pathLst>
              <a:path w="21600" h="78342">
                <a:moveTo>
                  <a:pt x="3600" y="0"/>
                </a:moveTo>
                <a:arcTo wR="3600" hR="3600" stAng="16200000" swAng="-5400000"/>
                <a:lnTo>
                  <a:pt x="0" y="74742"/>
                </a:lnTo>
                <a:arcTo wR="3600" hR="3600" stAng="10800000" swAng="-5400000"/>
                <a:lnTo>
                  <a:pt x="18000" y="783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Black"/>
              </a:rPr>
              <a:t>最终目标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65440" y="1339920"/>
            <a:ext cx="56880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把所有事情都从你的脑袋里弄出来。在事情出现，而不是在事情爆发的时候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就做好相关行动的一系列决定。以合适的类别组织好你的项目的各种提醒以及下一步的行动。保持你的系统更新和完整，充分地检查，使你在任何时候都能信任你的对于你正在做（或者不做）的事情直觉的选择。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2916360" y="1844640"/>
            <a:ext cx="325908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907640" y="1339920"/>
            <a:ext cx="5473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今年是你生命中的最后一年”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877080" y="4292640"/>
            <a:ext cx="14400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间价值表：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55640" y="2133720"/>
            <a:ext cx="7818480" cy="29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的时间价值表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55640" y="2133720"/>
            <a:ext cx="770904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9" name=""/>
          <p:cNvSpPr/>
          <p:nvPr/>
        </p:nvSpPr>
        <p:spPr>
          <a:xfrm>
            <a:off x="1979640" y="1773360"/>
            <a:ext cx="5472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成功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价值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速度</a:t>
            </a:r>
            <a:r>
              <a:rPr b="1" lang="zh-CN" sz="32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S=V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1" lang="zh-CN" sz="32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E=MC2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能量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质量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速度</a:t>
            </a:r>
            <a:r>
              <a:rPr b="1" lang="zh-CN" sz="32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做最有价值的事（提升你做事的值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单位时间内做最多的高价值的事（提升你做事的效益和速度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日程表时间管理法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07640" y="1339920"/>
            <a:ext cx="5473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a)“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我要得到什么样的结果？”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b)“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这件事是否可以不干？”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c)“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这件事是否可以交给别人去干？”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d)“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是否还有更好的方法？”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生理节奏法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836360" y="1339920"/>
            <a:ext cx="554508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研究你精力最充沛、脑子最清楚的时段，在此时段做最有价值的事；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研究你注意力集中的时间有多长，在此时间内解决问题；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休息的时候一定要休息，在你感到疲倦之前就休息，这样你每天清醒的时间，就多增加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柯维时间管理法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836360" y="1339920"/>
            <a:ext cx="554508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效个人管理的四个步骤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—</a:t>
            </a:r>
            <a:r>
              <a:rPr b="0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确定角色：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确定你认为重要的角色；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—</a:t>
            </a:r>
            <a:r>
              <a:rPr b="0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选择目标：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别为每个角色确定未来一周要达成的目标；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—</a:t>
            </a:r>
            <a:r>
              <a:rPr b="0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安排进度：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这些目标确定完成时间；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—</a:t>
            </a:r>
            <a:r>
              <a:rPr b="0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逐日调整：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每日清晨依据行事历，安排一天做事的顺序。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dc:language>en-US</dc:language>
  <cp:lastModifiedBy/>
  <dcterms:modified xsi:type="dcterms:W3CDTF">2013-12-06T15:08:52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249</vt:lpwstr>
  </property>
</Properties>
</file>