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wmf" ContentType="image/x-wmf"/>
  <Override PartName="/ppt/media/image7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DFB-60C0-485A-A1BF-75D94C76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256-1827-4DC7-8EB7-46D591E5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15E23-972B-422C-A262-4250C484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47257-EF32-4EDD-A6A3-C52AB26D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A17B9-5F4A-423E-8699-4A92950E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773E2-8E4D-4EB5-83CA-F1ED8461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8EFFB-DA69-499F-ACFC-18E58741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E7D64-98D9-4BF7-BAA5-143420E5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64CD9-6707-4BD6-84B3-36E83264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940C2-5721-4186-9E2D-EA39943A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75A58-A5F5-45E5-A6B8-93C429BB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F3CAF-E60A-49AF-A619-0D75A9E3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959-90EE-4DBB-BE20-230F6320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1BC98-E317-4354-A43A-BCEE1E7A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6D3CA-8462-40E4-A5A8-B1008162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A3DFC-5065-4834-9B04-509A4B0C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86011-63BE-4C0E-87BA-720BC50D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5D8A8-3A1A-45EB-8CE2-E2DB6802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7E317-50F8-45BF-ADA9-187FF405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D7482-F40A-4FAC-B2A3-EE112F34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1CB7D-DB32-435F-8C22-AE274628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6177C-244F-4F20-BB03-C1351CD4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814F9-80E0-4C6E-AA16-CEFD5284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3E2-A618-4D06-AD40-6B6447FC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D26EB-5987-4A20-A844-6A260AC0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2530E-4A99-47FC-BA67-4775CD46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09821-137E-4C3A-97B1-96902E28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4E858-6DBF-44DA-BFCD-FE8406AB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5D461-7A3E-45D0-A62E-4AFC857D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42D34-D2F4-44DE-A7B3-8CE4C850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C426C-95BB-487D-AE2B-6C5CC5E2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FAF65-BA67-4C79-B2A0-81770103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55073-2E75-477C-B23A-304BEB32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48B7F-5DDD-47BD-B50F-D95C423E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7DAF-694D-4F86-BA49-23B6088D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E5472-2A31-4C42-BE4E-D38F42C8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A165C-0874-4E0D-A93A-1426E130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C3C4A-EFE9-4550-97D4-B37E0E4C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CD222-E271-46D8-8476-3B94B9C3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3169F-9D16-43BC-9CD7-7B61F8E1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F8F28-0783-4F90-8A1B-C7F9799F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561F8-E836-418A-A7D1-7ABB23C3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3DA2E-5DC4-4840-A440-64B6A404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178E1-7A66-4F16-9C74-770D7385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A66F8-72D0-4F1F-B7D0-48E550D0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BA84-B7A2-451C-93CA-C416EE87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F39EE-EEFB-43C5-9152-8A9C58A9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FAE94-D6B1-4717-8E0B-113EFEB5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46403-0275-4880-A70E-07C296D3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A5B55-E4DE-4026-B774-C614E4EF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7C4E7-FFF7-4C42-B695-3C12C2E9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7BBE-7FE9-4F48-9C77-EBE3FE4D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6753-1F14-48DD-89D6-1728C578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9160-3176-4630-A3A2-CD9ECDB6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DBDB-2D33-4E14-B61B-360181F8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E928-22FD-4E6F-A7BF-5C31E86C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EB22-5604-416B-87C4-0169DA88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70ED-7E42-4D1B-9F03-1C05A2FA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5A37-5278-4D70-83B2-21477D3B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FBDA-57BB-454B-8852-657A0401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FBF9-5861-4AF7-9E77-F5EFCD75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4971-F7D4-49C5-B536-8307997C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F7CA6-67E5-4A68-9769-9405547F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B6B4B-9BAA-40DD-8FE9-AF95E9CD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99C05-467E-4507-A025-A6619BEE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9EB33-75D3-48D8-9FC5-F470E5E1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05C9D-9CC2-41C9-9C5F-81A76A3C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AC9-5C97-40E2-BA3B-D2B3921C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5209-AAC0-42C2-AA73-D6BE8FFD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F4039-7E7C-4FB8-9E7F-5CE0C45E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08694-4574-4E0E-84D5-4ECB64EF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CD3AD-DDB2-404B-9D30-B73B2936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72A6F-C32B-4CD0-9457-DA20A00C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51CE4-69F9-404C-A361-C4C03AB7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BE9AC-B673-4995-8BBC-C02F9E15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432E9-67AC-45EE-8AE0-AF2D50E2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0FD2D-D875-45EC-9E2B-238BA9B1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D96D8-A38C-4C3A-9837-6434DBE2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4AA-CCEA-40F8-B0B8-BD1327CB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5E95E-C45C-4F44-9737-A84946EF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D420E-9C91-4DAB-BFC1-0D0AB930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12C3F-300B-4074-8CD9-B7AE30EC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E77DE-C379-4463-B902-1163F37D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F68EE-7142-4963-93E0-6F3DDF57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80DD6-EB3D-45DE-83BC-69A4C413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02BF4-7836-4257-BEFC-9950AD74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00882-93D4-4EE0-A4B6-B7928421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35A4C-7B77-44E5-9299-6328B61A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2A0CE-8828-45AF-9FF1-7AEBCF4E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4D2-F014-4FE0-B014-01E6A7B5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E00CF-370A-48E0-9017-0B86BB3D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B70BD-9817-48BE-95EF-3B0B6F34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DB569-F1BF-4C7A-9CBD-F922A41F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0384E-7282-4997-8C65-3E00B7CF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47597-7338-457D-89B6-C89DF2AC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A15F4-20A7-4094-A305-9101EB4F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AA318-E070-4C66-B6CB-9C186268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8141F-4BE1-44F6-8691-ECBB40AC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04AC7-356C-4CD3-8571-BD4445C7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85540-E127-47B6-8DA4-F0AF295D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F9C-0CEE-45AA-8997-29B38431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3F5CD-7770-4FA3-BB53-833E4319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9F2AC-3AD6-45D9-B982-E092BFE2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987D6-27CB-4AAC-A792-BEFF0EC2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7C7B2-4D68-4EFC-A5BE-6820A30E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908B3-25CF-4A18-BB19-A38BF40E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BE393-7624-4DA6-8F32-E739F90E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86D77-9C20-4A35-B68B-99BFC33B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F6520-6047-4D75-BED1-9087FDA8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7A0B1-9D32-46BB-BECD-6F4EE0A8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27202-3614-4D9A-9347-FC5FE429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8DA-246C-4C92-9839-5D3739B1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F4E1E-A706-4BC6-965D-E0A26868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6A663-3424-468F-A3C0-7C095879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B88A2-B8C0-4AEB-8A82-FA816B6D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8AC9C-A394-492E-9A85-9D18B938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03EC1-AC66-4D1C-9C45-D051E245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0DEE1-74A7-45C3-88DD-C64D3520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ABF01-7F54-4D6F-8BED-C2BB9D81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5F861-5C2B-4B38-B1E9-653EA311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0129E-89E9-4E0A-A29D-B72FF078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04C8D-6373-411A-B023-6690A1EE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A7A-68C8-4D3B-899F-AEB66EEB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461EB-70DA-49F2-8168-A73F62AC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AB7CC-85FB-4B74-BA93-56BAED01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A7BE7-4165-4687-B0B9-A089CC8A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08323-B626-401C-B0DF-C5C43901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B88DE-9C7C-4378-A30B-E8679BA3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06DB2-9E16-4EB6-8D6A-7DDC57AA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7F2C0-D8BF-4696-85DC-58C327D6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15821-EF5B-451E-9FCD-ECC53FF9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167F7-84F4-4AA7-90DD-9A618E7F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B9DB1-8EBF-4621-BE5A-F8FD05C0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634-08C5-4D4E-A2BD-9C6D71AC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300E5-BF4F-4DE2-A65A-4A50FF60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A6A6E-2645-4DD6-8D0C-FBCBAE3A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37C6F-C983-4D3E-8481-40F2A2BC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FC233-3258-42AF-BBA1-AC0FAE53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CFE70-504F-4673-8AE5-46D25999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7639E-5A02-4A74-B1F8-0C15A0D4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B782E-30DA-4444-9CDE-507D6E29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C1291-D5E4-4444-8BDE-E2A92FED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8FECD-D4D3-4D0F-868B-D57EC6F4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44030-CF78-4EF4-981C-2E8B9307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A202-9023-4B23-A626-2CAFEA63D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24A5-E0D3-4632-9B47-A817C81928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CBB4-DC05-45F8-B6E2-A8A862748F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ADFA-4311-43A4-997E-EEBD5100DE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6DB0-9DF4-4F44-918E-83AF096A1E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46B4-D1F0-473A-B39E-BDAAD8ED18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91D2-B33D-446F-A1B2-EB5F918F4A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D9C7-609E-49CB-803E-F0A66284CD3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9321-F934-4B7F-87A1-523A959838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A8F7-1450-4CD4-A1BE-8DDA1C430E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033B-F378-4296-AAA7-C4B2CC0B81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2F49-B7AB-40D4-86DD-D5187D4295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4"/>
          <p:cNvSpPr txBox="1"/>
          <p:nvPr/>
        </p:nvSpPr>
        <p:spPr>
          <a:xfrm>
            <a:off x="7805880" y="623880"/>
            <a:ext cx="1218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琥珀"/>
              </a:rPr>
              <a:t>五步教学法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7813800" y="1413000"/>
            <a:ext cx="12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导入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7783560" y="39909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阅读感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7812000" y="22478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学习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7797960" y="309888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自学生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7792920" y="48769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隶书"/>
              </a:rPr>
              <a:t>知识拓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WordArt 10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753320" y="5967360"/>
            <a:ext cx="1122480" cy="493920"/>
          </a:xfrm>
          <a:prstGeom prst="rect">
            <a:avLst/>
          </a:prstGeom>
          <a:ln w="0">
            <a:noFill/>
          </a:ln>
        </p:spPr>
      </p:pic>
      <p:sp>
        <p:nvSpPr>
          <p:cNvPr id="499" name="WordArt 11"/>
          <p:cNvSpPr txBox="1"/>
          <p:nvPr/>
        </p:nvSpPr>
        <p:spPr>
          <a:xfrm>
            <a:off x="2125800" y="934920"/>
            <a:ext cx="3533760" cy="4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 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语文多媒体课件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00" name="WordArt 12" descr=""/>
          <p:cNvPicPr/>
          <p:nvPr/>
        </p:nvPicPr>
        <p:blipFill>
          <a:blip r:embed="rId3"/>
          <a:stretch/>
        </p:blipFill>
        <p:spPr>
          <a:xfrm>
            <a:off x="1463760" y="1755720"/>
            <a:ext cx="4857840" cy="103680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3"/>
          <p:cNvSpPr/>
          <p:nvPr/>
        </p:nvSpPr>
        <p:spPr>
          <a:xfrm>
            <a:off x="254160" y="216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人教版五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5" descr="YW00089"/>
          <p:cNvPicPr/>
          <p:nvPr/>
        </p:nvPicPr>
        <p:blipFill>
          <a:blip r:embed="rId4"/>
          <a:stretch/>
        </p:blipFill>
        <p:spPr>
          <a:xfrm>
            <a:off x="2195640" y="2852640"/>
            <a:ext cx="3528720" cy="3456000"/>
          </a:xfrm>
          <a:prstGeom prst="rect">
            <a:avLst/>
          </a:prstGeom>
          <a:ln w="0">
            <a:noFill/>
          </a:ln>
        </p:spPr>
      </p:pic>
      <p:sp>
        <p:nvSpPr>
          <p:cNvPr id="503" name="矩形 13"/>
          <p:cNvSpPr/>
          <p:nvPr/>
        </p:nvSpPr>
        <p:spPr>
          <a:xfrm>
            <a:off x="1550880" y="6453360"/>
            <a:ext cx="309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是个狗洞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是城门。只有访问“狗国”，才从狗洞进去。你们先去问个明白，楚国到底是个什么样的国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3"/>
          <p:cNvSpPr/>
          <p:nvPr/>
        </p:nvSpPr>
        <p:spPr>
          <a:xfrm>
            <a:off x="411480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2666880" y="29718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访狗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5410080" y="2971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钻狗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5257800" y="2895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7"/>
          <p:cNvSpPr/>
          <p:nvPr/>
        </p:nvSpPr>
        <p:spPr>
          <a:xfrm>
            <a:off x="4114800" y="32767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2666880" y="39625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访楚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5410080" y="39625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钻狗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2666880" y="48909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楚    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1"/>
          <p:cNvSpPr/>
          <p:nvPr/>
        </p:nvSpPr>
        <p:spPr>
          <a:xfrm>
            <a:off x="5410080" y="4952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2"/>
          <p:cNvSpPr/>
          <p:nvPr/>
        </p:nvSpPr>
        <p:spPr>
          <a:xfrm>
            <a:off x="4114800" y="5181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4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10920" y="947520"/>
            <a:ext cx="7777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是个狗洞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是城门。只有访问“狗国”，才从狗洞进去。你们先去问个明白，楚国到底是个什么样的国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3357720" y="432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1909800" y="302724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访狗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4556160" y="3052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钻狗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7"/>
          <p:cNvSpPr/>
          <p:nvPr/>
        </p:nvSpPr>
        <p:spPr>
          <a:xfrm>
            <a:off x="3357720" y="333216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1909800" y="40179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访楚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4506840" y="401796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钻狗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1909800" y="49467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楚    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4430880" y="5008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狗     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2"/>
          <p:cNvSpPr/>
          <p:nvPr/>
        </p:nvSpPr>
        <p:spPr>
          <a:xfrm>
            <a:off x="3357720" y="523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13"/>
          <p:cNvSpPr/>
          <p:nvPr/>
        </p:nvSpPr>
        <p:spPr>
          <a:xfrm>
            <a:off x="6300720" y="2874960"/>
            <a:ext cx="15242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4"/>
          <p:cNvSpPr/>
          <p:nvPr/>
        </p:nvSpPr>
        <p:spPr>
          <a:xfrm>
            <a:off x="6227640" y="3865680"/>
            <a:ext cx="152424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5"/>
          <p:cNvSpPr/>
          <p:nvPr/>
        </p:nvSpPr>
        <p:spPr>
          <a:xfrm>
            <a:off x="6227640" y="4856040"/>
            <a:ext cx="15242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6402240" y="2979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大前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7"/>
          <p:cNvSpPr/>
          <p:nvPr/>
        </p:nvSpPr>
        <p:spPr>
          <a:xfrm>
            <a:off x="6300720" y="397368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前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8"/>
          <p:cNvSpPr/>
          <p:nvPr/>
        </p:nvSpPr>
        <p:spPr>
          <a:xfrm>
            <a:off x="6415200" y="49975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结   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9"/>
          <p:cNvSpPr/>
          <p:nvPr/>
        </p:nvSpPr>
        <p:spPr>
          <a:xfrm>
            <a:off x="6227640" y="57895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Times New Roman"/>
              </a:rPr>
              <a:t>三段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1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访问上等的国家，就派上等人去；访问下等的国家，就派下等人去。我最不中用，所以派到这儿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3"/>
          <p:cNvSpPr/>
          <p:nvPr/>
        </p:nvSpPr>
        <p:spPr>
          <a:xfrm>
            <a:off x="434340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2209680" y="3200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等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6172200" y="3124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等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2209680" y="38606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等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6172200" y="3809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等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2209680" y="45212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最不中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6172200" y="4495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派到楚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2209680" y="5181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楚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6172200" y="5181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4343400" y="4165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3"/>
          <p:cNvSpPr/>
          <p:nvPr/>
        </p:nvSpPr>
        <p:spPr>
          <a:xfrm>
            <a:off x="4495680" y="48261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4"/>
          <p:cNvSpPr/>
          <p:nvPr/>
        </p:nvSpPr>
        <p:spPr>
          <a:xfrm>
            <a:off x="4343400" y="54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6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3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3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3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2920" y="105264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访问上等的国家，就派上等人去；访问下等的国家，就派下等人去。我最不中用，所以派到这儿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3"/>
          <p:cNvSpPr/>
          <p:nvPr/>
        </p:nvSpPr>
        <p:spPr>
          <a:xfrm>
            <a:off x="375300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619280" y="3200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等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"/>
          <p:cNvSpPr/>
          <p:nvPr/>
        </p:nvSpPr>
        <p:spPr>
          <a:xfrm>
            <a:off x="5581800" y="3124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等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6"/>
          <p:cNvSpPr/>
          <p:nvPr/>
        </p:nvSpPr>
        <p:spPr>
          <a:xfrm>
            <a:off x="1619280" y="38606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等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5581800" y="3809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等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8"/>
          <p:cNvSpPr/>
          <p:nvPr/>
        </p:nvSpPr>
        <p:spPr>
          <a:xfrm>
            <a:off x="1619280" y="45212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最不中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9"/>
          <p:cNvSpPr/>
          <p:nvPr/>
        </p:nvSpPr>
        <p:spPr>
          <a:xfrm>
            <a:off x="5581800" y="4495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派到楚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0"/>
          <p:cNvSpPr/>
          <p:nvPr/>
        </p:nvSpPr>
        <p:spPr>
          <a:xfrm>
            <a:off x="1619280" y="5181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楚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1"/>
          <p:cNvSpPr/>
          <p:nvPr/>
        </p:nvSpPr>
        <p:spPr>
          <a:xfrm>
            <a:off x="55818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最下等的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2"/>
          <p:cNvSpPr/>
          <p:nvPr/>
        </p:nvSpPr>
        <p:spPr>
          <a:xfrm>
            <a:off x="3753000" y="4165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3"/>
          <p:cNvSpPr/>
          <p:nvPr/>
        </p:nvSpPr>
        <p:spPr>
          <a:xfrm>
            <a:off x="3753000" y="48261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4"/>
          <p:cNvSpPr/>
          <p:nvPr/>
        </p:nvSpPr>
        <p:spPr>
          <a:xfrm>
            <a:off x="3753000" y="54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6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2"/>
          <p:cNvSpPr/>
          <p:nvPr/>
        </p:nvSpPr>
        <p:spPr>
          <a:xfrm>
            <a:off x="2819520" y="1577880"/>
            <a:ext cx="96840" cy="1059120"/>
          </a:xfrm>
          <a:custGeom>
            <a:avLst/>
            <a:gdLst>
              <a:gd name="textAreaLeft" fmla="*/ 61920 w 96840"/>
              <a:gd name="textAreaRight" fmla="*/ 97200 w 96840"/>
              <a:gd name="textAreaTop" fmla="*/ 27360 h 1059120"/>
              <a:gd name="textAreaBottom" fmla="*/ 1031760 h 105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1905120" y="1913040"/>
            <a:ext cx="6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3048120" y="12654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于淮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3048120" y="2209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于淮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6"/>
          <p:cNvSpPr/>
          <p:nvPr/>
        </p:nvSpPr>
        <p:spPr>
          <a:xfrm>
            <a:off x="5181480" y="1557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6019920" y="1265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8"/>
          <p:cNvSpPr/>
          <p:nvPr/>
        </p:nvSpPr>
        <p:spPr>
          <a:xfrm>
            <a:off x="5257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9"/>
          <p:cNvSpPr/>
          <p:nvPr/>
        </p:nvSpPr>
        <p:spPr>
          <a:xfrm>
            <a:off x="6019920" y="2209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10"/>
          <p:cNvSpPr/>
          <p:nvPr/>
        </p:nvSpPr>
        <p:spPr>
          <a:xfrm>
            <a:off x="3886200" y="3076560"/>
            <a:ext cx="973080" cy="372960"/>
          </a:xfrm>
          <a:prstGeom prst="rightArrow">
            <a:avLst>
              <a:gd name="adj1" fmla="val 50000"/>
              <a:gd name="adj2" fmla="val 652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1"/>
          <p:cNvSpPr/>
          <p:nvPr/>
        </p:nvSpPr>
        <p:spPr>
          <a:xfrm>
            <a:off x="5029200" y="2924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土异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2"/>
          <p:cNvSpPr/>
          <p:nvPr/>
        </p:nvSpPr>
        <p:spPr>
          <a:xfrm>
            <a:off x="1692360" y="55897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                             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3"/>
          <p:cNvSpPr/>
          <p:nvPr/>
        </p:nvSpPr>
        <p:spPr>
          <a:xfrm>
            <a:off x="1908000" y="4221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4"/>
          <p:cNvSpPr/>
          <p:nvPr/>
        </p:nvSpPr>
        <p:spPr>
          <a:xfrm>
            <a:off x="2790720" y="4089240"/>
            <a:ext cx="125640" cy="995400"/>
          </a:xfrm>
          <a:custGeom>
            <a:avLst/>
            <a:gdLst>
              <a:gd name="textAreaLeft" fmla="*/ 80280 w 125640"/>
              <a:gd name="textAreaRight" fmla="*/ 126000 w 125640"/>
              <a:gd name="textAreaTop" fmla="*/ 25920 h 995400"/>
              <a:gd name="textAreaBottom" fmla="*/ 969480 h 9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5"/>
          <p:cNvSpPr/>
          <p:nvPr/>
        </p:nvSpPr>
        <p:spPr>
          <a:xfrm>
            <a:off x="3171960" y="378936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长于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6"/>
          <p:cNvSpPr/>
          <p:nvPr/>
        </p:nvSpPr>
        <p:spPr>
          <a:xfrm>
            <a:off x="5219640" y="4170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7"/>
          <p:cNvSpPr/>
          <p:nvPr/>
        </p:nvSpPr>
        <p:spPr>
          <a:xfrm>
            <a:off x="3132000" y="4653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入     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8"/>
          <p:cNvSpPr/>
          <p:nvPr/>
        </p:nvSpPr>
        <p:spPr>
          <a:xfrm>
            <a:off x="5148360" y="4941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9"/>
          <p:cNvSpPr/>
          <p:nvPr/>
        </p:nvSpPr>
        <p:spPr>
          <a:xfrm>
            <a:off x="6084720" y="37893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0"/>
          <p:cNvSpPr/>
          <p:nvPr/>
        </p:nvSpPr>
        <p:spPr>
          <a:xfrm>
            <a:off x="6013440" y="4653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1"/>
          <p:cNvSpPr/>
          <p:nvPr/>
        </p:nvSpPr>
        <p:spPr>
          <a:xfrm>
            <a:off x="1908000" y="56610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活环境不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导致本质的改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2"/>
          <p:cNvSpPr/>
          <p:nvPr/>
        </p:nvSpPr>
        <p:spPr>
          <a:xfrm>
            <a:off x="287280" y="981000"/>
            <a:ext cx="22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类比推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4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"/>
                            </p:stCondLst>
                            <p:childTnLst>
                              <p:par>
                                <p:cTn id="3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"/>
                            </p:stCondLst>
                            <p:childTnLst>
                              <p:par>
                                <p:cTn id="4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"/>
                            </p:stCondLst>
                            <p:childTnLst>
                              <p:par>
                                <p:cTn id="4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"/>
                            </p:stCondLst>
                            <p:childTnLst>
                              <p:par>
                                <p:cTn id="4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"/>
                            </p:stCondLst>
                            <p:childTnLst>
                              <p:par>
                                <p:cTn id="4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7"/>
                            </p:stCondLst>
                            <p:childTnLst>
                              <p:par>
                                <p:cTn id="4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"/>
                            </p:stCondLst>
                            <p:childTnLst>
                              <p:par>
                                <p:cTn id="4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3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"/>
                            </p:stCondLst>
                            <p:childTnLst>
                              <p:par>
                                <p:cTn id="4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"/>
                            </p:stCondLst>
                            <p:childTnLst>
                              <p:par>
                                <p:cTn id="4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"/>
                            </p:stCondLst>
                            <p:childTnLst>
                              <p:par>
                                <p:cTn id="4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"/>
                            </p:stCondLst>
                            <p:childTnLst>
                              <p:par>
                                <p:cTn id="4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9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1383480" y="5700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在齐为君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"/>
          <p:cNvSpPr/>
          <p:nvPr/>
        </p:nvSpPr>
        <p:spPr>
          <a:xfrm>
            <a:off x="5704560" y="5772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在楚为强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3423960" y="229104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Verdana"/>
              </a:rPr>
              <a:t>水土异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5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2514600" cy="42670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" descr=""/>
          <p:cNvPicPr/>
          <p:nvPr/>
        </p:nvPicPr>
        <p:blipFill>
          <a:blip r:embed="rId3"/>
          <a:stretch/>
        </p:blipFill>
        <p:spPr>
          <a:xfrm>
            <a:off x="4211640" y="1557360"/>
            <a:ext cx="4419720" cy="430524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7"/>
          <p:cNvSpPr/>
          <p:nvPr/>
        </p:nvSpPr>
        <p:spPr>
          <a:xfrm>
            <a:off x="1383480" y="981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</a:rPr>
              <a:t>生淮南为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148000" y="1006200"/>
            <a:ext cx="242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生淮北为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4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4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"/>
                            </p:stCondLst>
                            <p:childTnLst>
                              <p:par>
                                <p:cTn id="5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2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"/>
                            </p:stCondLst>
                            <p:childTnLst>
                              <p:par>
                                <p:cTn id="5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8" name=""/>
          <p:cNvGraphicFramePr/>
          <p:nvPr/>
        </p:nvGraphicFramePr>
        <p:xfrm>
          <a:off x="449280" y="2054160"/>
          <a:ext cx="8443800" cy="3968640"/>
        </p:xfrm>
        <a:graphic>
          <a:graphicData uri="http://schemas.openxmlformats.org/drawingml/2006/table">
            <a:tbl>
              <a:tblPr/>
              <a:tblGrid>
                <a:gridCol w="2736720"/>
                <a:gridCol w="3097440"/>
                <a:gridCol w="2609640"/>
              </a:tblGrid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楚王侮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晏子反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要晏子钻狗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访问狗国才钻狗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只好”大开城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说晏子是下等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我最不中用，所以派来访问楚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只好”陪着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说齐国人是强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好人到了强盗国就会变成强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只好”赔不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9" name="Text Box 40"/>
          <p:cNvSpPr/>
          <p:nvPr/>
        </p:nvSpPr>
        <p:spPr>
          <a:xfrm>
            <a:off x="2050920" y="1052640"/>
            <a:ext cx="54007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ff"/>
                </a:solidFill>
                <a:latin typeface="Verdana"/>
              </a:rPr>
              <a:t>晏子和楚王的三次交锋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2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3"/>
          <p:cNvSpPr/>
          <p:nvPr/>
        </p:nvSpPr>
        <p:spPr>
          <a:xfrm>
            <a:off x="1042920" y="2997360"/>
            <a:ext cx="7345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这句话说明了楚国想凭强盛而欺侮弱小的国家，点明了楚王存心侮辱晏子、侮辱齐国的用心。话中也预示了晏子这次访问楚国的艰难处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971640" y="1557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．楚王仗着自己国势强盛，想乘机侮辱晏子，显显楚国的威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1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3"/>
          <p:cNvSpPr/>
          <p:nvPr/>
        </p:nvSpPr>
        <p:spPr>
          <a:xfrm>
            <a:off x="826920" y="2708280"/>
            <a:ext cx="7561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晏子到了楚国，楚王叫人关起城门，让晏子从洞口钻进去，这是对晏子人格的侮辱。而晏子用这句话来回答楚王，意思是你楚王让我钻狗洞，就得首先承认楚国是狗国，楚王是狗国的国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971640" y="1268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．这是个狗洞，不是城门。只有访问‘狗国’，才从狗洞进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94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3"/>
          <p:cNvSpPr/>
          <p:nvPr/>
        </p:nvSpPr>
        <p:spPr>
          <a:xfrm>
            <a:off x="611280" y="2205000"/>
            <a:ext cx="8137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楚王讽刺齐国无能人，晏子针锋相对地予以回击。话意是：按照我们齐国的规矩，什么等级的人才去访问什么等级的国家。我是齐国最不中用的人，因此只能到你们最不中用的楚国来访问。晏子用先贬低自己的方法，达到贬低对方的目的，使楚王再次感到没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826920" y="1125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．敝国有个规矩：访问上等的国家，就派上等人去；访问下等的国家，就派下等人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8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矩形 6"/>
          <p:cNvSpPr/>
          <p:nvPr/>
        </p:nvSpPr>
        <p:spPr>
          <a:xfrm>
            <a:off x="2771640" y="13986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0" descr="YW00089"/>
          <p:cNvPicPr/>
          <p:nvPr/>
        </p:nvPicPr>
        <p:blipFill>
          <a:blip r:embed="rId2"/>
          <a:stretch/>
        </p:blipFill>
        <p:spPr>
          <a:xfrm>
            <a:off x="250920" y="907920"/>
            <a:ext cx="5400720" cy="5591160"/>
          </a:xfrm>
          <a:prstGeom prst="rect">
            <a:avLst/>
          </a:prstGeom>
          <a:ln w="0">
            <a:noFill/>
          </a:ln>
        </p:spPr>
      </p:pic>
      <p:sp>
        <p:nvSpPr>
          <p:cNvPr id="506" name="WordArt 11"/>
          <p:cNvSpPr txBox="1"/>
          <p:nvPr/>
        </p:nvSpPr>
        <p:spPr>
          <a:xfrm rot="5400000">
            <a:off x="5689080" y="2527200"/>
            <a:ext cx="426096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晏子使楚</a:t>
            </a:r>
            <a:endParaRPr b="1" lang="en-US" sz="32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7" name="Text Box 12"/>
          <p:cNvSpPr/>
          <p:nvPr/>
        </p:nvSpPr>
        <p:spPr>
          <a:xfrm>
            <a:off x="6015600" y="1628640"/>
            <a:ext cx="78984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晏子春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4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导入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3"/>
          <p:cNvSpPr/>
          <p:nvPr/>
        </p:nvSpPr>
        <p:spPr>
          <a:xfrm>
            <a:off x="682560" y="2573280"/>
            <a:ext cx="806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晏子说的这句话，形容齐国的人很多。句中连用两个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大伙儿都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就能够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……”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的并列句式，起着增强语气的作用。此外，衣袖能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连成一片云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、甩汗能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下一场阵雨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都是夸张的说法，既说明了齐国人多，又表现了晏子很有口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395280" y="11192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．大伙儿都把袖子举起来，就能够连成一片云；大伙儿都甩一把汗，就能够下一场阵雨；街上的行人肩膀擦着肩膀，脚尖碰着脚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WordArt 6"/>
          <p:cNvSpPr txBox="1"/>
          <p:nvPr/>
        </p:nvSpPr>
        <p:spPr>
          <a:xfrm>
            <a:off x="2195640" y="115920"/>
            <a:ext cx="136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佳句赏析</a:t>
            </a:r>
            <a:endParaRPr b="0" lang="en-US" sz="3200" spc="1" strike="noStrike">
              <a:ln w="12600">
                <a:solidFill>
                  <a:srgbClr val="ffff99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3"/>
          <p:cNvSpPr/>
          <p:nvPr/>
        </p:nvSpPr>
        <p:spPr>
          <a:xfrm>
            <a:off x="468360" y="328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这句话里打了个比方，齐国人在齐国能够安定地生活，愉快地劳动，一到楚国就干起盗贼来，就像淮南又大又甜的柑桔一种到淮北就变得又小又苦一样，这是因为水土不同。这句话有力地抨击了楚国败坏的社会风气和混乱的国家统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324000" y="9856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．淮南的桔，又大又甜。可是这种桔树一种到淮北，就只能结又小又苦的枳，还不是因为水土不同吗？同样的道理，齐国人在齐国能安居乐业，好好地劳动，一到楚国，就做起盗贼来了，也许是两国的水土不同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9"/>
          <p:cNvSpPr/>
          <p:nvPr/>
        </p:nvSpPr>
        <p:spPr>
          <a:xfrm>
            <a:off x="969840" y="119700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“这是个狗洞，不是城市。我要是访问狗国，当然得钻狗洞。我在这儿等一会儿，你们先去问个明白，楚国到底是个什么样的国家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1"/>
          <p:cNvSpPr/>
          <p:nvPr/>
        </p:nvSpPr>
        <p:spPr>
          <a:xfrm>
            <a:off x="900000" y="3429000"/>
            <a:ext cx="7956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训练：如果让我钻洞进去，那么楚国就是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楚王就是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只要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就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__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WordArt 16"/>
          <p:cNvSpPr txBox="1"/>
          <p:nvPr/>
        </p:nvSpPr>
        <p:spPr>
          <a:xfrm>
            <a:off x="2160720" y="115920"/>
            <a:ext cx="140328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巩固练习</a:t>
            </a:r>
            <a:endParaRPr b="0" lang="en-US" sz="3200" spc="1" strike="noStrike">
              <a:ln w="12600">
                <a:solidFill>
                  <a:srgbClr val="ffff99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1" name="Text Box 17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8"/>
          <p:cNvSpPr/>
          <p:nvPr/>
        </p:nvSpPr>
        <p:spPr>
          <a:xfrm>
            <a:off x="7596360" y="4437000"/>
            <a:ext cx="1008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7"/>
          <p:cNvSpPr/>
          <p:nvPr/>
        </p:nvSpPr>
        <p:spPr>
          <a:xfrm>
            <a:off x="1835280" y="3860640"/>
            <a:ext cx="5545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训练：举（    ）成（   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挥（   ）如（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摩（    ）接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468360" y="1268280"/>
            <a:ext cx="8280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“这是什么话？我国首都临淄住满了人，大伙儿把袖子举起来，就连成一片云；大伙儿都甩一把汗，就像下一阵雨；街上的行人肩擦肩，脚碰脚。大王怎么说齐国没有人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4"/>
          <p:cNvSpPr/>
          <p:nvPr/>
        </p:nvSpPr>
        <p:spPr>
          <a:xfrm>
            <a:off x="971640" y="112536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“敝国有个规矩：访问上等的国家，就派上等人去；访问下等国家，就派下等人去。我最不中用，就派到这儿来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9"/>
          <p:cNvSpPr/>
          <p:nvPr/>
        </p:nvSpPr>
        <p:spPr>
          <a:xfrm>
            <a:off x="826920" y="3500280"/>
            <a:ext cx="777744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训练：“最不中用” 是指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因为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___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所以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____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1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6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77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2" dur="770" fill="hold"/>
                                        <p:tgtEl>
                                          <p:spTgt spid="7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4" dur="77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6" dur="77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3"/>
          <p:cNvSpPr/>
          <p:nvPr/>
        </p:nvSpPr>
        <p:spPr>
          <a:xfrm>
            <a:off x="468360" y="113040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“大王怎么不知道哇？淮南的柑桔，又大又甜。可是这种桔树一种到滩北，就只能结又小又苦的果，还不是因为水土不同吗？同样的道理，齐国人在齐国能安居乐业，一到楚国，就做起强盗来了，也许是两国的水土不同吧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11"/>
          <p:cNvGrpSpPr/>
          <p:nvPr/>
        </p:nvGrpSpPr>
        <p:grpSpPr>
          <a:xfrm>
            <a:off x="612720" y="3500280"/>
            <a:ext cx="8136000" cy="1994760"/>
            <a:chOff x="612720" y="3500280"/>
            <a:chExt cx="8136000" cy="1994760"/>
          </a:xfrm>
        </p:grpSpPr>
        <p:grpSp>
          <p:nvGrpSpPr>
            <p:cNvPr id="711" name="Group 8"/>
            <p:cNvGrpSpPr/>
            <p:nvPr/>
          </p:nvGrpSpPr>
          <p:grpSpPr>
            <a:xfrm>
              <a:off x="612720" y="3500280"/>
              <a:ext cx="8136000" cy="1994760"/>
              <a:chOff x="612720" y="3500280"/>
              <a:chExt cx="8136000" cy="1994760"/>
            </a:xfrm>
          </p:grpSpPr>
          <p:sp>
            <p:nvSpPr>
              <p:cNvPr id="712" name="Text Box 5"/>
              <p:cNvSpPr/>
              <p:nvPr/>
            </p:nvSpPr>
            <p:spPr>
              <a:xfrm>
                <a:off x="612720" y="3500280"/>
                <a:ext cx="8136000" cy="19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9999"/>
                    </a:solidFill>
                    <a:latin typeface="Arial"/>
                  </a:rPr>
                  <a:t>　  训练：第一次“水土不同”指</a:t>
                </a:r>
                <a:r>
                  <a:rPr b="1" lang="en-US" sz="3200" spc="-1" strike="noStrike">
                    <a:solidFill>
                      <a:srgbClr val="009999"/>
                    </a:solidFill>
                    <a:latin typeface="Arial"/>
                  </a:rPr>
                  <a:t>________,</a:t>
                </a:r>
                <a:br>
                  <a:rPr sz="3200"/>
                </a:br>
                <a:r>
                  <a:rPr b="1" lang="zh-CN" sz="3200" spc="-1" strike="noStrike">
                    <a:solidFill>
                      <a:srgbClr val="009999"/>
                    </a:solidFill>
                    <a:latin typeface="Arial"/>
                  </a:rPr>
                  <a:t>第二次的“水土不同”指                             。</a:t>
                </a:r>
                <a:br>
                  <a:rPr sz="3200"/>
                </a:br>
                <a:r>
                  <a:rPr b="1" lang="zh-CN" sz="3200" spc="-1" strike="noStrike">
                    <a:solidFill>
                      <a:srgbClr val="009999"/>
                    </a:solidFill>
                    <a:latin typeface="Arial"/>
                  </a:rPr>
                  <a:t>因为</a:t>
                </a:r>
                <a:r>
                  <a:rPr b="1" lang="en-US" sz="3200" spc="-1" strike="noStrike">
                    <a:solidFill>
                      <a:srgbClr val="009999"/>
                    </a:solidFill>
                    <a:latin typeface="Arial"/>
                  </a:rPr>
                  <a:t>__________________</a:t>
                </a:r>
                <a:r>
                  <a:rPr b="1" lang="zh-CN" sz="3200" spc="-1" strike="noStrike">
                    <a:solidFill>
                      <a:srgbClr val="009999"/>
                    </a:solidFill>
                    <a:latin typeface="Arial"/>
                  </a:rPr>
                  <a:t>，所以</a:t>
                </a:r>
                <a:r>
                  <a:rPr b="1" lang="en-US" sz="3200" spc="-1" strike="noStrike">
                    <a:solidFill>
                      <a:srgbClr val="009999"/>
                    </a:solidFill>
                    <a:latin typeface="Arial"/>
                  </a:rPr>
                  <a:t>______</a:t>
                </a:r>
                <a:r>
                  <a:rPr b="1" lang="zh-CN" sz="3200" spc="-1" strike="noStrike">
                    <a:solidFill>
                      <a:srgbClr val="009999"/>
                    </a:solidFill>
                    <a:latin typeface="Arial"/>
                  </a:rPr>
                  <a:t>。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7"/>
              <p:cNvSpPr/>
              <p:nvPr/>
            </p:nvSpPr>
            <p:spPr>
              <a:xfrm>
                <a:off x="4859280" y="4794120"/>
                <a:ext cx="3168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4" name="Line 9"/>
            <p:cNvSpPr/>
            <p:nvPr/>
          </p:nvSpPr>
          <p:spPr>
            <a:xfrm>
              <a:off x="4932360" y="4752720"/>
              <a:ext cx="309564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Text Box 10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9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8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4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1886040" y="1052640"/>
            <a:ext cx="56386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晏子使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三次侮辱欲显威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识破用心妙应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弄巧成拙讨无趣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维护尊严之强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Object 7"/>
          <p:cNvGraphicFramePr/>
          <p:nvPr/>
        </p:nvGraphicFramePr>
        <p:xfrm>
          <a:off x="8172360" y="5950080"/>
          <a:ext cx="887400" cy="8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72360" y="5950080"/>
                    <a:ext cx="8874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468360" y="981000"/>
            <a:ext cx="8351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故事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有一次，克林顿到外地演讲，他正在演讲时，从下面传来一张字条，上面写了两个字：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白痴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 。如果你是克林顿，你会怎样回答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1979640" y="792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Verdana"/>
              </a:rPr>
              <a:t>迁移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拓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2639880" y="522828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哪位先生把自己的名字写上来了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2"/>
          <p:cNvSpPr/>
          <p:nvPr/>
        </p:nvSpPr>
        <p:spPr>
          <a:xfrm>
            <a:off x="900000" y="1125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故事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1042920" y="1913040"/>
            <a:ext cx="7632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天，德国大诗人歌德在公园散步，在一条狭窄的小路上遇到了一位反对他的批评家，这位傲慢的批评家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知道吗？我这个人从来不给傻瓜让路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歌德却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说完闪身让批评家过去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4572000" y="4800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2268360" y="4437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而我恰恰相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拓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77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4" dur="770" fill="hold"/>
                                        <p:tgtEl>
                                          <p:spTgt spid="7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6" dur="77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8" dur="77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179280" y="981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故事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6"/>
          <p:cNvSpPr/>
          <p:nvPr/>
        </p:nvSpPr>
        <p:spPr>
          <a:xfrm>
            <a:off x="684360" y="5805360"/>
            <a:ext cx="352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3"/>
          <p:cNvSpPr/>
          <p:nvPr/>
        </p:nvSpPr>
        <p:spPr>
          <a:xfrm>
            <a:off x="684360" y="1773360"/>
            <a:ext cx="806436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德国大诗人海涅是犹太人，常常遭到无端攻击。有一次晚会上，一个旅行家对他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发现了一个小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个岛上竟然没有犹太人和驴子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海涅不动声色地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看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才会弥补这个缺陷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8"/>
          <p:cNvGrpSpPr/>
          <p:nvPr/>
        </p:nvGrpSpPr>
        <p:grpSpPr>
          <a:xfrm>
            <a:off x="828720" y="4363920"/>
            <a:ext cx="7630560" cy="1443240"/>
            <a:chOff x="828720" y="4363920"/>
            <a:chExt cx="7630560" cy="1443240"/>
          </a:xfrm>
        </p:grpSpPr>
        <p:sp>
          <p:nvSpPr>
            <p:cNvPr id="734" name="Text Box 4"/>
            <p:cNvSpPr/>
            <p:nvPr/>
          </p:nvSpPr>
          <p:spPr>
            <a:xfrm>
              <a:off x="828720" y="5225760"/>
              <a:ext cx="338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一起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去那个岛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 Box 7"/>
            <p:cNvSpPr/>
            <p:nvPr/>
          </p:nvSpPr>
          <p:spPr>
            <a:xfrm>
              <a:off x="6516360" y="4363920"/>
              <a:ext cx="194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只有你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9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拓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755280" y="112500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多年前，我国历史上曾出现了一个群雄纷争的春秋战国时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Object 3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6480360" cy="4103640"/>
          </a:xfrm>
          <a:prstGeom prst="rect">
            <a:avLst/>
          </a:prstGeom>
          <a:ln w="0">
            <a:noFill/>
          </a:ln>
        </p:spPr>
      </p:pic>
      <p:sp>
        <p:nvSpPr>
          <p:cNvPr id="511" name="WordArt 4"/>
          <p:cNvSpPr txBox="1"/>
          <p:nvPr/>
        </p:nvSpPr>
        <p:spPr>
          <a:xfrm>
            <a:off x="8748720" y="0"/>
            <a:ext cx="395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导入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2"/>
          <p:cNvSpPr/>
          <p:nvPr/>
        </p:nvSpPr>
        <p:spPr>
          <a:xfrm>
            <a:off x="468360" y="105264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故事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3"/>
          <p:cNvSpPr/>
          <p:nvPr/>
        </p:nvSpPr>
        <p:spPr>
          <a:xfrm>
            <a:off x="663480" y="191304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俄国著名寓言作家克雷洛夫长得很胖，又爱穿黑衣服。一次，一位贵族看到他在散步，便冲着他大叫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看，来了一朵乌 云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_______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克雷洛夫看着雍肿的贵族答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2073240" y="4218120"/>
            <a:ext cx="43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怪不得蛤蟆开始叫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2"/>
          <p:cNvSpPr/>
          <p:nvPr/>
        </p:nvSpPr>
        <p:spPr>
          <a:xfrm>
            <a:off x="3401640" y="1197000"/>
            <a:ext cx="2754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话和事业的 发展有很大的关系，因为这直接关系到别人的同情、合作和帮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富兰克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WordArt 3"/>
          <p:cNvSpPr txBox="1"/>
          <p:nvPr/>
        </p:nvSpPr>
        <p:spPr>
          <a:xfrm rot="5400000">
            <a:off x="5734080" y="2843280"/>
            <a:ext cx="312408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教师寄语</a:t>
            </a:r>
            <a:endParaRPr b="1" lang="en-US" sz="32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42" name="Text Box 5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拓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Object 6"/>
          <p:cNvGraphicFramePr/>
          <p:nvPr/>
        </p:nvGraphicFramePr>
        <p:xfrm>
          <a:off x="8221680" y="6012000"/>
          <a:ext cx="887400" cy="8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21680" y="6012000"/>
                    <a:ext cx="8874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Text Box 6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4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4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11"/>
          <p:cNvSpPr/>
          <p:nvPr/>
        </p:nvSpPr>
        <p:spPr>
          <a:xfrm>
            <a:off x="684360" y="1268280"/>
            <a:ext cx="8135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晏子　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?—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前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00)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名婴，字平仲，夷维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今山东高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人，春秋时齐国大夫。公元前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56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年，开始辅佐齐灵公，后又辅佐庄公、景公。他主张诛不避贵，赏不遗贱，重视生产，提倡蚕桑，反对厚赋重刑。在我国劳动人民心目中晏子是智慧的化身，他以足智多谋和能言善辩为世人所称道。战国时，有人将他的言行编成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晏子春秋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一书。本篇课文选自林汉达编著的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春秋故事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15"/>
          <p:cNvSpPr txBox="1"/>
          <p:nvPr/>
        </p:nvSpPr>
        <p:spPr>
          <a:xfrm>
            <a:off x="2340000" y="144360"/>
            <a:ext cx="136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人物介绍</a:t>
            </a:r>
            <a:endParaRPr b="0" lang="en-US" sz="3200" spc="1" strike="noStrike">
              <a:ln w="12600">
                <a:solidFill>
                  <a:srgbClr val="ffff99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15" name="Text Box 16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导入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Object 17"/>
          <p:cNvGraphicFramePr/>
          <p:nvPr/>
        </p:nvGraphicFramePr>
        <p:xfrm>
          <a:off x="8028000" y="5734080"/>
          <a:ext cx="887400" cy="8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28000" y="5734080"/>
                    <a:ext cx="8874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5" descr="168133580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528120" y="1599840"/>
            <a:ext cx="78598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学生能够正确认读并且正确书写本课的生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初步了解句子之间的逻辑关系，认识简单的推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了解故事内容，理解晏子反驳的话，体会他出使楚国时表现出的沉着睿智、机智灵活，以及维护齐国尊严的凛然气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Object 9"/>
          <p:cNvGraphicFramePr/>
          <p:nvPr/>
        </p:nvGraphicFramePr>
        <p:xfrm>
          <a:off x="8256600" y="5734080"/>
          <a:ext cx="887400" cy="8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56600" y="5734080"/>
                    <a:ext cx="8874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20050801161214387"/>
          <p:cNvPicPr/>
          <p:nvPr/>
        </p:nvPicPr>
        <p:blipFill>
          <a:blip r:embed="rId2"/>
          <a:stretch/>
        </p:blipFill>
        <p:spPr>
          <a:xfrm>
            <a:off x="-36360" y="504720"/>
            <a:ext cx="9144000" cy="6309000"/>
          </a:xfrm>
          <a:prstGeom prst="rect">
            <a:avLst/>
          </a:prstGeom>
          <a:ln w="0">
            <a:noFill/>
          </a:ln>
        </p:spPr>
      </p:pic>
      <p:grpSp>
        <p:nvGrpSpPr>
          <p:cNvPr id="524" name="Group 3"/>
          <p:cNvGrpSpPr/>
          <p:nvPr/>
        </p:nvGrpSpPr>
        <p:grpSpPr>
          <a:xfrm>
            <a:off x="3384360" y="2133720"/>
            <a:ext cx="1224000" cy="1224000"/>
            <a:chOff x="3384360" y="2133720"/>
            <a:chExt cx="1224000" cy="1224000"/>
          </a:xfrm>
        </p:grpSpPr>
        <p:sp>
          <p:nvSpPr>
            <p:cNvPr id="525" name="Rectangle 4"/>
            <p:cNvSpPr/>
            <p:nvPr/>
          </p:nvSpPr>
          <p:spPr>
            <a:xfrm>
              <a:off x="3384720" y="2133720"/>
              <a:ext cx="122364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5"/>
            <p:cNvSpPr/>
            <p:nvPr/>
          </p:nvSpPr>
          <p:spPr>
            <a:xfrm flipH="1">
              <a:off x="3384360" y="2745720"/>
              <a:ext cx="122364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>
              <a:off x="399672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7"/>
          <p:cNvGrpSpPr/>
          <p:nvPr/>
        </p:nvGrpSpPr>
        <p:grpSpPr>
          <a:xfrm>
            <a:off x="4608360" y="2133720"/>
            <a:ext cx="1224000" cy="1224000"/>
            <a:chOff x="4608360" y="2133720"/>
            <a:chExt cx="1224000" cy="1224000"/>
          </a:xfrm>
        </p:grpSpPr>
        <p:sp>
          <p:nvSpPr>
            <p:cNvPr id="529" name="Rectangle 8"/>
            <p:cNvSpPr/>
            <p:nvPr/>
          </p:nvSpPr>
          <p:spPr>
            <a:xfrm>
              <a:off x="460836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9"/>
            <p:cNvSpPr/>
            <p:nvPr/>
          </p:nvSpPr>
          <p:spPr>
            <a:xfrm flipH="1">
              <a:off x="460836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0"/>
            <p:cNvSpPr/>
            <p:nvPr/>
          </p:nvSpPr>
          <p:spPr>
            <a:xfrm>
              <a:off x="522072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1"/>
          <p:cNvGrpSpPr/>
          <p:nvPr/>
        </p:nvGrpSpPr>
        <p:grpSpPr>
          <a:xfrm>
            <a:off x="5832360" y="2133720"/>
            <a:ext cx="1224000" cy="1224000"/>
            <a:chOff x="5832360" y="2133720"/>
            <a:chExt cx="1224000" cy="1224000"/>
          </a:xfrm>
        </p:grpSpPr>
        <p:sp>
          <p:nvSpPr>
            <p:cNvPr id="533" name="Rectangle 12"/>
            <p:cNvSpPr/>
            <p:nvPr/>
          </p:nvSpPr>
          <p:spPr>
            <a:xfrm>
              <a:off x="583236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 flipH="1">
              <a:off x="583236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4"/>
            <p:cNvSpPr/>
            <p:nvPr/>
          </p:nvSpPr>
          <p:spPr>
            <a:xfrm>
              <a:off x="644472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15"/>
          <p:cNvGrpSpPr/>
          <p:nvPr/>
        </p:nvGrpSpPr>
        <p:grpSpPr>
          <a:xfrm>
            <a:off x="2158920" y="2133720"/>
            <a:ext cx="1224000" cy="1224000"/>
            <a:chOff x="2158920" y="2133720"/>
            <a:chExt cx="1224000" cy="1224000"/>
          </a:xfrm>
        </p:grpSpPr>
        <p:sp>
          <p:nvSpPr>
            <p:cNvPr id="537" name="Rectangle 16"/>
            <p:cNvSpPr/>
            <p:nvPr/>
          </p:nvSpPr>
          <p:spPr>
            <a:xfrm>
              <a:off x="215892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7"/>
            <p:cNvSpPr/>
            <p:nvPr/>
          </p:nvSpPr>
          <p:spPr>
            <a:xfrm flipH="1">
              <a:off x="215892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8"/>
            <p:cNvSpPr/>
            <p:nvPr/>
          </p:nvSpPr>
          <p:spPr>
            <a:xfrm>
              <a:off x="277128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Text Box 19"/>
          <p:cNvSpPr/>
          <p:nvPr/>
        </p:nvSpPr>
        <p:spPr>
          <a:xfrm>
            <a:off x="2195640" y="210816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肃押嘻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20"/>
          <p:cNvGrpSpPr/>
          <p:nvPr/>
        </p:nvGrpSpPr>
        <p:grpSpPr>
          <a:xfrm>
            <a:off x="3421080" y="3789360"/>
            <a:ext cx="1224000" cy="1224000"/>
            <a:chOff x="3421080" y="3789360"/>
            <a:chExt cx="1224000" cy="1224000"/>
          </a:xfrm>
        </p:grpSpPr>
        <p:sp>
          <p:nvSpPr>
            <p:cNvPr id="542" name="Rectangle 21"/>
            <p:cNvSpPr/>
            <p:nvPr/>
          </p:nvSpPr>
          <p:spPr>
            <a:xfrm>
              <a:off x="3421080" y="378936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2"/>
            <p:cNvSpPr/>
            <p:nvPr/>
          </p:nvSpPr>
          <p:spPr>
            <a:xfrm flipH="1">
              <a:off x="3421080" y="440136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3"/>
            <p:cNvSpPr/>
            <p:nvPr/>
          </p:nvSpPr>
          <p:spPr>
            <a:xfrm>
              <a:off x="4033440" y="381960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4"/>
          <p:cNvGrpSpPr/>
          <p:nvPr/>
        </p:nvGrpSpPr>
        <p:grpSpPr>
          <a:xfrm>
            <a:off x="2195640" y="3789360"/>
            <a:ext cx="1224000" cy="1224000"/>
            <a:chOff x="2195640" y="3789360"/>
            <a:chExt cx="1224000" cy="1224000"/>
          </a:xfrm>
        </p:grpSpPr>
        <p:sp>
          <p:nvSpPr>
            <p:cNvPr id="546" name="Rectangle 25"/>
            <p:cNvSpPr/>
            <p:nvPr/>
          </p:nvSpPr>
          <p:spPr>
            <a:xfrm>
              <a:off x="2195640" y="378936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6"/>
            <p:cNvSpPr/>
            <p:nvPr/>
          </p:nvSpPr>
          <p:spPr>
            <a:xfrm flipH="1">
              <a:off x="2195640" y="440136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2808000" y="381960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8"/>
          <p:cNvGrpSpPr/>
          <p:nvPr/>
        </p:nvGrpSpPr>
        <p:grpSpPr>
          <a:xfrm>
            <a:off x="5869080" y="3789360"/>
            <a:ext cx="1224000" cy="1224000"/>
            <a:chOff x="5869080" y="3789360"/>
            <a:chExt cx="1224000" cy="1224000"/>
          </a:xfrm>
        </p:grpSpPr>
        <p:sp>
          <p:nvSpPr>
            <p:cNvPr id="550" name="Rectangle 29"/>
            <p:cNvSpPr/>
            <p:nvPr/>
          </p:nvSpPr>
          <p:spPr>
            <a:xfrm>
              <a:off x="5869080" y="378936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0"/>
            <p:cNvSpPr/>
            <p:nvPr/>
          </p:nvSpPr>
          <p:spPr>
            <a:xfrm flipH="1">
              <a:off x="5869080" y="440136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1"/>
            <p:cNvSpPr/>
            <p:nvPr/>
          </p:nvSpPr>
          <p:spPr>
            <a:xfrm>
              <a:off x="6481440" y="381960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2"/>
          <p:cNvGrpSpPr/>
          <p:nvPr/>
        </p:nvGrpSpPr>
        <p:grpSpPr>
          <a:xfrm>
            <a:off x="4645080" y="3789360"/>
            <a:ext cx="1224000" cy="1224000"/>
            <a:chOff x="4645080" y="3789360"/>
            <a:chExt cx="1224000" cy="1224000"/>
          </a:xfrm>
        </p:grpSpPr>
        <p:sp>
          <p:nvSpPr>
            <p:cNvPr id="554" name="Rectangle 33"/>
            <p:cNvSpPr/>
            <p:nvPr/>
          </p:nvSpPr>
          <p:spPr>
            <a:xfrm>
              <a:off x="4645080" y="378936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4"/>
            <p:cNvSpPr/>
            <p:nvPr/>
          </p:nvSpPr>
          <p:spPr>
            <a:xfrm flipH="1">
              <a:off x="4645080" y="440136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5"/>
            <p:cNvSpPr/>
            <p:nvPr/>
          </p:nvSpPr>
          <p:spPr>
            <a:xfrm>
              <a:off x="5257440" y="381960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Text Box 40"/>
          <p:cNvSpPr/>
          <p:nvPr/>
        </p:nvSpPr>
        <p:spPr>
          <a:xfrm>
            <a:off x="2195640" y="378936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淮橘柑罪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2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学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20050801161247274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2410920" y="1989000"/>
            <a:ext cx="792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晏</a:t>
            </a: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3274920" y="3429000"/>
            <a:ext cx="16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cc0099"/>
                </a:solidFill>
                <a:latin typeface="宋体"/>
              </a:rPr>
              <a:t>bì</a:t>
            </a: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5148360" y="3500280"/>
            <a:ext cx="22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敝衣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3133800" y="4940280"/>
            <a:ext cx="244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cc0099"/>
                </a:solidFill>
                <a:latin typeface="宋体"/>
              </a:rPr>
              <a:t>zhǐ</a:t>
            </a: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6"/>
          <p:cNvSpPr/>
          <p:nvPr/>
        </p:nvSpPr>
        <p:spPr>
          <a:xfrm>
            <a:off x="5221440" y="501336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枳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1"/>
          <p:cNvSpPr/>
          <p:nvPr/>
        </p:nvSpPr>
        <p:spPr>
          <a:xfrm>
            <a:off x="2411280" y="2781360"/>
            <a:ext cx="7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淄</a:t>
            </a: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2"/>
          <p:cNvSpPr/>
          <p:nvPr/>
        </p:nvSpPr>
        <p:spPr>
          <a:xfrm>
            <a:off x="2411280" y="3500280"/>
            <a:ext cx="792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敝</a:t>
            </a: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3"/>
          <p:cNvSpPr/>
          <p:nvPr/>
        </p:nvSpPr>
        <p:spPr>
          <a:xfrm>
            <a:off x="2411280" y="4221000"/>
            <a:ext cx="792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臣</a:t>
            </a: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4"/>
          <p:cNvSpPr/>
          <p:nvPr/>
        </p:nvSpPr>
        <p:spPr>
          <a:xfrm>
            <a:off x="2411280" y="5013360"/>
            <a:ext cx="7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枳</a:t>
            </a: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宋体"/>
              </a:rPr>
              <a:t>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5"/>
          <p:cNvSpPr/>
          <p:nvPr/>
        </p:nvSpPr>
        <p:spPr>
          <a:xfrm>
            <a:off x="3274920" y="263700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cc0099"/>
                </a:solidFill>
                <a:latin typeface="宋体"/>
              </a:rPr>
              <a:t>z</a:t>
            </a: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ī</a:t>
            </a: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6"/>
          <p:cNvSpPr/>
          <p:nvPr/>
        </p:nvSpPr>
        <p:spPr>
          <a:xfrm>
            <a:off x="5148360" y="2781360"/>
            <a:ext cx="22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淄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7"/>
          <p:cNvSpPr/>
          <p:nvPr/>
        </p:nvSpPr>
        <p:spPr>
          <a:xfrm>
            <a:off x="3274920" y="1773360"/>
            <a:ext cx="190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cc0099"/>
                </a:solidFill>
                <a:latin typeface="宋体"/>
              </a:rPr>
              <a:t>yàn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8"/>
          <p:cNvSpPr/>
          <p:nvPr/>
        </p:nvSpPr>
        <p:spPr>
          <a:xfrm>
            <a:off x="5148360" y="1916280"/>
            <a:ext cx="22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晏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2"/>
          <p:cNvSpPr/>
          <p:nvPr/>
        </p:nvSpPr>
        <p:spPr>
          <a:xfrm>
            <a:off x="3132000" y="414828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cc0099"/>
                </a:solidFill>
                <a:latin typeface="宋体"/>
              </a:rPr>
              <a:t>chén</a:t>
            </a: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3"/>
          <p:cNvSpPr/>
          <p:nvPr/>
        </p:nvSpPr>
        <p:spPr>
          <a:xfrm>
            <a:off x="5221440" y="42210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大臣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4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学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168133582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3"/>
          <p:cNvSpPr/>
          <p:nvPr/>
        </p:nvSpPr>
        <p:spPr>
          <a:xfrm>
            <a:off x="612720" y="1768320"/>
            <a:ext cx="302436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敝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面不改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安居乐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1909800" y="170028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我国。敝，谦词，用于称有关自己的事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2627280" y="314172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不改变脸色；形容临危不惧，从容自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2773440" y="4508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安定地生活，愉快地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学生字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13"/>
          <p:cNvGraphicFramePr/>
          <p:nvPr/>
        </p:nvGraphicFramePr>
        <p:xfrm>
          <a:off x="8028000" y="5805360"/>
          <a:ext cx="887400" cy="8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28000" y="5805360"/>
                    <a:ext cx="8874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3"/>
          <p:cNvPicPr/>
          <p:nvPr/>
        </p:nvPicPr>
        <p:blipFill>
          <a:blip r:embed="rId2"/>
          <a:stretch/>
        </p:blipFill>
        <p:spPr>
          <a:xfrm>
            <a:off x="4140360" y="981000"/>
            <a:ext cx="4824360" cy="2808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73"/>
          <p:cNvPicPr/>
          <p:nvPr/>
        </p:nvPicPr>
        <p:blipFill>
          <a:blip r:embed="rId3"/>
          <a:stretch/>
        </p:blipFill>
        <p:spPr>
          <a:xfrm>
            <a:off x="324000" y="3789360"/>
            <a:ext cx="4319280" cy="26478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84"/>
          <p:cNvPicPr/>
          <p:nvPr/>
        </p:nvPicPr>
        <p:blipFill>
          <a:blip r:embed="rId4"/>
          <a:stretch/>
        </p:blipFill>
        <p:spPr>
          <a:xfrm>
            <a:off x="4716360" y="3860640"/>
            <a:ext cx="4176720" cy="258948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"/>
          <p:cNvSpPr/>
          <p:nvPr/>
        </p:nvSpPr>
        <p:spPr>
          <a:xfrm>
            <a:off x="216000" y="1052640"/>
            <a:ext cx="36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对照下面三幅图画讲一下故事梗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11160" y="17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11-11T08:01:17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