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61C-8041-4CD3-B709-09EC9C27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AE6-C11E-4CB0-A090-0409650B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B29-2D29-4B79-BEF1-252B059F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69E-D493-4AEE-8259-9FAC7F51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E8E-1B23-49F8-A435-FB1B8017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77F-AD47-440A-8347-33E9DD6F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9B2-10CC-449A-8704-BBF387F9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71C-0D08-48FC-8044-16FB3C7F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12B-8F54-44E7-8FEB-E968711A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945-A366-46DC-AD8A-481B03A8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07E-1D6F-4730-A1DE-CD473F20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8C1-D5EF-485C-ADB8-F94D74AD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C4CA-F9B6-484A-88E3-DE744BD8D8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356160" y="500040"/>
            <a:ext cx="13068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学习教育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7139160" y="57168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缺角矩形 11"/>
          <p:cNvSpPr/>
          <p:nvPr/>
        </p:nvSpPr>
        <p:spPr>
          <a:xfrm>
            <a:off x="571680" y="1714680"/>
            <a:ext cx="4000320" cy="3286080"/>
          </a:xfrm>
          <a:custGeom>
            <a:avLst/>
            <a:gdLst>
              <a:gd name="textAreaLeft" fmla="*/ 163080 w 4000320"/>
              <a:gd name="textAreaRight" fmla="*/ 3837240 w 4000320"/>
              <a:gd name="textAreaTop" fmla="*/ 163080 h 3286080"/>
              <a:gd name="textAreaBottom" fmla="*/ 3123000 h 3286080"/>
            </a:gdLst>
            <a:ahLst/>
            <a:rect l="textAreaLeft" t="textAreaTop" r="textAreaRight" b="textAreaBottom"/>
            <a:pathLst>
              <a:path w="26294" h="21600">
                <a:moveTo>
                  <a:pt x="1517" y="0"/>
                </a:moveTo>
                <a:arcTo wR="1517" hR="1517" stAng="0" swAng="5400000"/>
                <a:lnTo>
                  <a:pt x="0" y="20083"/>
                </a:lnTo>
                <a:arcTo wR="1517" hR="1517" stAng="16200000" swAng="5400000"/>
                <a:lnTo>
                  <a:pt x="24777" y="21600"/>
                </a:lnTo>
                <a:arcTo wR="1517" hR="1517" stAng="10800000" swAng="5400000"/>
                <a:lnTo>
                  <a:pt x="26294" y="1517"/>
                </a:lnTo>
                <a:arcTo wR="1517" hR="1517" stAng="5400000" swAng="5400000"/>
                <a:close/>
              </a:path>
            </a:pathLst>
          </a:custGeom>
          <a:solidFill>
            <a:srgbClr val="53b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缺角矩形 12"/>
          <p:cNvSpPr/>
          <p:nvPr/>
        </p:nvSpPr>
        <p:spPr>
          <a:xfrm>
            <a:off x="4572000" y="1714680"/>
            <a:ext cx="4000680" cy="3286080"/>
          </a:xfrm>
          <a:custGeom>
            <a:avLst/>
            <a:gdLst>
              <a:gd name="textAreaLeft" fmla="*/ 163080 w 4000680"/>
              <a:gd name="textAreaRight" fmla="*/ 3837600 w 4000680"/>
              <a:gd name="textAreaTop" fmla="*/ 163080 h 3286080"/>
              <a:gd name="textAreaBottom" fmla="*/ 3123000 h 3286080"/>
            </a:gdLst>
            <a:ahLst/>
            <a:rect l="textAreaLeft" t="textAreaTop" r="textAreaRight" b="textAreaBottom"/>
            <a:pathLst>
              <a:path w="26297" h="21600">
                <a:moveTo>
                  <a:pt x="1517" y="0"/>
                </a:moveTo>
                <a:arcTo wR="1517" hR="1517" stAng="0" swAng="5400000"/>
                <a:lnTo>
                  <a:pt x="0" y="20083"/>
                </a:lnTo>
                <a:arcTo wR="1517" hR="1517" stAng="16200000" swAng="5400000"/>
                <a:lnTo>
                  <a:pt x="24780" y="21600"/>
                </a:lnTo>
                <a:arcTo wR="1517" hR="1517" stAng="10800000" swAng="5400000"/>
                <a:lnTo>
                  <a:pt x="26297" y="1517"/>
                </a:lnTo>
                <a:arcTo wR="1517" hR="1517" stAng="5400000" swAng="5400000"/>
                <a:close/>
              </a:path>
            </a:pathLst>
          </a:custGeom>
          <a:solidFill>
            <a:srgbClr val="ff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59266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2068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3"/>
          <p:cNvGrpSpPr/>
          <p:nvPr/>
        </p:nvGrpSpPr>
        <p:grpSpPr>
          <a:xfrm>
            <a:off x="2779560" y="1703520"/>
            <a:ext cx="4149720" cy="1225440"/>
            <a:chOff x="2779560" y="1703520"/>
            <a:chExt cx="4149720" cy="1225440"/>
          </a:xfrm>
        </p:grpSpPr>
        <p:sp>
          <p:nvSpPr>
            <p:cNvPr id="45" name="平行四边形 11"/>
            <p:cNvSpPr/>
            <p:nvPr/>
          </p:nvSpPr>
          <p:spPr>
            <a:xfrm>
              <a:off x="2779560" y="1703520"/>
              <a:ext cx="4149720" cy="565200"/>
            </a:xfrm>
            <a:prstGeom prst="parallelogram">
              <a:avLst>
                <a:gd name="adj" fmla="val 25017"/>
              </a:avLst>
            </a:prstGeom>
            <a:solidFill>
              <a:srgbClr val="53b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平行四边形 12"/>
            <p:cNvSpPr/>
            <p:nvPr/>
          </p:nvSpPr>
          <p:spPr>
            <a:xfrm flipV="1">
              <a:off x="2779560" y="2363400"/>
              <a:ext cx="4149720" cy="565200"/>
            </a:xfrm>
            <a:prstGeom prst="parallelogram">
              <a:avLst>
                <a:gd name="adj" fmla="val 25017"/>
              </a:avLst>
            </a:prstGeom>
            <a:solidFill>
              <a:srgbClr val="ff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14"/>
          <p:cNvGrpSpPr/>
          <p:nvPr/>
        </p:nvGrpSpPr>
        <p:grpSpPr>
          <a:xfrm>
            <a:off x="2779560" y="3060720"/>
            <a:ext cx="4149720" cy="1225440"/>
            <a:chOff x="2779560" y="3060720"/>
            <a:chExt cx="4149720" cy="1225440"/>
          </a:xfrm>
        </p:grpSpPr>
        <p:sp>
          <p:nvSpPr>
            <p:cNvPr id="48" name="平行四边形 15"/>
            <p:cNvSpPr/>
            <p:nvPr/>
          </p:nvSpPr>
          <p:spPr>
            <a:xfrm>
              <a:off x="2779560" y="3060720"/>
              <a:ext cx="4149720" cy="565200"/>
            </a:xfrm>
            <a:prstGeom prst="parallelogram">
              <a:avLst>
                <a:gd name="adj" fmla="val 25017"/>
              </a:avLst>
            </a:prstGeom>
            <a:solidFill>
              <a:srgbClr val="53b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平行四边形 16"/>
            <p:cNvSpPr/>
            <p:nvPr/>
          </p:nvSpPr>
          <p:spPr>
            <a:xfrm flipV="1">
              <a:off x="2779560" y="3720960"/>
              <a:ext cx="4149720" cy="565200"/>
            </a:xfrm>
            <a:prstGeom prst="parallelogram">
              <a:avLst>
                <a:gd name="adj" fmla="val 25017"/>
              </a:avLst>
            </a:prstGeom>
            <a:solidFill>
              <a:srgbClr val="ff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4213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212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354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 形 10"/>
          <p:cNvSpPr/>
          <p:nvPr/>
        </p:nvSpPr>
        <p:spPr>
          <a:xfrm rot="10800000">
            <a:off x="5786280" y="2142720"/>
            <a:ext cx="2143440" cy="2143080"/>
          </a:xfrm>
          <a:custGeom>
            <a:avLst/>
            <a:gdLst>
              <a:gd name="textAreaLeft" fmla="*/ 0 w 2143440"/>
              <a:gd name="textAreaRight" fmla="*/ 1071720 w 2143440"/>
              <a:gd name="textAreaTop" fmla="*/ 0 h 2143080"/>
              <a:gd name="textAreaBottom" fmla="*/ 2143440 h 2143080"/>
            </a:gdLst>
            <a:ahLst/>
            <a:rect l="textAreaLeft" t="textAreaTop" r="textAreaRight" b="textAreaBottom"/>
            <a:pathLst>
              <a:path w="2143125" h="2143125">
                <a:moveTo>
                  <a:pt x="0" y="0"/>
                </a:moveTo>
                <a:lnTo>
                  <a:pt x="1071563" y="0"/>
                </a:lnTo>
                <a:lnTo>
                  <a:pt x="1071563" y="1071563"/>
                </a:lnTo>
                <a:lnTo>
                  <a:pt x="2143125" y="1071563"/>
                </a:lnTo>
                <a:lnTo>
                  <a:pt x="2143125" y="2143125"/>
                </a:lnTo>
                <a:lnTo>
                  <a:pt x="0" y="2143125"/>
                </a:lnTo>
                <a:close/>
              </a:path>
            </a:pathLst>
          </a:custGeom>
          <a:solidFill>
            <a:srgbClr val="ff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 形 11"/>
          <p:cNvSpPr/>
          <p:nvPr/>
        </p:nvSpPr>
        <p:spPr>
          <a:xfrm rot="10800000">
            <a:off x="2642760" y="2142720"/>
            <a:ext cx="2143080" cy="2143080"/>
          </a:xfrm>
          <a:custGeom>
            <a:avLst/>
            <a:gdLst>
              <a:gd name="textAreaLeft" fmla="*/ 0 w 2143080"/>
              <a:gd name="textAreaRight" fmla="*/ 1071720 w 2143080"/>
              <a:gd name="textAreaTop" fmla="*/ 0 h 2143080"/>
              <a:gd name="textAreaBottom" fmla="*/ 2143440 h 2143080"/>
            </a:gdLst>
            <a:ahLst/>
            <a:rect l="textAreaLeft" t="textAreaTop" r="textAreaRight" b="textAreaBottom"/>
            <a:pathLst>
              <a:path w="2143125" h="2143125">
                <a:moveTo>
                  <a:pt x="0" y="0"/>
                </a:moveTo>
                <a:lnTo>
                  <a:pt x="1071563" y="0"/>
                </a:lnTo>
                <a:lnTo>
                  <a:pt x="1071563" y="1071563"/>
                </a:lnTo>
                <a:lnTo>
                  <a:pt x="2143125" y="1071563"/>
                </a:lnTo>
                <a:lnTo>
                  <a:pt x="2143125" y="2143125"/>
                </a:lnTo>
                <a:lnTo>
                  <a:pt x="0" y="2143125"/>
                </a:lnTo>
                <a:close/>
              </a:path>
            </a:pathLst>
          </a:custGeom>
          <a:solidFill>
            <a:srgbClr val="ff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 形 12"/>
          <p:cNvSpPr/>
          <p:nvPr/>
        </p:nvSpPr>
        <p:spPr>
          <a:xfrm>
            <a:off x="4786200" y="2143080"/>
            <a:ext cx="2143080" cy="2143080"/>
          </a:xfrm>
          <a:custGeom>
            <a:avLst/>
            <a:gdLst>
              <a:gd name="textAreaLeft" fmla="*/ 0 w 2143080"/>
              <a:gd name="textAreaRight" fmla="*/ 1071720 w 2143080"/>
              <a:gd name="textAreaTop" fmla="*/ 0 h 2143080"/>
              <a:gd name="textAreaBottom" fmla="*/ 2143440 h 2143080"/>
            </a:gdLst>
            <a:ahLst/>
            <a:rect l="textAreaLeft" t="textAreaTop" r="textAreaRight" b="textAreaBottom"/>
            <a:pathLst>
              <a:path w="2143125" h="2143125">
                <a:moveTo>
                  <a:pt x="0" y="0"/>
                </a:moveTo>
                <a:lnTo>
                  <a:pt x="1071563" y="0"/>
                </a:lnTo>
                <a:lnTo>
                  <a:pt x="1071563" y="1071563"/>
                </a:lnTo>
                <a:lnTo>
                  <a:pt x="2143125" y="1071563"/>
                </a:lnTo>
                <a:lnTo>
                  <a:pt x="2143125" y="2143125"/>
                </a:lnTo>
                <a:lnTo>
                  <a:pt x="0" y="2143125"/>
                </a:lnTo>
                <a:close/>
              </a:path>
            </a:pathLst>
          </a:custGeom>
          <a:solidFill>
            <a:srgbClr val="53b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 形 13"/>
          <p:cNvSpPr/>
          <p:nvPr/>
        </p:nvSpPr>
        <p:spPr>
          <a:xfrm flipH="1" flipV="1" rot="10800000">
            <a:off x="1570680" y="2142000"/>
            <a:ext cx="2143080" cy="2143080"/>
          </a:xfrm>
          <a:custGeom>
            <a:avLst/>
            <a:gdLst>
              <a:gd name="textAreaLeft" fmla="*/ 0 w 2143080"/>
              <a:gd name="textAreaRight" fmla="*/ 1071720 w 2143080"/>
              <a:gd name="textAreaTop" fmla="*/ -360 h 2143080"/>
              <a:gd name="textAreaBottom" fmla="*/ 2143080 h 2143080"/>
            </a:gdLst>
            <a:ahLst/>
            <a:rect l="textAreaLeft" t="textAreaTop" r="textAreaRight" b="textAreaBottom"/>
            <a:pathLst>
              <a:path w="2143125" h="2143125">
                <a:moveTo>
                  <a:pt x="0" y="0"/>
                </a:moveTo>
                <a:lnTo>
                  <a:pt x="1071563" y="0"/>
                </a:lnTo>
                <a:lnTo>
                  <a:pt x="1071563" y="1071563"/>
                </a:lnTo>
                <a:lnTo>
                  <a:pt x="2143125" y="1071563"/>
                </a:lnTo>
                <a:lnTo>
                  <a:pt x="2143125" y="2143125"/>
                </a:lnTo>
                <a:lnTo>
                  <a:pt x="0" y="2143125"/>
                </a:lnTo>
                <a:close/>
              </a:path>
            </a:pathLst>
          </a:custGeom>
          <a:solidFill>
            <a:srgbClr val="53b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32119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64980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5355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22118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左弧形箭头 10"/>
          <p:cNvSpPr/>
          <p:nvPr/>
        </p:nvSpPr>
        <p:spPr>
          <a:xfrm flipH="1">
            <a:off x="4785480" y="3214800"/>
            <a:ext cx="1071720" cy="178092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333720 h 1780920"/>
              <a:gd name="textAreaBottom" fmla="*/ 1001880 h 17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3213106"/>
                <a:lnTo>
                  <a:pt x="15835" y="21306"/>
                </a:lnTo>
                <a:lnTo>
                  <a:pt x="21600" y="16199"/>
                </a:lnTo>
                <a:lnTo>
                  <a:pt x="15835" y="10504"/>
                </a:lnTo>
                <a:lnTo>
                  <a:pt x="15835" y="15905"/>
                </a:lnTo>
                <a:arcTo wR="21600" hR="8100" stAng="7586894" swAng="3213106"/>
                <a:lnTo>
                  <a:pt x="0" y="8100"/>
                </a:lnTo>
                <a:arcTo wR="21600" hR="8100" stAng="10800000" swAng="5400000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0"/>
                <a:lnTo>
                  <a:pt x="0" y="8100"/>
                </a:lnTo>
                <a:arcTo wR="21600" hR="8100" stAng="10800000" swAng="5400000"/>
                <a:close/>
              </a:path>
            </a:pathLst>
          </a:custGeom>
          <a:solidFill>
            <a:srgbClr val="53bcd8"/>
          </a:solidFill>
          <a:ln w="25560">
            <a:solidFill>
              <a:srgbClr val="53bc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左弧形箭头 11"/>
          <p:cNvSpPr/>
          <p:nvPr/>
        </p:nvSpPr>
        <p:spPr>
          <a:xfrm flipV="1">
            <a:off x="3714840" y="1428120"/>
            <a:ext cx="1071360" cy="178092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333360 h 1780920"/>
              <a:gd name="textAreaBottom" fmla="*/ 1001520 h 17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3213106"/>
                <a:lnTo>
                  <a:pt x="15835" y="21306"/>
                </a:lnTo>
                <a:lnTo>
                  <a:pt x="21600" y="16199"/>
                </a:lnTo>
                <a:lnTo>
                  <a:pt x="15835" y="10504"/>
                </a:lnTo>
                <a:lnTo>
                  <a:pt x="15835" y="15905"/>
                </a:lnTo>
                <a:arcTo wR="21600" hR="8100" stAng="7586894" swAng="3213106"/>
                <a:lnTo>
                  <a:pt x="0" y="8100"/>
                </a:lnTo>
                <a:arcTo wR="21600" hR="8100" stAng="10800000" swAng="5400000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0"/>
                <a:lnTo>
                  <a:pt x="0" y="8100"/>
                </a:lnTo>
                <a:arcTo wR="21600" hR="8100" stAng="10800000" swAng="5400000"/>
                <a:close/>
              </a:path>
            </a:pathLst>
          </a:custGeom>
          <a:solidFill>
            <a:srgbClr val="53bcd8"/>
          </a:solidFill>
          <a:ln w="25560">
            <a:solidFill>
              <a:srgbClr val="53bc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左弧形箭头 12"/>
          <p:cNvSpPr/>
          <p:nvPr/>
        </p:nvSpPr>
        <p:spPr>
          <a:xfrm flipV="1" rot="16200000">
            <a:off x="3426840" y="2859840"/>
            <a:ext cx="1071360" cy="178128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333720 h 1781280"/>
              <a:gd name="textAreaBottom" fmla="*/ 1001880 h 17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3213106"/>
                <a:lnTo>
                  <a:pt x="15835" y="21306"/>
                </a:lnTo>
                <a:lnTo>
                  <a:pt x="21600" y="16199"/>
                </a:lnTo>
                <a:lnTo>
                  <a:pt x="15835" y="10504"/>
                </a:lnTo>
                <a:lnTo>
                  <a:pt x="15835" y="15905"/>
                </a:lnTo>
                <a:arcTo wR="21600" hR="8100" stAng="7586894" swAng="3213106"/>
                <a:lnTo>
                  <a:pt x="0" y="8100"/>
                </a:lnTo>
                <a:arcTo wR="21600" hR="8100" stAng="10800000" swAng="5400000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0"/>
                <a:lnTo>
                  <a:pt x="0" y="8100"/>
                </a:lnTo>
                <a:arcTo wR="21600" hR="8100" stAng="10800000" swAng="5400000"/>
                <a:close/>
              </a:path>
            </a:pathLst>
          </a:custGeom>
          <a:solidFill>
            <a:srgbClr val="ff8d00"/>
          </a:solidFill>
          <a:ln w="25560">
            <a:solidFill>
              <a:srgbClr val="ff8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左弧形箭头 14"/>
          <p:cNvSpPr/>
          <p:nvPr/>
        </p:nvSpPr>
        <p:spPr>
          <a:xfrm flipV="1" rot="5400000">
            <a:off x="5212440" y="1859760"/>
            <a:ext cx="1071360" cy="178092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333360 h 1780920"/>
              <a:gd name="textAreaBottom" fmla="*/ 1001520 h 17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3213106"/>
                <a:lnTo>
                  <a:pt x="15835" y="21306"/>
                </a:lnTo>
                <a:lnTo>
                  <a:pt x="21600" y="16199"/>
                </a:lnTo>
                <a:lnTo>
                  <a:pt x="15835" y="10504"/>
                </a:lnTo>
                <a:lnTo>
                  <a:pt x="15835" y="15905"/>
                </a:lnTo>
                <a:arcTo wR="21600" hR="8100" stAng="7586894" swAng="3213106"/>
                <a:lnTo>
                  <a:pt x="0" y="8100"/>
                </a:lnTo>
                <a:arcTo wR="21600" hR="8100" stAng="10800000" swAng="5400000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0"/>
                <a:lnTo>
                  <a:pt x="0" y="8100"/>
                </a:lnTo>
                <a:arcTo wR="21600" hR="8100" stAng="10800000" swAng="5400000"/>
                <a:close/>
              </a:path>
            </a:pathLst>
          </a:custGeom>
          <a:solidFill>
            <a:srgbClr val="ff8d00"/>
          </a:solidFill>
          <a:ln w="25560">
            <a:solidFill>
              <a:srgbClr val="ff8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48549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6283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3783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29991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剪去对角的矩形 10"/>
          <p:cNvSpPr/>
          <p:nvPr/>
        </p:nvSpPr>
        <p:spPr>
          <a:xfrm>
            <a:off x="428760" y="2000160"/>
            <a:ext cx="2786040" cy="2643120"/>
          </a:xfrm>
          <a:custGeom>
            <a:avLst/>
            <a:gdLst>
              <a:gd name="textAreaLeft" fmla="*/ 660600 w 2786040"/>
              <a:gd name="textAreaRight" fmla="*/ 2125440 w 2786040"/>
              <a:gd name="textAreaTop" fmla="*/ 660600 h 2643120"/>
              <a:gd name="textAreaBottom" fmla="*/ 1982520 h 2643120"/>
            </a:gdLst>
            <a:ahLst/>
            <a:rect l="textAreaLeft" t="textAreaTop" r="textAreaRight" b="textAreaBottom"/>
            <a:pathLst>
              <a:path w="2786063" h="2643188">
                <a:moveTo>
                  <a:pt x="0" y="0"/>
                </a:moveTo>
                <a:lnTo>
                  <a:pt x="1464469" y="0"/>
                </a:lnTo>
                <a:lnTo>
                  <a:pt x="2786063" y="1321594"/>
                </a:lnTo>
                <a:lnTo>
                  <a:pt x="2786063" y="2643188"/>
                </a:lnTo>
                <a:lnTo>
                  <a:pt x="2786063" y="2643188"/>
                </a:lnTo>
                <a:lnTo>
                  <a:pt x="1321594" y="2643188"/>
                </a:lnTo>
                <a:lnTo>
                  <a:pt x="0" y="1321594"/>
                </a:lnTo>
                <a:lnTo>
                  <a:pt x="0" y="0"/>
                </a:lnTo>
                <a:close/>
              </a:path>
            </a:pathLst>
          </a:custGeom>
          <a:solidFill>
            <a:srgbClr val="ff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剪去对角的矩形 11"/>
          <p:cNvSpPr/>
          <p:nvPr/>
        </p:nvSpPr>
        <p:spPr>
          <a:xfrm>
            <a:off x="3214800" y="2000160"/>
            <a:ext cx="2786040" cy="2643120"/>
          </a:xfrm>
          <a:custGeom>
            <a:avLst/>
            <a:gdLst>
              <a:gd name="textAreaLeft" fmla="*/ 660600 w 2786040"/>
              <a:gd name="textAreaRight" fmla="*/ 2125440 w 2786040"/>
              <a:gd name="textAreaTop" fmla="*/ 660600 h 2643120"/>
              <a:gd name="textAreaBottom" fmla="*/ 1982520 h 2643120"/>
            </a:gdLst>
            <a:ahLst/>
            <a:rect l="textAreaLeft" t="textAreaTop" r="textAreaRight" b="textAreaBottom"/>
            <a:pathLst>
              <a:path w="2786062" h="2643188">
                <a:moveTo>
                  <a:pt x="0" y="0"/>
                </a:moveTo>
                <a:lnTo>
                  <a:pt x="1464468" y="0"/>
                </a:lnTo>
                <a:lnTo>
                  <a:pt x="2786062" y="1321594"/>
                </a:lnTo>
                <a:lnTo>
                  <a:pt x="2786062" y="2643188"/>
                </a:lnTo>
                <a:lnTo>
                  <a:pt x="2786062" y="2643188"/>
                </a:lnTo>
                <a:lnTo>
                  <a:pt x="1321594" y="2643188"/>
                </a:lnTo>
                <a:lnTo>
                  <a:pt x="0" y="1321594"/>
                </a:lnTo>
                <a:lnTo>
                  <a:pt x="0" y="0"/>
                </a:lnTo>
                <a:close/>
              </a:path>
            </a:pathLst>
          </a:custGeom>
          <a:solidFill>
            <a:srgbClr val="53b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剪去对角的矩形 12"/>
          <p:cNvSpPr/>
          <p:nvPr/>
        </p:nvSpPr>
        <p:spPr>
          <a:xfrm>
            <a:off x="6000840" y="2000160"/>
            <a:ext cx="2786040" cy="2643120"/>
          </a:xfrm>
          <a:custGeom>
            <a:avLst/>
            <a:gdLst>
              <a:gd name="textAreaLeft" fmla="*/ 660600 w 2786040"/>
              <a:gd name="textAreaRight" fmla="*/ 2125440 w 2786040"/>
              <a:gd name="textAreaTop" fmla="*/ 660600 h 2643120"/>
              <a:gd name="textAreaBottom" fmla="*/ 1982520 h 2643120"/>
            </a:gdLst>
            <a:ahLst/>
            <a:rect l="textAreaLeft" t="textAreaTop" r="textAreaRight" b="textAreaBottom"/>
            <a:pathLst>
              <a:path w="2786063" h="2643188">
                <a:moveTo>
                  <a:pt x="0" y="0"/>
                </a:moveTo>
                <a:lnTo>
                  <a:pt x="1464469" y="0"/>
                </a:lnTo>
                <a:lnTo>
                  <a:pt x="2786063" y="1321594"/>
                </a:lnTo>
                <a:lnTo>
                  <a:pt x="2786063" y="2643188"/>
                </a:lnTo>
                <a:lnTo>
                  <a:pt x="2786063" y="2643188"/>
                </a:lnTo>
                <a:lnTo>
                  <a:pt x="1321594" y="2643188"/>
                </a:lnTo>
                <a:lnTo>
                  <a:pt x="0" y="1321594"/>
                </a:lnTo>
                <a:lnTo>
                  <a:pt x="0" y="0"/>
                </a:lnTo>
                <a:close/>
              </a:path>
            </a:pathLst>
          </a:custGeom>
          <a:solidFill>
            <a:srgbClr val="ff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6926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4140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同心圆 10"/>
          <p:cNvSpPr/>
          <p:nvPr/>
        </p:nvSpPr>
        <p:spPr>
          <a:xfrm>
            <a:off x="1643040" y="2000160"/>
            <a:ext cx="2786040" cy="2786040"/>
          </a:xfrm>
          <a:custGeom>
            <a:avLst/>
            <a:gdLst>
              <a:gd name="textAreaLeft" fmla="*/ 407880 w 2786040"/>
              <a:gd name="textAreaRight" fmla="*/ 2378160 w 2786040"/>
              <a:gd name="textAreaTop" fmla="*/ 407880 h 2786040"/>
              <a:gd name="textAreaBottom" fmla="*/ 2378160 h 2786040"/>
            </a:gdLst>
            <a:ahLst/>
            <a:rect l="textAreaLeft" t="textAreaTop" r="textAreaRight" b="textAreaBottom"/>
            <a:pathLst>
              <a:path w="2786062" h="2786063">
                <a:moveTo>
                  <a:pt x="0" y="1393032"/>
                </a:moveTo>
                <a:lnTo>
                  <a:pt x="0" y="1393032"/>
                </a:lnTo>
                <a:arcTo wR="1393031" hR="1393032" stAng="-10799995" swAng="5400000"/>
                <a:lnTo>
                  <a:pt x="1393033" y="2"/>
                </a:lnTo>
                <a:arcTo wR="1393031" hR="1393032" stAng="-5399995" swAng="5400000"/>
                <a:lnTo>
                  <a:pt x="2786062" y="1393036"/>
                </a:lnTo>
                <a:arcTo wR="1393031" hR="1393032" stAng="0" swAng="5400002"/>
                <a:lnTo>
                  <a:pt x="1393030" y="2786068"/>
                </a:lnTo>
                <a:arcTo wR="1393031" hR="1393032" stAng="5400002" swAng="5400002"/>
                <a:close/>
                <a:moveTo>
                  <a:pt x="1124427" y="1393032"/>
                </a:moveTo>
                <a:lnTo>
                  <a:pt x="1124427" y="1393032"/>
                </a:lnTo>
                <a:arcTo wR="268604" hR="268605" stAng="10800000" swAng="-5400000"/>
                <a:lnTo>
                  <a:pt x="1393031" y="1661637"/>
                </a:lnTo>
                <a:arcTo wR="268604" hR="268605" stAng="5400000" swAng="-5400000"/>
                <a:lnTo>
                  <a:pt x="1661635" y="1393032"/>
                </a:lnTo>
                <a:arcTo wR="268604" hR="268605" stAng="0" swAng="-5400000"/>
                <a:lnTo>
                  <a:pt x="1393031" y="1124427"/>
                </a:lnTo>
                <a:arcTo wR="268604" hR="268605" stAng="-5400000" swAng="-5400000"/>
                <a:close/>
              </a:path>
            </a:pathLst>
          </a:custGeom>
          <a:solidFill>
            <a:srgbClr val="53b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11"/>
          <p:cNvSpPr/>
          <p:nvPr/>
        </p:nvSpPr>
        <p:spPr>
          <a:xfrm>
            <a:off x="5072040" y="2000160"/>
            <a:ext cx="2786040" cy="2786040"/>
          </a:xfrm>
          <a:custGeom>
            <a:avLst/>
            <a:gdLst>
              <a:gd name="textAreaLeft" fmla="*/ 407880 w 2786040"/>
              <a:gd name="textAreaRight" fmla="*/ 2378160 w 2786040"/>
              <a:gd name="textAreaTop" fmla="*/ 407880 h 2786040"/>
              <a:gd name="textAreaBottom" fmla="*/ 2378160 h 2786040"/>
            </a:gdLst>
            <a:ahLst/>
            <a:rect l="textAreaLeft" t="textAreaTop" r="textAreaRight" b="textAreaBottom"/>
            <a:pathLst>
              <a:path w="2786062" h="2786063">
                <a:moveTo>
                  <a:pt x="0" y="1393032"/>
                </a:moveTo>
                <a:lnTo>
                  <a:pt x="0" y="1393032"/>
                </a:lnTo>
                <a:arcTo wR="1393031" hR="1393032" stAng="-10799995" swAng="5400000"/>
                <a:lnTo>
                  <a:pt x="1393033" y="2"/>
                </a:lnTo>
                <a:arcTo wR="1393031" hR="1393032" stAng="-5399995" swAng="5400000"/>
                <a:lnTo>
                  <a:pt x="2786062" y="1393036"/>
                </a:lnTo>
                <a:arcTo wR="1393031" hR="1393032" stAng="0" swAng="5400002"/>
                <a:lnTo>
                  <a:pt x="1393030" y="2786068"/>
                </a:lnTo>
                <a:arcTo wR="1393031" hR="1393032" stAng="5400002" swAng="5400002"/>
                <a:close/>
                <a:moveTo>
                  <a:pt x="1124427" y="1393032"/>
                </a:moveTo>
                <a:lnTo>
                  <a:pt x="1124427" y="1393032"/>
                </a:lnTo>
                <a:arcTo wR="268604" hR="268605" stAng="10800000" swAng="-5400000"/>
                <a:lnTo>
                  <a:pt x="1393031" y="1661637"/>
                </a:lnTo>
                <a:arcTo wR="268604" hR="268605" stAng="5400000" swAng="-5400000"/>
                <a:lnTo>
                  <a:pt x="1661635" y="1393032"/>
                </a:lnTo>
                <a:arcTo wR="268604" hR="268605" stAng="0" swAng="-5400000"/>
                <a:lnTo>
                  <a:pt x="1393031" y="1124427"/>
                </a:lnTo>
                <a:arcTo wR="268604" hR="268605" stAng="-5400000" swAng="-5400000"/>
                <a:close/>
              </a:path>
            </a:pathLst>
          </a:custGeom>
          <a:solidFill>
            <a:srgbClr val="ff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6069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2640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15"/>
          <p:cNvGrpSpPr/>
          <p:nvPr/>
        </p:nvGrpSpPr>
        <p:grpSpPr>
          <a:xfrm>
            <a:off x="1785960" y="1571760"/>
            <a:ext cx="6215040" cy="3714480"/>
            <a:chOff x="1785960" y="1571760"/>
            <a:chExt cx="6215040" cy="3714480"/>
          </a:xfrm>
        </p:grpSpPr>
        <p:sp>
          <p:nvSpPr>
            <p:cNvPr id="106" name="波形 12"/>
            <p:cNvSpPr/>
            <p:nvPr/>
          </p:nvSpPr>
          <p:spPr>
            <a:xfrm>
              <a:off x="1785960" y="2857320"/>
              <a:ext cx="3143160" cy="2428920"/>
            </a:xfrm>
            <a:custGeom>
              <a:avLst/>
              <a:gdLst>
                <a:gd name="textAreaLeft" fmla="*/ 628560 w 3143160"/>
                <a:gd name="textAreaRight" fmla="*/ 3772080 w 3143160"/>
                <a:gd name="textAreaTop" fmla="*/ 971640 h 2428920"/>
                <a:gd name="textAreaBottom" fmla="*/ 145728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4320"/>
                  </a:moveTo>
                  <a:cubicBezTo>
                    <a:pt x="9360" y="-10984"/>
                    <a:pt x="16560" y="19624"/>
                    <a:pt x="21600" y="4320"/>
                  </a:cubicBezTo>
                  <a:lnTo>
                    <a:pt x="17280" y="17280"/>
                  </a:lnTo>
                  <a:cubicBezTo>
                    <a:pt x="12240" y="32584"/>
                    <a:pt x="5040" y="1976"/>
                    <a:pt x="0" y="17280"/>
                  </a:cubicBezTo>
                  <a:close/>
                </a:path>
              </a:pathLst>
            </a:custGeom>
            <a:solidFill>
              <a:srgbClr val="ff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波形 13"/>
            <p:cNvSpPr/>
            <p:nvPr/>
          </p:nvSpPr>
          <p:spPr>
            <a:xfrm>
              <a:off x="4857840" y="1571760"/>
              <a:ext cx="3143160" cy="2428920"/>
            </a:xfrm>
            <a:custGeom>
              <a:avLst/>
              <a:gdLst>
                <a:gd name="textAreaLeft" fmla="*/ 628560 w 3143160"/>
                <a:gd name="textAreaRight" fmla="*/ 3772080 w 3143160"/>
                <a:gd name="textAreaTop" fmla="*/ 971640 h 2428920"/>
                <a:gd name="textAreaBottom" fmla="*/ 145728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4320"/>
                  </a:moveTo>
                  <a:cubicBezTo>
                    <a:pt x="9360" y="-10984"/>
                    <a:pt x="16560" y="19624"/>
                    <a:pt x="21600" y="4320"/>
                  </a:cubicBezTo>
                  <a:lnTo>
                    <a:pt x="17280" y="17280"/>
                  </a:lnTo>
                  <a:cubicBezTo>
                    <a:pt x="12240" y="32584"/>
                    <a:pt x="5040" y="1976"/>
                    <a:pt x="0" y="17280"/>
                  </a:cubicBezTo>
                  <a:close/>
                </a:path>
              </a:pathLst>
            </a:custGeom>
            <a:solidFill>
              <a:srgbClr val="ff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组合 16" descr=""/>
          <p:cNvPicPr/>
          <p:nvPr/>
        </p:nvPicPr>
        <p:blipFill>
          <a:blip r:embed="rId1"/>
          <a:stretch/>
        </p:blipFill>
        <p:spPr>
          <a:xfrm>
            <a:off x="3084480" y="353880"/>
            <a:ext cx="3687840" cy="6222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2854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59266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49266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35690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0"/>
          <p:cNvSpPr/>
          <p:nvPr/>
        </p:nvSpPr>
        <p:spPr>
          <a:xfrm>
            <a:off x="285840" y="2071800"/>
            <a:ext cx="2286000" cy="2286000"/>
          </a:xfrm>
          <a:prstGeom prst="rect">
            <a:avLst/>
          </a:prstGeom>
          <a:solidFill>
            <a:srgbClr val="ff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1"/>
          <p:cNvSpPr/>
          <p:nvPr/>
        </p:nvSpPr>
        <p:spPr>
          <a:xfrm>
            <a:off x="3286080" y="2071800"/>
            <a:ext cx="2357640" cy="2357280"/>
          </a:xfrm>
          <a:prstGeom prst="ellipse">
            <a:avLst/>
          </a:prstGeom>
          <a:solidFill>
            <a:srgbClr val="53b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加号 12"/>
          <p:cNvSpPr/>
          <p:nvPr/>
        </p:nvSpPr>
        <p:spPr>
          <a:xfrm>
            <a:off x="2643120" y="2857680"/>
            <a:ext cx="571680" cy="5713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8520 h 571320"/>
              <a:gd name="textAreaBottom" fmla="*/ 352800 h 571320"/>
            </a:gdLst>
            <a:ahLst/>
            <a:rect l="textAreaLeft" t="textAreaTop" r="textAreaRight" b="textAreaBottom"/>
            <a:pathLst>
              <a:path w="571500" h="571500">
                <a:moveTo>
                  <a:pt x="75752" y="218542"/>
                </a:moveTo>
                <a:lnTo>
                  <a:pt x="218542" y="218542"/>
                </a:lnTo>
                <a:lnTo>
                  <a:pt x="218542" y="75752"/>
                </a:lnTo>
                <a:lnTo>
                  <a:pt x="352958" y="75752"/>
                </a:lnTo>
                <a:lnTo>
                  <a:pt x="352958" y="218542"/>
                </a:lnTo>
                <a:lnTo>
                  <a:pt x="495748" y="218542"/>
                </a:lnTo>
                <a:lnTo>
                  <a:pt x="495748" y="352958"/>
                </a:lnTo>
                <a:lnTo>
                  <a:pt x="352958" y="352958"/>
                </a:lnTo>
                <a:lnTo>
                  <a:pt x="352958" y="495748"/>
                </a:lnTo>
                <a:lnTo>
                  <a:pt x="218542" y="495748"/>
                </a:lnTo>
                <a:lnTo>
                  <a:pt x="218542" y="352958"/>
                </a:lnTo>
                <a:lnTo>
                  <a:pt x="75752" y="3529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等于号 13"/>
          <p:cNvSpPr/>
          <p:nvPr/>
        </p:nvSpPr>
        <p:spPr>
          <a:xfrm>
            <a:off x="5715000" y="2857680"/>
            <a:ext cx="642960" cy="642600"/>
          </a:xfrm>
          <a:custGeom>
            <a:avLst/>
            <a:gdLst>
              <a:gd name="textAreaLeft" fmla="*/ 84960 w 642960"/>
              <a:gd name="textAreaRight" fmla="*/ 558000 w 642960"/>
              <a:gd name="textAreaTop" fmla="*/ 132120 h 642600"/>
              <a:gd name="textAreaBottom" fmla="*/ 510480 h 642600"/>
            </a:gdLst>
            <a:ahLst/>
            <a:rect l="textAreaLeft" t="textAreaTop" r="textAreaRight" b="textAreaBottom"/>
            <a:pathLst>
              <a:path w="642938" h="642938">
                <a:moveTo>
                  <a:pt x="85221" y="132445"/>
                </a:moveTo>
                <a:lnTo>
                  <a:pt x="557717" y="132445"/>
                </a:lnTo>
                <a:lnTo>
                  <a:pt x="557717" y="283664"/>
                </a:lnTo>
                <a:lnTo>
                  <a:pt x="85221" y="283664"/>
                </a:lnTo>
                <a:close/>
                <a:moveTo>
                  <a:pt x="85221" y="359274"/>
                </a:moveTo>
                <a:lnTo>
                  <a:pt x="557717" y="359274"/>
                </a:lnTo>
                <a:lnTo>
                  <a:pt x="557717" y="510493"/>
                </a:lnTo>
                <a:lnTo>
                  <a:pt x="85221" y="510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平行四边形 15"/>
          <p:cNvSpPr/>
          <p:nvPr/>
        </p:nvSpPr>
        <p:spPr>
          <a:xfrm>
            <a:off x="6143760" y="2143080"/>
            <a:ext cx="2786040" cy="2286000"/>
          </a:xfrm>
          <a:prstGeom prst="parallelogram">
            <a:avLst>
              <a:gd name="adj" fmla="val 25001"/>
            </a:avLst>
          </a:prstGeom>
          <a:solidFill>
            <a:srgbClr val="ff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997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6998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3926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14"/>
          <p:cNvGrpSpPr/>
          <p:nvPr/>
        </p:nvGrpSpPr>
        <p:grpSpPr>
          <a:xfrm>
            <a:off x="142920" y="1643040"/>
            <a:ext cx="8889840" cy="3476520"/>
            <a:chOff x="142920" y="1643040"/>
            <a:chExt cx="8889840" cy="3476520"/>
          </a:xfrm>
        </p:grpSpPr>
        <p:sp>
          <p:nvSpPr>
            <p:cNvPr id="132" name="左右箭头 10"/>
            <p:cNvSpPr/>
            <p:nvPr/>
          </p:nvSpPr>
          <p:spPr>
            <a:xfrm>
              <a:off x="2398680" y="1643040"/>
              <a:ext cx="4360680" cy="1738080"/>
            </a:xfrm>
            <a:prstGeom prst="leftRightArrow">
              <a:avLst>
                <a:gd name="adj1" fmla="val 50000"/>
                <a:gd name="adj2" fmla="val 122611"/>
              </a:avLst>
            </a:prstGeom>
            <a:solidFill>
              <a:srgbClr val="53b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左右箭头 11"/>
            <p:cNvSpPr/>
            <p:nvPr/>
          </p:nvSpPr>
          <p:spPr>
            <a:xfrm>
              <a:off x="2398680" y="3381120"/>
              <a:ext cx="4360680" cy="1738440"/>
            </a:xfrm>
            <a:prstGeom prst="leftRightArrow">
              <a:avLst>
                <a:gd name="adj1" fmla="val 50000"/>
                <a:gd name="adj2" fmla="val 122585"/>
              </a:avLst>
            </a:prstGeom>
            <a:solidFill>
              <a:srgbClr val="53b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左右箭头 12"/>
            <p:cNvSpPr/>
            <p:nvPr/>
          </p:nvSpPr>
          <p:spPr>
            <a:xfrm>
              <a:off x="142920" y="2512800"/>
              <a:ext cx="4360680" cy="1738080"/>
            </a:xfrm>
            <a:prstGeom prst="leftRightArrow">
              <a:avLst>
                <a:gd name="adj1" fmla="val 50000"/>
                <a:gd name="adj2" fmla="val 122611"/>
              </a:avLst>
            </a:prstGeom>
            <a:solidFill>
              <a:srgbClr val="ff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左右箭头 13"/>
            <p:cNvSpPr/>
            <p:nvPr/>
          </p:nvSpPr>
          <p:spPr>
            <a:xfrm>
              <a:off x="4672080" y="2512800"/>
              <a:ext cx="4360680" cy="1738080"/>
            </a:xfrm>
            <a:prstGeom prst="leftRightArrow">
              <a:avLst>
                <a:gd name="adj1" fmla="val 50000"/>
                <a:gd name="adj2" fmla="val 122611"/>
              </a:avLst>
            </a:prstGeom>
            <a:solidFill>
              <a:srgbClr val="ff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1854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4140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3997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8T07:38:41Z</dcterms:modified>
  <cp:revision>378</cp:revision>
  <dc:subject/>
  <dc:title>幻灯片 1</dc:title>
</cp:coreProperties>
</file>