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BBE-C7D8-411C-8323-A88BEA7B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854-4C8C-4DEB-8DB4-D8C6F4A6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931-9F0E-4CC4-BF28-28644270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BA4-F3E3-4313-ADBB-C0F833BC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9DD-1BBC-4FF8-A787-05B1A58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EDE-395A-4675-AACC-0E6B256B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7DD-109F-4A54-98C2-BB9A40AF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B36-1B7A-4762-923E-B2EB23DE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BB5-82C8-492B-B2BE-3AD45F1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24F-E759-4E7D-8C54-0790999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886-1F35-4C28-AF33-17F3B95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4CD-7995-48B6-8227-BFC4EF2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3F5A-0EC9-4C04-97C7-F5F59677B1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FC60-3EA1-4B5F-95FB-59F922CFE0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76120" y="2187720"/>
            <a:ext cx="8545680" cy="3711600"/>
          </a:xfrm>
          <a:prstGeom prst="rect">
            <a:avLst/>
          </a:prstGeom>
          <a:noFill/>
          <a:ln w="76320">
            <a:solidFill>
              <a:srgbClr val="4bacc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-22320" y="77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责任公司商业计划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AppData\Local\Microsoft\Windows\Temporary Internet Files\Content.IE5\3TQDNN8Z\5793231_151035245103_2[1].jpg"/>
          <p:cNvPicPr/>
          <p:nvPr/>
        </p:nvPicPr>
        <p:blipFill>
          <a:blip r:embed="rId2"/>
          <a:srcRect l="647" t="1160" r="-643" b="16157"/>
          <a:stretch/>
        </p:blipFill>
        <p:spPr>
          <a:xfrm>
            <a:off x="419040" y="2281320"/>
            <a:ext cx="4130640" cy="35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924360" y="2492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16360" y="3110040"/>
            <a:ext cx="489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826920" y="2349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554040" y="4194000"/>
            <a:ext cx="8209080" cy="582840"/>
          </a:xfrm>
          <a:prstGeom prst="rect">
            <a:avLst/>
          </a:prstGeom>
          <a:noFill/>
          <a:ln cap="rnd" w="63360">
            <a:solidFill>
              <a:srgbClr val="7030a0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971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85840" y="2038320"/>
            <a:ext cx="84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-1647720" y="5013360"/>
            <a:ext cx="122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经营休闲服饰，致力于设计符合年轻人的休闲服饰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V="1">
            <a:off x="0" y="1555920"/>
            <a:ext cx="2556000" cy="288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笑脸大图 点击还原"/>
          <p:cNvPicPr/>
          <p:nvPr/>
        </p:nvPicPr>
        <p:blipFill>
          <a:blip r:embed="rId2"/>
          <a:srcRect l="0" t="2595" r="0" b="2595"/>
          <a:stretch/>
        </p:blipFill>
        <p:spPr>
          <a:xfrm>
            <a:off x="139680" y="199224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0" y="96048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经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140360" y="1917720"/>
            <a:ext cx="4679640" cy="398880"/>
          </a:xfrm>
          <a:prstGeom prst="rect">
            <a:avLst/>
          </a:prstGeom>
          <a:noFill/>
          <a:ln w="76320">
            <a:solidFill>
              <a:srgbClr val="7030a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笑嘴型的一条曲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端朝上，在产业链中，附加值更多体现在两端，设计和销售，处于中间环节的制造附加值最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140360" y="3429000"/>
            <a:ext cx="4679640" cy="703800"/>
          </a:xfrm>
          <a:prstGeom prst="rect">
            <a:avLst/>
          </a:prstGeom>
          <a:noFill/>
          <a:ln w="76320">
            <a:solidFill>
              <a:srgbClr val="ff0000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主要通过直销渠道和加盟商销售给最终客户，集中精力于新产品的研发设计，推广和销售渠道的拓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140360" y="4869000"/>
            <a:ext cx="4679640" cy="703800"/>
          </a:xfrm>
          <a:prstGeom prst="rect">
            <a:avLst/>
          </a:prstGeom>
          <a:noFill/>
          <a:ln w="76320">
            <a:solidFill>
              <a:srgbClr val="5f497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采取自营中心、二级分销、特许加盟、网店营销建设进行渠道推广，重点营销区域和拓展目标区域相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V="1">
            <a:off x="0" y="1450440"/>
            <a:ext cx="3016080" cy="320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54200" y="2092320"/>
            <a:ext cx="4537080" cy="520560"/>
          </a:xfrm>
          <a:prstGeom prst="rect">
            <a:avLst/>
          </a:prstGeom>
          <a:noFill/>
          <a:ln w="92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经理：马进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"/>
          <p:cNvGrpSpPr/>
          <p:nvPr/>
        </p:nvGrpSpPr>
        <p:grpSpPr>
          <a:xfrm>
            <a:off x="466560" y="4078440"/>
            <a:ext cx="2305080" cy="1655640"/>
            <a:chOff x="466560" y="4078440"/>
            <a:chExt cx="2305080" cy="1655640"/>
          </a:xfrm>
        </p:grpSpPr>
        <p:sp>
          <p:nvSpPr>
            <p:cNvPr id="58" name="圆角矩形 3"/>
            <p:cNvSpPr/>
            <p:nvPr/>
          </p:nvSpPr>
          <p:spPr>
            <a:xfrm>
              <a:off x="466560" y="4078440"/>
              <a:ext cx="2305080" cy="1655640"/>
            </a:xfrm>
            <a:prstGeom prst="roundRect">
              <a:avLst>
                <a:gd name="adj" fmla="val 16667"/>
              </a:avLst>
            </a:prstGeom>
            <a:solidFill>
              <a:srgbClr val="595959">
                <a:alpha val="14000"/>
              </a:srgbClr>
            </a:solidFill>
            <a:ln w="381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0"/>
            <p:cNvSpPr/>
            <p:nvPr/>
          </p:nvSpPr>
          <p:spPr>
            <a:xfrm>
              <a:off x="682920" y="4509000"/>
              <a:ext cx="187200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运营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孙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5"/>
          <p:cNvGrpSpPr/>
          <p:nvPr/>
        </p:nvGrpSpPr>
        <p:grpSpPr>
          <a:xfrm>
            <a:off x="1633680" y="2616120"/>
            <a:ext cx="6279840" cy="1462320"/>
            <a:chOff x="1633680" y="2616120"/>
            <a:chExt cx="6279840" cy="1462320"/>
          </a:xfrm>
        </p:grpSpPr>
        <p:sp>
          <p:nvSpPr>
            <p:cNvPr id="61" name="直接连接符 6"/>
            <p:cNvSpPr/>
            <p:nvPr/>
          </p:nvSpPr>
          <p:spPr>
            <a:xfrm>
              <a:off x="4822560" y="2616120"/>
              <a:ext cx="0" cy="59724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7"/>
            <p:cNvSpPr/>
            <p:nvPr/>
          </p:nvSpPr>
          <p:spPr>
            <a:xfrm>
              <a:off x="1633680" y="3213360"/>
              <a:ext cx="6279840" cy="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8"/>
            <p:cNvSpPr/>
            <p:nvPr/>
          </p:nvSpPr>
          <p:spPr>
            <a:xfrm>
              <a:off x="1633680" y="3213360"/>
              <a:ext cx="0" cy="86508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>
              <a:off x="4110120" y="3213360"/>
              <a:ext cx="0" cy="69588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0"/>
            <p:cNvSpPr/>
            <p:nvPr/>
          </p:nvSpPr>
          <p:spPr>
            <a:xfrm>
              <a:off x="6122880" y="3213360"/>
              <a:ext cx="0" cy="74052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1"/>
            <p:cNvSpPr/>
            <p:nvPr/>
          </p:nvSpPr>
          <p:spPr>
            <a:xfrm>
              <a:off x="7913520" y="3213360"/>
              <a:ext cx="0" cy="71316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2"/>
          <p:cNvGrpSpPr/>
          <p:nvPr/>
        </p:nvGrpSpPr>
        <p:grpSpPr>
          <a:xfrm>
            <a:off x="7569360" y="3925800"/>
            <a:ext cx="688680" cy="2336760"/>
            <a:chOff x="7569360" y="3925800"/>
            <a:chExt cx="688680" cy="2336760"/>
          </a:xfrm>
        </p:grpSpPr>
        <p:sp>
          <p:nvSpPr>
            <p:cNvPr id="68" name="TextBox 24"/>
            <p:cNvSpPr/>
            <p:nvPr/>
          </p:nvSpPr>
          <p:spPr>
            <a:xfrm>
              <a:off x="7682760" y="4077720"/>
              <a:ext cx="461520" cy="1191240"/>
            </a:xfrm>
            <a:prstGeom prst="rect">
              <a:avLst/>
            </a:prstGeom>
            <a:solidFill>
              <a:srgbClr val="92d05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销售部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彭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4"/>
            <p:cNvSpPr/>
            <p:nvPr/>
          </p:nvSpPr>
          <p:spPr>
            <a:xfrm>
              <a:off x="7569360" y="3925800"/>
              <a:ext cx="688680" cy="23367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5"/>
          <p:cNvGrpSpPr/>
          <p:nvPr/>
        </p:nvGrpSpPr>
        <p:grpSpPr>
          <a:xfrm>
            <a:off x="3765600" y="3908520"/>
            <a:ext cx="689040" cy="2336760"/>
            <a:chOff x="3765600" y="3908520"/>
            <a:chExt cx="689040" cy="2336760"/>
          </a:xfrm>
        </p:grpSpPr>
        <p:sp>
          <p:nvSpPr>
            <p:cNvPr id="71" name="TextBox 16"/>
            <p:cNvSpPr/>
            <p:nvPr/>
          </p:nvSpPr>
          <p:spPr>
            <a:xfrm>
              <a:off x="3879720" y="4078080"/>
              <a:ext cx="460440" cy="1465560"/>
            </a:xfrm>
            <a:prstGeom prst="rect">
              <a:avLst/>
            </a:prstGeom>
            <a:solidFill>
              <a:srgbClr val="00b0f0">
                <a:alpha val="9000"/>
              </a:srgbClr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研发设计部 刘俊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"/>
            <p:cNvSpPr/>
            <p:nvPr/>
          </p:nvSpPr>
          <p:spPr>
            <a:xfrm>
              <a:off x="3765600" y="3908520"/>
              <a:ext cx="689040" cy="23367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8"/>
          <p:cNvGrpSpPr/>
          <p:nvPr/>
        </p:nvGrpSpPr>
        <p:grpSpPr>
          <a:xfrm>
            <a:off x="5778360" y="3954600"/>
            <a:ext cx="689040" cy="2334960"/>
            <a:chOff x="5778360" y="3954600"/>
            <a:chExt cx="689040" cy="2334960"/>
          </a:xfrm>
        </p:grpSpPr>
        <p:sp>
          <p:nvSpPr>
            <p:cNvPr id="74" name="TextBox 23"/>
            <p:cNvSpPr/>
            <p:nvPr/>
          </p:nvSpPr>
          <p:spPr>
            <a:xfrm>
              <a:off x="5891760" y="4078800"/>
              <a:ext cx="461880" cy="1191240"/>
            </a:xfrm>
            <a:prstGeom prst="rect">
              <a:avLst/>
            </a:prstGeom>
            <a:solidFill>
              <a:srgbClr val="00b0f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行政部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陈飞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0"/>
            <p:cNvSpPr/>
            <p:nvPr/>
          </p:nvSpPr>
          <p:spPr>
            <a:xfrm>
              <a:off x="5778360" y="3954600"/>
              <a:ext cx="689040" cy="23349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21"/>
          <p:cNvSpPr/>
          <p:nvPr/>
        </p:nvSpPr>
        <p:spPr>
          <a:xfrm>
            <a:off x="-20520" y="88272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及相应管理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4"/>
          <p:cNvSpPr/>
          <p:nvPr/>
        </p:nvSpPr>
        <p:spPr>
          <a:xfrm>
            <a:off x="0" y="1425600"/>
            <a:ext cx="3348000" cy="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25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750"/>
                            </p:stCondLst>
                            <p:childTnLst>
                              <p:par>
                                <p:cTn id="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reeform 7" descr=""/>
          <p:cNvPicPr/>
          <p:nvPr/>
        </p:nvPicPr>
        <p:blipFill>
          <a:blip r:embed="rId2"/>
          <a:stretch/>
        </p:blipFill>
        <p:spPr>
          <a:xfrm>
            <a:off x="-520560" y="1190520"/>
            <a:ext cx="7584840" cy="5856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6480" y="10018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总结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278000" y="4427640"/>
            <a:ext cx="1530360" cy="716040"/>
            <a:chOff x="1278000" y="4427640"/>
            <a:chExt cx="1530360" cy="716040"/>
          </a:xfrm>
        </p:grpSpPr>
        <p:pic>
          <p:nvPicPr>
            <p:cNvPr id="82" name="直接连接符 60" descr=""/>
            <p:cNvPicPr/>
            <p:nvPr/>
          </p:nvPicPr>
          <p:blipFill>
            <a:blip r:embed="rId3"/>
            <a:stretch/>
          </p:blipFill>
          <p:spPr>
            <a:xfrm>
              <a:off x="1350000" y="4777200"/>
              <a:ext cx="138636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8"/>
            <p:cNvSpPr/>
            <p:nvPr/>
          </p:nvSpPr>
          <p:spPr>
            <a:xfrm>
              <a:off x="1278000" y="4427640"/>
              <a:ext cx="15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0"/>
          <p:cNvGrpSpPr/>
          <p:nvPr/>
        </p:nvGrpSpPr>
        <p:grpSpPr>
          <a:xfrm>
            <a:off x="-60480" y="5527800"/>
            <a:ext cx="1528920" cy="715680"/>
            <a:chOff x="-60480" y="5527800"/>
            <a:chExt cx="1528920" cy="715680"/>
          </a:xfrm>
        </p:grpSpPr>
        <p:pic>
          <p:nvPicPr>
            <p:cNvPr id="85" name="直接连接符 60" descr=""/>
            <p:cNvPicPr/>
            <p:nvPr/>
          </p:nvPicPr>
          <p:blipFill>
            <a:blip r:embed="rId4"/>
            <a:stretch/>
          </p:blipFill>
          <p:spPr>
            <a:xfrm>
              <a:off x="11160" y="5877000"/>
              <a:ext cx="13852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12"/>
            <p:cNvSpPr/>
            <p:nvPr/>
          </p:nvSpPr>
          <p:spPr>
            <a:xfrm>
              <a:off x="-60480" y="5527800"/>
              <a:ext cx="15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容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4"/>
          <p:cNvGrpSpPr/>
          <p:nvPr/>
        </p:nvGrpSpPr>
        <p:grpSpPr>
          <a:xfrm>
            <a:off x="2506680" y="3232080"/>
            <a:ext cx="1530360" cy="714600"/>
            <a:chOff x="2506680" y="3232080"/>
            <a:chExt cx="1530360" cy="714600"/>
          </a:xfrm>
        </p:grpSpPr>
        <p:pic>
          <p:nvPicPr>
            <p:cNvPr id="88" name="直接连接符 60" descr=""/>
            <p:cNvPicPr/>
            <p:nvPr/>
          </p:nvPicPr>
          <p:blipFill>
            <a:blip r:embed="rId5"/>
            <a:stretch/>
          </p:blipFill>
          <p:spPr>
            <a:xfrm>
              <a:off x="2578680" y="3580920"/>
              <a:ext cx="138636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6"/>
            <p:cNvSpPr/>
            <p:nvPr/>
          </p:nvSpPr>
          <p:spPr>
            <a:xfrm>
              <a:off x="2506680" y="3232080"/>
              <a:ext cx="15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市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7"/>
          <p:cNvGrpSpPr/>
          <p:nvPr/>
        </p:nvGrpSpPr>
        <p:grpSpPr>
          <a:xfrm>
            <a:off x="3726000" y="1935000"/>
            <a:ext cx="2190600" cy="766800"/>
            <a:chOff x="3726000" y="1935000"/>
            <a:chExt cx="2190600" cy="766800"/>
          </a:xfrm>
        </p:grpSpPr>
        <p:pic>
          <p:nvPicPr>
            <p:cNvPr id="91" name="直接连接符 60" descr=""/>
            <p:cNvPicPr/>
            <p:nvPr/>
          </p:nvPicPr>
          <p:blipFill>
            <a:blip r:embed="rId6"/>
            <a:stretch/>
          </p:blipFill>
          <p:spPr>
            <a:xfrm>
              <a:off x="3965400" y="2335320"/>
              <a:ext cx="1831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19"/>
            <p:cNvSpPr/>
            <p:nvPr/>
          </p:nvSpPr>
          <p:spPr>
            <a:xfrm>
              <a:off x="3726000" y="1935000"/>
              <a:ext cx="21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预计占有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0"/>
          <p:cNvSpPr/>
          <p:nvPr/>
        </p:nvSpPr>
        <p:spPr>
          <a:xfrm>
            <a:off x="2027160" y="5956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将服装续保持高速增长，年增幅将保持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3273480" y="4627440"/>
            <a:ext cx="55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服装市场空间和发展潜力巨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4483080" y="34099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锁定在年龄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学生、上班族及喜欢时尚的人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6372360" y="234792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三级市场覆盖率达到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-76320" y="9619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者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"/>
          <p:cNvSpPr/>
          <p:nvPr/>
        </p:nvSpPr>
        <p:spPr>
          <a:xfrm flipV="1">
            <a:off x="0" y="1628280"/>
            <a:ext cx="2556000" cy="32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"/>
          <p:cNvSpPr/>
          <p:nvPr/>
        </p:nvSpPr>
        <p:spPr>
          <a:xfrm>
            <a:off x="525600" y="5972040"/>
            <a:ext cx="522288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6"/>
          <p:cNvSpPr/>
          <p:nvPr/>
        </p:nvSpPr>
        <p:spPr>
          <a:xfrm>
            <a:off x="2246400" y="3021120"/>
            <a:ext cx="1797120" cy="14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7"/>
          <p:cNvSpPr/>
          <p:nvPr/>
        </p:nvSpPr>
        <p:spPr>
          <a:xfrm>
            <a:off x="3240000" y="4681440"/>
            <a:ext cx="1765440" cy="15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6"/>
          <p:cNvSpPr/>
          <p:nvPr/>
        </p:nvSpPr>
        <p:spPr>
          <a:xfrm rot="10800000">
            <a:off x="2211480" y="4578480"/>
            <a:ext cx="1822320" cy="155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11"/>
          <p:cNvSpPr/>
          <p:nvPr/>
        </p:nvSpPr>
        <p:spPr>
          <a:xfrm>
            <a:off x="1278000" y="4681440"/>
            <a:ext cx="1765080" cy="15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752560" y="478476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主要竞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982320" y="5346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2918880" y="3541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865520" y="5346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>
            <a:off x="-527760" y="51991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以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flipH="1">
            <a:off x="-129240" y="55688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名度不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 flipH="1">
            <a:off x="-129240" y="5845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 flipH="1">
            <a:off x="4739400" y="519912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唐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 flipH="1">
            <a:off x="5138640" y="55688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忠诚度不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5138640" y="58341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运营能力不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2082240" y="2082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美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2482200" y="245124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设计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2482200" y="27288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形式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4344840" y="1743120"/>
            <a:ext cx="464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三线城市消费者处于品牌消费觉醒初期，我们具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优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是因为我们的产品还处于起步阶段，有很大的发展空间，以二三线城市为切入点进入市场的速度较快，再运用相应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策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除消除壁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9748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与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"/>
          <p:cNvSpPr/>
          <p:nvPr/>
        </p:nvSpPr>
        <p:spPr>
          <a:xfrm flipV="1">
            <a:off x="0" y="1628280"/>
            <a:ext cx="2556000" cy="32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0920" y="1724040"/>
            <a:ext cx="8642160" cy="5138640"/>
            <a:chOff x="250920" y="1724040"/>
            <a:chExt cx="8642160" cy="5138640"/>
          </a:xfrm>
        </p:grpSpPr>
        <p:sp>
          <p:nvSpPr>
            <p:cNvPr id="121" name=""/>
            <p:cNvSpPr/>
            <p:nvPr/>
          </p:nvSpPr>
          <p:spPr>
            <a:xfrm>
              <a:off x="250920" y="1724040"/>
              <a:ext cx="2700720" cy="2371680"/>
            </a:xfrm>
            <a:prstGeom prst="rect">
              <a:avLst/>
            </a:prstGeom>
            <a:solidFill>
              <a:srgbClr val="c0504c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092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前卫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1640" y="1724040"/>
              <a:ext cx="2700720" cy="23716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164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动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2360" y="1724040"/>
              <a:ext cx="2700720" cy="2371680"/>
            </a:xfrm>
            <a:prstGeom prst="rect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9236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浪漫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36280" y="4491000"/>
              <a:ext cx="2700720" cy="2371680"/>
            </a:xfrm>
            <a:prstGeom prst="rect">
              <a:avLst/>
            </a:prstGeom>
            <a:solidFill>
              <a:srgbClr val="4aacc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36280" y="449100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民俗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7000" y="4491000"/>
              <a:ext cx="2700720" cy="237168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07000" y="449100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仔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836640"/>
            <a:ext cx="8569080" cy="6189480"/>
            <a:chOff x="250920" y="836640"/>
            <a:chExt cx="8569080" cy="6189480"/>
          </a:xfrm>
        </p:grpSpPr>
        <p:sp>
          <p:nvSpPr>
            <p:cNvPr id="132" name=""/>
            <p:cNvSpPr/>
            <p:nvPr/>
          </p:nvSpPr>
          <p:spPr>
            <a:xfrm>
              <a:off x="25092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c0504c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1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规划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2744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004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与开发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0396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8064a2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65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产与储运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048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4aacc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包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5736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f7964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9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支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接连接符 1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14400" y="10224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68120" y="1917720"/>
            <a:ext cx="8641080" cy="368280"/>
          </a:xfrm>
          <a:prstGeom prst="rect">
            <a:avLst/>
          </a:prstGeom>
          <a:noFill/>
          <a:ln w="63360">
            <a:solidFill>
              <a:srgbClr val="ffff00">
                <a:alpha val="9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正在寻找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的商业贷款，长期贷款主要用于未来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本公司的发展。到那时，我们还需要增加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的资金使我们超过现金平衡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8120" y="3429000"/>
          <a:ext cx="3816360" cy="228276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</a:tblGrid>
              <a:tr h="447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 w="4320">
                      <a:solidFill>
                        <a:srgbClr val="ccc5d7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资金（万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 w="4320">
                      <a:solidFill>
                        <a:srgbClr val="ccc5d7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开设直营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设备、研发团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完成新开发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流动资金投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7"/>
          <p:cNvSpPr/>
          <p:nvPr/>
        </p:nvSpPr>
        <p:spPr>
          <a:xfrm>
            <a:off x="4329000" y="3429000"/>
            <a:ext cx="4464000" cy="1739880"/>
          </a:xfrm>
          <a:prstGeom prst="rect">
            <a:avLst/>
          </a:prstGeom>
          <a:noFill/>
          <a:ln w="63360">
            <a:solidFill>
              <a:srgbClr val="5f49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测最近三年，公司可能取得的经营业绩，主营业务综合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毛利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年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40%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净资产收益率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51%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销售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净利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40%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盈利能力处于同行业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先水平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公司实现营业收入依次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.60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.09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.16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，年复合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长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.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1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71280" y="100476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760" y="765000"/>
            <a:ext cx="8821800" cy="5268960"/>
            <a:chOff x="50760" y="765000"/>
            <a:chExt cx="8821800" cy="5268960"/>
          </a:xfrm>
        </p:grpSpPr>
        <p:sp>
          <p:nvSpPr>
            <p:cNvPr id="150" name=""/>
            <p:cNvSpPr/>
            <p:nvPr/>
          </p:nvSpPr>
          <p:spPr>
            <a:xfrm>
              <a:off x="50760" y="765000"/>
              <a:ext cx="1764360" cy="5268960"/>
            </a:xfrm>
            <a:prstGeom prst="ellipse">
              <a:avLst/>
            </a:prstGeom>
            <a:solidFill>
              <a:srgbClr val="4aacc6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888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生产依赖于外包的风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1960" y="765000"/>
              <a:ext cx="1764360" cy="5268960"/>
            </a:xfrm>
            <a:prstGeom prst="ellipse">
              <a:avLst/>
            </a:prstGeom>
            <a:solidFill>
              <a:srgbClr val="45cfa0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2044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运输及仓储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3520" y="765000"/>
              <a:ext cx="1764360" cy="5268960"/>
            </a:xfrm>
            <a:prstGeom prst="ellipse">
              <a:avLst/>
            </a:prstGeom>
            <a:solidFill>
              <a:srgbClr val="44d955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200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和委托加工成本增加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5080" y="765000"/>
              <a:ext cx="1764360" cy="5268960"/>
            </a:xfrm>
            <a:prstGeom prst="ellipse">
              <a:avLst/>
            </a:prstGeom>
            <a:solidFill>
              <a:srgbClr val="8ae444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4356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经营业绩季节性波动的风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96640" y="765000"/>
              <a:ext cx="1764360" cy="5268960"/>
            </a:xfrm>
            <a:prstGeom prst="ellipse">
              <a:avLst/>
            </a:prstGeom>
            <a:solidFill>
              <a:srgbClr val="ebec40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5512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业竞争激烈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08200" y="765000"/>
              <a:ext cx="1764360" cy="5268960"/>
            </a:xfrm>
            <a:prstGeom prst="ellipse">
              <a:avLst/>
            </a:prstGeom>
            <a:solidFill>
              <a:srgbClr val="f59341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6668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休闲服饰的流行趋势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4"/>
          <p:cNvSpPr/>
          <p:nvPr/>
        </p:nvSpPr>
        <p:spPr>
          <a:xfrm>
            <a:off x="243000" y="5340240"/>
            <a:ext cx="8640720" cy="398880"/>
          </a:xfrm>
          <a:prstGeom prst="rect">
            <a:avLst/>
          </a:prstGeom>
          <a:noFill/>
          <a:ln w="63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充分考虑风险因素，运用相应的规避风险策略维护投资者权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9:04:00Z</dcterms:created>
  <dc:creator>Administrator</dc:creator>
  <dc:description/>
  <dc:language>en-US</dc:language>
  <cp:lastModifiedBy>SkyUN.Org</cp:lastModifiedBy>
  <dcterms:modified xsi:type="dcterms:W3CDTF">2015-02-19T02:49:43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