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A57-5FD7-46C9-B4DA-8F7553D5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FDF-BD9D-488D-98AC-D55E2133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104-8593-41C3-BDD9-952E84BD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76E-512F-4EAE-89AC-11F723D2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349E-8186-4916-BF51-74E9A103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D4F3-AEA9-463F-890F-FE76E6D1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BD4F-0006-4222-AE85-1A139D12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FD5F-A76C-4207-81C0-2DA0F26B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1356-234C-480E-AC76-546E0639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26920" y="18864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9DDD-9DD3-4525-9ED3-3E5E80CA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950E-C025-43FF-8681-30FFEE5B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D3E-1632-4CBF-92B2-7E070CBA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670B-BF2E-4F33-9C39-522B94C1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E64C-2EDE-45F7-9643-A6567167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FAD0-FF29-4AEC-9EEC-C80B199D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388A-6BFB-4B2C-822E-EB7A10EE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2807-37DE-41B5-A584-2A64FA61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420-B4C5-4294-B0D3-F2DA97C2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2C66-8631-4DD5-80AD-B999AB57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C6A-2671-4C1A-88A6-E41EDF80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920" y="18864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1CE2-EA66-4DE2-8863-217C9D5B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F6D-5E0A-499B-BD3C-32453948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6EF-D85F-4769-8375-15EF1E0E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72E-6F80-4F0A-9760-55B48AC9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6093-19AB-48A1-8E3D-96D86D68A4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CA76-8150-4821-81DC-56CEF42B39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标题 1"/>
          <p:cNvSpPr/>
          <p:nvPr/>
        </p:nvSpPr>
        <p:spPr>
          <a:xfrm>
            <a:off x="2050920" y="6143760"/>
            <a:ext cx="70009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汉真广标"/>
                <a:ea typeface="汉真广标"/>
              </a:rPr>
              <a:t>勇敢的守门员幻灯片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0" y="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080" y="125280"/>
            <a:ext cx="5460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7"/>
          <p:cNvSpPr/>
          <p:nvPr/>
        </p:nvSpPr>
        <p:spPr>
          <a:xfrm>
            <a:off x="4797360" y="6165720"/>
            <a:ext cx="184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4951440" y="5278320"/>
            <a:ext cx="23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谢谢观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幻演广告有限公司</dc:creator>
  <dc:description/>
  <dc:language>en-US</dc:language>
  <cp:lastModifiedBy>Administrator</cp:lastModifiedBy>
  <dcterms:modified xsi:type="dcterms:W3CDTF">2015-02-11T08:31:13Z</dcterms:modified>
  <cp:revision>343</cp:revision>
  <dc:subject/>
  <dc:title>锐得PPT模板</dc:title>
</cp:coreProperties>
</file>