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C91-93E5-49CA-98A3-3D003C18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DBC-88A1-4ED8-89D7-516099E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32A-0625-4AA6-A25B-C07F1B23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EF0-0DC7-4754-B920-68AD903F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CA4-51F9-4327-A2EB-FA99167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F4-85D7-4EB1-BF0A-A24A6A3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216-E720-47CF-AA38-B22440F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F2E-FC44-4BF3-A048-A57C435F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63A-1A9F-4960-A6A0-11A556FB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472-0A89-4F16-8252-32A77EB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030-3E26-419D-BE2B-2B2F48B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65C-3248-4680-9D36-321F57A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DED-EE77-414B-BAC8-3690EF825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96720" y="-747720"/>
            <a:ext cx="9753480" cy="803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907920"/>
            <a:ext cx="5486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度国庆节 五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.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二班孙伟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49360"/>
            <a:ext cx="2771640" cy="3529080"/>
          </a:xfrm>
          <a:custGeom>
            <a:avLst/>
            <a:gdLst>
              <a:gd name="textAreaLeft" fmla="*/ 651240 w 2771640"/>
              <a:gd name="textAreaRight" fmla="*/ 2118240 w 2771640"/>
              <a:gd name="textAreaTop" fmla="*/ 414720 h 3529080"/>
              <a:gd name="textAreaBottom" fmla="*/ 2213640 h 352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祝大家国庆节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908000" y="-382680"/>
            <a:ext cx="50292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祝全中国，国庆节快乐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5280" y="4292640"/>
            <a:ext cx="3816360" cy="237636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爱我们的中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907920"/>
            <a:ext cx="432000" cy="12970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1125360"/>
            <a:ext cx="576360" cy="1295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429000"/>
            <a:ext cx="576000" cy="1655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620640"/>
            <a:ext cx="6400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祝大家国庆节快乐，谢谢观看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0:17:58Z</dcterms:created>
  <dc:creator>User</dc:creator>
  <dc:description/>
  <dc:language>en-US</dc:language>
  <cp:lastModifiedBy>User</cp:lastModifiedBy>
  <dcterms:modified xsi:type="dcterms:W3CDTF">2013-09-27T00:35:57Z</dcterms:modified>
  <cp:revision>2</cp:revision>
  <dc:subject/>
  <dc:title>幻灯片 1</dc:title>
</cp:coreProperties>
</file>