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808-BDA9-481E-9815-D0388A87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CDD8-8F22-4CA9-B939-F12E214A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6F4A-C683-478F-A837-032C9F3F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530E-B5F4-477C-B701-6088C3EF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B1C5-7EB9-4DE2-A58B-C4115FCC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86F5-E4BC-4DE6-B277-19C4E19C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E2AD-3DDA-4182-A19E-7CF1E520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77AB-90A5-4528-B73A-F66F4631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9DBA-85D7-48EF-9087-8AD87FB1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EF40-7762-4174-98BC-EADAE6DD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2C0D-FA6B-4791-833C-C0EBEBD7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7343-9C6D-41B9-876C-6A410403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7A9B-5817-44EA-9812-53C0B5E217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7392960" y="3751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旦专用模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7211880" y="3457440"/>
            <a:ext cx="146160" cy="212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7211880" y="3457440"/>
            <a:ext cx="146160" cy="2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5">
                                  <p:stCondLst>
                                    <p:cond delay="1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0" dur="300" fill="hold"/>
                                        <p:tgtEl>
                                          <p:spTgt spid="44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6" name="矩形 4"/>
          <p:cNvSpPr/>
          <p:nvPr/>
        </p:nvSpPr>
        <p:spPr>
          <a:xfrm>
            <a:off x="757080" y="1941480"/>
            <a:ext cx="7848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把新世纪的祝福和希望，悄悄地放在将融的雪被下，让它们，沿着春天的秧苗生长，送给你满年的丰硕与芬芳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接连接符 5"/>
          <p:cNvSpPr/>
          <p:nvPr/>
        </p:nvSpPr>
        <p:spPr>
          <a:xfrm>
            <a:off x="841320" y="1554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94"/>
          <p:cNvSpPr/>
          <p:nvPr/>
        </p:nvSpPr>
        <p:spPr>
          <a:xfrm>
            <a:off x="2897280" y="128412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7229520" y="2782800"/>
            <a:ext cx="151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旦快乐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E:\工作夹\PPT模版\s1030元旦\原图片\元旦.png"/>
          <p:cNvPicPr/>
          <p:nvPr/>
        </p:nvPicPr>
        <p:blipFill>
          <a:blip r:embed="rId2"/>
          <a:stretch/>
        </p:blipFill>
        <p:spPr>
          <a:xfrm>
            <a:off x="7124760" y="3751200"/>
            <a:ext cx="1824120" cy="1422360"/>
          </a:xfrm>
          <a:prstGeom prst="rect">
            <a:avLst/>
          </a:prstGeom>
          <a:ln w="0">
            <a:noFill/>
          </a:ln>
        </p:spPr>
      </p:pic>
      <p:sp>
        <p:nvSpPr>
          <p:cNvPr id="51" name="直接连接符 9"/>
          <p:cNvSpPr/>
          <p:nvPr/>
        </p:nvSpPr>
        <p:spPr>
          <a:xfrm>
            <a:off x="841320" y="2360520"/>
            <a:ext cx="7764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接连接符 10"/>
          <p:cNvSpPr/>
          <p:nvPr/>
        </p:nvSpPr>
        <p:spPr>
          <a:xfrm>
            <a:off x="841320" y="2716200"/>
            <a:ext cx="7764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11"/>
          <p:cNvSpPr/>
          <p:nvPr/>
        </p:nvSpPr>
        <p:spPr>
          <a:xfrm>
            <a:off x="841320" y="2004840"/>
            <a:ext cx="7764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5479200" y="35971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7254720" y="441468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&gt;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83.3349990844727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5:44:41Z</dcterms:created>
  <dc:creator>锐普PPT</dc:creator>
  <dc:description>本素材由上海锐普广告有限公司原创，版权受国家法律保护。鼓励您使用和传播，但为了您个人和锐普的利益，请勿用于销售，勿更改版权信息进行传播，否则将承担法律责任。</dc:description>
  <dc:language>en-US</dc:language>
  <cp:lastModifiedBy>锐普PPT</cp:lastModifiedBy>
  <dcterms:modified xsi:type="dcterms:W3CDTF">2015-07-03T00:44:31Z</dcterms:modified>
  <cp:revision>2</cp:revision>
  <dc:subject/>
  <dc:title>2012年锐普元旦PPT模板——心愿小盒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