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832-8256-489E-BF9D-0158426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8D6-3715-4E0B-9757-66B53CD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3A3-C8FB-4684-89C8-D3920E65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F3D-3565-406B-B52E-E66C37FA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E4D-A513-471A-A38C-8105A8B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C9E-7433-4D16-BB4F-A342445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C82-1B11-42C8-A491-AC79CD4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887-9664-40B0-8CE9-CD3BEAA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097-57EB-437B-9F57-0419100A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243-E18F-4113-8D8E-5A37FDC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92F-8C1C-4A00-8431-EA2C246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1EE-4416-4709-95B2-CE43886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F03-13E0-43D8-908A-72AF7103D8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880240" y="430056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cr173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77.7799987792969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" dur="300" fill="hold"/>
                                        <p:tgtEl>
                                          <p:spTgt spid="45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94"/>
          <p:cNvSpPr/>
          <p:nvPr/>
        </p:nvSpPr>
        <p:spPr>
          <a:xfrm>
            <a:off x="2897280" y="128412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工作夹\PPT模版\s1030元旦\原图片\元旦.png"/>
          <p:cNvPicPr/>
          <p:nvPr/>
        </p:nvPicPr>
        <p:blipFill>
          <a:blip r:embed="rId2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479200" y="3597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6-30T06:36:40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