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push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53BA-91B8-44F3-A8A4-D2BBAEA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BEF7-AE00-4E53-BA83-69D4049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C1683-B927-4021-A1E7-9A32ABE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6EF5-5A4D-4E33-ACE8-F7DF646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55097-6DA1-4959-B92B-FD33C3E7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06B9-6BC6-4B20-9B6A-70B3AD9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3029C-7FAE-4EFB-84DB-B6F3C6F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A2C6D-53F1-4462-8FD1-DD31C3B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2133-BE2C-45D1-A011-ADA8E15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98C65-F9D7-45F0-9452-976ADC5F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7EC40-B5DE-47DC-92FD-68399C75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C5068-7715-40F9-8380-AF4A87A3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3496-3243-4BB0-9DFF-2139B466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C70BA-71A3-4C76-916A-4B5F548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5026-F0CF-45FF-9284-359D701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1D72-54CB-45C9-8F15-BD158D8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D3DE3-117B-40AD-8937-9D2892A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B4A3D-042D-4CE1-A9E7-F9343F6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497D7-53F7-4A84-A3B1-977D364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88F5F-8AB6-45B5-80C1-443EE8D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72B36-401D-4B4D-B7A9-9D0DB38E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12B1F-6BFF-4495-AF9B-DF3B974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AAC2-C2F2-4FF7-B1C6-916E52D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8DCA-BD19-4776-8B6A-131E6AB1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AA2DD-DE44-4426-BE97-2F41904B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1E9A7-082D-43DA-BCF0-00FB2BDD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9505C-980A-41C9-8E74-183C09FC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EDF2-95BE-4047-9706-177D964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38030-4A1E-47A2-8119-116A7FF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5B745-B658-4617-A07F-C81EF46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8BE6-3BDF-4ECE-A250-35DE77A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C0CE0-AB6C-4AE3-A162-1566745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1A80-9712-4751-A101-7209A8E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932D-277A-4280-BCB0-71FE769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5A4-94B6-4112-A98E-C83DA0AE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4C33B-D79D-4DD7-B425-4A8FF7C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3B658-B26B-413F-85D0-E7DB8410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A8A1-5F5C-44D2-963E-1224CDA5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22118-59C7-471D-B1D7-6488F705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5EB76-D14A-4514-AFD1-B2A1B72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8BF49-5230-4157-885F-7F51936B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B8C25-93D4-4E64-9676-00C55E5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79944-130F-4E9D-9756-3B3B51C7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82209-75F4-4172-AC5B-320C907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DD40B-D424-4C03-ABC2-961F27E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2B0A-6275-436D-A61B-56A433D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6545F-E84B-4265-A43A-AEFFE85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58CD0-C4E1-44BC-9DC3-57F23FA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C2278-D753-4E8A-AA7A-C64CAA6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92DB0-7AB8-4396-9CE9-50C699A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287A5-CB73-488A-ADEB-1126602C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BE068-D6C3-4133-B106-D200C8FE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6434F-4CC7-46DA-9E40-4860693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B2CE3-E9C8-4D28-9AFD-6B8384F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85805-A313-4501-A11C-3C09159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8D231-5592-47A6-A381-48E8D3B9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1F5E-B32D-4530-B744-7487254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4D28E-B825-4B99-9798-A28364CC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A9C21-55B5-4386-8806-67F43E2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73A91-0B8C-49D7-9410-EDAEBD1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CB084-3D13-4DC8-82F4-E2BA4DC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ECA79-7D0B-4E37-8961-6FFE6B80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2FF90-69BC-4754-A87F-74C51D2F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7087F-7456-4391-9C8D-191E642E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CEA37-D8DF-45F9-B553-41876ABC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55910-BB52-4CE9-96B0-A69858A0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6157C-474B-409A-B830-306A04BF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A1F-307A-4264-B121-540B6EFF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788A4-0A25-42EB-BC38-8840CF0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62C03-D994-4EE1-A159-A1D3E44E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6145B-0B19-4933-805B-4CD21C69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C95C8-5B8B-40DA-BF53-5C64216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70C28-02A0-48FB-B580-81A3EEB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76D43-0D0C-4941-823B-C3E38C7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9CC56-6F7F-4E4B-83EF-4397B490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8D1B0-EE4B-465D-BAE0-747B5299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777DD-6FF3-4991-A731-1A7A4AC5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FC2B8-CB0C-4DF8-BC75-B99C20B2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53C-A96C-45DE-861E-C0FA2F5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8E867-EABD-42D3-A32C-81704F0C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91C12-DF21-4811-9E09-517D2EA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14D96-9478-4B41-97B6-D4B1295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6FFBB-2C0F-4897-9871-1EDE40F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A293A-0CB9-4A2E-8749-9D9D319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1B1AC-AAE3-407F-BAB5-72818950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8427D-62FF-4AE4-9BD5-475D212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553D3-B3CF-4BC0-A38A-ABFBA83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935B2-3849-4297-BDE7-C4BC7AE3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C566E-51DA-43E1-8BE0-FF6A3995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2BA-1BC3-4DB6-9BA6-0F39003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27B6A-B62B-424B-8D23-29F459B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E280E-9688-40B1-9CC9-6E92FF11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D80A4-8CAF-458F-BCEE-C5DABC24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4983D-0B2C-494B-957E-F486178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AAADC-0FE8-4227-9B0C-FA8C8EAE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EE6FC-B2DD-40FD-AF79-CD8316D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752A1-693F-4E66-A21F-EE3FCB5D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3F45E-02B2-45CA-92FA-23BA241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8D7FB-3A31-40F6-B758-9000F30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EEDDA-825C-468A-A441-CB154BD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8E6-4B5A-44D6-B5A9-14804E9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AA71B-D3CC-4659-9513-F566DB9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0386B-61D5-46FB-855E-832FA3D5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BA80D-1004-4CFE-A841-0CC79F8C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74312-F287-4B68-89E1-72FDFF81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D07CB-863B-495E-A8B5-25A77DE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2FB8F-3862-46F0-9E0B-304DFFF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D06C0-50F6-4D02-A5B8-1F599712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69EBB-FD66-4C28-966F-0AF5F0EB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4B711-C325-428F-83B3-7DEFFD5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2C815-E30D-4D26-8B77-E1306C1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1672-A42E-4BB8-A346-ECB76BD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F00-751A-4BD2-8399-5608B37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3FE4F-7E16-4100-A9AD-301B34D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2BF0C-3603-4FC6-A171-1E960A9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BC7B8-CA74-4152-9E4A-593CD0E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0C707-2A0E-4774-8955-01D8F099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C1E69-05C2-4579-9553-85A18B6A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172AD-D313-45FC-8C55-3434CCDF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4F352-2BCF-4495-AE8F-104B8B8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1CB81-1FEE-4236-B008-9AABD3EC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1FF52-AFCC-4A4F-8162-D9745E0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AE072-8DC9-41CD-A6A5-D61BAE4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1D0-CEED-4D55-8491-18D969C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F7CB8-12A6-4A97-92EA-2A409F49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87A87-6A90-4009-9D26-A22AD6C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257F9-72A0-49FC-A9E2-EFF73B6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27289-1158-499B-844D-5151038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B30F5-C94D-44DE-8161-5E1165B6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6F223-E1B4-4D33-BB13-F6D8898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39E35-0E2D-4BFD-9C45-7DB65330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6A0-DAA4-4C2B-B82A-21D826CE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7BC4-7D3E-4AEA-8F67-6D43BD22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A8B-BB76-4767-9814-B103E8A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5912-35A0-4E6B-A9BE-7E573B60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E514-F2EF-4B80-ADCC-90EECEE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4055-DF81-48C9-8AA3-11D7295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57F0-609F-4420-8F52-A2A988B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FB1D-6868-4F0E-93C2-A7B8D5B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8B73-E958-4579-B5A4-A0830ACB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A992-8373-4E15-9DD7-1101C88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8B3D-D329-4690-8B60-D1B5A322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3C9A-92A6-4A96-BD5E-D51F0BD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9EC1-29A2-494A-BB04-1801AD7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B1EB-9B1B-4318-84CA-1715D8D6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3B6A-67BD-4DC9-ADC4-253BCD92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C6DD-5689-4710-83F4-50D4724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31ED-813C-4CC9-8D24-47473F6A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170A-2C97-435C-AC2A-BFD5267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C1EA-5913-445D-B454-A92FD3A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A3D6-CA3D-4140-A202-A9590B15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0BFB-9983-4781-9D4E-225C6DB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A09C-C696-4206-A1DF-C30F7A5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269F-1294-4883-A823-E0CCD372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78BE-F87C-4294-B839-0345431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0AC9-99D8-461B-8238-7E58D27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5D0B-2BBA-46A7-98D0-0A20085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B61E-8539-4236-806C-AFB8CEE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7BD5-375E-404F-AA5F-FD7D72F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D968-2B2B-4610-9B03-EFE3F357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6A0E-F8E8-46AA-AAED-B92F9FDE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32BF-8365-4A8B-A636-2D63BFF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B273-02F9-4187-BFA0-C279C83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B1B8-05E3-4EC0-8EDD-B0639FA0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5FD8-6614-4E69-A9C8-71888D2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B836-15C1-4249-9873-0987839C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A1D5-0816-4985-B1F8-2400800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DC79-02BA-4801-8D01-965A065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1301-2E57-4E27-AB91-C6451BB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E79A-3ADD-43B4-B6F3-806A9EC2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E1A3-82B4-49A8-BE7A-677419BA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9DB3-D176-44DD-A2DD-2F89D919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F8CB-1075-4E69-9013-CC1203E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CDB4-93C4-46A8-8165-09D0E0F6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2DBF-4114-4573-BFA2-5C36A0F9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8492-DE4A-4C0E-81FC-30C7112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0E99-E704-4F9F-A1C9-0032C19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CAB8-C8F3-4599-B6C1-FCCC9B1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D0BE-5DC2-4159-8724-7BAD164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1DAB-2E50-4808-82B1-5D95576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E33A-ADB6-4EF4-8CF6-DACA970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FFA8-8683-4E02-8552-B152A4B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E875-C0F3-46FC-91AF-5A09218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9100-410D-4AAE-AAA8-13CE2E99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51AE-15E4-433B-968E-A51BA96B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8ECB-8A07-43F4-AF1B-DA50E61D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04A6E-FDE8-48BB-8644-0E2570BE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9874-7CEE-499D-BB52-F1D6796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90C0-7B90-44B3-BE49-2BB3CEC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E414-6C41-46ED-B5C8-EEBF795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E623-BD40-4A03-A164-4DF1AAE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325D-140B-4881-8810-3132EDC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2C4B7-5BD0-4655-95D1-F102899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70B5B-6097-4338-AE44-F1E32CB5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0E7E-AFA3-4194-9308-286018F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6009-503E-4ED8-B34C-23174E7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5038-6277-4A14-9941-0989B22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C49D-5080-4914-BB4E-DCE667C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D77D-8D0D-447D-9220-AEE0100F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E53B-615C-4CB0-837C-C4AAAFFA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EB0D-30B3-4BB4-805E-934C6A32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91E3-D8CD-4A60-B5BA-9300EBB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187CF-32F2-476C-8EC4-683CDB8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32E41-B43C-4F40-AAC5-0290062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9926-85FD-433F-B3CD-9091E70B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F437-429F-4139-9E72-C791F4F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E11F1-FD1D-40D3-8692-FF839A86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012F-D8D9-40C3-9A28-4C8100E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63A8-3F5A-477F-9EF0-5E82B50A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EF5C8-BC40-4141-92C4-943032A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513F6-A982-4B0C-8378-F469D461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1059-A361-4780-ABC6-E892678E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352D9-E9C2-47E7-A5AE-95D7AB0D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CCFB4-BA13-425B-B678-A5D1C86C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2B7B7-0BF0-4690-92AF-6E75BC2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93C92-F569-4090-9018-61ECE41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8B2-F2EC-4181-B41F-EE9788956A6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F4A5-EDC3-45F0-B1EF-9D685F13B7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BFA6-CDD6-4A80-BA96-124E572B4D8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9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9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9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9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AF6-F9D6-4C92-B654-8F459B1CD22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DA3-6A90-4C8A-BA91-422D1662EF74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A04-DDB2-4E6B-9439-824BE26B9034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955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101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115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129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143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157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171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185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187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4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4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4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5C0-967B-4223-81AF-C03BE512E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243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257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dt" idx="4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 type="ftr" idx="4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AB6E-AC84-4E1E-98FB-1522FABD8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407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990-FAE1-44DC-AA01-0737DC10A8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30B2-9E71-437C-92E2-2FB7EBCC43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F0B-1A15-43A2-A8C6-4C29C3B9C918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FAD-917D-4E4A-BB85-A61DA578F9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404-88C1-4F0A-AC36-C9132B94A8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A6E9-122A-4D9C-A9EE-7AC619C9A1C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F443-119D-41B1-BE99-95E616D635B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16E-C172-414F-A05D-F246D5B48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819A-E33E-4A28-BE38-5B0A9CAC87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F6A-F9EB-41F6-9BF4-680231CBD4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9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ahoma"/>
                <a:ea typeface="华文行楷"/>
              </a:rPr>
              <a:t>数学第一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2"/>
          <a:stretch/>
        </p:blipFill>
        <p:spPr>
          <a:xfrm rot="2499600">
            <a:off x="971280" y="1341360"/>
            <a:ext cx="6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3"/>
          <a:stretch/>
        </p:blipFill>
        <p:spPr>
          <a:xfrm rot="7895400">
            <a:off x="7165440" y="1410840"/>
            <a:ext cx="66672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有良好的学习兴趣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31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课前预习，对所学知识产生疑问，产生好奇心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听课中要配合老师讲课，满足感官的兴奋性。听课中重点解决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预习中疑问，把老师课堂的提问、停顿、教具和模型的演示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视为欣赏音乐，及时回答老师课堂提问，培养思考与老师同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性，提高精神，把老师对你的提问的评价，变为鞭策学习的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力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 思考问题注意归纳，挖掘你学习的潜力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听课中注意老师讲解时的数学思想，多问为什么要这样思考，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这样的方法怎样是产生的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 把概念回归自然。所有学科都是从实际问题中产生归纳的，数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学概念也回归于现实生活，如角的概念、至交坐标系的产生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极坐标系的产生都是从实际生活中抽象出来的。只有回归现实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才能使对概念的理解切实可行，在应用概念判断、推理时会准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确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建立良好的学习数学习惯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习惯是经过重复练习而巩固下来的稳重持久的条件反射和自然需要。建立良好的学习数学习惯，会使自己学习感到有序而轻松。高中数学的良好习惯应是：多质疑、勤思考、好动手、重归纳、注意应用。学生在学习数学的过程中，要把教师所传授的知识翻译成为自己的特殊语言，并永久记忆在自己的脑海中。另外还要保证每天有一定的自学时间，以便加宽知识面和培养自己再学习能力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263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有意识培养自己的各方面能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197703"/>
                </a:solidFill>
                <a:latin typeface="Arial"/>
              </a:rPr>
              <a:t>数学能力包括：逻辑推理能力、抽象思维能力、计算能力、空间想象能力和分析解决问题能力共五大能力。这些能力是在不同的数学学习环境中得到培养的。在平时学习中要注意开发不同的学习场所，参与一切有益的学习实践活动，如数学第二课堂、数学竞赛、智力竞赛等活动。平时注意观察，比如，空间想象能力是通过实例净化思维，把空间中的实体高度抽象在大脑中，并在大脑中进行分析推理。其它能力的培养都必须学习、理解、训练、应用中得到发展。特别是，教师为了培养这些能力，会精心设计“智力课”和“智力问题”比如对习题的解答时的一题多解、举一反三的训练归类，应用模型、电脑等多媒体教学等，都是为数学能力的培养开设的好课型，在这些课型中，学生务必要用全身心投入、全方位智力参与，最终达到自己各方面能力的全面发展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7524720" y="5950080"/>
            <a:ext cx="81936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47058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1" lang="en-US" sz="32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6600cc">
                      <a:alpha val="47058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今后学习的具体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611280" y="1052640"/>
            <a:ext cx="752472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准备笔记本、错题本、作业本（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开白报本）各一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课上认真听课，不许说话（与课堂教学关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积极踊跃的回答老师的问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认真做好笔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作业认真独立完成，不允许抄作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对所学的知识，每天都要进行系统的总结；每周都要总结性的复习；每单元都要归纳性的总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488360" y="6066000"/>
            <a:ext cx="1655640" cy="792000"/>
          </a:xfrm>
          <a:prstGeom prst="leftArrow">
            <a:avLst>
              <a:gd name="adj1" fmla="val 50000"/>
              <a:gd name="adj2" fmla="val 52261"/>
            </a:avLst>
          </a:prstGeom>
          <a:solidFill>
            <a:srgbClr val="ff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7e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histro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76240" y="361800"/>
            <a:ext cx="2563920" cy="289584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3851280" y="476280"/>
            <a:ext cx="473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欧拉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Leonhard Euler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公元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707-178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年） 出生在瑞士的巴塞尔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asel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）城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岁就进巴塞尔大学读书，得到当时最有名的数学家约翰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伯努利（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Johann Bernoulli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67-1748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年）的精心指导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04880" y="321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欧拉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是科学史上最多产的一位杰出的数学家，据统计他那不倦的一生，共写下了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88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本书籍和论文，彼得堡科学院为了整理他的著作，足足忙碌了四十七年．他在双目失明以后，也没有停止对数学的研究，在失明后的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17 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年间，他还口述了几本书和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篇左右的论文</a:t>
            </a: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723960" y="5162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欧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字命名的数学公式、定理等在数学书籍中随处可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此同时，他还在物理、天文、建筑以至音乐、哲学方面取得了辉煌的成就 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   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杨辉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是中国南宋末年数学家，数学教育家，大约在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世纪中叶活动于苏杭一带．杨辉的数学著作甚多，他编著的数学书共五种二十一卷，著有《详解九章算法》十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61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日用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62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乘除通变本末》三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4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田亩比类乘除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5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、《续古摘奇算法》二卷（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1275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年）．</a:t>
            </a:r>
            <a:br>
              <a:rPr sz="2400"/>
            </a:b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    在他的著作中收录了不少现已失传的古代数学著作中的算题和算法．杨辉的数学研究与教育工作的重点是在计算技术方面．杨辉对筹算乘除捷算法进行了总结和发展，有的还编成了歌诀，如九归口诀．杨辉创“纵横图”之名，在《续古摘奇算法》中介绍了各种形式的纵横图及有关的构造方法．垛积术，是杨辉继沈括“隙积术”之后，关于高阶等差级数的研究．杨辉的“纂类”中，是将《九章算术》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246</a:t>
            </a:r>
            <a:r>
              <a:rPr b="1" lang="zh-CN" sz="2400" spc="-1" strike="noStrike">
                <a:solidFill>
                  <a:srgbClr val="001414"/>
                </a:solidFill>
                <a:latin typeface="Arial"/>
              </a:rPr>
              <a:t>个题目按解题方法由浅入深的顺序，重新分为乘除、分率、合率、互换、二衰分、叠积、盈不足、方程、勾股等九类．杨辉是一位杰出的数学教育家，重视数学的普及，在《算法通变本末》中，杨辉为初学者制订的“习算纲目”是中国数学教育史上的一项重要文献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15560" y="666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14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5f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高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777─1855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）德国数学家、物理学家和天文学家．高斯在童年时代就表现出非凡的数学天才．年仅三岁，就学会了算术，八岁因发现等差数列求和公式而深得老师和同学的钦佩．大学二年级时得出正十七边形的尺规作图法，并给出了可用尺规作图的正多边形的条件．解决了两千年来悬而未决的难题，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799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以代数基本定理的四个漂亮证明获博士学位．高斯的数学成就遍及各个领域，在数学许多方面的贡献都有着划时代的意义．并在天文学，大地测量学和磁学的研究中都有杰出的贡献．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801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发表的《算术研究》是数学史上为数不多的经典著作之一，它开辟了数论研究的全新时代．非欧几里得几何是高斯的又一重大发现，他的遗稿表明，他是非欧几何的创立者之一．高斯致力于天文学研究前后约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，在这领域内的伟大著作之一是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1809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年发表的《天体运动理论》．高斯对物理学也有杰出贡献，麦克斯韦称高斯的磁学研究改造了整个科学．高斯的一生中，还培养了不少杰出的数学家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/>
          </p:nvPr>
        </p:nvSpPr>
        <p:spPr>
          <a:xfrm>
            <a:off x="30168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高一年级的新同学们，当你们踏进高中校门，漫步五中优美的校园时，我想你们会暗暗决心：争取学好高中阶段的各门学科。在各门学科中，数学是最能体现一个人的思维能力，判断能力、反应敏捷能力和聪明程度的学科。数学直接影响着国民的基本素质和生活质量，良好的数学修养将为人的一生的发展奠定基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初中数学与高中数学的差异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1403280" y="1989000"/>
            <a:ext cx="6400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知识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定量与变量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思维习惯上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学生自学能力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学习方法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>
            <a:hlinkClick r:id="rId7" action="ppaction://hlinksldjump"/>
          </p:cNvPr>
          <p:cNvSpPr/>
          <p:nvPr/>
        </p:nvSpPr>
        <p:spPr>
          <a:xfrm>
            <a:off x="7596360" y="5877000"/>
            <a:ext cx="687240" cy="485640"/>
          </a:xfrm>
          <a:prstGeom prst="rightArrow">
            <a:avLst>
              <a:gd name="adj1" fmla="val 50000"/>
              <a:gd name="adj2" fmla="val 3537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7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7" fill="hold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7" fill="hold"/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7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知识差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>
            <a:off x="755640" y="258516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      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初中数学知识少、浅、难度较小、知识面窄。高中数学知识广泛，将对初中的数学知识推广和引伸，也是对初中数学知识的完善。如：初中学习的角的概念只是“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0—180”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范围内的，但实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际当中也有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7200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和“—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300”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等角，为此，高中将把角的概念推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到任意角，可表示包括正、负在内的所有大小角。又如：几何，高中要学习《立体几何》（第九章直线、平面、简单几何体），将在初中的平面中求角和距离引伸到三维空间中求角和距离等；还将学习“排列组合”知识，以便解决排队方法种数等问题。如：①三个人排成一行，有几种排队方法，（ 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=6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种）；②四人进行乒乓球双打比赛，有几种比赛场次？（答： 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种）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）德国世界杯共分八个小组，每组四队，共有多少场小组赛？高中将学习统计这些排列的数学方法。初中中对一个负数开平方无意义，但在高中规定了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i2=--1,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就使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的平方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±i.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即可把数的概念进行推广，使数的概念扩大到复数范围等。这些知识同学们在以后的学习中将逐渐学习到。</a:t>
            </a:r>
            <a:br>
              <a:rPr sz="2200"/>
            </a:br>
            <a:br>
              <a:rPr sz="2200"/>
            </a:b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236000" y="476280"/>
            <a:ext cx="10317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wheel spokes="2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7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7" fill="hold"/>
                                        <p:tgtEl>
                                          <p:spTgt spid="1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7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7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定量与变量的差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12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初中数学中，题目、已知和结论用常数给出的较多，一般地，答案是常数和定量。学生在分析问题时，大多是按定量来分析问题，这样的思维和问题的解决过程，只能片面地、局限地解决问题，在高中数学学习中我们将会大量地、广泛地应用代数的可变性去探索问题的普遍性和特殊性。如：求解一元二次方程时我们采用对方程             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(a≠0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的求解，讨论它是否有根和有根时的所有根的情形，使学生很快的掌握了对所有一元二次方程的解法。另外，在高中学习中我们还会通过对变量的分析，探索出分析、解决问题的思路和解题所用的数学思想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6588000" y="6021360"/>
            <a:ext cx="1032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1332000" y="3645000"/>
                <a:ext cx="2087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习惯上的差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初中学生由于学习数学知识的范围小，知识层次低，知识面窄，对实际问题的思维受到了局限，就几何来说，我们都接触的是现实生活中三维空间，但初中只学了平面几何，那么就不能对三维空间进行严格的逻辑思维和判断。代数中数的范围只限定在实数中思维，就不能深刻的解决方程根的类型等。高中数学知识的多元化和广泛性，将会使学生全面、细致、深刻、严密的分析和解决问题。也将培养学生高素质思维。提高学生的思维递进性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451640" y="981000"/>
            <a:ext cx="10321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5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1960" y="742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学生自学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能力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的差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-252360" y="20570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初中学生自学那能力低，大凡考试中所用的解题方法和数学思想，在初中教师基本上已反复训练，老师把学生自己高度深刻理解的问题，都集中表现在他的耐心的讲解和大量的训练中，而且学生的听课只需要熟记结论就可以做题（不全是），学生不需自学。但高中的知识面广，知识要全部要教师训练完高考中的习题类型是不可能的，只有通过较少的、较典型的一两道例题讲解去融会贯通这一类型习题，如果不自学、不大量的阅读理解，将会使学生失去一类型习题的解法。另外，科学在不断的发展，考试在不断的改革，高考也随着全面的改革不断的深入，数学题型的开发在不断的多样化，近年来提出了应用型题、探索型题和开放型题，只有学生的自学去深刻理解和创新才能适应现代科学的发展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            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其实，自学能力的提高也是一个人生活的需要，他从一个方面也代表了一个人的素养，人的一生只有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18---24</a:t>
            </a:r>
            <a:r>
              <a:rPr b="0" lang="zh-CN" sz="2000" spc="-1" strike="noStrike">
                <a:solidFill>
                  <a:srgbClr val="cc9900"/>
                </a:solidFill>
                <a:latin typeface="Arial Black"/>
              </a:rPr>
              <a:t>年时间是有导师的学习，其后半生，最精彩的人生是人在一直学习，通过自学最终达到了自强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7812000" y="5950080"/>
            <a:ext cx="1032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934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学习方法的差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初中课堂教学量小、知识简单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通过教师课堂教慢的速度，争取让全体同学理解知识点和解题方法，课后老师布置作业，然后通过大量的课堂内、外练习、课外指导达到对知识的反反复复理解，直到学生掌握。而高中数学的学习随着课程开设多（有九们课学生同时学习），每天至少上六节课，自习时间两节课，这样各科学习时间将大大减少，而教师布置课外题量相对初中减少，这样集中数学学习的时间相对比初中少，数学教师将相初中那样监督每个学生的作业和课外练习，就能达到相初中那样把知识让每个学生掌握后再进行新课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模仿与创新的区别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初中学生模仿做题，他们模仿老师思维推理教多，而高中模仿做题、思维学生有，但随着知识的难度大和知识面广泛，学生不能全部模仿，即就是学生全部模仿训练做题，也不能开拓学生自我思维能力，学生的数学成绩也只能是一般程度。现在高考数学考察，旨在考察学生能力，避免学生高分低能，避免定势思维，提倡创新思维和培养学生的创造能力。初中学生大量地模仿使学生带来了不利的思维定势，对高中学生带来了保守的、僵化的思想，封闭了学生的丰富反对创造精神。如学生在解决：比较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大小时要不就错、要不就答不全面。大多数学生不会分类讨论。</a:t>
            </a:r>
            <a:br>
              <a:rPr sz="2200"/>
            </a:br>
            <a:br>
              <a:rPr sz="2200"/>
            </a:b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6516720" y="549360"/>
            <a:ext cx="10317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楷体_GB2312"/>
              </a:rPr>
              <a:t>返回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楷体_GB2312"/>
              <a:ea typeface="楷体_GB2312"/>
            </a:endParaRPr>
          </a:p>
        </p:txBody>
      </p:sp>
    </p:spTree>
  </p:cSld>
  <p:transition spd="med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67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67" fill="hold"/>
                                        <p:tgtEl>
                                          <p:spTgt spid="1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67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67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01680" y="1061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二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如何学好高中数学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01680" y="2601720"/>
            <a:ext cx="85406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有良好的学习兴趣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建立良好的学习数学习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e4e6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有意识培养自己的各方面能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32720" y="5734080"/>
            <a:ext cx="1368360" cy="792000"/>
          </a:xfrm>
          <a:prstGeom prst="leftArrow">
            <a:avLst>
              <a:gd name="adj1" fmla="val 50000"/>
              <a:gd name="adj2" fmla="val 43193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5:13:04Z</dcterms:created>
  <dc:creator>hywz</dc:creator>
  <dc:description/>
  <dc:language>en-US</dc:language>
  <cp:lastModifiedBy>User</cp:lastModifiedBy>
  <dcterms:modified xsi:type="dcterms:W3CDTF">2006-09-23T08:35:41Z</dcterms:modified>
  <cp:revision>56</cp:revision>
  <dc:subject/>
  <dc:title>一.初中数学与高中数学的差异 </dc:title>
</cp:coreProperties>
</file>