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9.gif" ContentType="image/gif"/>
  <Override PartName="/ppt/media/image10.gif" ContentType="image/gi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A783-A1E6-4BB6-89F2-A62BB0D6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78BB-B474-4A54-9C43-5560C56E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A6199-78EB-4B81-A91A-56040DEC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228FC-58FE-487A-9E65-D1256BBA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162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5CCC0-41BC-40AB-8F0A-2C37C484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A82F5-D620-4316-AF69-EC8A0AE4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7FFD2-24E3-4C54-AA8F-11B2347C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90D17-CC0F-4995-9303-9C46ECA3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B523B-F604-4A00-AB1B-44A78238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20CC8-F42C-4314-A2C4-41A75DDF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257364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9957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519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257364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49957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770F7-892C-486C-9E1E-2DBC70FD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ACAA4-7205-4FAD-9150-178EF293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79EE-0B4F-4E6A-B8E7-E58D3DE1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05003-3D8B-4BFE-B937-FF4B3675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F12D3-526E-4626-BBA6-69C4161D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57DD4-C9FD-4ABC-9422-43A28C7D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FE512-5C45-4279-803E-11A15F05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162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17DD0-17F1-41A5-A19A-43891E8D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D8A08-574F-48A3-A4C1-C26C58FA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E6C80-3ED2-4188-894B-1A8F6A94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FF475-690D-4178-B156-48ACABC9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E0A19-61BD-4BD2-B23A-F72B7C98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E0A01-8A7B-472E-95D4-60E059CC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7364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957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19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7364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9957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0052-DB2C-4276-9440-010C907F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57364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9957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519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257364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49957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36613-CB99-415D-8CE1-1E835949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0CF2E-D843-4BC6-93FB-08F5EE91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4AE94-E6CD-48EC-AFBC-3FE55928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DDAA7-0706-4BCD-8A5D-6641AE0F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1FF3F-B3D0-4D9E-A50D-136E3811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14D65-611E-4DD4-8D6C-5761AD5D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162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EBBFA-E7B6-4BA4-871D-D4100DE4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90BC4-F649-4086-91C3-2E7F68AC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285F7-29B4-4295-ACC6-92A24A8D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C603E-49AA-4C24-B665-CC71DF7E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8B27-2945-46BC-8375-208E4064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ED3E7-DC24-4742-81EC-9DC2310D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2605F-140A-4411-B5B6-D41A2367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57364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9957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519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57364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49957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A3370-F7AC-48A2-BFA2-461D04AF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13BD7-6ED4-4B50-9954-29CB41F5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D7277-2A51-4EB5-93AF-E192A2AD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85349-1E38-40DB-8C33-C023490E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E7789-038A-4698-8AD1-9FB61F0E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BFB0B-4D6C-45A7-B087-EE045F5B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162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E487A-D4DF-4C97-B01A-7473A8D4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B200B-C422-4607-B474-DAE1D7F4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9CFF-ECF6-46C9-90EE-C66A2ECD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39E4B-73E7-457D-BDAF-C42CE1F3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9050E-BD8E-4ED7-8A69-415D0EA9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156CC-1A66-4BEE-9878-E70AD3E5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5D63C-A582-43F3-8DDB-A8E1F336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57364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9957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1519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257364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49957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3CD96-6450-4111-AAF1-3A39131F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24A57B-4E85-4E45-9CFB-A87FDD25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55008C-E8D8-4DBE-B710-52BB5AB3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2057EA-5F44-49F9-87A4-8056DC5E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7CEF22-9C6A-4E99-869C-677C6793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D843F1-DEC1-4BEC-B546-3EF187B3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F415-08A1-4571-9FF7-6C149D0E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162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58315A-6D4C-4125-880F-611268C2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DBE8D-5C4B-499A-B09A-6FC79943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ECAB20-4A5E-496A-90BD-5B796D55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5E8EC5-AE4F-4AF8-B60C-05A616E4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90E5A-C5F0-4249-B912-FA8CF6C8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34EC70-2FAC-46AC-9BFB-C44F4C98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257364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9957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1519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257364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49957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4FFBAD-79CC-4C54-AC2E-85409403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0C78-EAE9-4C74-B1A5-AAC8031B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9F45-5D87-4E6B-9F02-E8789743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162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5452-5B89-47A5-9893-CAB40674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6B0C-44BD-4B0D-9D79-E9BD0657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82B1-98D7-4D2D-BF8A-8A548E75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3350-0CEF-41CD-9009-A376574E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D188-8E33-48DA-8274-814FFED0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AA50-1520-416A-8E9D-3E40658E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8C6F-AB5B-4A03-91C2-1743EEB5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57364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957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19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57364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9957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45F7-21C1-464A-A4E4-79613796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0A9BB-0D9E-4D5B-9D7F-B0969D97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98C82-0CB7-4C47-AEE0-EB1A4B17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D6361-918C-4000-B55B-8F9365A4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305C3-459B-427B-977C-391C2A4A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68FF9-CF4D-447A-B107-DA9A7F99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0016-2B01-4DDD-9545-C5138263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162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BC4A3-78C8-428A-8F78-61322090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162AE-AFCC-43C9-921E-77AABCA8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F2EB7-14C6-4226-BABB-3DAC40BA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4863D-6187-4700-A888-0F1A3C97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17B35-109C-40F3-88FF-9C2E573C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D4684-AD68-47B3-8A8E-616AD9D0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57364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957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519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57364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9957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F8286-6088-41AB-BDEB-613D7B2F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F1DD3-6819-4C5F-9232-DEF0ADAD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59F53-8C81-419A-BA71-4D6AA554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C1887-99AA-49DC-9E59-7F1920E3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941F-C2E4-4888-B2E6-015F4F97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5CC42-9693-4839-89DC-C79D0E54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732E1-5239-4187-B358-5ADA35FA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162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EA72B-EF85-4D69-877A-5280F6E5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D84AC-85D1-4676-9226-9E4F520A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A3249-ECEC-4CC1-BDDA-E4B9433D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A2053-EB4B-440C-B87F-9412C7B8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49C3B-607A-4B66-B27B-35342A13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32D39-A722-4947-9511-88812223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57364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957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519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57364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9957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6CC51-B269-43C8-921A-887F8E02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9C108-13C6-4BC5-B0B0-A0DE132E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5869-DED5-4645-BFAE-2B81BA8B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96487-3E10-4154-B063-C83F7EB1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7A5E0-8E43-44ED-9199-D9E65CB5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E3BAD-15F4-454D-A65F-CDA4E0ED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B452F-511D-4638-960B-5AC93D82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162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067DB-0F0C-4571-8402-25CA27FC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396CA-9393-46E9-A214-2158687C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95E2C-7CED-43B0-BCFC-5B559873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A6F26-020B-4F66-8F16-61A08D8F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24496-0B21-4F19-A3F1-52F34763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9327F-656E-45EA-BFDB-67DB2A92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162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74A8-D3F9-424B-A1B1-DB8CC76C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57364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9957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519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57364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49957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B2D7A-1207-44CC-B0C5-E8D86C49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45C04-098B-486C-A55E-25B1B16E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15269-F92E-4387-A4B0-58F8CC9F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F1474-ECC9-45E6-B10F-6D437928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1F052-B134-48DB-9C28-224F6261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ECA00-CFDE-4C79-BD3A-EED1E3BA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162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F8F1E-3689-43A7-A6BA-3E744F43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B5042-7AD0-450F-BF6D-7DDA3EEB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3EC98-7AD0-4944-A61F-FB677FA6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1969F-D6CE-468B-BBA3-C13631BD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9C6B-DB7F-42D2-9D49-2A34FE60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412FC-635A-458B-924C-FF3FD48F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9B07B-050D-427D-944A-38903E2F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257364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9957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519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257364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49957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AC305-3890-4710-9BFE-11850E9B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7144D-2C22-4CB1-91C1-E31D7D67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91EC4-E983-4ECE-B89D-6F9FE3BC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8CE6D-B9BE-40D5-8F5D-2645B1D1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7CE11-13A9-45D7-B303-162C2C3E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01169-5C97-4D35-8FD8-016E62D8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162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93FE3-6A92-42E4-A41D-564577A1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6F7C8-A1D6-4208-9437-9FB3C1B5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0F29-0B6E-4A6D-86F5-F3DCF0A0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4B847-FE33-4975-BE68-D9361C27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ABE01-1559-4BEC-BDE8-91E8BFA6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2D01E-676D-455A-84B8-CD61DA89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ED9EC-7FF9-4E2F-B700-040E458B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57364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957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519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257364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49957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72F18-A8DF-4CF4-878D-BAA5E98B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0AEC7-0E49-4D93-A64C-0C957674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76AF3-7A34-4ECD-BE6E-73D7E650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C0C3A-7445-46C2-8051-E08ED3C2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62452-6CAE-4806-8A86-09784819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CAB45-EE99-4126-92FE-24E4A55B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BDA3-1D48-475B-8A2D-86439B86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162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FF8AC-7955-4F7C-B64C-78AD5734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2B732-60CC-4ADE-83DD-7988DC38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DC39C-D701-4320-BB1F-C4D90917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58CD8-6B9F-43D3-B095-3EFA2E16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27081-BF54-44DD-909C-A8A667DF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BF38B-05BA-413D-ADED-115A8978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57364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9957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519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257364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49957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AA87B-DA66-4C71-9DBE-ED4CDE6B5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DD531-F194-4F36-A851-24C6AEE3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C4260-CD77-4D6E-968D-984308EF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F257B-D87A-4694-980E-A3A8F630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素彩网</a:t>
            </a:r>
            <a:r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-http://www.sc115.com--PPT</a:t>
            </a:r>
            <a:r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模板免费下载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3A17-1FE0-454E-90EE-4D4B944A4721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saxaphone_swaying_hg_clr"/>
          <p:cNvPicPr/>
          <p:nvPr/>
        </p:nvPicPr>
        <p:blipFill>
          <a:blip r:embed="rId3"/>
          <a:stretch/>
        </p:blipFill>
        <p:spPr>
          <a:xfrm>
            <a:off x="0" y="4343400"/>
            <a:ext cx="1601640" cy="251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7" descr="saxaphone_swaying_hg_clr"/>
          <p:cNvPicPr/>
          <p:nvPr/>
        </p:nvPicPr>
        <p:blipFill>
          <a:blip r:embed="rId3"/>
          <a:stretch/>
        </p:blipFill>
        <p:spPr>
          <a:xfrm>
            <a:off x="0" y="434340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CBDE-242A-4E89-8742-89FDD209DA65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7" descr="saxaphone_swaying_hg_clr"/>
          <p:cNvPicPr/>
          <p:nvPr/>
        </p:nvPicPr>
        <p:blipFill>
          <a:blip r:embed="rId3"/>
          <a:stretch/>
        </p:blipFill>
        <p:spPr>
          <a:xfrm>
            <a:off x="0" y="434340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23F3-1471-43BD-879B-29BFA64D9430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7" descr="saxaphone_swaying_hg_clr"/>
          <p:cNvPicPr/>
          <p:nvPr/>
        </p:nvPicPr>
        <p:blipFill>
          <a:blip r:embed="rId3"/>
          <a:stretch/>
        </p:blipFill>
        <p:spPr>
          <a:xfrm>
            <a:off x="0" y="434340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1FE0-9B61-4336-8B6A-A1797CA433F9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7" descr="saxaphone_swaying_hg_clr"/>
          <p:cNvPicPr/>
          <p:nvPr/>
        </p:nvPicPr>
        <p:blipFill>
          <a:blip r:embed="rId3"/>
          <a:stretch/>
        </p:blipFill>
        <p:spPr>
          <a:xfrm>
            <a:off x="0" y="434340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D958-2C71-4F43-9B98-3F9694589A34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素彩网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  <a:ea typeface="宋体"/>
              </a:rPr>
              <a:t>-http://www.sc115.com--PPT</a:t>
            </a:r>
            <a:r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模板免费下载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2D4A-BDE8-49ED-8FD1-D5D7AB60743C}" type="slidenum">
              <a:rPr b="0" lang="en-US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saxaphone_swaying_hg_clr"/>
          <p:cNvPicPr/>
          <p:nvPr/>
        </p:nvPicPr>
        <p:blipFill>
          <a:blip r:embed="rId3"/>
          <a:stretch/>
        </p:blipFill>
        <p:spPr>
          <a:xfrm>
            <a:off x="0" y="434340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F43D-6A15-4986-A53B-B16D81E743BC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saxaphone_swaying_hg_clr"/>
          <p:cNvPicPr/>
          <p:nvPr/>
        </p:nvPicPr>
        <p:blipFill>
          <a:blip r:embed="rId3"/>
          <a:stretch/>
        </p:blipFill>
        <p:spPr>
          <a:xfrm>
            <a:off x="0" y="434340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5065-9E20-4F7B-BDC2-3BCFBE688EDE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saxaphone_swaying_hg_clr"/>
          <p:cNvPicPr/>
          <p:nvPr/>
        </p:nvPicPr>
        <p:blipFill>
          <a:blip r:embed="rId3"/>
          <a:stretch/>
        </p:blipFill>
        <p:spPr>
          <a:xfrm>
            <a:off x="0" y="434340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7CF6-A08D-4F50-93F9-F1ED91BC348B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7" descr="saxaphone_swaying_hg_clr"/>
          <p:cNvPicPr/>
          <p:nvPr/>
        </p:nvPicPr>
        <p:blipFill>
          <a:blip r:embed="rId3"/>
          <a:stretch/>
        </p:blipFill>
        <p:spPr>
          <a:xfrm>
            <a:off x="0" y="434340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C292-290D-4769-852D-A6B937CC34C9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7" descr="saxaphone_swaying_hg_clr"/>
          <p:cNvPicPr/>
          <p:nvPr/>
        </p:nvPicPr>
        <p:blipFill>
          <a:blip r:embed="rId3"/>
          <a:stretch/>
        </p:blipFill>
        <p:spPr>
          <a:xfrm>
            <a:off x="0" y="434340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8B6B-565E-4A88-BF47-B2BD0ABCAA82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saxaphone_swaying_hg_clr"/>
          <p:cNvPicPr/>
          <p:nvPr/>
        </p:nvPicPr>
        <p:blipFill>
          <a:blip r:embed="rId3"/>
          <a:stretch/>
        </p:blipFill>
        <p:spPr>
          <a:xfrm>
            <a:off x="0" y="434340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334F-F1D9-4657-B585-00EC2ACE03D8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7" descr="saxaphone_swaying_hg_clr"/>
          <p:cNvPicPr/>
          <p:nvPr/>
        </p:nvPicPr>
        <p:blipFill>
          <a:blip r:embed="rId3"/>
          <a:stretch/>
        </p:blipFill>
        <p:spPr>
          <a:xfrm>
            <a:off x="0" y="434340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EC60-39FE-4D04-A365-98D9E4AFC54D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3885840"/>
            <a:ext cx="70102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Little Too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685440" y="4495320"/>
            <a:ext cx="7010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Your Subtitle Goes Her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Rectangle 11"/>
          <p:cNvSpPr/>
          <p:nvPr/>
        </p:nvSpPr>
        <p:spPr>
          <a:xfrm>
            <a:off x="2835360" y="32464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页脚占位符 4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素彩网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  <a:ea typeface="宋体"/>
              </a:rPr>
              <a:t>-http://www.sc115.com--PPT</a:t>
            </a:r>
            <a:r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模板免费下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页脚占位符 3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素彩网</a:t>
            </a:r>
            <a:r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-http://www.sc115.com--PPT</a:t>
            </a:r>
            <a:r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模板免费下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页脚占位符 3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素彩网</a:t>
            </a:r>
            <a:r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-http://www.sc115.com--PPT</a:t>
            </a:r>
            <a:r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模板免费下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3"/>
          <p:cNvSpPr/>
          <p:nvPr/>
        </p:nvSpPr>
        <p:spPr>
          <a:xfrm>
            <a:off x="2753280" y="93816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4343760" y="93816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5887080" y="9381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6" descr="animfactory_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7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8"/>
          <p:cNvSpPr/>
          <p:nvPr/>
        </p:nvSpPr>
        <p:spPr>
          <a:xfrm>
            <a:off x="457200" y="2590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228600" y="2637000"/>
            <a:ext cx="236232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Additional Graph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cale them up or dow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GIF clipart is anim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JPG clipart can be scaled up and take up little file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PNG clipart can be scaled unusually large without dist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5" descr="little_toot_prt"/>
          <p:cNvPicPr/>
          <p:nvPr/>
        </p:nvPicPr>
        <p:blipFill>
          <a:blip r:embed="rId4"/>
          <a:stretch/>
        </p:blipFill>
        <p:spPr>
          <a:xfrm>
            <a:off x="58672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4" name="Picture 36" descr="little_toot_qx"/>
          <p:cNvPicPr/>
          <p:nvPr/>
        </p:nvPicPr>
        <p:blipFill>
          <a:blip r:embed="rId5"/>
          <a:stretch/>
        </p:blipFill>
        <p:spPr>
          <a:xfrm>
            <a:off x="26668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5" name="Picture 37" descr="little_toot_sld"/>
          <p:cNvPicPr/>
          <p:nvPr/>
        </p:nvPicPr>
        <p:blipFill>
          <a:blip r:embed="rId6"/>
          <a:stretch/>
        </p:blipFill>
        <p:spPr>
          <a:xfrm>
            <a:off x="42670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6" name="Picture 38" descr="saxaphone_blowing_beat_hg_clr"/>
          <p:cNvPicPr/>
          <p:nvPr/>
        </p:nvPicPr>
        <p:blipFill>
          <a:blip r:embed="rId7"/>
          <a:stretch/>
        </p:blipFill>
        <p:spPr>
          <a:xfrm>
            <a:off x="7315200" y="2895480"/>
            <a:ext cx="1666800" cy="33339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9" descr="saxaphone_blowing_hard_hg_clr"/>
          <p:cNvPicPr/>
          <p:nvPr/>
        </p:nvPicPr>
        <p:blipFill>
          <a:blip r:embed="rId8"/>
          <a:stretch/>
        </p:blipFill>
        <p:spPr>
          <a:xfrm>
            <a:off x="5181480" y="2895480"/>
            <a:ext cx="1943280" cy="33339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0" descr="saxaphone_swaying_hg_clr"/>
          <p:cNvPicPr/>
          <p:nvPr/>
        </p:nvPicPr>
        <p:blipFill>
          <a:blip r:embed="rId9"/>
          <a:stretch/>
        </p:blipFill>
        <p:spPr>
          <a:xfrm>
            <a:off x="2895480" y="2895480"/>
            <a:ext cx="2124360" cy="3333960"/>
          </a:xfrm>
          <a:prstGeom prst="rect">
            <a:avLst/>
          </a:prstGeom>
          <a:ln w="0">
            <a:noFill/>
          </a:ln>
        </p:spPr>
      </p:pic>
      <p:sp>
        <p:nvSpPr>
          <p:cNvPr id="569" name="页脚占位符 15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素彩网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  <a:ea typeface="宋体"/>
              </a:rPr>
              <a:t>-http://www.sc115.com--PPT</a:t>
            </a:r>
            <a:r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模板免费下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7:21:11Z</dcterms:created>
  <dc:creator>Administrator</dc:creator>
  <dc:description/>
  <dc:language>en-US</dc:language>
  <cp:lastModifiedBy>tukj</cp:lastModifiedBy>
  <dcterms:modified xsi:type="dcterms:W3CDTF">2015-07-30T03:51:50Z</dcterms:modified>
  <cp:revision>20</cp:revision>
  <dc:subject/>
  <dc:title>Skyl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