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319-4C25-4FB5-8652-807F3CA6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949-527E-4856-8B8E-A5B542E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2F3-C3F5-457A-BA57-7564F67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CEC-BE53-4B7C-8DCB-E1898B76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4A76-C9E2-4C4F-96E1-EDE48FF6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2ECE-3F19-4718-BDF7-FCB96548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3ABD-7161-4A5D-AA42-C29207B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6A2-E503-45F6-9B17-C43F1BCA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6BD-28C4-488E-AB08-526F470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7C5B-1A13-4530-9A7E-7C09B32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292A-8114-4E57-B821-F38BFD86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58E-1B5D-4F6D-A11B-CA332077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2F9-3821-48D2-B8D4-7F7AE30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761-630E-4FE1-9FF3-9ECC3147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E91-AC58-414B-B115-752DC7D0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BC8-E4E7-4A5E-AA16-AC081431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2C0-D71C-493E-885C-C9086D40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189-6364-43DE-A654-DE261BDF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F30-5AD1-4B56-A831-68BCB95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D60-3D73-4A3D-BAAC-D5AD35F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380-1F70-4C10-A433-A04C704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E43-7B33-456D-A9E3-D8AD5C0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BC1-A6A8-435B-B1BC-07C0F01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506-D235-4F37-A3FB-3C7B5AD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FECE-AB51-4398-B44B-921229D23B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E997-9A6F-4104-970C-36E2A457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&#38899;&#25928;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&#38899;&#25928;.wav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&#38899;&#25928;.wav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tmp/home/.config/libreoffice/4/user/gallery/&#38899;&#25928;.wav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tmp/home/.config/libreoffice/4/user/gallery/&#38899;&#25928;.wav" TargetMode="External"/><Relationship Id="rId12" Type="http://schemas.openxmlformats.org/officeDocument/2006/relationships/hyperlink" Target="file:///tmp/home/.config/libreoffice/4/user/gallery/&#38899;&#25928;.wav" TargetMode="External"/><Relationship Id="rId13" Type="http://schemas.openxmlformats.org/officeDocument/2006/relationships/hyperlink" Target="file:///tmp/home/.config/libreoffice/4/user/gallery/&#38899;&#25928;.wav" TargetMode="External"/><Relationship Id="rId14" Type="http://schemas.openxmlformats.org/officeDocument/2006/relationships/hyperlink" Target="file:///tmp/home/.config/libreoffice/4/user/gallery/&#38899;&#25928;.wav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4014720" y="174600"/>
            <a:ext cx="4338720" cy="59785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 rot="20940000">
            <a:off x="3893040" y="1002960"/>
            <a:ext cx="3913200" cy="302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6"/>
          <p:cNvSpPr/>
          <p:nvPr/>
        </p:nvSpPr>
        <p:spPr>
          <a:xfrm rot="20880000">
            <a:off x="5407200" y="3727440"/>
            <a:ext cx="35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52428" t="23605" r="16667" b="32405"/>
          <a:stretch/>
        </p:blipFill>
        <p:spPr>
          <a:xfrm>
            <a:off x="9016920" y="2249640"/>
            <a:ext cx="238752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6560" y="2236680"/>
            <a:ext cx="271476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E:\临时文件\WPS主题PPT大赛 宣传策划\图\2.png2" descr=""/>
          <p:cNvPicPr/>
          <p:nvPr/>
        </p:nvPicPr>
        <p:blipFill>
          <a:blip r:embed="rId4"/>
          <a:stretch/>
        </p:blipFill>
        <p:spPr>
          <a:xfrm>
            <a:off x="10576080" y="6378480"/>
            <a:ext cx="1295280" cy="32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0499760" y="5962680"/>
            <a:ext cx="1585800" cy="34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3880" y="60199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主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9721800" y="63565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协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rot="20820000">
            <a:off x="5492880" y="5240160"/>
            <a:ext cx="22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wps.cn/zt/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6399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写作品信息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页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813280"/>
            <a:ext cx="36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品名称：圣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者姓名：森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20472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0" y="52560"/>
            <a:ext cx="314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11680" y="2130480"/>
            <a:ext cx="4257720" cy="2219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910040" y="2065320"/>
            <a:ext cx="2371680" cy="253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762280" y="4329000"/>
            <a:ext cx="790560" cy="81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33080" y="4113360"/>
            <a:ext cx="838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4e311a"/>
                </a:solidFill>
                <a:latin typeface="Aparajita"/>
              </a:rPr>
              <a:t>Merry Christmas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106520" y="514368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11a"/>
                </a:solidFill>
                <a:latin typeface="Aparajita"/>
              </a:rPr>
              <a:t>SPECIAL WIS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26320" y="4255920"/>
            <a:ext cx="4665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28480" cy="687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89200" y="0"/>
            <a:ext cx="4953240" cy="208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84400" y="1349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方正综艺简体"/>
                <a:ea typeface="方正综艺简体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187020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8320" y="267984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2480" y="354492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52480" y="4362480"/>
            <a:ext cx="9229680" cy="981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271840" y="2255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造字工房悦圆演示版常规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造字工房悦圆演示版常规体"/>
              </a:rPr>
              <a:t>圣诞节的由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>
            <a:hlinkClick r:id="rId12"/>
          </p:cNvPr>
          <p:cNvSpPr/>
          <p:nvPr/>
        </p:nvSpPr>
        <p:spPr>
          <a:xfrm>
            <a:off x="4929120" y="30290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节的习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>
            <a:hlinkClick r:id="rId13"/>
          </p:cNvPr>
          <p:cNvSpPr/>
          <p:nvPr/>
        </p:nvSpPr>
        <p:spPr>
          <a:xfrm>
            <a:off x="5149800" y="38703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老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>
            <a:hlinkClick r:id="rId14"/>
          </p:cNvPr>
          <p:cNvSpPr/>
          <p:nvPr/>
        </p:nvSpPr>
        <p:spPr>
          <a:xfrm>
            <a:off x="5090400" y="47102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204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44760" y="1828800"/>
            <a:ext cx="615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节这个名称是“基督悒撒”的缩写。很长时间以来圣诞节的日期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都是没有确定的，直到西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纪中期，基督教在罗马合法化以后，西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54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罗马主教指定儒略历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耶稣诞生日。据说：第一个圣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节是在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38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由罗马主教圣克里门倡议举行。而教会史载第一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个圣诞节则在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36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。由于圣经未明记耶稣生于何时，故各地圣诞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节日期各异。直到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440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才由罗马教廷定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圣诞节。公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607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世界各地教会领袖在伯利恒聚会，进一步予以确定，从此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界大多数的基督徒均以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圣诞节。十九世纪，圣诞卡的流行、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老人的出现，圣诞节也开始流行起来了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52320" y="727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节的由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7920" y="1436760"/>
            <a:ext cx="981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152320" y="727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节的习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324600" y="1873080"/>
            <a:ext cx="609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西方人以红、绿、白三色为圣诞色，圣诞节来临时家家户户都要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色来装饰。红色的有圣诞花和圣诞蜡烛。绿色的是圣诞树。它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节的主要装饰品，用砍伐来的杉、柏一类呈塔形的常青树装饰而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上面悬挂着五颜六色的彩灯、礼物和纸花，还点燃着圣诞蜡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　　红色与白色相映成趣的是圣诞老人，他是圣诞节活动中最受欢迎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人物。西方儿童在圣诞夜临睡之前，要在壁炉前或枕头旁放上一只袜子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等候圣诞老人在他们入睡后把礼物放在袜子内。在西方，扮演圣诞老人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是一种习俗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52640" y="1141560"/>
            <a:ext cx="1562040" cy="172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8920" y="72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330360" y="1873080"/>
            <a:ext cx="58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老人的传说在数千年前的斯堪的纳维亚半岛即出现。北欧神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中司智慧，艺术，诗词，战争的奥丁神，寒冬时节，骑上他那八脚马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骑驰骋于天涯海角，惩恶扬善，分发礼物。与此同时，其子雷神着红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闪电为武器与冰雪诸神昏天黑地恶战一场，最终战胜寒冷。据异教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说，圣诞老人为奥丁神后裔。也有传说称圣诞老人由圣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尼古拉而来，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圣诞老人也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St.Nicholas.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因这些故事大多弘扬基督精神，其出处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故事情节大多被淡忘，然而圣诞老人却永驻人们精神世界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540000">
            <a:off x="1176120" y="1473120"/>
            <a:ext cx="895320" cy="943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4800" y="1093680"/>
            <a:ext cx="156204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4280" y="1873080"/>
            <a:ext cx="700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树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Christmas tree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）是用灯烛和装饰品把枞树或洋松装点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来的常青树，作为圣诞节庆祝活动的一部分。近代圣诞树起源于德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德国人于每年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，即亚当和夏娃节，在家里布置一株枞树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伊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园之树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，将薄饼干挂在上面，象征圣饼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基督徒赎罪的标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。近代改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各式小甜饼代替圣饼，还常加上象征基督的蜡烛。此外，室内还设有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塔，是一木质的三角形结构，上有许多小架格放置基督雕像，塔身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常青树枝叶、蜡烛和一颗星。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纪，圣诞塔和伊甸园树合并为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577840" y="727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20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938240" y="1847880"/>
            <a:ext cx="8315280" cy="2314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68160" y="2503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谢谢欣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3717720" y="4784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圣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圣诞快乐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那快乐的阳光，也不是鸟儿的啁啾，那是愉快的念头和幸福的笑容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温馨慈爱的问候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祝愿每个人圣诞节快乐" descr="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 rot="21480000">
            <a:off x="10455120" y="4708440"/>
            <a:ext cx="1500480" cy="217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5"/>
          <p:cNvSpPr/>
          <p:nvPr/>
        </p:nvSpPr>
        <p:spPr>
          <a:xfrm rot="20940000">
            <a:off x="10362240" y="5162040"/>
            <a:ext cx="160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 rot="20940000">
            <a:off x="10683000" y="6134040"/>
            <a:ext cx="15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09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108950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的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快乐的圣诞节。主题结合圣诞夜空和月亮的颜色给人一种轻松明朗的感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伴着结尾温馨的圣诞歌曲，会让你的圣诞更美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xiaba.shijue.me/stuff/508603714b7959a01300000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3073 0.16213 E">
                                      <p:cBhvr>
                                        <p:cTn id="29" dur="2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40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zuazua W</cp:lastModifiedBy>
  <dcterms:modified xsi:type="dcterms:W3CDTF">2012-12-14T04:38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