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1774-7FDA-45E1-90E2-83C055A9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124-35C2-48FA-B855-BED81950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FD21-19CA-49C1-9496-510D7AC3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422A-FE17-4DA7-9C7C-DE13979B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DCE8-6779-43FE-85DE-7651147A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5665-27C0-4825-9C47-D706D6B3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5990-D017-4B25-9DFD-D06E1190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1E57-A65E-4D3E-BA49-57179AB1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C9DB-7594-4EE4-9499-1EB03BFA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C60E-AA2E-4962-8212-4D74F173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B68F-861E-4C6B-B0DB-0D6523B6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E226-D282-46C1-ACB5-4FCF2A2B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FCD4-4289-462F-BC35-B3D84DEE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72B9-867E-45BA-A68E-4AD25AB2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0D0E-BB15-444F-B890-FB026E75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4895-CB75-4F32-953C-E81B678D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D5FD-0DFB-473A-BFD0-82AE030E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EA60A-C878-4BD5-98C0-F323E0BF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7DF6E-BA3B-4411-B427-22489735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88A7B-5DF7-418E-BB83-88536698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07638-FC82-4B5C-8A59-8196E3B3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96D63-78B3-468D-9389-E138721E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E0A-45E9-4187-A03C-D0DB657C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51212-26D4-4125-8FA1-80869B6F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F8B5-AA5A-43DD-924A-1370BFEB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77866-86D3-4ADB-ACF1-6E2D4161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F5CC2-3F4D-4DFF-A459-936C4BA4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CA2DE-2DE5-4C14-AD3D-42A43E24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F2AB3-E6CA-4888-99E8-6B81134E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A59CC-8337-4D26-A133-81A8D14D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D03ED-B3BC-4287-9F60-BA15CB7C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C78AB-1EEC-4396-B916-EBF85175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133E6-82D8-423C-9437-DDAEFEEC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AB7-B8EB-435B-A027-76B7E2A2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3D049-070E-46F5-A8F0-D70170F7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0524C-08BB-4237-8E4C-BB60671B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1BE3F-ABA8-463F-A923-C8F2695B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9A24C-797D-442C-AF15-553761E6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AF118-4A28-4230-AD53-5F697CC4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2A3D2-A160-459F-8EF7-EC952F6A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61E90-D7A8-4E85-B28C-AF7D7C32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FBFB1-B247-4456-BA85-F1C5EB4D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AEE07-3D94-4CD2-9D3F-AE177B9B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3A587-DA6D-4D80-AEAA-B47CCEA4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8F10-ADEA-4FB3-83D1-ADDA0A1C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7AFB0-D0B2-42FB-9CBB-20360BF7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2FD91-B4AE-4318-93C9-A070F77D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9BD7D-9F04-4C4D-9B17-734ABC4B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B758A-AB33-4D84-9AB2-52467720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309B0-364A-4F69-B045-95AC1742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ABA67-0310-4C9B-8917-456F10BA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B3C1E-7B32-4904-A7E7-1D6EE24D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DB6FD-6FBC-49C6-A8E9-ADB3FA1E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9D22E-39B2-4D4C-BE2E-3595FAB1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5EC91-2B13-41EC-94F3-8CECE2BD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BCF-33A7-44B2-8E55-08FACB40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804A8-F704-4E20-AC75-C1E62729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684-1C99-47C4-9B89-2F55370C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749-5327-4010-9C37-C41F8E41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833-C69E-4940-A96A-6D8269C6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2029-3B76-44DA-9AAB-418596767B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191B-D9F5-40C6-9372-8235C29FAF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D46A-7FB1-4CCE-999A-A342BFC2E0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D8AC-D8D6-40DE-B967-CE427A64B9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6CCF-CFD9-4E4A-9EE1-976A8B99AC4D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620720" y="1550880"/>
            <a:ext cx="633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730646"/>
                </a:solidFill>
                <a:latin typeface="Arial"/>
                <a:ea typeface="华文行楷"/>
              </a:rPr>
              <a:t>《论语》十二章 复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-146160" y="14436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温故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233880" y="144360"/>
            <a:ext cx="33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领悟，体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-309600" y="72396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可以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师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-309600" y="1303200"/>
            <a:ext cx="421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学而不思则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-309600" y="1882800"/>
            <a:ext cx="39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人不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-307800" y="2637000"/>
            <a:ext cx="88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者不如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者，好之者不如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-135000" y="3841920"/>
            <a:ext cx="67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三军可夺帅，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匹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可夺志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-307800" y="4938840"/>
            <a:ext cx="51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博学而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志，切问而近思，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其中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3292560" y="723960"/>
            <a:ext cx="36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当，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906720" y="1303200"/>
            <a:ext cx="16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迷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3348000" y="1882800"/>
            <a:ext cx="22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忍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0" y="3216240"/>
            <a:ext cx="32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知道，懂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2927520" y="321624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喜欢，爱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5637240" y="326232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ff00ff"/>
                </a:solidFill>
                <a:latin typeface="Wingdings"/>
                <a:ea typeface="Wingdings"/>
              </a:rPr>
              <a:t>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为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6"/>
          <p:cNvSpPr/>
          <p:nvPr/>
        </p:nvSpPr>
        <p:spPr>
          <a:xfrm>
            <a:off x="6632640" y="379584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普通的人，男子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7"/>
          <p:cNvSpPr/>
          <p:nvPr/>
        </p:nvSpPr>
        <p:spPr>
          <a:xfrm>
            <a:off x="4933800" y="493884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忠实，坚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7864920" y="723960"/>
            <a:ext cx="6678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4792680" y="5675400"/>
            <a:ext cx="20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仁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60480" y="0"/>
            <a:ext cx="9083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翻译下列文言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：学而时习之，不亦说乎？ 有朋自远方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亦乐乎？人不知而不愠，不亦君子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曾子曰：吾日三省吾身：为人谋而不忠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朋友交而不信乎？传不习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52280" y="137160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孔子说：“学习了（知识），然后按一定的时间间温习它，不也是很高兴吗？有志同道合的人从远处（到这里）来，不也是很快乐吗？别人不了解我，我却不怨恨，不也是君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52280" y="4630680"/>
            <a:ext cx="816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曾子说：“我每天多次地反省自己：替别人办事是不是尽心竭力呢？跟朋友交往是不是诚实呢？老师传授的知识是不是复习过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289080" y="403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36440" y="326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136440" y="195120"/>
            <a:ext cx="8702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吾十有五而志于学，三十而立，四十而不 惑，五十而知天命，六十而耳顺，七十而从心所欲，不逾矩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温故而知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以为师矣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而不思则罔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思而不学则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152280" y="1628640"/>
            <a:ext cx="895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十五岁就有志于做学问，三十岁就能独立做事情，四十岁能通达事理，不为外物所迷惑，五十岁的时候我知道哪些是不能为人力所支配的事情，六十岁能听得进不同意见，到七十岁能随心所欲，而不会越过规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136440" y="4006800"/>
            <a:ext cx="8474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孔子说：“温习旧的知识，能有新体会、新发现，就可以凭借这一点当老师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289080" y="547524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孔子说：“只读书却不思考，就会感到迷惑。只空想却不读书，就会有害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136440" y="152280"/>
            <a:ext cx="8778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贤哉，回也！一箪食，一瓢饮，在陋巷，人不堪其忧，回也不改其乐。贤哉，回也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知之者不如好之者，好之者不如乐之者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饭疏食饮水，曲肱而枕之，乐亦在其中矣。不义而富且贵，于我如浮云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152280" y="1066680"/>
            <a:ext cx="89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孔子说：“多么有贤德啊，颜回。一竹篮饭，一瓢水，住在简陋的小巷子里，别人都忍受不了那穷困的忧愁，颜回却依然自得其乐。多么有贤德啊，颜回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52280" y="3351240"/>
            <a:ext cx="885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孔子说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于学习，知道怎么学习的人，不如爱好学习的人；爱好学习的人，又不如以学习为乐趣的人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28600" y="533412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孔子说：“吃粗粮，喝冷水，弯着胳膊当枕头，乐趣也就在其中了。用不正当的手段得来的富贵，对于我来讲就像是天上的浮云一样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152280" y="120600"/>
            <a:ext cx="883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"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人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必有我师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择其善者而从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不善者而改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在川上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逝者如斯夫，不舍昼夜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军可夺帅也，匹夫不可夺志也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夏曰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博学而笃志，切问而近思，仁在其中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52280" y="914400"/>
            <a:ext cx="906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孔子说：“几个人一同走路，其中必定有我的老师。我要选择他们的长处来学习，（看到自己也有）他们那些短处就要改正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675960" y="2863800"/>
            <a:ext cx="257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孔子在河边说：“时光就像这流去的河水一样， 日夜不停呀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152280" y="40273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孔子说：“军队可以被夺去主帅，男子汉却不可被夺去志气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152280" y="5789520"/>
            <a:ext cx="893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子夏说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广泛地学习，而且能坚守自己的志向，恳切地提问，多考虑当前的事，仁德就在其中了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264960" y="34920"/>
            <a:ext cx="23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三、理解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-106200" y="492120"/>
            <a:ext cx="40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、文中说学习方法的句子有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3881520" y="492120"/>
            <a:ext cx="19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学而时习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5580000" y="4921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传不习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7164360" y="492120"/>
            <a:ext cx="23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温故而知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343080" y="949320"/>
            <a:ext cx="45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学而不思则罔，思而不学则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236520" y="14065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择其善者而从之，其不善者而改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236520" y="1905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、文中说学习态度的句子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438120" y="2481120"/>
            <a:ext cx="34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三人行，必有我师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515880" y="3029040"/>
            <a:ext cx="422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439560" y="2984400"/>
            <a:ext cx="57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知之者不如好之者，好之者不如乐之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244440" y="3687840"/>
            <a:ext cx="49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、文中说道德修养的句子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236520" y="424980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有朋自远方来，不亦悦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4321080" y="4249800"/>
            <a:ext cx="44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人不知而不愠，不亦君子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152280" y="4835520"/>
            <a:ext cx="80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吾日三省吾身：为人谋而不忠乎？与朋友交而不信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130320" y="537696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不义而富且贵，于我如浮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4168800" y="5376960"/>
            <a:ext cx="40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逝者如斯夫，不舍昼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08000" y="6006960"/>
            <a:ext cx="46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三军可夺帅也，匹夫不可夺志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0"/>
          <p:cNvSpPr/>
          <p:nvPr/>
        </p:nvSpPr>
        <p:spPr>
          <a:xfrm>
            <a:off x="4965840" y="5950080"/>
            <a:ext cx="40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博学而笃志，切问而近思，仁在其中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2629080" y="1793880"/>
            <a:ext cx="302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ff"/>
                </a:solidFill>
                <a:latin typeface="Arial"/>
                <a:ea typeface="华文行楷"/>
              </a:rPr>
              <a:t>再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755640" y="23004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730646"/>
                </a:solidFill>
                <a:latin typeface="Arial"/>
              </a:rPr>
              <a:t>一、常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55640" y="1027080"/>
            <a:ext cx="42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孔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30160" y="1622520"/>
            <a:ext cx="741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孔子 </a:t>
            </a: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名丘，字仲尼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春秋时期鲁国人。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 我国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古代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伟大的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思想家、 教育家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儒家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学派的创始人。 他首开私人讲学之风，主张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有教无类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和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因材施教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， 起到了普及文化知识的作用。他向往西周的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太平盛世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，倡导施行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仁政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。自汉朝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独尊儒术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以后，历代封建统治者都尊孔子为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 圣人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，孔子的学说也就成了封建文化的正统， 影响中国两千多年。 他被誉为 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 万世师表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千古圣人</a:t>
            </a:r>
            <a:r>
              <a:rPr b="1" lang="zh-CN" sz="2400" spc="-1" strike="noStrike">
                <a:solidFill>
                  <a:srgbClr val="990099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990099"/>
                </a:solidFill>
                <a:latin typeface="黑体"/>
                <a:ea typeface="黑体"/>
              </a:rPr>
              <a:t>、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至圣”、“圣人”，</a:t>
            </a:r>
            <a:r>
              <a:rPr b="1" lang="zh-CN" sz="2400" spc="-1" strike="noStrike">
                <a:solidFill>
                  <a:srgbClr val="800000"/>
                </a:solidFill>
                <a:latin typeface="黑体"/>
                <a:ea typeface="黑体"/>
              </a:rPr>
              <a:t>是世界十大思想家之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971640" y="333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《论语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71640" y="16765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属</a:t>
            </a: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语录体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（也叫格言体）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散文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，成书于春秋战国之际，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是记录孔子弟子及其弟子言行的书，共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篇 。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其内容涉及政治、哲学、经济、教育、文艺等诸多方面，其理论从修身齐家，到治国平天下，政治、经济、军事、伦理、教育，几乎无所不包。内容非常丰富，是研究孔子思想的主要依据， 也是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儒学最主要的经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36440" y="250920"/>
            <a:ext cx="862668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文学常识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孔子（公元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51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元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7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名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国人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期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思想的创始人。相传他有弟子三千，贤者七十二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孔子被后世统治者尊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战国时期儒家代表人物孟子与孔子并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论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儒家经典著作之一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论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主，记录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言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请写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686280" y="623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967680" y="1004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仲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2980800" y="1027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春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5466960" y="103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7155720" y="1081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春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822240" y="1538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891720" y="149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3085560" y="146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5142960" y="148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政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7372800" y="148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61880" y="2757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圣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5006520" y="321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孔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7565040" y="38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755800" y="42354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孔子的弟子及再传弟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1436760" y="4692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语录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036960" y="4692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对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6232680" y="4822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6376680" y="4738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孔子及其弟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4035960" y="5653080"/>
            <a:ext cx="36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论语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孟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大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中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2117880" y="6172200"/>
            <a:ext cx="649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诗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春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375200" y="208080"/>
            <a:ext cx="2765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解释下列重点字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学而（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习</a:t>
            </a:r>
            <a:r>
              <a:rPr b="1" lang="zh-CN" sz="28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，不亦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说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也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有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远方来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人不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不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不亦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君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吾</a:t>
            </a: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吾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不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乎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与朋友交而不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084120" y="623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先生，指孔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533520" y="1614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按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复习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按一定的时间复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2989080" y="2300400"/>
            <a:ext cx="48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表示委婉的反问语气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悦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愉快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语气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3709800" y="3214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志同道合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452960" y="4052880"/>
            <a:ext cx="47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理解，了解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生气，发怒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道德上有修养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425240" y="495288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人称代词，我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每天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泛指多次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自我检查，反省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多次进行自我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4176000" y="5348160"/>
            <a:ext cx="30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替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谋划，商量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尽心竭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07760" y="5791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真诚，诚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3587760" y="618012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老师传授的知识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复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36440" y="65160"/>
            <a:ext cx="82454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吾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而志于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三十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四十而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五十而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天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六十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耳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逾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温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师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学而不思则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思而不学则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一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人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者，好之者不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704960" y="457200"/>
            <a:ext cx="39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通“又”，加在两位数的整数和零数之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317040" y="8748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独立做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529800" y="1332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迷惑，疑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4205880" y="17668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能为人力所支配的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3761640" y="2224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能听得进不同意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3507480" y="2666880"/>
            <a:ext cx="267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越过，超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规矩，规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3524400" y="306216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旧的知识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领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3507840" y="3451320"/>
            <a:ext cx="21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以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凭借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成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1370880" y="436572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感到迷茫而无所适从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有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3355920" y="48006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古代盛饭用的圆形竹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466440" y="5195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忍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3664080" y="5943600"/>
            <a:ext cx="276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代词，它。指学问和事业。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代词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…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人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喜欢，爱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…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乐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828000" y="76320"/>
            <a:ext cx="2968200" cy="73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疏食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水，（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曲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枕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如浮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必有我师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择其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善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子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者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夫，不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昼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帅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匹夫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可夺志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博学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其中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7a77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4574520" y="44280"/>
            <a:ext cx="21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吃饭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冷水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热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3787200" y="471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胳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930840" y="882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对，对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5031360" y="131760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泛指多人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于此，在其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4497840" y="1795320"/>
            <a:ext cx="30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好的方面，优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跟从，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3854880" y="2170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河，河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5475960" y="268128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流逝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这，指河水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舍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4129920" y="3070080"/>
            <a:ext cx="20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军队的通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|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4447440" y="3519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普通的人，男子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3698280" y="3976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忠实，坚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330000" y="435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仁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574560" y="68724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重点词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574560" y="1149480"/>
            <a:ext cx="58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通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2940120" y="1149480"/>
            <a:ext cx="53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亦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乎  通“悦”愉快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574560" y="1722600"/>
            <a:ext cx="24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成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74560" y="2179800"/>
            <a:ext cx="4743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亦乐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故知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十而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舍昼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逝者如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匹夫不可夺其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择善而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人行，必有我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440" y="981000"/>
            <a:ext cx="500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、解释加点词语的意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-539640" y="1628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学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习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2844720" y="1628640"/>
            <a:ext cx="24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按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-309600" y="2205000"/>
            <a:ext cx="30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不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-309600" y="2781360"/>
            <a:ext cx="37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人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-309600" y="335772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不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君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-309600" y="4005360"/>
            <a:ext cx="39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吾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三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吾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-166680" y="4581360"/>
            <a:ext cx="43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谋而不忠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-309600" y="5229360"/>
            <a:ext cx="45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与朋友交而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2556000" y="2205000"/>
            <a:ext cx="36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通“悦”，愉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3419640" y="2852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了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5076720" y="285264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生气，发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2916360" y="3429000"/>
            <a:ext cx="55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这里指道德上有修养的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348000" y="4005360"/>
            <a:ext cx="19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每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4932360" y="40053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泛指多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7308720" y="400536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自我检查，反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3995640" y="4653000"/>
            <a:ext cx="13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4211640" y="5373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真诚，诚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7864920" y="723960"/>
            <a:ext cx="6678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00:53:42Z</dcterms:created>
  <dc:creator>Administrator</dc:creator>
  <dc:description/>
  <cp:keywords/>
  <dc:language>en-US</dc:language>
  <cp:lastModifiedBy>admin</cp:lastModifiedBy>
  <dcterms:modified xsi:type="dcterms:W3CDTF">2014-12-29T06:53:12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