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DA1E-0A83-43C5-95CD-34EE97A0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A68C-89B2-4C8D-9991-DA830099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D885-64BD-4A8C-8CA5-C030DF14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4242-8DCD-4BFC-9A0D-B450EB392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8BB2-A5AF-45C3-AD7A-6C37067A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7C6A-28F2-468F-8654-944BD6EB6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E70-1852-4E9D-B5CB-41F121534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441A-5B40-4DA0-956E-E55B2AAA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4054-3DC7-44F6-A42B-22C9581C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3A6-C81D-41DA-9532-366B4A04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0153-05AF-40BD-810A-6699D65AD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99F-3B9B-4315-B37F-424A93D0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8068-0EC2-4ECF-93FF-7EE73FEB56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064c6c50c7f21dd78d543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2"/>
          <p:cNvSpPr/>
          <p:nvPr/>
        </p:nvSpPr>
        <p:spPr>
          <a:xfrm>
            <a:off x="2968560" y="3259080"/>
            <a:ext cx="32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064c6c50c7f21dd78d54305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微软雅黑"/>
              <a:ea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66cc"/>
              </a:solidFill>
              <a:latin typeface="微软雅黑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64c6c50c7f21dd78d543059"/>
          <p:cNvPicPr/>
          <p:nvPr/>
        </p:nvPicPr>
        <p:blipFill>
          <a:blip r:embed="rId1"/>
          <a:stretch/>
        </p:blipFill>
        <p:spPr>
          <a:xfrm>
            <a:off x="0" y="-17640"/>
            <a:ext cx="9142560" cy="6848640"/>
          </a:xfrm>
          <a:prstGeom prst="rect">
            <a:avLst/>
          </a:prstGeom>
          <a:ln w="0">
            <a:noFill/>
          </a:ln>
        </p:spPr>
      </p:pic>
      <p:sp>
        <p:nvSpPr>
          <p:cNvPr id="49" name="WordArt 3"/>
          <p:cNvSpPr txBox="1"/>
          <p:nvPr/>
        </p:nvSpPr>
        <p:spPr>
          <a:xfrm>
            <a:off x="3348000" y="1844640"/>
            <a:ext cx="230508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75000"/>
                    </a:srgbClr>
                  </a:outerShdw>
                </a:effectLst>
                <a:latin typeface="宋体"/>
              </a:rPr>
              <a:t>The End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8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17T14:50:21Z</dcterms:created>
  <dc:creator>Administrator</dc:creator>
  <dc:description/>
  <dc:language>en-US</dc:language>
  <cp:lastModifiedBy>DBC</cp:lastModifiedBy>
  <dcterms:modified xsi:type="dcterms:W3CDTF">2015-06-29T03:57:3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