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laser.wav" ContentType="audio/x-wav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png" ContentType="image/png"/>
  <Override PartName="/ppt/media/camera.wav" ContentType="audio/x-wav"/>
  <Override PartName="/ppt/media/image21.jpeg" ContentType="image/jpeg"/>
  <Override PartName="/ppt/media/image16.jpeg" ContentType="image/jpeg"/>
  <Override PartName="/ppt/media/chimes.wav" ContentType="audio/x-wav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7B9-472D-47EF-B756-16A5C95956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C7E-4D71-440A-9319-5DB4533D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90E-1823-4B49-90CB-8ECEFD13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7BF-1A35-4B5C-B0DF-5A8F9662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9CB-435C-47BD-9595-F58CF303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4DB-4C46-4D81-A1B4-2B7F38C4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2BE-45C8-4376-95D9-4BD21F38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D6F-9E23-4962-920A-1B1BDD55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2AB-F3C6-4E36-9A63-BBB77C38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FA7-A32E-4A99-AE1F-59324CEF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01C-AB03-444C-BE9E-90FC9D9D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B0E-E905-4E86-A13A-2E09ADD1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50A-85D9-440E-A344-E9BA7F2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A6F4-F9B1-4E8F-93B9-BD9CAD856F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37.xml"/><Relationship Id="rId4" Type="http://schemas.openxmlformats.org/officeDocument/2006/relationships/slide" Target="slide42.xml"/><Relationship Id="rId5" Type="http://schemas.openxmlformats.org/officeDocument/2006/relationships/slide" Target="slide11.xml"/><Relationship Id="rId6" Type="http://schemas.openxmlformats.org/officeDocument/2006/relationships/slide" Target="slide33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4.xml"/><Relationship Id="rId3" Type="http://schemas.openxmlformats.org/officeDocument/2006/relationships/slide" Target="slide35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58920" y="1052640"/>
            <a:ext cx="3225600" cy="13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识字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1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W020071011541390477859"/>
          <p:cNvPicPr/>
          <p:nvPr/>
        </p:nvPicPr>
        <p:blipFill>
          <a:blip r:embed="rId1"/>
          <a:srcRect l="0" t="60293" r="24014" b="0"/>
          <a:stretch/>
        </p:blipFill>
        <p:spPr>
          <a:xfrm>
            <a:off x="250920" y="189000"/>
            <a:ext cx="8569080" cy="359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1476360" y="3860640"/>
            <a:ext cx="6481800" cy="1556280"/>
          </a:xfrm>
          <a:prstGeom prst="rect">
            <a:avLst/>
          </a:prstGeom>
          <a:solidFill>
            <a:srgbClr val="ffffff">
              <a:alpha val="85000"/>
            </a:srgbClr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q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è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r sān  lǐ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 去   二 三   里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5877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用手势表示“一去二三里”的意思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4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7398" y="7493"/>
                </a:moveTo>
                <a:lnTo>
                  <a:pt x="10906" y="7493"/>
                </a:lnTo>
                <a:lnTo>
                  <a:pt x="10906" y="12828"/>
                </a:lnTo>
                <a:cubicBezTo>
                  <a:pt x="10906" y="13751"/>
                  <a:pt x="11706" y="14482"/>
                  <a:pt x="12742" y="14482"/>
                </a:cubicBezTo>
                <a:lnTo>
                  <a:pt x="14405" y="14482"/>
                </a:lnTo>
                <a:cubicBezTo>
                  <a:pt x="15440" y="14482"/>
                  <a:pt x="16241" y="13751"/>
                  <a:pt x="16241" y="12828"/>
                </a:cubicBezTo>
                <a:lnTo>
                  <a:pt x="16241" y="7493"/>
                </a:lnTo>
                <a:lnTo>
                  <a:pt x="14405" y="7493"/>
                </a:lnTo>
                <a:lnTo>
                  <a:pt x="17912" y="3985"/>
                </a:lnTo>
                <a:lnTo>
                  <a:pt x="21585" y="7493"/>
                </a:lnTo>
                <a:lnTo>
                  <a:pt x="19749" y="7493"/>
                </a:lnTo>
                <a:lnTo>
                  <a:pt x="19749" y="12828"/>
                </a:lnTo>
                <a:cubicBezTo>
                  <a:pt x="19749" y="15596"/>
                  <a:pt x="17172" y="18155"/>
                  <a:pt x="14405" y="18155"/>
                </a:cubicBezTo>
                <a:lnTo>
                  <a:pt x="12742" y="18155"/>
                </a:lnTo>
                <a:cubicBezTo>
                  <a:pt x="9974" y="18155"/>
                  <a:pt x="7398" y="15596"/>
                  <a:pt x="7398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ān    cūn    sì     w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62064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烟 村 四 五 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7563" t="10086" r="7398" b="9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01080" y="5950080"/>
            <a:ext cx="790560" cy="907920"/>
          </a:xfrm>
          <a:custGeom>
            <a:avLst/>
            <a:gdLst>
              <a:gd name="textAreaLeft" fmla="*/ 51120 w 790560"/>
              <a:gd name="textAreaRight" fmla="*/ 739440 w 790560"/>
              <a:gd name="textAreaTop" fmla="*/ 51120 h 907920"/>
              <a:gd name="textAreaBottom" fmla="*/ 856800 h 907920"/>
            </a:gdLst>
            <a:ahLst/>
            <a:rect l="textAreaLeft" t="textAreaTop" r="textAreaRight" b="textAreaBottom"/>
            <a:pathLst>
              <a:path w="21600" h="24805">
                <a:moveTo>
                  <a:pt x="0" y="0"/>
                </a:moveTo>
                <a:lnTo>
                  <a:pt x="21600" y="0"/>
                </a:lnTo>
                <a:lnTo>
                  <a:pt x="21600" y="24805"/>
                </a:lnTo>
                <a:lnTo>
                  <a:pt x="0" y="24805"/>
                </a:lnTo>
                <a:close/>
              </a:path>
              <a:path fill="lightenLess" w="21600" h="248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05">
                <a:moveTo>
                  <a:pt x="21600" y="0"/>
                </a:moveTo>
                <a:lnTo>
                  <a:pt x="21600" y="24805"/>
                </a:lnTo>
                <a:lnTo>
                  <a:pt x="20200" y="23405"/>
                </a:lnTo>
                <a:lnTo>
                  <a:pt x="20200" y="1400"/>
                </a:lnTo>
                <a:close/>
              </a:path>
              <a:path fill="darkenLess" w="21600" h="24805">
                <a:moveTo>
                  <a:pt x="21600" y="24805"/>
                </a:moveTo>
                <a:lnTo>
                  <a:pt x="0" y="24805"/>
                </a:lnTo>
                <a:lnTo>
                  <a:pt x="1400" y="23405"/>
                </a:lnTo>
                <a:lnTo>
                  <a:pt x="20200" y="23405"/>
                </a:lnTo>
                <a:close/>
              </a:path>
              <a:path fill="lighten" w="21600" h="24805">
                <a:moveTo>
                  <a:pt x="0" y="248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05"/>
                </a:lnTo>
                <a:close/>
              </a:path>
              <a:path fill="darken" w="21600" h="24805">
                <a:moveTo>
                  <a:pt x="3794" y="9095"/>
                </a:moveTo>
                <a:lnTo>
                  <a:pt x="7301" y="9095"/>
                </a:lnTo>
                <a:lnTo>
                  <a:pt x="7301" y="14431"/>
                </a:lnTo>
                <a:cubicBezTo>
                  <a:pt x="7301" y="15353"/>
                  <a:pt x="8102" y="16084"/>
                  <a:pt x="9138" y="16084"/>
                </a:cubicBezTo>
                <a:lnTo>
                  <a:pt x="10800" y="16084"/>
                </a:lnTo>
                <a:cubicBezTo>
                  <a:pt x="11836" y="16084"/>
                  <a:pt x="12636" y="15353"/>
                  <a:pt x="12636" y="14431"/>
                </a:cubicBezTo>
                <a:lnTo>
                  <a:pt x="12636" y="9095"/>
                </a:lnTo>
                <a:lnTo>
                  <a:pt x="10800" y="9095"/>
                </a:lnTo>
                <a:lnTo>
                  <a:pt x="14308" y="5588"/>
                </a:lnTo>
                <a:lnTo>
                  <a:pt x="17981" y="9095"/>
                </a:lnTo>
                <a:lnTo>
                  <a:pt x="16144" y="9095"/>
                </a:lnTo>
                <a:lnTo>
                  <a:pt x="16144" y="14431"/>
                </a:lnTo>
                <a:cubicBezTo>
                  <a:pt x="16144" y="17198"/>
                  <a:pt x="13568" y="19757"/>
                  <a:pt x="10800" y="19757"/>
                </a:cubicBezTo>
                <a:lnTo>
                  <a:pt x="9138" y="19757"/>
                </a:lnTo>
                <a:cubicBezTo>
                  <a:pt x="6370" y="19757"/>
                  <a:pt x="3794" y="17198"/>
                  <a:pt x="3794" y="1443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54936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亭台六七座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44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ínɡ   tái   liù    qī   zu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104" b="22"/>
          <a:stretch/>
        </p:blipFill>
        <p:spPr>
          <a:xfrm>
            <a:off x="0" y="0"/>
            <a:ext cx="4145040" cy="419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0" t="0" r="-97" b="88"/>
          <a:stretch/>
        </p:blipFill>
        <p:spPr>
          <a:xfrm>
            <a:off x="2438280" y="1905120"/>
            <a:ext cx="350208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0" t="0" r="57" b="0"/>
          <a:stretch/>
        </p:blipFill>
        <p:spPr>
          <a:xfrm>
            <a:off x="5334120" y="296388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228600"/>
            <a:ext cx="457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台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4" name="explode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rcRect l="7001" t="31336" r="55005" b="2333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5991" r="0" b="0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6455" y="7493"/>
                </a:moveTo>
                <a:lnTo>
                  <a:pt x="9963" y="7493"/>
                </a:lnTo>
                <a:lnTo>
                  <a:pt x="9963" y="12828"/>
                </a:lnTo>
                <a:cubicBezTo>
                  <a:pt x="9963" y="13751"/>
                  <a:pt x="10764" y="14482"/>
                  <a:pt x="11799" y="14482"/>
                </a:cubicBezTo>
                <a:lnTo>
                  <a:pt x="13462" y="14482"/>
                </a:lnTo>
                <a:cubicBezTo>
                  <a:pt x="14497" y="14482"/>
                  <a:pt x="15298" y="13751"/>
                  <a:pt x="15298" y="12828"/>
                </a:cubicBezTo>
                <a:lnTo>
                  <a:pt x="15298" y="7493"/>
                </a:lnTo>
                <a:lnTo>
                  <a:pt x="13462" y="7493"/>
                </a:lnTo>
                <a:lnTo>
                  <a:pt x="16969" y="3985"/>
                </a:lnTo>
                <a:lnTo>
                  <a:pt x="20642" y="7493"/>
                </a:lnTo>
                <a:lnTo>
                  <a:pt x="18806" y="7493"/>
                </a:lnTo>
                <a:lnTo>
                  <a:pt x="18806" y="12828"/>
                </a:lnTo>
                <a:cubicBezTo>
                  <a:pt x="18806" y="15596"/>
                  <a:pt x="16229" y="18155"/>
                  <a:pt x="13462" y="18155"/>
                </a:cubicBezTo>
                <a:lnTo>
                  <a:pt x="11799" y="18155"/>
                </a:lnTo>
                <a:cubicBezTo>
                  <a:pt x="9031" y="18155"/>
                  <a:pt x="6455" y="15596"/>
                  <a:pt x="6455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62064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八九十枝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3794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ǔ   shí   zhī  hu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rcRect l="7001" t="31336" r="55005" b="2333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533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49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í  qù  èr  sān  l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9907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905040"/>
            <a:ext cx="27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去二三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844640"/>
            <a:ext cx="30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í  qù  èr sān  l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250920" y="223992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去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 三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里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971800"/>
            <a:ext cx="30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ān  cūn   sì   wǔ   ji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324000" y="3352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烟  村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  五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114800"/>
            <a:ext cx="31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ínɡ  tái   liù   qī   zu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8769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324000" y="44496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亭  台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  七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571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51814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ā   jiǔ   shí   zhī  hu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324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324000" y="5638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八  九  十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枝 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6093000"/>
            <a:ext cx="863640" cy="76500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5185" y="7493"/>
                </a:moveTo>
                <a:lnTo>
                  <a:pt x="8693" y="7493"/>
                </a:lnTo>
                <a:lnTo>
                  <a:pt x="8693" y="12828"/>
                </a:lnTo>
                <a:cubicBezTo>
                  <a:pt x="8693" y="13751"/>
                  <a:pt x="9494" y="14482"/>
                  <a:pt x="10530" y="14482"/>
                </a:cubicBezTo>
                <a:lnTo>
                  <a:pt x="12192" y="14482"/>
                </a:lnTo>
                <a:cubicBezTo>
                  <a:pt x="13228" y="14482"/>
                  <a:pt x="14028" y="13751"/>
                  <a:pt x="14028" y="12828"/>
                </a:cubicBezTo>
                <a:lnTo>
                  <a:pt x="14028" y="7493"/>
                </a:lnTo>
                <a:lnTo>
                  <a:pt x="12192" y="7493"/>
                </a:lnTo>
                <a:lnTo>
                  <a:pt x="15700" y="3985"/>
                </a:lnTo>
                <a:lnTo>
                  <a:pt x="19372" y="7493"/>
                </a:lnTo>
                <a:lnTo>
                  <a:pt x="17536" y="7493"/>
                </a:lnTo>
                <a:lnTo>
                  <a:pt x="17536" y="12828"/>
                </a:lnTo>
                <a:cubicBezTo>
                  <a:pt x="17536" y="15596"/>
                  <a:pt x="14960" y="18155"/>
                  <a:pt x="12192" y="18155"/>
                </a:cubicBezTo>
                <a:lnTo>
                  <a:pt x="10530" y="18155"/>
                </a:lnTo>
                <a:cubicBezTo>
                  <a:pt x="7762" y="18155"/>
                  <a:pt x="5185" y="15596"/>
                  <a:pt x="5185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6300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3564000" y="571680"/>
            <a:ext cx="5580000" cy="5715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2664000" y="0"/>
            <a:ext cx="6480000" cy="549360"/>
          </a:xfrm>
          <a:prstGeom prst="cloudCallout">
            <a:avLst>
              <a:gd name="adj1" fmla="val -75893"/>
              <a:gd name="adj2" fmla="val 132657"/>
            </a:avLst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古诗配上自己喜欢的动作，背诵课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5722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369080" y="473040"/>
            <a:ext cx="6764760" cy="3975840"/>
            <a:chOff x="1369080" y="473040"/>
            <a:chExt cx="6764760" cy="3975840"/>
          </a:xfrm>
        </p:grpSpPr>
        <p:sp>
          <p:nvSpPr>
            <p:cNvPr id="139" name=""/>
            <p:cNvSpPr/>
            <p:nvPr/>
          </p:nvSpPr>
          <p:spPr>
            <a:xfrm>
              <a:off x="1369080" y="473040"/>
              <a:ext cx="1579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tíng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08960" y="473040"/>
              <a:ext cx="1065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t</a:t>
              </a: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á</a:t>
              </a: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i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01680" y="541440"/>
              <a:ext cx="1532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y</a:t>
              </a: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n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16720" y="3349440"/>
              <a:ext cx="1532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zu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9560" y="3278160"/>
              <a:ext cx="1299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zhī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403280" y="1628640"/>
            <a:ext cx="7128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亭   台    烟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4292640"/>
            <a:ext cx="540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座    枝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W02007101154139047785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1258920" y="44280"/>
            <a:ext cx="6553080" cy="6120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692360" y="331920"/>
            <a:ext cx="633564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去二三里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     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yí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  qù   èr  sān  lǐ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去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二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三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里，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yān cūn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ì   wǔ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  jiā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烟  村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四   五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家。     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tínɡ t</a:t>
            </a:r>
            <a:r>
              <a:rPr b="1" lang="el-GR" sz="3600" spc="-1" strike="noStrike">
                <a:solidFill>
                  <a:srgbClr val="3333cc"/>
                </a:solidFill>
                <a:latin typeface="宋体"/>
                <a:ea typeface="黑体"/>
              </a:rPr>
              <a:t>á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i liù  qī  zuò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亭  台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六   七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座 ，             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bā jiǔ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shí 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zhī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  huā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黑体"/>
              </a:rPr>
              <a:t>八  九   十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   枝  花。</a:t>
            </a:r>
            <a:r>
              <a:rPr b="1" lang="zh-CN" sz="4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0" y="6021360"/>
            <a:ext cx="9144000" cy="7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诗中的“二三”、“四五”、“六七”、“八九十”等数字是指真实的数量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是怎么理解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40464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y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32000" y="1341360"/>
            <a:ext cx="2160360" cy="2232000"/>
            <a:chOff x="1332000" y="1341360"/>
            <a:chExt cx="2160360" cy="2232000"/>
          </a:xfrm>
        </p:grpSpPr>
        <p:sp>
          <p:nvSpPr>
            <p:cNvPr id="153" name=""/>
            <p:cNvSpPr/>
            <p:nvPr/>
          </p:nvSpPr>
          <p:spPr>
            <a:xfrm>
              <a:off x="1332000" y="1341360"/>
              <a:ext cx="2160360" cy="2232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2000" y="2463120"/>
              <a:ext cx="216036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411280" y="1341360"/>
            <a:ext cx="0" cy="2232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8160" y="1413000"/>
            <a:ext cx="170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333360"/>
            <a:ext cx="134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è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35280" y="1268280"/>
            <a:ext cx="2160720" cy="2232000"/>
            <a:chOff x="3635280" y="1268280"/>
            <a:chExt cx="2160720" cy="2232000"/>
          </a:xfrm>
        </p:grpSpPr>
        <p:sp>
          <p:nvSpPr>
            <p:cNvPr id="159" name=""/>
            <p:cNvSpPr/>
            <p:nvPr/>
          </p:nvSpPr>
          <p:spPr>
            <a:xfrm>
              <a:off x="3635280" y="1268280"/>
              <a:ext cx="2160720" cy="2232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35280" y="2390040"/>
              <a:ext cx="216072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16360" y="1268280"/>
            <a:ext cx="0" cy="2232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30720" y="1341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148360" y="4365720"/>
            <a:ext cx="2160360" cy="2232000"/>
            <a:chOff x="5148360" y="4365720"/>
            <a:chExt cx="2160360" cy="2232000"/>
          </a:xfrm>
        </p:grpSpPr>
        <p:sp>
          <p:nvSpPr>
            <p:cNvPr id="164" name=""/>
            <p:cNvSpPr/>
            <p:nvPr/>
          </p:nvSpPr>
          <p:spPr>
            <a:xfrm>
              <a:off x="5148360" y="4365720"/>
              <a:ext cx="2160360" cy="2232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5487480"/>
              <a:ext cx="216036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35280" y="4365720"/>
            <a:ext cx="2160360" cy="2232000"/>
            <a:chOff x="1835280" y="4365720"/>
            <a:chExt cx="2160360" cy="2232000"/>
          </a:xfrm>
        </p:grpSpPr>
        <p:sp>
          <p:nvSpPr>
            <p:cNvPr id="167" name=""/>
            <p:cNvSpPr/>
            <p:nvPr/>
          </p:nvSpPr>
          <p:spPr>
            <a:xfrm>
              <a:off x="1835280" y="4365720"/>
              <a:ext cx="2160360" cy="2232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35280" y="5487480"/>
              <a:ext cx="216036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27640" y="1197000"/>
            <a:ext cx="2160720" cy="2232000"/>
            <a:chOff x="6227640" y="1197000"/>
            <a:chExt cx="2160720" cy="2232000"/>
          </a:xfrm>
        </p:grpSpPr>
        <p:sp>
          <p:nvSpPr>
            <p:cNvPr id="170" name=""/>
            <p:cNvSpPr/>
            <p:nvPr/>
          </p:nvSpPr>
          <p:spPr>
            <a:xfrm>
              <a:off x="6227640" y="1197000"/>
              <a:ext cx="2160720" cy="2232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27640" y="2318760"/>
              <a:ext cx="216072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916360" y="4437000"/>
            <a:ext cx="0" cy="2232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4365720"/>
            <a:ext cx="0" cy="2232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80360" y="1197000"/>
            <a:ext cx="0" cy="2232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1268280"/>
            <a:ext cx="158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57280" y="4437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70360" y="4437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49920" y="260280"/>
            <a:ext cx="13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sā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4000" y="3429000"/>
            <a:ext cx="73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s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28880" y="342900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sh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373560" y="1704960"/>
          <a:ext cx="2286000" cy="22986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2" name="Group 13"/>
          <p:cNvGrpSpPr/>
          <p:nvPr/>
        </p:nvGrpSpPr>
        <p:grpSpPr>
          <a:xfrm>
            <a:off x="3754440" y="333360"/>
            <a:ext cx="1447560" cy="1447920"/>
            <a:chOff x="3754440" y="333360"/>
            <a:chExt cx="1447560" cy="1447920"/>
          </a:xfrm>
        </p:grpSpPr>
        <p:sp>
          <p:nvSpPr>
            <p:cNvPr id="183" name="Line 14"/>
            <p:cNvSpPr/>
            <p:nvPr/>
          </p:nvSpPr>
          <p:spPr>
            <a:xfrm flipV="1">
              <a:off x="4516200" y="943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3754440" y="3333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竖中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2154240" y="3381480"/>
            <a:ext cx="1676160" cy="1510920"/>
            <a:chOff x="2154240" y="3381480"/>
            <a:chExt cx="1676160" cy="1510920"/>
          </a:xfrm>
        </p:grpSpPr>
        <p:sp>
          <p:nvSpPr>
            <p:cNvPr id="186" name="Line 17"/>
            <p:cNvSpPr/>
            <p:nvPr/>
          </p:nvSpPr>
          <p:spPr>
            <a:xfrm flipV="1">
              <a:off x="2992320" y="3381480"/>
              <a:ext cx="838080" cy="10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2154240" y="43718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5126040" y="3457440"/>
            <a:ext cx="1752480" cy="1358640"/>
            <a:chOff x="5126040" y="3457440"/>
            <a:chExt cx="1752480" cy="1358640"/>
          </a:xfrm>
        </p:grpSpPr>
        <p:sp>
          <p:nvSpPr>
            <p:cNvPr id="189" name="Line 20"/>
            <p:cNvSpPr/>
            <p:nvPr/>
          </p:nvSpPr>
          <p:spPr>
            <a:xfrm>
              <a:off x="5126040" y="3457440"/>
              <a:ext cx="10666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5430600" y="429552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2001960" y="714240"/>
            <a:ext cx="1904400" cy="1523880"/>
            <a:chOff x="2001960" y="714240"/>
            <a:chExt cx="1904400" cy="1523880"/>
          </a:xfrm>
        </p:grpSpPr>
        <p:sp>
          <p:nvSpPr>
            <p:cNvPr id="192" name="Line 23"/>
            <p:cNvSpPr/>
            <p:nvPr/>
          </p:nvSpPr>
          <p:spPr>
            <a:xfrm>
              <a:off x="2916000" y="1323720"/>
              <a:ext cx="99036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001960" y="7142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25"/>
          <p:cNvGrpSpPr/>
          <p:nvPr/>
        </p:nvGrpSpPr>
        <p:grpSpPr>
          <a:xfrm>
            <a:off x="5278320" y="638280"/>
            <a:ext cx="1447920" cy="1523520"/>
            <a:chOff x="5278320" y="638280"/>
            <a:chExt cx="1447920" cy="1523520"/>
          </a:xfrm>
        </p:grpSpPr>
        <p:sp>
          <p:nvSpPr>
            <p:cNvPr id="195" name="Line 26"/>
            <p:cNvSpPr/>
            <p:nvPr/>
          </p:nvSpPr>
          <p:spPr>
            <a:xfrm flipV="1">
              <a:off x="5278320" y="1171440"/>
              <a:ext cx="68580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430600" y="6382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28"/>
          <p:cNvGrpSpPr/>
          <p:nvPr/>
        </p:nvGrpSpPr>
        <p:grpSpPr>
          <a:xfrm>
            <a:off x="5506920" y="2085840"/>
            <a:ext cx="1585800" cy="947160"/>
            <a:chOff x="5506920" y="2085840"/>
            <a:chExt cx="1585800" cy="947160"/>
          </a:xfrm>
        </p:grpSpPr>
        <p:sp>
          <p:nvSpPr>
            <p:cNvPr id="198" name="Line 29"/>
            <p:cNvSpPr/>
            <p:nvPr/>
          </p:nvSpPr>
          <p:spPr>
            <a:xfrm>
              <a:off x="5506920" y="2847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30"/>
            <p:cNvSpPr/>
            <p:nvPr/>
          </p:nvSpPr>
          <p:spPr>
            <a:xfrm>
              <a:off x="6421320" y="2085840"/>
              <a:ext cx="6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横中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32"/>
          <p:cNvSpPr/>
          <p:nvPr/>
        </p:nvSpPr>
        <p:spPr>
          <a:xfrm>
            <a:off x="0" y="1159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认识田字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2411280" y="4941720"/>
            <a:ext cx="4824720" cy="1572120"/>
          </a:xfrm>
          <a:prstGeom prst="rect">
            <a:avLst/>
          </a:prstGeom>
          <a:solidFill>
            <a:srgbClr val="cc99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田字格，四方方，写好汉字它来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左上格、左下格，右上格、右下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横中线、竖中线，各个方位记心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首诗又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村咏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作者是宋代的邵康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29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80000" y="-531720"/>
            <a:ext cx="295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</a:rPr>
              <a:t>yī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979640" y="1341360"/>
            <a:ext cx="5905080" cy="5256360"/>
            <a:chOff x="1979640" y="1341360"/>
            <a:chExt cx="5905080" cy="5256360"/>
          </a:xfrm>
        </p:grpSpPr>
        <p:sp>
          <p:nvSpPr>
            <p:cNvPr id="205" name=""/>
            <p:cNvSpPr/>
            <p:nvPr/>
          </p:nvSpPr>
          <p:spPr>
            <a:xfrm>
              <a:off x="1979640" y="1341360"/>
              <a:ext cx="5905080" cy="525636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79640" y="3983040"/>
              <a:ext cx="590508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15960" y="549360"/>
            <a:ext cx="7898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像蚕宝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腰细头尾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3440" y="836640"/>
            <a:ext cx="4879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9640" y="981000"/>
            <a:ext cx="1403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方正楷体繁体"/>
              </a:rPr>
              <a:t>一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方正楷体繁体"/>
              <a:ea typeface="方正楷体繁体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60280"/>
            <a:ext cx="21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33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横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é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92360" y="4537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-457200"/>
            <a:ext cx="172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</a:rPr>
              <a:t>èr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37040" y="87948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1397160"/>
            <a:ext cx="5688000" cy="5300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63640" y="1368360"/>
            <a:ext cx="5688000" cy="5300640"/>
            <a:chOff x="1763640" y="1368360"/>
            <a:chExt cx="5688000" cy="5300640"/>
          </a:xfrm>
        </p:grpSpPr>
        <p:sp>
          <p:nvSpPr>
            <p:cNvPr id="218" name=""/>
            <p:cNvSpPr/>
            <p:nvPr/>
          </p:nvSpPr>
          <p:spPr>
            <a:xfrm>
              <a:off x="1763640" y="3960720"/>
              <a:ext cx="561672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763640" y="1368360"/>
              <a:ext cx="5688000" cy="5300640"/>
              <a:chOff x="1763640" y="1368360"/>
              <a:chExt cx="5688000" cy="5300640"/>
            </a:xfrm>
          </p:grpSpPr>
          <p:sp>
            <p:nvSpPr>
              <p:cNvPr id="220" name=""/>
              <p:cNvSpPr/>
              <p:nvPr/>
            </p:nvSpPr>
            <p:spPr>
              <a:xfrm>
                <a:off x="4498920" y="1368360"/>
                <a:ext cx="0" cy="530064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63640" y="1368360"/>
                <a:ext cx="56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7412400" y="936720"/>
            <a:ext cx="1277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一横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出的部分要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-241200"/>
            <a:ext cx="26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宋体"/>
              </a:rPr>
              <a:t>sā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549360"/>
            <a:ext cx="5113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763640" y="1197000"/>
            <a:ext cx="5688000" cy="5300640"/>
            <a:chOff x="1763640" y="1197000"/>
            <a:chExt cx="5688000" cy="5300640"/>
          </a:xfrm>
        </p:grpSpPr>
        <p:sp>
          <p:nvSpPr>
            <p:cNvPr id="227" name=""/>
            <p:cNvSpPr/>
            <p:nvPr/>
          </p:nvSpPr>
          <p:spPr>
            <a:xfrm>
              <a:off x="1763640" y="1197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63640" y="3861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643280" y="112536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72880" y="620640"/>
            <a:ext cx="11552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横画分均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间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最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92360" y="462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-385920"/>
            <a:ext cx="172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</a:rPr>
              <a:t>sì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3360" y="1171440"/>
            <a:ext cx="27410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1459080"/>
            <a:ext cx="5688000" cy="5300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4051440"/>
            <a:ext cx="5616720" cy="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00720" y="1459080"/>
            <a:ext cx="0" cy="532908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05720" y="1171440"/>
            <a:ext cx="10335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梯形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扁又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面藏个无钩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755640" y="692280"/>
            <a:ext cx="792000" cy="1412640"/>
          </a:xfrm>
          <a:custGeom>
            <a:avLst/>
            <a:gdLst/>
            <a:ahLst/>
            <a:rect l="l" t="t" r="r" b="b"/>
            <a:pathLst>
              <a:path w="735" h="1123">
                <a:moveTo>
                  <a:pt x="202" y="244"/>
                </a:moveTo>
                <a:lnTo>
                  <a:pt x="202" y="263"/>
                </a:lnTo>
                <a:lnTo>
                  <a:pt x="202" y="280"/>
                </a:lnTo>
                <a:lnTo>
                  <a:pt x="202" y="299"/>
                </a:lnTo>
                <a:lnTo>
                  <a:pt x="200" y="320"/>
                </a:lnTo>
                <a:lnTo>
                  <a:pt x="200" y="342"/>
                </a:lnTo>
                <a:lnTo>
                  <a:pt x="198" y="366"/>
                </a:lnTo>
                <a:lnTo>
                  <a:pt x="195" y="380"/>
                </a:lnTo>
                <a:lnTo>
                  <a:pt x="193" y="392"/>
                </a:lnTo>
                <a:lnTo>
                  <a:pt x="193" y="406"/>
                </a:lnTo>
                <a:lnTo>
                  <a:pt x="191" y="420"/>
                </a:lnTo>
                <a:lnTo>
                  <a:pt x="186" y="451"/>
                </a:lnTo>
                <a:lnTo>
                  <a:pt x="183" y="483"/>
                </a:lnTo>
                <a:lnTo>
                  <a:pt x="181" y="514"/>
                </a:lnTo>
                <a:lnTo>
                  <a:pt x="181" y="545"/>
                </a:lnTo>
                <a:lnTo>
                  <a:pt x="181" y="576"/>
                </a:lnTo>
                <a:lnTo>
                  <a:pt x="183" y="609"/>
                </a:lnTo>
                <a:lnTo>
                  <a:pt x="186" y="645"/>
                </a:lnTo>
                <a:lnTo>
                  <a:pt x="191" y="681"/>
                </a:lnTo>
                <a:lnTo>
                  <a:pt x="191" y="697"/>
                </a:lnTo>
                <a:lnTo>
                  <a:pt x="191" y="714"/>
                </a:lnTo>
                <a:lnTo>
                  <a:pt x="191" y="731"/>
                </a:lnTo>
                <a:lnTo>
                  <a:pt x="193" y="745"/>
                </a:lnTo>
                <a:lnTo>
                  <a:pt x="193" y="760"/>
                </a:lnTo>
                <a:lnTo>
                  <a:pt x="195" y="774"/>
                </a:lnTo>
                <a:lnTo>
                  <a:pt x="198" y="786"/>
                </a:lnTo>
                <a:lnTo>
                  <a:pt x="200" y="798"/>
                </a:lnTo>
                <a:lnTo>
                  <a:pt x="205" y="810"/>
                </a:lnTo>
                <a:lnTo>
                  <a:pt x="207" y="819"/>
                </a:lnTo>
                <a:lnTo>
                  <a:pt x="212" y="829"/>
                </a:lnTo>
                <a:lnTo>
                  <a:pt x="217" y="836"/>
                </a:lnTo>
                <a:lnTo>
                  <a:pt x="222" y="843"/>
                </a:lnTo>
                <a:lnTo>
                  <a:pt x="226" y="848"/>
                </a:lnTo>
                <a:lnTo>
                  <a:pt x="233" y="853"/>
                </a:lnTo>
                <a:lnTo>
                  <a:pt x="241" y="857"/>
                </a:lnTo>
                <a:lnTo>
                  <a:pt x="248" y="862"/>
                </a:lnTo>
                <a:lnTo>
                  <a:pt x="255" y="867"/>
                </a:lnTo>
                <a:lnTo>
                  <a:pt x="262" y="872"/>
                </a:lnTo>
                <a:lnTo>
                  <a:pt x="272" y="877"/>
                </a:lnTo>
                <a:lnTo>
                  <a:pt x="279" y="879"/>
                </a:lnTo>
                <a:lnTo>
                  <a:pt x="288" y="881"/>
                </a:lnTo>
                <a:lnTo>
                  <a:pt x="298" y="884"/>
                </a:lnTo>
                <a:lnTo>
                  <a:pt x="307" y="884"/>
                </a:lnTo>
                <a:lnTo>
                  <a:pt x="327" y="884"/>
                </a:lnTo>
                <a:lnTo>
                  <a:pt x="346" y="881"/>
                </a:lnTo>
                <a:lnTo>
                  <a:pt x="370" y="879"/>
                </a:lnTo>
                <a:lnTo>
                  <a:pt x="391" y="874"/>
                </a:lnTo>
                <a:lnTo>
                  <a:pt x="415" y="867"/>
                </a:lnTo>
                <a:lnTo>
                  <a:pt x="436" y="865"/>
                </a:lnTo>
                <a:lnTo>
                  <a:pt x="458" y="862"/>
                </a:lnTo>
                <a:lnTo>
                  <a:pt x="477" y="860"/>
                </a:lnTo>
                <a:lnTo>
                  <a:pt x="496" y="857"/>
                </a:lnTo>
                <a:lnTo>
                  <a:pt x="513" y="857"/>
                </a:lnTo>
                <a:lnTo>
                  <a:pt x="529" y="857"/>
                </a:lnTo>
                <a:lnTo>
                  <a:pt x="544" y="857"/>
                </a:lnTo>
                <a:lnTo>
                  <a:pt x="558" y="857"/>
                </a:lnTo>
                <a:lnTo>
                  <a:pt x="572" y="860"/>
                </a:lnTo>
                <a:lnTo>
                  <a:pt x="587" y="865"/>
                </a:lnTo>
                <a:lnTo>
                  <a:pt x="603" y="869"/>
                </a:lnTo>
                <a:lnTo>
                  <a:pt x="618" y="877"/>
                </a:lnTo>
                <a:lnTo>
                  <a:pt x="634" y="884"/>
                </a:lnTo>
                <a:lnTo>
                  <a:pt x="651" y="893"/>
                </a:lnTo>
                <a:lnTo>
                  <a:pt x="670" y="905"/>
                </a:lnTo>
                <a:lnTo>
                  <a:pt x="685" y="917"/>
                </a:lnTo>
                <a:lnTo>
                  <a:pt x="696" y="929"/>
                </a:lnTo>
                <a:lnTo>
                  <a:pt x="706" y="941"/>
                </a:lnTo>
                <a:lnTo>
                  <a:pt x="716" y="953"/>
                </a:lnTo>
                <a:lnTo>
                  <a:pt x="723" y="963"/>
                </a:lnTo>
                <a:lnTo>
                  <a:pt x="730" y="972"/>
                </a:lnTo>
                <a:lnTo>
                  <a:pt x="732" y="979"/>
                </a:lnTo>
                <a:lnTo>
                  <a:pt x="732" y="984"/>
                </a:lnTo>
                <a:lnTo>
                  <a:pt x="735" y="986"/>
                </a:lnTo>
                <a:lnTo>
                  <a:pt x="732" y="994"/>
                </a:lnTo>
                <a:lnTo>
                  <a:pt x="732" y="998"/>
                </a:lnTo>
                <a:lnTo>
                  <a:pt x="730" y="1006"/>
                </a:lnTo>
                <a:lnTo>
                  <a:pt x="728" y="1010"/>
                </a:lnTo>
                <a:lnTo>
                  <a:pt x="723" y="1018"/>
                </a:lnTo>
                <a:lnTo>
                  <a:pt x="718" y="1022"/>
                </a:lnTo>
                <a:lnTo>
                  <a:pt x="711" y="1029"/>
                </a:lnTo>
                <a:lnTo>
                  <a:pt x="706" y="1034"/>
                </a:lnTo>
                <a:lnTo>
                  <a:pt x="696" y="1041"/>
                </a:lnTo>
                <a:lnTo>
                  <a:pt x="689" y="1046"/>
                </a:lnTo>
                <a:lnTo>
                  <a:pt x="680" y="1053"/>
                </a:lnTo>
                <a:lnTo>
                  <a:pt x="670" y="1058"/>
                </a:lnTo>
                <a:lnTo>
                  <a:pt x="658" y="1065"/>
                </a:lnTo>
                <a:lnTo>
                  <a:pt x="646" y="1072"/>
                </a:lnTo>
                <a:lnTo>
                  <a:pt x="634" y="1077"/>
                </a:lnTo>
                <a:lnTo>
                  <a:pt x="620" y="1084"/>
                </a:lnTo>
                <a:lnTo>
                  <a:pt x="591" y="1094"/>
                </a:lnTo>
                <a:lnTo>
                  <a:pt x="560" y="1106"/>
                </a:lnTo>
                <a:lnTo>
                  <a:pt x="529" y="1113"/>
                </a:lnTo>
                <a:lnTo>
                  <a:pt x="496" y="1118"/>
                </a:lnTo>
                <a:lnTo>
                  <a:pt x="479" y="1120"/>
                </a:lnTo>
                <a:lnTo>
                  <a:pt x="463" y="1123"/>
                </a:lnTo>
                <a:lnTo>
                  <a:pt x="446" y="1123"/>
                </a:lnTo>
                <a:lnTo>
                  <a:pt x="427" y="1123"/>
                </a:lnTo>
                <a:lnTo>
                  <a:pt x="410" y="1123"/>
                </a:lnTo>
                <a:lnTo>
                  <a:pt x="391" y="1120"/>
                </a:lnTo>
                <a:lnTo>
                  <a:pt x="372" y="1118"/>
                </a:lnTo>
                <a:lnTo>
                  <a:pt x="353" y="1115"/>
                </a:lnTo>
                <a:lnTo>
                  <a:pt x="334" y="1115"/>
                </a:lnTo>
                <a:lnTo>
                  <a:pt x="312" y="1115"/>
                </a:lnTo>
                <a:lnTo>
                  <a:pt x="293" y="1113"/>
                </a:lnTo>
                <a:lnTo>
                  <a:pt x="276" y="1111"/>
                </a:lnTo>
                <a:lnTo>
                  <a:pt x="257" y="1106"/>
                </a:lnTo>
                <a:lnTo>
                  <a:pt x="241" y="1103"/>
                </a:lnTo>
                <a:lnTo>
                  <a:pt x="226" y="1099"/>
                </a:lnTo>
                <a:lnTo>
                  <a:pt x="212" y="1094"/>
                </a:lnTo>
                <a:lnTo>
                  <a:pt x="198" y="1089"/>
                </a:lnTo>
                <a:lnTo>
                  <a:pt x="186" y="1082"/>
                </a:lnTo>
                <a:lnTo>
                  <a:pt x="174" y="1075"/>
                </a:lnTo>
                <a:lnTo>
                  <a:pt x="162" y="1068"/>
                </a:lnTo>
                <a:lnTo>
                  <a:pt x="152" y="1060"/>
                </a:lnTo>
                <a:lnTo>
                  <a:pt x="143" y="1053"/>
                </a:lnTo>
                <a:lnTo>
                  <a:pt x="133" y="1044"/>
                </a:lnTo>
                <a:lnTo>
                  <a:pt x="126" y="1034"/>
                </a:lnTo>
                <a:lnTo>
                  <a:pt x="117" y="1025"/>
                </a:lnTo>
                <a:lnTo>
                  <a:pt x="109" y="1013"/>
                </a:lnTo>
                <a:lnTo>
                  <a:pt x="100" y="1001"/>
                </a:lnTo>
                <a:lnTo>
                  <a:pt x="93" y="986"/>
                </a:lnTo>
                <a:lnTo>
                  <a:pt x="86" y="972"/>
                </a:lnTo>
                <a:lnTo>
                  <a:pt x="78" y="955"/>
                </a:lnTo>
                <a:lnTo>
                  <a:pt x="74" y="936"/>
                </a:lnTo>
                <a:lnTo>
                  <a:pt x="69" y="917"/>
                </a:lnTo>
                <a:lnTo>
                  <a:pt x="62" y="898"/>
                </a:lnTo>
                <a:lnTo>
                  <a:pt x="57" y="877"/>
                </a:lnTo>
                <a:lnTo>
                  <a:pt x="54" y="855"/>
                </a:lnTo>
                <a:lnTo>
                  <a:pt x="50" y="831"/>
                </a:lnTo>
                <a:lnTo>
                  <a:pt x="47" y="807"/>
                </a:lnTo>
                <a:lnTo>
                  <a:pt x="43" y="781"/>
                </a:lnTo>
                <a:lnTo>
                  <a:pt x="40" y="755"/>
                </a:lnTo>
                <a:lnTo>
                  <a:pt x="38" y="729"/>
                </a:lnTo>
                <a:lnTo>
                  <a:pt x="35" y="700"/>
                </a:lnTo>
                <a:lnTo>
                  <a:pt x="33" y="669"/>
                </a:lnTo>
                <a:lnTo>
                  <a:pt x="31" y="635"/>
                </a:lnTo>
                <a:lnTo>
                  <a:pt x="28" y="602"/>
                </a:lnTo>
                <a:lnTo>
                  <a:pt x="26" y="564"/>
                </a:lnTo>
                <a:lnTo>
                  <a:pt x="23" y="523"/>
                </a:lnTo>
                <a:lnTo>
                  <a:pt x="21" y="483"/>
                </a:lnTo>
                <a:lnTo>
                  <a:pt x="19" y="437"/>
                </a:lnTo>
                <a:lnTo>
                  <a:pt x="16" y="392"/>
                </a:lnTo>
                <a:lnTo>
                  <a:pt x="14" y="342"/>
                </a:lnTo>
                <a:lnTo>
                  <a:pt x="12" y="291"/>
                </a:lnTo>
                <a:lnTo>
                  <a:pt x="9" y="237"/>
                </a:lnTo>
                <a:lnTo>
                  <a:pt x="7" y="182"/>
                </a:lnTo>
                <a:lnTo>
                  <a:pt x="4" y="124"/>
                </a:lnTo>
                <a:lnTo>
                  <a:pt x="2" y="65"/>
                </a:lnTo>
                <a:lnTo>
                  <a:pt x="0" y="0"/>
                </a:lnTo>
                <a:lnTo>
                  <a:pt x="26" y="22"/>
                </a:lnTo>
                <a:lnTo>
                  <a:pt x="47" y="43"/>
                </a:lnTo>
                <a:lnTo>
                  <a:pt x="69" y="62"/>
                </a:lnTo>
                <a:lnTo>
                  <a:pt x="90" y="81"/>
                </a:lnTo>
                <a:lnTo>
                  <a:pt x="107" y="98"/>
                </a:lnTo>
                <a:lnTo>
                  <a:pt x="124" y="115"/>
                </a:lnTo>
                <a:lnTo>
                  <a:pt x="140" y="131"/>
                </a:lnTo>
                <a:lnTo>
                  <a:pt x="152" y="148"/>
                </a:lnTo>
                <a:lnTo>
                  <a:pt x="164" y="163"/>
                </a:lnTo>
                <a:lnTo>
                  <a:pt x="174" y="177"/>
                </a:lnTo>
                <a:lnTo>
                  <a:pt x="183" y="189"/>
                </a:lnTo>
                <a:lnTo>
                  <a:pt x="191" y="201"/>
                </a:lnTo>
                <a:lnTo>
                  <a:pt x="195" y="213"/>
                </a:lnTo>
                <a:lnTo>
                  <a:pt x="200" y="225"/>
                </a:lnTo>
                <a:lnTo>
                  <a:pt x="202" y="234"/>
                </a:lnTo>
                <a:lnTo>
                  <a:pt x="202" y="244"/>
                </a:lnTo>
                <a:lnTo>
                  <a:pt x="202" y="244"/>
                </a:lnTo>
              </a:path>
            </a:pathLst>
          </a:custGeom>
          <a:solidFill>
            <a:srgbClr val="9933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9960" y="1681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竖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h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w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67280" y="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sh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8680" y="90792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244" name="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73880" y="907920"/>
            <a:ext cx="103356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横画左边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竖画下面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1390680" cy="1439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95280" y="260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竖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76360" y="256500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13120" y="5335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74800" y="76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74800" y="198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9880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1880" y="184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3320" y="342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95520" y="35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7280" y="429264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03280" y="39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522936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1916280"/>
            <a:ext cx="66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烟 村     亭 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23840" y="1459080"/>
            <a:ext cx="512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ān   cūn        tínɡ   tá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364500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62560" y="4365720"/>
            <a:ext cx="477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一 座     十 枝 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47040" y="3830760"/>
            <a:ext cx="593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í   zuò        shí  zhī  hu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4" descr="pic_22776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2606760" y="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675160" y="69228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291040" y="1989000"/>
            <a:ext cx="49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2575800" y="306864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2397960" y="4221000"/>
            <a:ext cx="45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2639520" y="5516640"/>
            <a:ext cx="46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1447920" y="1447920"/>
            <a:ext cx="6371640" cy="4695480"/>
            <a:chOff x="1447920" y="1447920"/>
            <a:chExt cx="6371640" cy="4695480"/>
          </a:xfrm>
        </p:grpSpPr>
        <p:sp>
          <p:nvSpPr>
            <p:cNvPr id="287" name=""/>
            <p:cNvSpPr/>
            <p:nvPr/>
          </p:nvSpPr>
          <p:spPr>
            <a:xfrm>
              <a:off x="1628640" y="3505320"/>
              <a:ext cx="61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liù   qī </a:t>
              </a:r>
              <a:r>
                <a:rPr b="0" lang="en-US" sz="18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   </a:t>
              </a:r>
              <a:r>
                <a:rPr b="0" lang="en-US" sz="36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bā    jiǔ  </a:t>
              </a:r>
              <a:r>
                <a:rPr b="0" lang="en-US" sz="20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  </a:t>
              </a:r>
              <a:r>
                <a:rPr b="0" lang="en-US" sz="36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sh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47920" y="1447920"/>
              <a:ext cx="60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 </a:t>
              </a:r>
              <a:r>
                <a:rPr b="0" lang="en-US" sz="36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y</a:t>
              </a:r>
              <a:r>
                <a:rPr b="0" lang="en-US" sz="3600" spc="-1" strike="noStrike">
                  <a:solidFill>
                    <a:srgbClr val="ff0066"/>
                  </a:solidFill>
                  <a:latin typeface="Times New Roman"/>
                </a:rPr>
                <a:t>ī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   </a:t>
              </a:r>
              <a:r>
                <a:rPr b="0" lang="en-US" sz="24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 </a:t>
              </a:r>
              <a:r>
                <a:rPr b="0" lang="en-US" sz="36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èr   sān   sì</a:t>
              </a:r>
              <a:r>
                <a:rPr b="0" lang="en-US" sz="9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              </a:t>
              </a:r>
              <a:r>
                <a:rPr b="0" lang="en-US" sz="3600" spc="-1" strike="noStrike">
                  <a:solidFill>
                    <a:srgbClr val="ff0066"/>
                  </a:solidFill>
                  <a:latin typeface="GB Pinyinok-B"/>
                  <a:ea typeface="GB Pinyinok-B"/>
                </a:rPr>
                <a:t>wǔ</a:t>
              </a:r>
              <a:r>
                <a:rPr b="0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71400" y="1905120"/>
              <a:ext cx="60958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  二  三  四  五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62040" y="4038480"/>
              <a:ext cx="62575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六  七  八  九  十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447920" y="1447920"/>
            <a:ext cx="6371640" cy="4695480"/>
            <a:chOff x="1447920" y="1447920"/>
            <a:chExt cx="6371640" cy="4695480"/>
          </a:xfrm>
        </p:grpSpPr>
        <p:sp>
          <p:nvSpPr>
            <p:cNvPr id="292" name=""/>
            <p:cNvSpPr/>
            <p:nvPr/>
          </p:nvSpPr>
          <p:spPr>
            <a:xfrm>
              <a:off x="1628640" y="3505320"/>
              <a:ext cx="6190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1447920"/>
              <a:ext cx="60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71400" y="1905120"/>
              <a:ext cx="60958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  二  三  四  五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62040" y="4038480"/>
              <a:ext cx="62575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六  七  八  九  十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32000" y="53625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27280" y="404640"/>
            <a:ext cx="459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79280" y="1341360"/>
            <a:ext cx="8785440" cy="4143240"/>
          </a:xfrm>
          <a:prstGeom prst="rect">
            <a:avLst/>
          </a:prstGeom>
          <a:solidFill>
            <a:srgbClr val="ffffff">
              <a:alpha val="70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仿宋"/>
                <a:ea typeface="仿宋"/>
              </a:rPr>
              <a:t>yī</a:t>
            </a:r>
            <a:r>
              <a:rPr b="1" lang="zh-CN" sz="60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èr 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sān 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仿宋"/>
                <a:ea typeface="仿宋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w</a:t>
            </a:r>
            <a:r>
              <a:rPr b="1" lang="en-US" sz="4400" spc="-1" strike="noStrike">
                <a:solidFill>
                  <a:srgbClr val="000000"/>
                </a:solidFill>
                <a:latin typeface="仿宋"/>
                <a:ea typeface="仿宋"/>
              </a:rPr>
              <a:t>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liù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qī 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bā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 j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iǔ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sh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8000" y="40464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w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32000" y="1341360"/>
            <a:ext cx="2160360" cy="2232000"/>
            <a:chOff x="1332000" y="1341360"/>
            <a:chExt cx="2160360" cy="2232000"/>
          </a:xfrm>
        </p:grpSpPr>
        <p:sp>
          <p:nvSpPr>
            <p:cNvPr id="299" name=""/>
            <p:cNvSpPr/>
            <p:nvPr/>
          </p:nvSpPr>
          <p:spPr>
            <a:xfrm>
              <a:off x="1332000" y="1341360"/>
              <a:ext cx="2160360" cy="2232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32000" y="2463120"/>
              <a:ext cx="216036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411280" y="1341360"/>
            <a:ext cx="0" cy="2232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2720" y="1413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11640" y="333360"/>
            <a:ext cx="134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li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35280" y="1268280"/>
            <a:ext cx="2160720" cy="2232000"/>
            <a:chOff x="3635280" y="1268280"/>
            <a:chExt cx="2160720" cy="2232000"/>
          </a:xfrm>
        </p:grpSpPr>
        <p:grpSp>
          <p:nvGrpSpPr>
            <p:cNvPr id="305" name=""/>
            <p:cNvGrpSpPr/>
            <p:nvPr/>
          </p:nvGrpSpPr>
          <p:grpSpPr>
            <a:xfrm>
              <a:off x="3635280" y="1268280"/>
              <a:ext cx="2160720" cy="2232000"/>
              <a:chOff x="3635280" y="1268280"/>
              <a:chExt cx="2160720" cy="2232000"/>
            </a:xfrm>
          </p:grpSpPr>
          <p:sp>
            <p:nvSpPr>
              <p:cNvPr id="306" name=""/>
              <p:cNvSpPr/>
              <p:nvPr/>
            </p:nvSpPr>
            <p:spPr>
              <a:xfrm>
                <a:off x="3635280" y="1268280"/>
                <a:ext cx="2160720" cy="2232000"/>
              </a:xfrm>
              <a:prstGeom prst="rect">
                <a:avLst/>
              </a:prstGeom>
              <a:noFill/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35280" y="2390040"/>
                <a:ext cx="216072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716360" y="1268280"/>
              <a:ext cx="0" cy="223200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230720" y="1341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148360" y="4365720"/>
            <a:ext cx="2160360" cy="2232000"/>
            <a:chOff x="5148360" y="4365720"/>
            <a:chExt cx="2160360" cy="2232000"/>
          </a:xfrm>
        </p:grpSpPr>
        <p:sp>
          <p:nvSpPr>
            <p:cNvPr id="311" name=""/>
            <p:cNvSpPr/>
            <p:nvPr/>
          </p:nvSpPr>
          <p:spPr>
            <a:xfrm>
              <a:off x="5148360" y="4365720"/>
              <a:ext cx="2160360" cy="2232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8360" y="5487480"/>
              <a:ext cx="216036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835280" y="4365720"/>
            <a:ext cx="2160360" cy="2232000"/>
            <a:chOff x="1835280" y="4365720"/>
            <a:chExt cx="2160360" cy="2232000"/>
          </a:xfrm>
        </p:grpSpPr>
        <p:sp>
          <p:nvSpPr>
            <p:cNvPr id="314" name=""/>
            <p:cNvSpPr/>
            <p:nvPr/>
          </p:nvSpPr>
          <p:spPr>
            <a:xfrm>
              <a:off x="1835280" y="4365720"/>
              <a:ext cx="2160360" cy="2232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5280" y="5487480"/>
              <a:ext cx="216036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227640" y="1197000"/>
            <a:ext cx="2160720" cy="2232000"/>
            <a:chOff x="6227640" y="1197000"/>
            <a:chExt cx="2160720" cy="2232000"/>
          </a:xfrm>
        </p:grpSpPr>
        <p:sp>
          <p:nvSpPr>
            <p:cNvPr id="317" name=""/>
            <p:cNvSpPr/>
            <p:nvPr/>
          </p:nvSpPr>
          <p:spPr>
            <a:xfrm>
              <a:off x="6227640" y="1197000"/>
              <a:ext cx="2160720" cy="2232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27640" y="2318760"/>
              <a:ext cx="216072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916360" y="4437000"/>
            <a:ext cx="0" cy="2232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27640" y="4365720"/>
            <a:ext cx="0" cy="2232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80360" y="1197000"/>
            <a:ext cx="0" cy="2232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16720" y="1268280"/>
            <a:ext cx="158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57280" y="4437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0360" y="44370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59000" y="260280"/>
            <a:ext cx="82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q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34960" y="3429000"/>
            <a:ext cx="10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b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95120" y="3429000"/>
            <a:ext cx="10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ji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35280" y="-457200"/>
            <a:ext cx="2592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宋体"/>
              </a:rPr>
              <a:t>wǔ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68680" y="83664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332" name="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68680" y="476280"/>
            <a:ext cx="60696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的左边下楼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横更比一横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未知"/>
          <p:cNvSpPr/>
          <p:nvPr/>
        </p:nvSpPr>
        <p:spPr>
          <a:xfrm>
            <a:off x="539640" y="1197000"/>
            <a:ext cx="1152720" cy="1152360"/>
          </a:xfrm>
          <a:custGeom>
            <a:avLst/>
            <a:gdLst/>
            <a:ahLst/>
            <a:rect l="l" t="t" r="r" b="b"/>
            <a:pathLst>
              <a:path w="974" h="1523">
                <a:moveTo>
                  <a:pt x="974" y="222"/>
                </a:moveTo>
                <a:lnTo>
                  <a:pt x="974" y="227"/>
                </a:lnTo>
                <a:lnTo>
                  <a:pt x="974" y="231"/>
                </a:lnTo>
                <a:lnTo>
                  <a:pt x="972" y="236"/>
                </a:lnTo>
                <a:lnTo>
                  <a:pt x="969" y="243"/>
                </a:lnTo>
                <a:lnTo>
                  <a:pt x="967" y="248"/>
                </a:lnTo>
                <a:lnTo>
                  <a:pt x="962" y="253"/>
                </a:lnTo>
                <a:lnTo>
                  <a:pt x="960" y="258"/>
                </a:lnTo>
                <a:lnTo>
                  <a:pt x="953" y="262"/>
                </a:lnTo>
                <a:lnTo>
                  <a:pt x="948" y="267"/>
                </a:lnTo>
                <a:lnTo>
                  <a:pt x="941" y="274"/>
                </a:lnTo>
                <a:lnTo>
                  <a:pt x="933" y="279"/>
                </a:lnTo>
                <a:lnTo>
                  <a:pt x="926" y="284"/>
                </a:lnTo>
                <a:lnTo>
                  <a:pt x="917" y="289"/>
                </a:lnTo>
                <a:lnTo>
                  <a:pt x="907" y="293"/>
                </a:lnTo>
                <a:lnTo>
                  <a:pt x="895" y="301"/>
                </a:lnTo>
                <a:lnTo>
                  <a:pt x="883" y="305"/>
                </a:lnTo>
                <a:lnTo>
                  <a:pt x="879" y="310"/>
                </a:lnTo>
                <a:lnTo>
                  <a:pt x="871" y="317"/>
                </a:lnTo>
                <a:lnTo>
                  <a:pt x="864" y="327"/>
                </a:lnTo>
                <a:lnTo>
                  <a:pt x="857" y="336"/>
                </a:lnTo>
                <a:lnTo>
                  <a:pt x="850" y="351"/>
                </a:lnTo>
                <a:lnTo>
                  <a:pt x="843" y="367"/>
                </a:lnTo>
                <a:lnTo>
                  <a:pt x="836" y="384"/>
                </a:lnTo>
                <a:lnTo>
                  <a:pt x="826" y="403"/>
                </a:lnTo>
                <a:lnTo>
                  <a:pt x="819" y="425"/>
                </a:lnTo>
                <a:lnTo>
                  <a:pt x="809" y="449"/>
                </a:lnTo>
                <a:lnTo>
                  <a:pt x="802" y="475"/>
                </a:lnTo>
                <a:lnTo>
                  <a:pt x="793" y="504"/>
                </a:lnTo>
                <a:lnTo>
                  <a:pt x="783" y="535"/>
                </a:lnTo>
                <a:lnTo>
                  <a:pt x="774" y="568"/>
                </a:lnTo>
                <a:lnTo>
                  <a:pt x="764" y="601"/>
                </a:lnTo>
                <a:lnTo>
                  <a:pt x="752" y="640"/>
                </a:lnTo>
                <a:lnTo>
                  <a:pt x="742" y="678"/>
                </a:lnTo>
                <a:lnTo>
                  <a:pt x="731" y="718"/>
                </a:lnTo>
                <a:lnTo>
                  <a:pt x="721" y="761"/>
                </a:lnTo>
                <a:lnTo>
                  <a:pt x="709" y="807"/>
                </a:lnTo>
                <a:lnTo>
                  <a:pt x="697" y="855"/>
                </a:lnTo>
                <a:lnTo>
                  <a:pt x="685" y="905"/>
                </a:lnTo>
                <a:lnTo>
                  <a:pt x="671" y="957"/>
                </a:lnTo>
                <a:lnTo>
                  <a:pt x="659" y="1012"/>
                </a:lnTo>
                <a:lnTo>
                  <a:pt x="647" y="1067"/>
                </a:lnTo>
                <a:lnTo>
                  <a:pt x="633" y="1127"/>
                </a:lnTo>
                <a:lnTo>
                  <a:pt x="618" y="1186"/>
                </a:lnTo>
                <a:lnTo>
                  <a:pt x="604" y="1249"/>
                </a:lnTo>
                <a:lnTo>
                  <a:pt x="590" y="1315"/>
                </a:lnTo>
                <a:lnTo>
                  <a:pt x="575" y="1382"/>
                </a:lnTo>
                <a:lnTo>
                  <a:pt x="561" y="1452"/>
                </a:lnTo>
                <a:lnTo>
                  <a:pt x="544" y="1523"/>
                </a:lnTo>
                <a:lnTo>
                  <a:pt x="363" y="1523"/>
                </a:lnTo>
                <a:lnTo>
                  <a:pt x="372" y="1483"/>
                </a:lnTo>
                <a:lnTo>
                  <a:pt x="382" y="1442"/>
                </a:lnTo>
                <a:lnTo>
                  <a:pt x="392" y="1401"/>
                </a:lnTo>
                <a:lnTo>
                  <a:pt x="401" y="1363"/>
                </a:lnTo>
                <a:lnTo>
                  <a:pt x="408" y="1325"/>
                </a:lnTo>
                <a:lnTo>
                  <a:pt x="418" y="1287"/>
                </a:lnTo>
                <a:lnTo>
                  <a:pt x="425" y="1251"/>
                </a:lnTo>
                <a:lnTo>
                  <a:pt x="434" y="1215"/>
                </a:lnTo>
                <a:lnTo>
                  <a:pt x="442" y="1179"/>
                </a:lnTo>
                <a:lnTo>
                  <a:pt x="449" y="1144"/>
                </a:lnTo>
                <a:lnTo>
                  <a:pt x="456" y="1110"/>
                </a:lnTo>
                <a:lnTo>
                  <a:pt x="463" y="1077"/>
                </a:lnTo>
                <a:lnTo>
                  <a:pt x="470" y="1046"/>
                </a:lnTo>
                <a:lnTo>
                  <a:pt x="477" y="1012"/>
                </a:lnTo>
                <a:lnTo>
                  <a:pt x="485" y="981"/>
                </a:lnTo>
                <a:lnTo>
                  <a:pt x="492" y="952"/>
                </a:lnTo>
                <a:lnTo>
                  <a:pt x="497" y="921"/>
                </a:lnTo>
                <a:lnTo>
                  <a:pt x="504" y="893"/>
                </a:lnTo>
                <a:lnTo>
                  <a:pt x="511" y="867"/>
                </a:lnTo>
                <a:lnTo>
                  <a:pt x="516" y="838"/>
                </a:lnTo>
                <a:lnTo>
                  <a:pt x="520" y="812"/>
                </a:lnTo>
                <a:lnTo>
                  <a:pt x="528" y="785"/>
                </a:lnTo>
                <a:lnTo>
                  <a:pt x="532" y="761"/>
                </a:lnTo>
                <a:lnTo>
                  <a:pt x="537" y="738"/>
                </a:lnTo>
                <a:lnTo>
                  <a:pt x="542" y="714"/>
                </a:lnTo>
                <a:lnTo>
                  <a:pt x="547" y="690"/>
                </a:lnTo>
                <a:lnTo>
                  <a:pt x="551" y="668"/>
                </a:lnTo>
                <a:lnTo>
                  <a:pt x="556" y="647"/>
                </a:lnTo>
                <a:lnTo>
                  <a:pt x="561" y="625"/>
                </a:lnTo>
                <a:lnTo>
                  <a:pt x="563" y="606"/>
                </a:lnTo>
                <a:lnTo>
                  <a:pt x="568" y="587"/>
                </a:lnTo>
                <a:lnTo>
                  <a:pt x="571" y="568"/>
                </a:lnTo>
                <a:lnTo>
                  <a:pt x="578" y="532"/>
                </a:lnTo>
                <a:lnTo>
                  <a:pt x="585" y="499"/>
                </a:lnTo>
                <a:lnTo>
                  <a:pt x="590" y="468"/>
                </a:lnTo>
                <a:lnTo>
                  <a:pt x="594" y="439"/>
                </a:lnTo>
                <a:lnTo>
                  <a:pt x="599" y="410"/>
                </a:lnTo>
                <a:lnTo>
                  <a:pt x="604" y="384"/>
                </a:lnTo>
                <a:lnTo>
                  <a:pt x="606" y="363"/>
                </a:lnTo>
                <a:lnTo>
                  <a:pt x="611" y="341"/>
                </a:lnTo>
                <a:lnTo>
                  <a:pt x="614" y="322"/>
                </a:lnTo>
                <a:lnTo>
                  <a:pt x="614" y="305"/>
                </a:lnTo>
                <a:lnTo>
                  <a:pt x="616" y="291"/>
                </a:lnTo>
                <a:lnTo>
                  <a:pt x="616" y="277"/>
                </a:lnTo>
                <a:lnTo>
                  <a:pt x="616" y="267"/>
                </a:lnTo>
                <a:lnTo>
                  <a:pt x="614" y="260"/>
                </a:lnTo>
                <a:lnTo>
                  <a:pt x="614" y="253"/>
                </a:lnTo>
                <a:lnTo>
                  <a:pt x="611" y="250"/>
                </a:lnTo>
                <a:lnTo>
                  <a:pt x="606" y="246"/>
                </a:lnTo>
                <a:lnTo>
                  <a:pt x="602" y="246"/>
                </a:lnTo>
                <a:lnTo>
                  <a:pt x="594" y="243"/>
                </a:lnTo>
                <a:lnTo>
                  <a:pt x="587" y="241"/>
                </a:lnTo>
                <a:lnTo>
                  <a:pt x="575" y="241"/>
                </a:lnTo>
                <a:lnTo>
                  <a:pt x="563" y="238"/>
                </a:lnTo>
                <a:lnTo>
                  <a:pt x="551" y="238"/>
                </a:lnTo>
                <a:lnTo>
                  <a:pt x="535" y="238"/>
                </a:lnTo>
                <a:lnTo>
                  <a:pt x="518" y="238"/>
                </a:lnTo>
                <a:lnTo>
                  <a:pt x="501" y="238"/>
                </a:lnTo>
                <a:lnTo>
                  <a:pt x="482" y="241"/>
                </a:lnTo>
                <a:lnTo>
                  <a:pt x="461" y="241"/>
                </a:lnTo>
                <a:lnTo>
                  <a:pt x="439" y="243"/>
                </a:lnTo>
                <a:lnTo>
                  <a:pt x="415" y="246"/>
                </a:lnTo>
                <a:lnTo>
                  <a:pt x="389" y="246"/>
                </a:lnTo>
                <a:lnTo>
                  <a:pt x="363" y="250"/>
                </a:lnTo>
                <a:lnTo>
                  <a:pt x="310" y="255"/>
                </a:lnTo>
                <a:lnTo>
                  <a:pt x="258" y="260"/>
                </a:lnTo>
                <a:lnTo>
                  <a:pt x="210" y="265"/>
                </a:lnTo>
                <a:lnTo>
                  <a:pt x="186" y="267"/>
                </a:lnTo>
                <a:lnTo>
                  <a:pt x="162" y="270"/>
                </a:lnTo>
                <a:lnTo>
                  <a:pt x="138" y="270"/>
                </a:lnTo>
                <a:lnTo>
                  <a:pt x="117" y="272"/>
                </a:lnTo>
                <a:lnTo>
                  <a:pt x="95" y="274"/>
                </a:lnTo>
                <a:lnTo>
                  <a:pt x="74" y="274"/>
                </a:lnTo>
                <a:lnTo>
                  <a:pt x="55" y="277"/>
                </a:lnTo>
                <a:lnTo>
                  <a:pt x="36" y="277"/>
                </a:lnTo>
                <a:lnTo>
                  <a:pt x="17" y="277"/>
                </a:lnTo>
                <a:lnTo>
                  <a:pt x="0" y="277"/>
                </a:lnTo>
                <a:lnTo>
                  <a:pt x="0" y="152"/>
                </a:lnTo>
                <a:lnTo>
                  <a:pt x="36" y="150"/>
                </a:lnTo>
                <a:lnTo>
                  <a:pt x="69" y="148"/>
                </a:lnTo>
                <a:lnTo>
                  <a:pt x="103" y="145"/>
                </a:lnTo>
                <a:lnTo>
                  <a:pt x="134" y="143"/>
                </a:lnTo>
                <a:lnTo>
                  <a:pt x="165" y="138"/>
                </a:lnTo>
                <a:lnTo>
                  <a:pt x="193" y="136"/>
                </a:lnTo>
                <a:lnTo>
                  <a:pt x="220" y="133"/>
                </a:lnTo>
                <a:lnTo>
                  <a:pt x="246" y="131"/>
                </a:lnTo>
                <a:lnTo>
                  <a:pt x="272" y="129"/>
                </a:lnTo>
                <a:lnTo>
                  <a:pt x="296" y="126"/>
                </a:lnTo>
                <a:lnTo>
                  <a:pt x="318" y="124"/>
                </a:lnTo>
                <a:lnTo>
                  <a:pt x="339" y="121"/>
                </a:lnTo>
                <a:lnTo>
                  <a:pt x="360" y="119"/>
                </a:lnTo>
                <a:lnTo>
                  <a:pt x="380" y="117"/>
                </a:lnTo>
                <a:lnTo>
                  <a:pt x="399" y="114"/>
                </a:lnTo>
                <a:lnTo>
                  <a:pt x="415" y="112"/>
                </a:lnTo>
                <a:lnTo>
                  <a:pt x="444" y="105"/>
                </a:lnTo>
                <a:lnTo>
                  <a:pt x="470" y="100"/>
                </a:lnTo>
                <a:lnTo>
                  <a:pt x="497" y="93"/>
                </a:lnTo>
                <a:lnTo>
                  <a:pt x="520" y="86"/>
                </a:lnTo>
                <a:lnTo>
                  <a:pt x="544" y="78"/>
                </a:lnTo>
                <a:lnTo>
                  <a:pt x="563" y="69"/>
                </a:lnTo>
                <a:lnTo>
                  <a:pt x="583" y="57"/>
                </a:lnTo>
                <a:lnTo>
                  <a:pt x="590" y="50"/>
                </a:lnTo>
                <a:lnTo>
                  <a:pt x="597" y="43"/>
                </a:lnTo>
                <a:lnTo>
                  <a:pt x="611" y="31"/>
                </a:lnTo>
                <a:lnTo>
                  <a:pt x="625" y="24"/>
                </a:lnTo>
                <a:lnTo>
                  <a:pt x="640" y="16"/>
                </a:lnTo>
                <a:lnTo>
                  <a:pt x="654" y="9"/>
                </a:lnTo>
                <a:lnTo>
                  <a:pt x="668" y="7"/>
                </a:lnTo>
                <a:lnTo>
                  <a:pt x="680" y="2"/>
                </a:lnTo>
                <a:lnTo>
                  <a:pt x="692" y="0"/>
                </a:lnTo>
                <a:lnTo>
                  <a:pt x="702" y="0"/>
                </a:lnTo>
                <a:lnTo>
                  <a:pt x="704" y="2"/>
                </a:lnTo>
                <a:lnTo>
                  <a:pt x="709" y="7"/>
                </a:lnTo>
                <a:lnTo>
                  <a:pt x="714" y="9"/>
                </a:lnTo>
                <a:lnTo>
                  <a:pt x="719" y="14"/>
                </a:lnTo>
                <a:lnTo>
                  <a:pt x="726" y="16"/>
                </a:lnTo>
                <a:lnTo>
                  <a:pt x="733" y="21"/>
                </a:lnTo>
                <a:lnTo>
                  <a:pt x="740" y="26"/>
                </a:lnTo>
                <a:lnTo>
                  <a:pt x="750" y="31"/>
                </a:lnTo>
                <a:lnTo>
                  <a:pt x="762" y="35"/>
                </a:lnTo>
                <a:lnTo>
                  <a:pt x="771" y="43"/>
                </a:lnTo>
                <a:lnTo>
                  <a:pt x="783" y="47"/>
                </a:lnTo>
                <a:lnTo>
                  <a:pt x="797" y="55"/>
                </a:lnTo>
                <a:lnTo>
                  <a:pt x="812" y="62"/>
                </a:lnTo>
                <a:lnTo>
                  <a:pt x="826" y="69"/>
                </a:lnTo>
                <a:lnTo>
                  <a:pt x="840" y="76"/>
                </a:lnTo>
                <a:lnTo>
                  <a:pt x="857" y="83"/>
                </a:lnTo>
                <a:lnTo>
                  <a:pt x="871" y="93"/>
                </a:lnTo>
                <a:lnTo>
                  <a:pt x="886" y="102"/>
                </a:lnTo>
                <a:lnTo>
                  <a:pt x="898" y="112"/>
                </a:lnTo>
                <a:lnTo>
                  <a:pt x="910" y="121"/>
                </a:lnTo>
                <a:lnTo>
                  <a:pt x="919" y="131"/>
                </a:lnTo>
                <a:lnTo>
                  <a:pt x="929" y="141"/>
                </a:lnTo>
                <a:lnTo>
                  <a:pt x="938" y="150"/>
                </a:lnTo>
                <a:lnTo>
                  <a:pt x="945" y="157"/>
                </a:lnTo>
                <a:lnTo>
                  <a:pt x="953" y="167"/>
                </a:lnTo>
                <a:lnTo>
                  <a:pt x="957" y="174"/>
                </a:lnTo>
                <a:lnTo>
                  <a:pt x="965" y="181"/>
                </a:lnTo>
                <a:lnTo>
                  <a:pt x="967" y="191"/>
                </a:lnTo>
                <a:lnTo>
                  <a:pt x="972" y="198"/>
                </a:lnTo>
                <a:lnTo>
                  <a:pt x="974" y="205"/>
                </a:lnTo>
                <a:lnTo>
                  <a:pt x="974" y="215"/>
                </a:lnTo>
                <a:lnTo>
                  <a:pt x="974" y="222"/>
                </a:lnTo>
                <a:lnTo>
                  <a:pt x="974" y="222"/>
                </a:lnTo>
              </a:path>
            </a:pathLst>
          </a:custGeom>
          <a:solidFill>
            <a:srgbClr val="3333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260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横折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éngz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iù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38360" y="765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342" name="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54960" y="907920"/>
            <a:ext cx="10335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伸手盖两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脚都落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35280" y="-457200"/>
            <a:ext cx="172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</a:rPr>
              <a:t>qī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68680" y="765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350" name="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50080" y="692280"/>
            <a:ext cx="10335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跷跷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翘得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边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右边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35280" y="-457200"/>
            <a:ext cx="172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</a:rPr>
              <a:t>bā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41760" y="7509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358" name="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499160" y="692280"/>
            <a:ext cx="10335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撇头和捺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伸手抱小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11640" y="-9828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ji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5760" y="7761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366" name="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79640" y="4077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859280" y="1341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05400" y="1052640"/>
            <a:ext cx="606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撇画向左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横斜弯钩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369080" y="473040"/>
            <a:ext cx="6764760" cy="3975840"/>
            <a:chOff x="1369080" y="473040"/>
            <a:chExt cx="6764760" cy="3975840"/>
          </a:xfrm>
        </p:grpSpPr>
        <p:sp>
          <p:nvSpPr>
            <p:cNvPr id="371" name=""/>
            <p:cNvSpPr/>
            <p:nvPr/>
          </p:nvSpPr>
          <p:spPr>
            <a:xfrm>
              <a:off x="1369080" y="473040"/>
              <a:ext cx="1579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tíng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08960" y="473040"/>
              <a:ext cx="1065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t</a:t>
              </a: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á</a:t>
              </a: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i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01680" y="541440"/>
              <a:ext cx="1532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y</a:t>
              </a: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n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6720" y="3349440"/>
              <a:ext cx="1532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zu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19560" y="3278160"/>
              <a:ext cx="1299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바탕"/>
                </a:rPr>
                <a:t>zhī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403280" y="1628640"/>
            <a:ext cx="7128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亭   台    烟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0920" y="4292640"/>
            <a:ext cx="540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座    枝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572000" cy="37339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981080" y="52578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          ）朵  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16360" y="4653000"/>
            <a:ext cx="1600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六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143000" y="472428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（        ）个女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24000" y="4005360"/>
            <a:ext cx="1752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八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5545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5029200" cy="32097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676520" y="5334120"/>
            <a:ext cx="69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        )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朵 向 日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ku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95640" y="501336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32000" y="536256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404640"/>
            <a:ext cx="459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24000" y="981000"/>
            <a:ext cx="8426160" cy="4925160"/>
          </a:xfrm>
          <a:prstGeom prst="rect">
            <a:avLst/>
          </a:prstGeom>
          <a:solidFill>
            <a:srgbClr val="ffffff">
              <a:alpha val="70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yī  è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r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 sān   sì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 w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一   二  三   四   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liù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qī </a:t>
            </a:r>
            <a:r>
              <a:rPr b="1" lang="zh-CN" sz="5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仿宋"/>
                <a:ea typeface="仿宋"/>
              </a:rPr>
              <a:t>bā  jiǔ  sh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仿宋"/>
                <a:ea typeface="仿宋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六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七   八     九    十</a:t>
            </a:r>
            <a:br>
              <a:rPr sz="4000"/>
            </a:b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523880" y="480060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（        ）只   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4076640"/>
            <a:ext cx="1828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五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3744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三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ì    shì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山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十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í   sí 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 yī       ī ) 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五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wǔ    ǔ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285264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27640" y="278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92360" y="3716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27640" y="371628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92360" y="4724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84720" y="4724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187280" y="1484280"/>
            <a:ext cx="61722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片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片又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两片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片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四五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六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片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七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片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八九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片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香山红叶红满天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133720" y="1600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qù       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27432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ān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ūn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ji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3886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tínɡ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方正姚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33720" y="50292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zhī  hu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228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qù  </a:t>
            </a:r>
            <a:r>
              <a:rPr b="0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95640" y="1916280"/>
            <a:ext cx="60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里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95640" y="3068640"/>
            <a:ext cx="596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 村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家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40000" y="4292640"/>
            <a:ext cx="60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 台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座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5410080"/>
            <a:ext cx="610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枝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68360" y="83664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       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268360" y="4437000"/>
            <a:ext cx="55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248436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484360" y="2133720"/>
            <a:ext cx="576360" cy="647640"/>
            <a:chOff x="2484360" y="2133720"/>
            <a:chExt cx="576360" cy="647640"/>
          </a:xfrm>
        </p:grpSpPr>
        <p:grpSp>
          <p:nvGrpSpPr>
            <p:cNvPr id="413" name=""/>
            <p:cNvGrpSpPr/>
            <p:nvPr/>
          </p:nvGrpSpPr>
          <p:grpSpPr>
            <a:xfrm>
              <a:off x="2484360" y="2133720"/>
              <a:ext cx="576360" cy="647640"/>
              <a:chOff x="2484360" y="2133720"/>
              <a:chExt cx="576360" cy="647640"/>
            </a:xfrm>
          </p:grpSpPr>
          <p:sp>
            <p:nvSpPr>
              <p:cNvPr id="414" name=""/>
              <p:cNvSpPr/>
              <p:nvPr/>
            </p:nvSpPr>
            <p:spPr>
              <a:xfrm>
                <a:off x="2484360" y="213372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84360" y="245916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772720" y="213372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508720" y="836640"/>
            <a:ext cx="576000" cy="647640"/>
            <a:chOff x="5508720" y="836640"/>
            <a:chExt cx="576000" cy="647640"/>
          </a:xfrm>
        </p:grpSpPr>
        <p:grpSp>
          <p:nvGrpSpPr>
            <p:cNvPr id="418" name=""/>
            <p:cNvGrpSpPr/>
            <p:nvPr/>
          </p:nvGrpSpPr>
          <p:grpSpPr>
            <a:xfrm>
              <a:off x="5508720" y="836640"/>
              <a:ext cx="576000" cy="647640"/>
              <a:chOff x="5508720" y="836640"/>
              <a:chExt cx="576000" cy="647640"/>
            </a:xfrm>
          </p:grpSpPr>
          <p:sp>
            <p:nvSpPr>
              <p:cNvPr id="419" name=""/>
              <p:cNvSpPr/>
              <p:nvPr/>
            </p:nvSpPr>
            <p:spPr>
              <a:xfrm>
                <a:off x="5508720" y="836640"/>
                <a:ext cx="57600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508720" y="1162080"/>
                <a:ext cx="5760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5796720" y="83664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716360" y="836640"/>
            <a:ext cx="576360" cy="647640"/>
            <a:chOff x="4716360" y="836640"/>
            <a:chExt cx="576360" cy="647640"/>
          </a:xfrm>
        </p:grpSpPr>
        <p:grpSp>
          <p:nvGrpSpPr>
            <p:cNvPr id="423" name=""/>
            <p:cNvGrpSpPr/>
            <p:nvPr/>
          </p:nvGrpSpPr>
          <p:grpSpPr>
            <a:xfrm>
              <a:off x="4716360" y="836640"/>
              <a:ext cx="576360" cy="647640"/>
              <a:chOff x="4716360" y="836640"/>
              <a:chExt cx="576360" cy="647640"/>
            </a:xfrm>
          </p:grpSpPr>
          <p:sp>
            <p:nvSpPr>
              <p:cNvPr id="424" name=""/>
              <p:cNvSpPr/>
              <p:nvPr/>
            </p:nvSpPr>
            <p:spPr>
              <a:xfrm>
                <a:off x="4716360" y="83664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16360" y="116208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004720" y="83664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916360" y="765000"/>
            <a:ext cx="576000" cy="648000"/>
            <a:chOff x="2916360" y="765000"/>
            <a:chExt cx="576000" cy="648000"/>
          </a:xfrm>
        </p:grpSpPr>
        <p:grpSp>
          <p:nvGrpSpPr>
            <p:cNvPr id="428" name=""/>
            <p:cNvGrpSpPr/>
            <p:nvPr/>
          </p:nvGrpSpPr>
          <p:grpSpPr>
            <a:xfrm>
              <a:off x="2916360" y="765000"/>
              <a:ext cx="576000" cy="648000"/>
              <a:chOff x="2916360" y="765000"/>
              <a:chExt cx="576000" cy="648000"/>
            </a:xfrm>
          </p:grpSpPr>
          <p:sp>
            <p:nvSpPr>
              <p:cNvPr id="429" name=""/>
              <p:cNvSpPr/>
              <p:nvPr/>
            </p:nvSpPr>
            <p:spPr>
              <a:xfrm>
                <a:off x="2916360" y="765000"/>
                <a:ext cx="576000" cy="64800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16360" y="1090800"/>
                <a:ext cx="5760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3204360" y="765000"/>
              <a:ext cx="0" cy="64800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284720" y="2133720"/>
            <a:ext cx="576360" cy="647640"/>
            <a:chOff x="4284720" y="2133720"/>
            <a:chExt cx="576360" cy="647640"/>
          </a:xfrm>
        </p:grpSpPr>
        <p:grpSp>
          <p:nvGrpSpPr>
            <p:cNvPr id="433" name=""/>
            <p:cNvGrpSpPr/>
            <p:nvPr/>
          </p:nvGrpSpPr>
          <p:grpSpPr>
            <a:xfrm>
              <a:off x="4284720" y="2133720"/>
              <a:ext cx="576360" cy="647640"/>
              <a:chOff x="4284720" y="2133720"/>
              <a:chExt cx="576360" cy="647640"/>
            </a:xfrm>
          </p:grpSpPr>
          <p:sp>
            <p:nvSpPr>
              <p:cNvPr id="434" name=""/>
              <p:cNvSpPr/>
              <p:nvPr/>
            </p:nvSpPr>
            <p:spPr>
              <a:xfrm>
                <a:off x="4284720" y="213372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284720" y="245916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573080" y="213372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076720" y="2133720"/>
            <a:ext cx="576360" cy="647640"/>
            <a:chOff x="5076720" y="2133720"/>
            <a:chExt cx="576360" cy="647640"/>
          </a:xfrm>
        </p:grpSpPr>
        <p:grpSp>
          <p:nvGrpSpPr>
            <p:cNvPr id="438" name=""/>
            <p:cNvGrpSpPr/>
            <p:nvPr/>
          </p:nvGrpSpPr>
          <p:grpSpPr>
            <a:xfrm>
              <a:off x="5076720" y="2133720"/>
              <a:ext cx="576360" cy="647640"/>
              <a:chOff x="5076720" y="2133720"/>
              <a:chExt cx="576360" cy="647640"/>
            </a:xfrm>
          </p:grpSpPr>
          <p:sp>
            <p:nvSpPr>
              <p:cNvPr id="439" name=""/>
              <p:cNvSpPr/>
              <p:nvPr/>
            </p:nvSpPr>
            <p:spPr>
              <a:xfrm>
                <a:off x="5076720" y="213372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076720" y="245916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365080" y="213372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211640" y="3213000"/>
            <a:ext cx="576360" cy="647640"/>
            <a:chOff x="4211640" y="3213000"/>
            <a:chExt cx="576360" cy="647640"/>
          </a:xfrm>
        </p:grpSpPr>
        <p:grpSp>
          <p:nvGrpSpPr>
            <p:cNvPr id="443" name=""/>
            <p:cNvGrpSpPr/>
            <p:nvPr/>
          </p:nvGrpSpPr>
          <p:grpSpPr>
            <a:xfrm>
              <a:off x="4211640" y="3213000"/>
              <a:ext cx="576360" cy="647640"/>
              <a:chOff x="4211640" y="3213000"/>
              <a:chExt cx="576360" cy="647640"/>
            </a:xfrm>
          </p:grpSpPr>
          <p:sp>
            <p:nvSpPr>
              <p:cNvPr id="444" name=""/>
              <p:cNvSpPr/>
              <p:nvPr/>
            </p:nvSpPr>
            <p:spPr>
              <a:xfrm>
                <a:off x="4211640" y="321300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11640" y="353844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4500000" y="321300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076720" y="3213000"/>
            <a:ext cx="576360" cy="647640"/>
            <a:chOff x="5076720" y="3213000"/>
            <a:chExt cx="576360" cy="647640"/>
          </a:xfrm>
        </p:grpSpPr>
        <p:grpSp>
          <p:nvGrpSpPr>
            <p:cNvPr id="448" name=""/>
            <p:cNvGrpSpPr/>
            <p:nvPr/>
          </p:nvGrpSpPr>
          <p:grpSpPr>
            <a:xfrm>
              <a:off x="5076720" y="3213000"/>
              <a:ext cx="576360" cy="647640"/>
              <a:chOff x="5076720" y="3213000"/>
              <a:chExt cx="576360" cy="647640"/>
            </a:xfrm>
          </p:grpSpPr>
          <p:sp>
            <p:nvSpPr>
              <p:cNvPr id="449" name=""/>
              <p:cNvSpPr/>
              <p:nvPr/>
            </p:nvSpPr>
            <p:spPr>
              <a:xfrm>
                <a:off x="5076720" y="321300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076720" y="353844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365080" y="321300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284720" y="4365720"/>
            <a:ext cx="576360" cy="647640"/>
            <a:chOff x="4284720" y="4365720"/>
            <a:chExt cx="576360" cy="647640"/>
          </a:xfrm>
        </p:grpSpPr>
        <p:grpSp>
          <p:nvGrpSpPr>
            <p:cNvPr id="453" name=""/>
            <p:cNvGrpSpPr/>
            <p:nvPr/>
          </p:nvGrpSpPr>
          <p:grpSpPr>
            <a:xfrm>
              <a:off x="4284720" y="4365720"/>
              <a:ext cx="576360" cy="647640"/>
              <a:chOff x="4284720" y="4365720"/>
              <a:chExt cx="576360" cy="647640"/>
            </a:xfrm>
          </p:grpSpPr>
          <p:sp>
            <p:nvSpPr>
              <p:cNvPr id="454" name=""/>
              <p:cNvSpPr/>
              <p:nvPr/>
            </p:nvSpPr>
            <p:spPr>
              <a:xfrm>
                <a:off x="4284720" y="436572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84720" y="469116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4573080" y="436572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76720" y="4365720"/>
            <a:ext cx="576360" cy="647640"/>
            <a:chOff x="5076720" y="4365720"/>
            <a:chExt cx="576360" cy="647640"/>
          </a:xfrm>
        </p:grpSpPr>
        <p:grpSp>
          <p:nvGrpSpPr>
            <p:cNvPr id="458" name=""/>
            <p:cNvGrpSpPr/>
            <p:nvPr/>
          </p:nvGrpSpPr>
          <p:grpSpPr>
            <a:xfrm>
              <a:off x="5076720" y="4365720"/>
              <a:ext cx="576360" cy="647640"/>
              <a:chOff x="5076720" y="4365720"/>
              <a:chExt cx="576360" cy="647640"/>
            </a:xfrm>
          </p:grpSpPr>
          <p:sp>
            <p:nvSpPr>
              <p:cNvPr id="459" name=""/>
              <p:cNvSpPr/>
              <p:nvPr/>
            </p:nvSpPr>
            <p:spPr>
              <a:xfrm>
                <a:off x="5076720" y="436572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76720" y="469116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5365080" y="436572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411280" y="5516640"/>
            <a:ext cx="576360" cy="647640"/>
            <a:chOff x="2411280" y="5516640"/>
            <a:chExt cx="576360" cy="647640"/>
          </a:xfrm>
        </p:grpSpPr>
        <p:grpSp>
          <p:nvGrpSpPr>
            <p:cNvPr id="463" name=""/>
            <p:cNvGrpSpPr/>
            <p:nvPr/>
          </p:nvGrpSpPr>
          <p:grpSpPr>
            <a:xfrm>
              <a:off x="2411280" y="5516640"/>
              <a:ext cx="576360" cy="647640"/>
              <a:chOff x="2411280" y="5516640"/>
              <a:chExt cx="576360" cy="647640"/>
            </a:xfrm>
          </p:grpSpPr>
          <p:sp>
            <p:nvSpPr>
              <p:cNvPr id="464" name=""/>
              <p:cNvSpPr/>
              <p:nvPr/>
            </p:nvSpPr>
            <p:spPr>
              <a:xfrm>
                <a:off x="2411280" y="551664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411280" y="584208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2699640" y="551664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276720" y="5516640"/>
            <a:ext cx="576000" cy="647640"/>
            <a:chOff x="3276720" y="5516640"/>
            <a:chExt cx="576000" cy="647640"/>
          </a:xfrm>
        </p:grpSpPr>
        <p:grpSp>
          <p:nvGrpSpPr>
            <p:cNvPr id="468" name=""/>
            <p:cNvGrpSpPr/>
            <p:nvPr/>
          </p:nvGrpSpPr>
          <p:grpSpPr>
            <a:xfrm>
              <a:off x="3276720" y="5516640"/>
              <a:ext cx="576000" cy="647640"/>
              <a:chOff x="3276720" y="5516640"/>
              <a:chExt cx="576000" cy="647640"/>
            </a:xfrm>
          </p:grpSpPr>
          <p:sp>
            <p:nvSpPr>
              <p:cNvPr id="469" name=""/>
              <p:cNvSpPr/>
              <p:nvPr/>
            </p:nvSpPr>
            <p:spPr>
              <a:xfrm>
                <a:off x="3276720" y="5516640"/>
                <a:ext cx="57600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76720" y="5842080"/>
                <a:ext cx="57600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564720" y="551664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11640" y="5516640"/>
            <a:ext cx="576360" cy="647640"/>
            <a:chOff x="4211640" y="5516640"/>
            <a:chExt cx="576360" cy="647640"/>
          </a:xfrm>
        </p:grpSpPr>
        <p:grpSp>
          <p:nvGrpSpPr>
            <p:cNvPr id="473" name=""/>
            <p:cNvGrpSpPr/>
            <p:nvPr/>
          </p:nvGrpSpPr>
          <p:grpSpPr>
            <a:xfrm>
              <a:off x="4211640" y="5516640"/>
              <a:ext cx="576360" cy="647640"/>
              <a:chOff x="4211640" y="5516640"/>
              <a:chExt cx="576360" cy="647640"/>
            </a:xfrm>
          </p:grpSpPr>
          <p:sp>
            <p:nvSpPr>
              <p:cNvPr id="474" name=""/>
              <p:cNvSpPr/>
              <p:nvPr/>
            </p:nvSpPr>
            <p:spPr>
              <a:xfrm>
                <a:off x="4211640" y="5516640"/>
                <a:ext cx="576360" cy="6476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11640" y="5842080"/>
                <a:ext cx="57636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4500000" y="5516640"/>
              <a:ext cx="0" cy="64764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917800" y="784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60600" y="321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240" y="855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92600" y="855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95520" y="3232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68600" y="2152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60600" y="21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68600" y="4384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60600" y="4384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95160" y="553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60240" y="553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95520" y="553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187280" y="2133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我们周围找找本课的生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16000" y="3213000"/>
            <a:ext cx="635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向爸爸妈妈介绍自己的文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或家里的用具用上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—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汉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916360" y="162864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附基本笔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156480" y="551664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d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989000"/>
            <a:ext cx="223380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096000" y="5516640"/>
            <a:ext cx="18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hé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132000" y="2997360"/>
            <a:ext cx="2448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方正楷体繁体"/>
              </a:rPr>
              <a:t>一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方正楷体繁体"/>
              <a:ea typeface="方正楷体繁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599640" y="5516640"/>
            <a:ext cx="15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竖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h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628640"/>
            <a:ext cx="2341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443760" y="55897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撇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未知"/>
          <p:cNvSpPr/>
          <p:nvPr/>
        </p:nvSpPr>
        <p:spPr>
          <a:xfrm>
            <a:off x="3657600" y="1706400"/>
            <a:ext cx="1130400" cy="2298960"/>
          </a:xfrm>
          <a:custGeom>
            <a:avLst/>
            <a:gdLst/>
            <a:ahLst/>
            <a:rect l="l" t="t" r="r" b="b"/>
            <a:pathLst>
              <a:path w="551" h="1345">
                <a:moveTo>
                  <a:pt x="408" y="791"/>
                </a:moveTo>
                <a:lnTo>
                  <a:pt x="396" y="822"/>
                </a:lnTo>
                <a:lnTo>
                  <a:pt x="382" y="850"/>
                </a:lnTo>
                <a:lnTo>
                  <a:pt x="370" y="879"/>
                </a:lnTo>
                <a:lnTo>
                  <a:pt x="358" y="908"/>
                </a:lnTo>
                <a:lnTo>
                  <a:pt x="343" y="934"/>
                </a:lnTo>
                <a:lnTo>
                  <a:pt x="329" y="960"/>
                </a:lnTo>
                <a:lnTo>
                  <a:pt x="315" y="986"/>
                </a:lnTo>
                <a:lnTo>
                  <a:pt x="300" y="1013"/>
                </a:lnTo>
                <a:lnTo>
                  <a:pt x="269" y="1060"/>
                </a:lnTo>
                <a:lnTo>
                  <a:pt x="238" y="1108"/>
                </a:lnTo>
                <a:lnTo>
                  <a:pt x="203" y="1151"/>
                </a:lnTo>
                <a:lnTo>
                  <a:pt x="167" y="1197"/>
                </a:lnTo>
                <a:lnTo>
                  <a:pt x="148" y="1216"/>
                </a:lnTo>
                <a:lnTo>
                  <a:pt x="131" y="1235"/>
                </a:lnTo>
                <a:lnTo>
                  <a:pt x="114" y="1254"/>
                </a:lnTo>
                <a:lnTo>
                  <a:pt x="100" y="1268"/>
                </a:lnTo>
                <a:lnTo>
                  <a:pt x="86" y="1283"/>
                </a:lnTo>
                <a:lnTo>
                  <a:pt x="74" y="1297"/>
                </a:lnTo>
                <a:lnTo>
                  <a:pt x="62" y="1306"/>
                </a:lnTo>
                <a:lnTo>
                  <a:pt x="52" y="1316"/>
                </a:lnTo>
                <a:lnTo>
                  <a:pt x="43" y="1326"/>
                </a:lnTo>
                <a:lnTo>
                  <a:pt x="33" y="1333"/>
                </a:lnTo>
                <a:lnTo>
                  <a:pt x="26" y="1337"/>
                </a:lnTo>
                <a:lnTo>
                  <a:pt x="19" y="1342"/>
                </a:lnTo>
                <a:lnTo>
                  <a:pt x="14" y="1342"/>
                </a:lnTo>
                <a:lnTo>
                  <a:pt x="9" y="1345"/>
                </a:lnTo>
                <a:lnTo>
                  <a:pt x="5" y="1342"/>
                </a:lnTo>
                <a:lnTo>
                  <a:pt x="2" y="1340"/>
                </a:lnTo>
                <a:lnTo>
                  <a:pt x="0" y="1337"/>
                </a:lnTo>
                <a:lnTo>
                  <a:pt x="0" y="1333"/>
                </a:lnTo>
                <a:lnTo>
                  <a:pt x="0" y="1326"/>
                </a:lnTo>
                <a:lnTo>
                  <a:pt x="0" y="1316"/>
                </a:lnTo>
                <a:lnTo>
                  <a:pt x="2" y="1306"/>
                </a:lnTo>
                <a:lnTo>
                  <a:pt x="5" y="1297"/>
                </a:lnTo>
                <a:lnTo>
                  <a:pt x="9" y="1283"/>
                </a:lnTo>
                <a:lnTo>
                  <a:pt x="14" y="1268"/>
                </a:lnTo>
                <a:lnTo>
                  <a:pt x="21" y="1251"/>
                </a:lnTo>
                <a:lnTo>
                  <a:pt x="28" y="1235"/>
                </a:lnTo>
                <a:lnTo>
                  <a:pt x="38" y="1216"/>
                </a:lnTo>
                <a:lnTo>
                  <a:pt x="47" y="1197"/>
                </a:lnTo>
                <a:lnTo>
                  <a:pt x="59" y="1175"/>
                </a:lnTo>
                <a:lnTo>
                  <a:pt x="74" y="1151"/>
                </a:lnTo>
                <a:lnTo>
                  <a:pt x="88" y="1125"/>
                </a:lnTo>
                <a:lnTo>
                  <a:pt x="102" y="1099"/>
                </a:lnTo>
                <a:lnTo>
                  <a:pt x="119" y="1075"/>
                </a:lnTo>
                <a:lnTo>
                  <a:pt x="136" y="1048"/>
                </a:lnTo>
                <a:lnTo>
                  <a:pt x="150" y="1022"/>
                </a:lnTo>
                <a:lnTo>
                  <a:pt x="164" y="996"/>
                </a:lnTo>
                <a:lnTo>
                  <a:pt x="179" y="967"/>
                </a:lnTo>
                <a:lnTo>
                  <a:pt x="191" y="941"/>
                </a:lnTo>
                <a:lnTo>
                  <a:pt x="217" y="881"/>
                </a:lnTo>
                <a:lnTo>
                  <a:pt x="229" y="853"/>
                </a:lnTo>
                <a:lnTo>
                  <a:pt x="238" y="822"/>
                </a:lnTo>
                <a:lnTo>
                  <a:pt x="250" y="791"/>
                </a:lnTo>
                <a:lnTo>
                  <a:pt x="260" y="759"/>
                </a:lnTo>
                <a:lnTo>
                  <a:pt x="269" y="728"/>
                </a:lnTo>
                <a:lnTo>
                  <a:pt x="277" y="695"/>
                </a:lnTo>
                <a:lnTo>
                  <a:pt x="286" y="664"/>
                </a:lnTo>
                <a:lnTo>
                  <a:pt x="293" y="631"/>
                </a:lnTo>
                <a:lnTo>
                  <a:pt x="300" y="597"/>
                </a:lnTo>
                <a:lnTo>
                  <a:pt x="305" y="561"/>
                </a:lnTo>
                <a:lnTo>
                  <a:pt x="312" y="528"/>
                </a:lnTo>
                <a:lnTo>
                  <a:pt x="317" y="490"/>
                </a:lnTo>
                <a:lnTo>
                  <a:pt x="320" y="454"/>
                </a:lnTo>
                <a:lnTo>
                  <a:pt x="324" y="416"/>
                </a:lnTo>
                <a:lnTo>
                  <a:pt x="327" y="377"/>
                </a:lnTo>
                <a:lnTo>
                  <a:pt x="331" y="339"/>
                </a:lnTo>
                <a:lnTo>
                  <a:pt x="331" y="299"/>
                </a:lnTo>
                <a:lnTo>
                  <a:pt x="334" y="258"/>
                </a:lnTo>
                <a:lnTo>
                  <a:pt x="334" y="217"/>
                </a:lnTo>
                <a:lnTo>
                  <a:pt x="336" y="177"/>
                </a:lnTo>
                <a:lnTo>
                  <a:pt x="336" y="134"/>
                </a:lnTo>
                <a:lnTo>
                  <a:pt x="334" y="88"/>
                </a:lnTo>
                <a:lnTo>
                  <a:pt x="334" y="45"/>
                </a:lnTo>
                <a:lnTo>
                  <a:pt x="331" y="0"/>
                </a:lnTo>
                <a:lnTo>
                  <a:pt x="355" y="19"/>
                </a:lnTo>
                <a:lnTo>
                  <a:pt x="379" y="36"/>
                </a:lnTo>
                <a:lnTo>
                  <a:pt x="401" y="53"/>
                </a:lnTo>
                <a:lnTo>
                  <a:pt x="422" y="67"/>
                </a:lnTo>
                <a:lnTo>
                  <a:pt x="439" y="81"/>
                </a:lnTo>
                <a:lnTo>
                  <a:pt x="456" y="96"/>
                </a:lnTo>
                <a:lnTo>
                  <a:pt x="472" y="110"/>
                </a:lnTo>
                <a:lnTo>
                  <a:pt x="487" y="122"/>
                </a:lnTo>
                <a:lnTo>
                  <a:pt x="499" y="134"/>
                </a:lnTo>
                <a:lnTo>
                  <a:pt x="508" y="143"/>
                </a:lnTo>
                <a:lnTo>
                  <a:pt x="518" y="155"/>
                </a:lnTo>
                <a:lnTo>
                  <a:pt x="527" y="165"/>
                </a:lnTo>
                <a:lnTo>
                  <a:pt x="534" y="172"/>
                </a:lnTo>
                <a:lnTo>
                  <a:pt x="539" y="182"/>
                </a:lnTo>
                <a:lnTo>
                  <a:pt x="544" y="189"/>
                </a:lnTo>
                <a:lnTo>
                  <a:pt x="546" y="193"/>
                </a:lnTo>
                <a:lnTo>
                  <a:pt x="549" y="213"/>
                </a:lnTo>
                <a:lnTo>
                  <a:pt x="551" y="234"/>
                </a:lnTo>
                <a:lnTo>
                  <a:pt x="551" y="256"/>
                </a:lnTo>
                <a:lnTo>
                  <a:pt x="549" y="282"/>
                </a:lnTo>
                <a:lnTo>
                  <a:pt x="549" y="294"/>
                </a:lnTo>
                <a:lnTo>
                  <a:pt x="546" y="308"/>
                </a:lnTo>
                <a:lnTo>
                  <a:pt x="544" y="322"/>
                </a:lnTo>
                <a:lnTo>
                  <a:pt x="542" y="337"/>
                </a:lnTo>
                <a:lnTo>
                  <a:pt x="539" y="353"/>
                </a:lnTo>
                <a:lnTo>
                  <a:pt x="539" y="370"/>
                </a:lnTo>
                <a:lnTo>
                  <a:pt x="537" y="387"/>
                </a:lnTo>
                <a:lnTo>
                  <a:pt x="534" y="404"/>
                </a:lnTo>
                <a:lnTo>
                  <a:pt x="530" y="423"/>
                </a:lnTo>
                <a:lnTo>
                  <a:pt x="522" y="442"/>
                </a:lnTo>
                <a:lnTo>
                  <a:pt x="518" y="461"/>
                </a:lnTo>
                <a:lnTo>
                  <a:pt x="513" y="482"/>
                </a:lnTo>
                <a:lnTo>
                  <a:pt x="506" y="504"/>
                </a:lnTo>
                <a:lnTo>
                  <a:pt x="499" y="525"/>
                </a:lnTo>
                <a:lnTo>
                  <a:pt x="491" y="549"/>
                </a:lnTo>
                <a:lnTo>
                  <a:pt x="484" y="573"/>
                </a:lnTo>
                <a:lnTo>
                  <a:pt x="477" y="597"/>
                </a:lnTo>
                <a:lnTo>
                  <a:pt x="468" y="623"/>
                </a:lnTo>
                <a:lnTo>
                  <a:pt x="458" y="650"/>
                </a:lnTo>
                <a:lnTo>
                  <a:pt x="448" y="676"/>
                </a:lnTo>
                <a:lnTo>
                  <a:pt x="439" y="705"/>
                </a:lnTo>
                <a:lnTo>
                  <a:pt x="429" y="733"/>
                </a:lnTo>
                <a:lnTo>
                  <a:pt x="417" y="762"/>
                </a:lnTo>
                <a:lnTo>
                  <a:pt x="408" y="791"/>
                </a:lnTo>
                <a:lnTo>
                  <a:pt x="408" y="791"/>
                </a:lnTo>
              </a:path>
            </a:pathLst>
          </a:custGeom>
          <a:solidFill>
            <a:srgbClr val="80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1700280"/>
            <a:ext cx="8856720" cy="53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    三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     村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    五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69228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í    qù     èr    sān   l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141720"/>
            <a:ext cx="86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ān   cūn   sì    wǔ    ji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731400" y="566100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捺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未知"/>
          <p:cNvSpPr/>
          <p:nvPr/>
        </p:nvSpPr>
        <p:spPr>
          <a:xfrm>
            <a:off x="3564000" y="2060640"/>
            <a:ext cx="2448000" cy="1368360"/>
          </a:xfrm>
          <a:custGeom>
            <a:avLst/>
            <a:gdLst/>
            <a:ahLst/>
            <a:rect l="l" t="t" r="r" b="b"/>
            <a:pathLst>
              <a:path w="1796" h="1035">
                <a:moveTo>
                  <a:pt x="0" y="57"/>
                </a:moveTo>
                <a:lnTo>
                  <a:pt x="5" y="52"/>
                </a:lnTo>
                <a:lnTo>
                  <a:pt x="10" y="45"/>
                </a:lnTo>
                <a:lnTo>
                  <a:pt x="17" y="33"/>
                </a:lnTo>
                <a:lnTo>
                  <a:pt x="27" y="21"/>
                </a:lnTo>
                <a:lnTo>
                  <a:pt x="31" y="16"/>
                </a:lnTo>
                <a:lnTo>
                  <a:pt x="34" y="12"/>
                </a:lnTo>
                <a:lnTo>
                  <a:pt x="38" y="7"/>
                </a:lnTo>
                <a:lnTo>
                  <a:pt x="43" y="4"/>
                </a:lnTo>
                <a:lnTo>
                  <a:pt x="48" y="4"/>
                </a:lnTo>
                <a:lnTo>
                  <a:pt x="55" y="2"/>
                </a:lnTo>
                <a:lnTo>
                  <a:pt x="62" y="2"/>
                </a:lnTo>
                <a:lnTo>
                  <a:pt x="70" y="0"/>
                </a:lnTo>
                <a:lnTo>
                  <a:pt x="79" y="0"/>
                </a:lnTo>
                <a:lnTo>
                  <a:pt x="91" y="0"/>
                </a:lnTo>
                <a:lnTo>
                  <a:pt x="98" y="2"/>
                </a:lnTo>
                <a:lnTo>
                  <a:pt x="108" y="2"/>
                </a:lnTo>
                <a:lnTo>
                  <a:pt x="115" y="7"/>
                </a:lnTo>
                <a:lnTo>
                  <a:pt x="127" y="12"/>
                </a:lnTo>
                <a:lnTo>
                  <a:pt x="139" y="16"/>
                </a:lnTo>
                <a:lnTo>
                  <a:pt x="151" y="24"/>
                </a:lnTo>
                <a:lnTo>
                  <a:pt x="165" y="33"/>
                </a:lnTo>
                <a:lnTo>
                  <a:pt x="179" y="43"/>
                </a:lnTo>
                <a:lnTo>
                  <a:pt x="196" y="55"/>
                </a:lnTo>
                <a:lnTo>
                  <a:pt x="215" y="69"/>
                </a:lnTo>
                <a:lnTo>
                  <a:pt x="234" y="83"/>
                </a:lnTo>
                <a:lnTo>
                  <a:pt x="256" y="97"/>
                </a:lnTo>
                <a:lnTo>
                  <a:pt x="277" y="117"/>
                </a:lnTo>
                <a:lnTo>
                  <a:pt x="301" y="136"/>
                </a:lnTo>
                <a:lnTo>
                  <a:pt x="325" y="157"/>
                </a:lnTo>
                <a:lnTo>
                  <a:pt x="354" y="179"/>
                </a:lnTo>
                <a:lnTo>
                  <a:pt x="409" y="224"/>
                </a:lnTo>
                <a:lnTo>
                  <a:pt x="461" y="269"/>
                </a:lnTo>
                <a:lnTo>
                  <a:pt x="514" y="312"/>
                </a:lnTo>
                <a:lnTo>
                  <a:pt x="568" y="355"/>
                </a:lnTo>
                <a:lnTo>
                  <a:pt x="619" y="396"/>
                </a:lnTo>
                <a:lnTo>
                  <a:pt x="671" y="434"/>
                </a:lnTo>
                <a:lnTo>
                  <a:pt x="724" y="474"/>
                </a:lnTo>
                <a:lnTo>
                  <a:pt x="774" y="513"/>
                </a:lnTo>
                <a:lnTo>
                  <a:pt x="800" y="534"/>
                </a:lnTo>
                <a:lnTo>
                  <a:pt x="826" y="553"/>
                </a:lnTo>
                <a:lnTo>
                  <a:pt x="857" y="575"/>
                </a:lnTo>
                <a:lnTo>
                  <a:pt x="888" y="594"/>
                </a:lnTo>
                <a:lnTo>
                  <a:pt x="922" y="613"/>
                </a:lnTo>
                <a:lnTo>
                  <a:pt x="955" y="634"/>
                </a:lnTo>
                <a:lnTo>
                  <a:pt x="991" y="653"/>
                </a:lnTo>
                <a:lnTo>
                  <a:pt x="1029" y="670"/>
                </a:lnTo>
                <a:lnTo>
                  <a:pt x="1067" y="689"/>
                </a:lnTo>
                <a:lnTo>
                  <a:pt x="1108" y="708"/>
                </a:lnTo>
                <a:lnTo>
                  <a:pt x="1151" y="725"/>
                </a:lnTo>
                <a:lnTo>
                  <a:pt x="1196" y="744"/>
                </a:lnTo>
                <a:lnTo>
                  <a:pt x="1242" y="761"/>
                </a:lnTo>
                <a:lnTo>
                  <a:pt x="1287" y="780"/>
                </a:lnTo>
                <a:lnTo>
                  <a:pt x="1337" y="796"/>
                </a:lnTo>
                <a:lnTo>
                  <a:pt x="1387" y="813"/>
                </a:lnTo>
                <a:lnTo>
                  <a:pt x="1411" y="820"/>
                </a:lnTo>
                <a:lnTo>
                  <a:pt x="1437" y="830"/>
                </a:lnTo>
                <a:lnTo>
                  <a:pt x="1459" y="837"/>
                </a:lnTo>
                <a:lnTo>
                  <a:pt x="1483" y="844"/>
                </a:lnTo>
                <a:lnTo>
                  <a:pt x="1504" y="854"/>
                </a:lnTo>
                <a:lnTo>
                  <a:pt x="1526" y="861"/>
                </a:lnTo>
                <a:lnTo>
                  <a:pt x="1547" y="868"/>
                </a:lnTo>
                <a:lnTo>
                  <a:pt x="1566" y="873"/>
                </a:lnTo>
                <a:lnTo>
                  <a:pt x="1585" y="880"/>
                </a:lnTo>
                <a:lnTo>
                  <a:pt x="1602" y="887"/>
                </a:lnTo>
                <a:lnTo>
                  <a:pt x="1619" y="894"/>
                </a:lnTo>
                <a:lnTo>
                  <a:pt x="1636" y="899"/>
                </a:lnTo>
                <a:lnTo>
                  <a:pt x="1652" y="904"/>
                </a:lnTo>
                <a:lnTo>
                  <a:pt x="1667" y="911"/>
                </a:lnTo>
                <a:lnTo>
                  <a:pt x="1681" y="916"/>
                </a:lnTo>
                <a:lnTo>
                  <a:pt x="1693" y="920"/>
                </a:lnTo>
                <a:lnTo>
                  <a:pt x="1707" y="925"/>
                </a:lnTo>
                <a:lnTo>
                  <a:pt x="1717" y="930"/>
                </a:lnTo>
                <a:lnTo>
                  <a:pt x="1729" y="935"/>
                </a:lnTo>
                <a:lnTo>
                  <a:pt x="1738" y="940"/>
                </a:lnTo>
                <a:lnTo>
                  <a:pt x="1748" y="942"/>
                </a:lnTo>
                <a:lnTo>
                  <a:pt x="1757" y="947"/>
                </a:lnTo>
                <a:lnTo>
                  <a:pt x="1764" y="949"/>
                </a:lnTo>
                <a:lnTo>
                  <a:pt x="1772" y="951"/>
                </a:lnTo>
                <a:lnTo>
                  <a:pt x="1776" y="956"/>
                </a:lnTo>
                <a:lnTo>
                  <a:pt x="1781" y="959"/>
                </a:lnTo>
                <a:lnTo>
                  <a:pt x="1786" y="961"/>
                </a:lnTo>
                <a:lnTo>
                  <a:pt x="1791" y="963"/>
                </a:lnTo>
                <a:lnTo>
                  <a:pt x="1793" y="963"/>
                </a:lnTo>
                <a:lnTo>
                  <a:pt x="1796" y="966"/>
                </a:lnTo>
                <a:lnTo>
                  <a:pt x="1796" y="968"/>
                </a:lnTo>
                <a:lnTo>
                  <a:pt x="1796" y="968"/>
                </a:lnTo>
                <a:lnTo>
                  <a:pt x="1793" y="971"/>
                </a:lnTo>
                <a:lnTo>
                  <a:pt x="1788" y="973"/>
                </a:lnTo>
                <a:lnTo>
                  <a:pt x="1784" y="975"/>
                </a:lnTo>
                <a:lnTo>
                  <a:pt x="1774" y="978"/>
                </a:lnTo>
                <a:lnTo>
                  <a:pt x="1764" y="982"/>
                </a:lnTo>
                <a:lnTo>
                  <a:pt x="1753" y="985"/>
                </a:lnTo>
                <a:lnTo>
                  <a:pt x="1741" y="987"/>
                </a:lnTo>
                <a:lnTo>
                  <a:pt x="1726" y="992"/>
                </a:lnTo>
                <a:lnTo>
                  <a:pt x="1707" y="994"/>
                </a:lnTo>
                <a:lnTo>
                  <a:pt x="1690" y="997"/>
                </a:lnTo>
                <a:lnTo>
                  <a:pt x="1669" y="999"/>
                </a:lnTo>
                <a:lnTo>
                  <a:pt x="1645" y="1004"/>
                </a:lnTo>
                <a:lnTo>
                  <a:pt x="1621" y="1006"/>
                </a:lnTo>
                <a:lnTo>
                  <a:pt x="1595" y="1009"/>
                </a:lnTo>
                <a:lnTo>
                  <a:pt x="1566" y="1011"/>
                </a:lnTo>
                <a:lnTo>
                  <a:pt x="1535" y="1013"/>
                </a:lnTo>
                <a:lnTo>
                  <a:pt x="1504" y="1016"/>
                </a:lnTo>
                <a:lnTo>
                  <a:pt x="1473" y="1018"/>
                </a:lnTo>
                <a:lnTo>
                  <a:pt x="1447" y="1021"/>
                </a:lnTo>
                <a:lnTo>
                  <a:pt x="1421" y="1021"/>
                </a:lnTo>
                <a:lnTo>
                  <a:pt x="1394" y="1023"/>
                </a:lnTo>
                <a:lnTo>
                  <a:pt x="1371" y="1025"/>
                </a:lnTo>
                <a:lnTo>
                  <a:pt x="1349" y="1028"/>
                </a:lnTo>
                <a:lnTo>
                  <a:pt x="1330" y="1028"/>
                </a:lnTo>
                <a:lnTo>
                  <a:pt x="1311" y="1030"/>
                </a:lnTo>
                <a:lnTo>
                  <a:pt x="1292" y="1033"/>
                </a:lnTo>
                <a:lnTo>
                  <a:pt x="1275" y="1033"/>
                </a:lnTo>
                <a:lnTo>
                  <a:pt x="1261" y="1033"/>
                </a:lnTo>
                <a:lnTo>
                  <a:pt x="1249" y="1035"/>
                </a:lnTo>
                <a:lnTo>
                  <a:pt x="1237" y="1035"/>
                </a:lnTo>
                <a:lnTo>
                  <a:pt x="1225" y="1035"/>
                </a:lnTo>
                <a:lnTo>
                  <a:pt x="1218" y="1035"/>
                </a:lnTo>
                <a:lnTo>
                  <a:pt x="1196" y="1035"/>
                </a:lnTo>
                <a:lnTo>
                  <a:pt x="1177" y="1033"/>
                </a:lnTo>
                <a:lnTo>
                  <a:pt x="1158" y="1033"/>
                </a:lnTo>
                <a:lnTo>
                  <a:pt x="1139" y="1028"/>
                </a:lnTo>
                <a:lnTo>
                  <a:pt x="1122" y="1025"/>
                </a:lnTo>
                <a:lnTo>
                  <a:pt x="1108" y="1021"/>
                </a:lnTo>
                <a:lnTo>
                  <a:pt x="1094" y="1018"/>
                </a:lnTo>
                <a:lnTo>
                  <a:pt x="1079" y="1013"/>
                </a:lnTo>
                <a:lnTo>
                  <a:pt x="1070" y="1009"/>
                </a:lnTo>
                <a:lnTo>
                  <a:pt x="1060" y="999"/>
                </a:lnTo>
                <a:lnTo>
                  <a:pt x="1046" y="990"/>
                </a:lnTo>
                <a:lnTo>
                  <a:pt x="1032" y="978"/>
                </a:lnTo>
                <a:lnTo>
                  <a:pt x="1012" y="963"/>
                </a:lnTo>
                <a:lnTo>
                  <a:pt x="993" y="947"/>
                </a:lnTo>
                <a:lnTo>
                  <a:pt x="974" y="928"/>
                </a:lnTo>
                <a:lnTo>
                  <a:pt x="950" y="906"/>
                </a:lnTo>
                <a:lnTo>
                  <a:pt x="924" y="882"/>
                </a:lnTo>
                <a:lnTo>
                  <a:pt x="912" y="868"/>
                </a:lnTo>
                <a:lnTo>
                  <a:pt x="898" y="856"/>
                </a:lnTo>
                <a:lnTo>
                  <a:pt x="884" y="842"/>
                </a:lnTo>
                <a:lnTo>
                  <a:pt x="869" y="825"/>
                </a:lnTo>
                <a:lnTo>
                  <a:pt x="855" y="811"/>
                </a:lnTo>
                <a:lnTo>
                  <a:pt x="838" y="794"/>
                </a:lnTo>
                <a:lnTo>
                  <a:pt x="822" y="780"/>
                </a:lnTo>
                <a:lnTo>
                  <a:pt x="805" y="761"/>
                </a:lnTo>
                <a:lnTo>
                  <a:pt x="788" y="744"/>
                </a:lnTo>
                <a:lnTo>
                  <a:pt x="769" y="725"/>
                </a:lnTo>
                <a:lnTo>
                  <a:pt x="752" y="706"/>
                </a:lnTo>
                <a:lnTo>
                  <a:pt x="733" y="687"/>
                </a:lnTo>
                <a:lnTo>
                  <a:pt x="714" y="668"/>
                </a:lnTo>
                <a:lnTo>
                  <a:pt x="695" y="646"/>
                </a:lnTo>
                <a:lnTo>
                  <a:pt x="654" y="608"/>
                </a:lnTo>
                <a:lnTo>
                  <a:pt x="616" y="570"/>
                </a:lnTo>
                <a:lnTo>
                  <a:pt x="580" y="534"/>
                </a:lnTo>
                <a:lnTo>
                  <a:pt x="545" y="498"/>
                </a:lnTo>
                <a:lnTo>
                  <a:pt x="511" y="467"/>
                </a:lnTo>
                <a:lnTo>
                  <a:pt x="480" y="436"/>
                </a:lnTo>
                <a:lnTo>
                  <a:pt x="449" y="405"/>
                </a:lnTo>
                <a:lnTo>
                  <a:pt x="420" y="379"/>
                </a:lnTo>
                <a:lnTo>
                  <a:pt x="392" y="353"/>
                </a:lnTo>
                <a:lnTo>
                  <a:pt x="366" y="326"/>
                </a:lnTo>
                <a:lnTo>
                  <a:pt x="342" y="305"/>
                </a:lnTo>
                <a:lnTo>
                  <a:pt x="318" y="284"/>
                </a:lnTo>
                <a:lnTo>
                  <a:pt x="296" y="262"/>
                </a:lnTo>
                <a:lnTo>
                  <a:pt x="275" y="245"/>
                </a:lnTo>
                <a:lnTo>
                  <a:pt x="256" y="229"/>
                </a:lnTo>
                <a:lnTo>
                  <a:pt x="239" y="212"/>
                </a:lnTo>
                <a:lnTo>
                  <a:pt x="222" y="198"/>
                </a:lnTo>
                <a:lnTo>
                  <a:pt x="208" y="183"/>
                </a:lnTo>
                <a:lnTo>
                  <a:pt x="191" y="171"/>
                </a:lnTo>
                <a:lnTo>
                  <a:pt x="177" y="160"/>
                </a:lnTo>
                <a:lnTo>
                  <a:pt x="165" y="148"/>
                </a:lnTo>
                <a:lnTo>
                  <a:pt x="151" y="138"/>
                </a:lnTo>
                <a:lnTo>
                  <a:pt x="139" y="128"/>
                </a:lnTo>
                <a:lnTo>
                  <a:pt x="127" y="119"/>
                </a:lnTo>
                <a:lnTo>
                  <a:pt x="117" y="112"/>
                </a:lnTo>
                <a:lnTo>
                  <a:pt x="105" y="105"/>
                </a:lnTo>
                <a:lnTo>
                  <a:pt x="96" y="97"/>
                </a:lnTo>
                <a:lnTo>
                  <a:pt x="89" y="93"/>
                </a:lnTo>
                <a:lnTo>
                  <a:pt x="79" y="88"/>
                </a:lnTo>
                <a:lnTo>
                  <a:pt x="72" y="83"/>
                </a:lnTo>
                <a:lnTo>
                  <a:pt x="65" y="81"/>
                </a:lnTo>
                <a:lnTo>
                  <a:pt x="58" y="78"/>
                </a:lnTo>
                <a:lnTo>
                  <a:pt x="46" y="74"/>
                </a:lnTo>
                <a:lnTo>
                  <a:pt x="34" y="71"/>
                </a:lnTo>
                <a:lnTo>
                  <a:pt x="24" y="69"/>
                </a:lnTo>
                <a:lnTo>
                  <a:pt x="17" y="66"/>
                </a:lnTo>
                <a:lnTo>
                  <a:pt x="10" y="64"/>
                </a:lnTo>
                <a:lnTo>
                  <a:pt x="5" y="62"/>
                </a:lnTo>
                <a:lnTo>
                  <a:pt x="3" y="59"/>
                </a:lnTo>
                <a:lnTo>
                  <a:pt x="0" y="57"/>
                </a:lnTo>
                <a:lnTo>
                  <a:pt x="0" y="57"/>
                </a:lnTo>
              </a:path>
            </a:pathLst>
          </a:custGeom>
          <a:solidFill>
            <a:srgbClr val="00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未知"/>
          <p:cNvSpPr/>
          <p:nvPr/>
        </p:nvSpPr>
        <p:spPr>
          <a:xfrm>
            <a:off x="3564000" y="1700280"/>
            <a:ext cx="1800000" cy="1871640"/>
          </a:xfrm>
          <a:custGeom>
            <a:avLst/>
            <a:gdLst/>
            <a:ahLst/>
            <a:rect l="l" t="t" r="r" b="b"/>
            <a:pathLst>
              <a:path w="974" h="1523">
                <a:moveTo>
                  <a:pt x="974" y="222"/>
                </a:moveTo>
                <a:lnTo>
                  <a:pt x="974" y="227"/>
                </a:lnTo>
                <a:lnTo>
                  <a:pt x="974" y="231"/>
                </a:lnTo>
                <a:lnTo>
                  <a:pt x="972" y="236"/>
                </a:lnTo>
                <a:lnTo>
                  <a:pt x="969" y="243"/>
                </a:lnTo>
                <a:lnTo>
                  <a:pt x="967" y="248"/>
                </a:lnTo>
                <a:lnTo>
                  <a:pt x="962" y="253"/>
                </a:lnTo>
                <a:lnTo>
                  <a:pt x="960" y="258"/>
                </a:lnTo>
                <a:lnTo>
                  <a:pt x="953" y="262"/>
                </a:lnTo>
                <a:lnTo>
                  <a:pt x="948" y="267"/>
                </a:lnTo>
                <a:lnTo>
                  <a:pt x="941" y="274"/>
                </a:lnTo>
                <a:lnTo>
                  <a:pt x="933" y="279"/>
                </a:lnTo>
                <a:lnTo>
                  <a:pt x="926" y="284"/>
                </a:lnTo>
                <a:lnTo>
                  <a:pt x="917" y="289"/>
                </a:lnTo>
                <a:lnTo>
                  <a:pt x="907" y="293"/>
                </a:lnTo>
                <a:lnTo>
                  <a:pt x="895" y="301"/>
                </a:lnTo>
                <a:lnTo>
                  <a:pt x="883" y="305"/>
                </a:lnTo>
                <a:lnTo>
                  <a:pt x="879" y="310"/>
                </a:lnTo>
                <a:lnTo>
                  <a:pt x="871" y="317"/>
                </a:lnTo>
                <a:lnTo>
                  <a:pt x="864" y="327"/>
                </a:lnTo>
                <a:lnTo>
                  <a:pt x="857" y="336"/>
                </a:lnTo>
                <a:lnTo>
                  <a:pt x="850" y="351"/>
                </a:lnTo>
                <a:lnTo>
                  <a:pt x="843" y="367"/>
                </a:lnTo>
                <a:lnTo>
                  <a:pt x="836" y="384"/>
                </a:lnTo>
                <a:lnTo>
                  <a:pt x="826" y="403"/>
                </a:lnTo>
                <a:lnTo>
                  <a:pt x="819" y="425"/>
                </a:lnTo>
                <a:lnTo>
                  <a:pt x="809" y="449"/>
                </a:lnTo>
                <a:lnTo>
                  <a:pt x="802" y="475"/>
                </a:lnTo>
                <a:lnTo>
                  <a:pt x="793" y="504"/>
                </a:lnTo>
                <a:lnTo>
                  <a:pt x="783" y="535"/>
                </a:lnTo>
                <a:lnTo>
                  <a:pt x="774" y="568"/>
                </a:lnTo>
                <a:lnTo>
                  <a:pt x="764" y="601"/>
                </a:lnTo>
                <a:lnTo>
                  <a:pt x="752" y="640"/>
                </a:lnTo>
                <a:lnTo>
                  <a:pt x="742" y="678"/>
                </a:lnTo>
                <a:lnTo>
                  <a:pt x="731" y="718"/>
                </a:lnTo>
                <a:lnTo>
                  <a:pt x="721" y="761"/>
                </a:lnTo>
                <a:lnTo>
                  <a:pt x="709" y="807"/>
                </a:lnTo>
                <a:lnTo>
                  <a:pt x="697" y="855"/>
                </a:lnTo>
                <a:lnTo>
                  <a:pt x="685" y="905"/>
                </a:lnTo>
                <a:lnTo>
                  <a:pt x="671" y="957"/>
                </a:lnTo>
                <a:lnTo>
                  <a:pt x="659" y="1012"/>
                </a:lnTo>
                <a:lnTo>
                  <a:pt x="647" y="1067"/>
                </a:lnTo>
                <a:lnTo>
                  <a:pt x="633" y="1127"/>
                </a:lnTo>
                <a:lnTo>
                  <a:pt x="618" y="1186"/>
                </a:lnTo>
                <a:lnTo>
                  <a:pt x="604" y="1249"/>
                </a:lnTo>
                <a:lnTo>
                  <a:pt x="590" y="1315"/>
                </a:lnTo>
                <a:lnTo>
                  <a:pt x="575" y="1382"/>
                </a:lnTo>
                <a:lnTo>
                  <a:pt x="561" y="1452"/>
                </a:lnTo>
                <a:lnTo>
                  <a:pt x="544" y="1523"/>
                </a:lnTo>
                <a:lnTo>
                  <a:pt x="363" y="1523"/>
                </a:lnTo>
                <a:lnTo>
                  <a:pt x="372" y="1483"/>
                </a:lnTo>
                <a:lnTo>
                  <a:pt x="382" y="1442"/>
                </a:lnTo>
                <a:lnTo>
                  <a:pt x="392" y="1401"/>
                </a:lnTo>
                <a:lnTo>
                  <a:pt x="401" y="1363"/>
                </a:lnTo>
                <a:lnTo>
                  <a:pt x="408" y="1325"/>
                </a:lnTo>
                <a:lnTo>
                  <a:pt x="418" y="1287"/>
                </a:lnTo>
                <a:lnTo>
                  <a:pt x="425" y="1251"/>
                </a:lnTo>
                <a:lnTo>
                  <a:pt x="434" y="1215"/>
                </a:lnTo>
                <a:lnTo>
                  <a:pt x="442" y="1179"/>
                </a:lnTo>
                <a:lnTo>
                  <a:pt x="449" y="1144"/>
                </a:lnTo>
                <a:lnTo>
                  <a:pt x="456" y="1110"/>
                </a:lnTo>
                <a:lnTo>
                  <a:pt x="463" y="1077"/>
                </a:lnTo>
                <a:lnTo>
                  <a:pt x="470" y="1046"/>
                </a:lnTo>
                <a:lnTo>
                  <a:pt x="477" y="1012"/>
                </a:lnTo>
                <a:lnTo>
                  <a:pt x="485" y="981"/>
                </a:lnTo>
                <a:lnTo>
                  <a:pt x="492" y="952"/>
                </a:lnTo>
                <a:lnTo>
                  <a:pt x="497" y="921"/>
                </a:lnTo>
                <a:lnTo>
                  <a:pt x="504" y="893"/>
                </a:lnTo>
                <a:lnTo>
                  <a:pt x="511" y="867"/>
                </a:lnTo>
                <a:lnTo>
                  <a:pt x="516" y="838"/>
                </a:lnTo>
                <a:lnTo>
                  <a:pt x="520" y="812"/>
                </a:lnTo>
                <a:lnTo>
                  <a:pt x="528" y="785"/>
                </a:lnTo>
                <a:lnTo>
                  <a:pt x="532" y="761"/>
                </a:lnTo>
                <a:lnTo>
                  <a:pt x="537" y="738"/>
                </a:lnTo>
                <a:lnTo>
                  <a:pt x="542" y="714"/>
                </a:lnTo>
                <a:lnTo>
                  <a:pt x="547" y="690"/>
                </a:lnTo>
                <a:lnTo>
                  <a:pt x="551" y="668"/>
                </a:lnTo>
                <a:lnTo>
                  <a:pt x="556" y="647"/>
                </a:lnTo>
                <a:lnTo>
                  <a:pt x="561" y="625"/>
                </a:lnTo>
                <a:lnTo>
                  <a:pt x="563" y="606"/>
                </a:lnTo>
                <a:lnTo>
                  <a:pt x="568" y="587"/>
                </a:lnTo>
                <a:lnTo>
                  <a:pt x="571" y="568"/>
                </a:lnTo>
                <a:lnTo>
                  <a:pt x="578" y="532"/>
                </a:lnTo>
                <a:lnTo>
                  <a:pt x="585" y="499"/>
                </a:lnTo>
                <a:lnTo>
                  <a:pt x="590" y="468"/>
                </a:lnTo>
                <a:lnTo>
                  <a:pt x="594" y="439"/>
                </a:lnTo>
                <a:lnTo>
                  <a:pt x="599" y="410"/>
                </a:lnTo>
                <a:lnTo>
                  <a:pt x="604" y="384"/>
                </a:lnTo>
                <a:lnTo>
                  <a:pt x="606" y="363"/>
                </a:lnTo>
                <a:lnTo>
                  <a:pt x="611" y="341"/>
                </a:lnTo>
                <a:lnTo>
                  <a:pt x="614" y="322"/>
                </a:lnTo>
                <a:lnTo>
                  <a:pt x="614" y="305"/>
                </a:lnTo>
                <a:lnTo>
                  <a:pt x="616" y="291"/>
                </a:lnTo>
                <a:lnTo>
                  <a:pt x="616" y="277"/>
                </a:lnTo>
                <a:lnTo>
                  <a:pt x="616" y="267"/>
                </a:lnTo>
                <a:lnTo>
                  <a:pt x="614" y="260"/>
                </a:lnTo>
                <a:lnTo>
                  <a:pt x="614" y="253"/>
                </a:lnTo>
                <a:lnTo>
                  <a:pt x="611" y="250"/>
                </a:lnTo>
                <a:lnTo>
                  <a:pt x="606" y="246"/>
                </a:lnTo>
                <a:lnTo>
                  <a:pt x="602" y="246"/>
                </a:lnTo>
                <a:lnTo>
                  <a:pt x="594" y="243"/>
                </a:lnTo>
                <a:lnTo>
                  <a:pt x="587" y="241"/>
                </a:lnTo>
                <a:lnTo>
                  <a:pt x="575" y="241"/>
                </a:lnTo>
                <a:lnTo>
                  <a:pt x="563" y="238"/>
                </a:lnTo>
                <a:lnTo>
                  <a:pt x="551" y="238"/>
                </a:lnTo>
                <a:lnTo>
                  <a:pt x="535" y="238"/>
                </a:lnTo>
                <a:lnTo>
                  <a:pt x="518" y="238"/>
                </a:lnTo>
                <a:lnTo>
                  <a:pt x="501" y="238"/>
                </a:lnTo>
                <a:lnTo>
                  <a:pt x="482" y="241"/>
                </a:lnTo>
                <a:lnTo>
                  <a:pt x="461" y="241"/>
                </a:lnTo>
                <a:lnTo>
                  <a:pt x="439" y="243"/>
                </a:lnTo>
                <a:lnTo>
                  <a:pt x="415" y="246"/>
                </a:lnTo>
                <a:lnTo>
                  <a:pt x="389" y="246"/>
                </a:lnTo>
                <a:lnTo>
                  <a:pt x="363" y="250"/>
                </a:lnTo>
                <a:lnTo>
                  <a:pt x="310" y="255"/>
                </a:lnTo>
                <a:lnTo>
                  <a:pt x="258" y="260"/>
                </a:lnTo>
                <a:lnTo>
                  <a:pt x="210" y="265"/>
                </a:lnTo>
                <a:lnTo>
                  <a:pt x="186" y="267"/>
                </a:lnTo>
                <a:lnTo>
                  <a:pt x="162" y="270"/>
                </a:lnTo>
                <a:lnTo>
                  <a:pt x="138" y="270"/>
                </a:lnTo>
                <a:lnTo>
                  <a:pt x="117" y="272"/>
                </a:lnTo>
                <a:lnTo>
                  <a:pt x="95" y="274"/>
                </a:lnTo>
                <a:lnTo>
                  <a:pt x="74" y="274"/>
                </a:lnTo>
                <a:lnTo>
                  <a:pt x="55" y="277"/>
                </a:lnTo>
                <a:lnTo>
                  <a:pt x="36" y="277"/>
                </a:lnTo>
                <a:lnTo>
                  <a:pt x="17" y="277"/>
                </a:lnTo>
                <a:lnTo>
                  <a:pt x="0" y="277"/>
                </a:lnTo>
                <a:lnTo>
                  <a:pt x="0" y="152"/>
                </a:lnTo>
                <a:lnTo>
                  <a:pt x="36" y="150"/>
                </a:lnTo>
                <a:lnTo>
                  <a:pt x="69" y="148"/>
                </a:lnTo>
                <a:lnTo>
                  <a:pt x="103" y="145"/>
                </a:lnTo>
                <a:lnTo>
                  <a:pt x="134" y="143"/>
                </a:lnTo>
                <a:lnTo>
                  <a:pt x="165" y="138"/>
                </a:lnTo>
                <a:lnTo>
                  <a:pt x="193" y="136"/>
                </a:lnTo>
                <a:lnTo>
                  <a:pt x="220" y="133"/>
                </a:lnTo>
                <a:lnTo>
                  <a:pt x="246" y="131"/>
                </a:lnTo>
                <a:lnTo>
                  <a:pt x="272" y="129"/>
                </a:lnTo>
                <a:lnTo>
                  <a:pt x="296" y="126"/>
                </a:lnTo>
                <a:lnTo>
                  <a:pt x="318" y="124"/>
                </a:lnTo>
                <a:lnTo>
                  <a:pt x="339" y="121"/>
                </a:lnTo>
                <a:lnTo>
                  <a:pt x="360" y="119"/>
                </a:lnTo>
                <a:lnTo>
                  <a:pt x="380" y="117"/>
                </a:lnTo>
                <a:lnTo>
                  <a:pt x="399" y="114"/>
                </a:lnTo>
                <a:lnTo>
                  <a:pt x="415" y="112"/>
                </a:lnTo>
                <a:lnTo>
                  <a:pt x="444" y="105"/>
                </a:lnTo>
                <a:lnTo>
                  <a:pt x="470" y="100"/>
                </a:lnTo>
                <a:lnTo>
                  <a:pt x="497" y="93"/>
                </a:lnTo>
                <a:lnTo>
                  <a:pt x="520" y="86"/>
                </a:lnTo>
                <a:lnTo>
                  <a:pt x="544" y="78"/>
                </a:lnTo>
                <a:lnTo>
                  <a:pt x="563" y="69"/>
                </a:lnTo>
                <a:lnTo>
                  <a:pt x="583" y="57"/>
                </a:lnTo>
                <a:lnTo>
                  <a:pt x="590" y="50"/>
                </a:lnTo>
                <a:lnTo>
                  <a:pt x="597" y="43"/>
                </a:lnTo>
                <a:lnTo>
                  <a:pt x="611" y="31"/>
                </a:lnTo>
                <a:lnTo>
                  <a:pt x="625" y="24"/>
                </a:lnTo>
                <a:lnTo>
                  <a:pt x="640" y="16"/>
                </a:lnTo>
                <a:lnTo>
                  <a:pt x="654" y="9"/>
                </a:lnTo>
                <a:lnTo>
                  <a:pt x="668" y="7"/>
                </a:lnTo>
                <a:lnTo>
                  <a:pt x="680" y="2"/>
                </a:lnTo>
                <a:lnTo>
                  <a:pt x="692" y="0"/>
                </a:lnTo>
                <a:lnTo>
                  <a:pt x="702" y="0"/>
                </a:lnTo>
                <a:lnTo>
                  <a:pt x="704" y="2"/>
                </a:lnTo>
                <a:lnTo>
                  <a:pt x="709" y="7"/>
                </a:lnTo>
                <a:lnTo>
                  <a:pt x="714" y="9"/>
                </a:lnTo>
                <a:lnTo>
                  <a:pt x="719" y="14"/>
                </a:lnTo>
                <a:lnTo>
                  <a:pt x="726" y="16"/>
                </a:lnTo>
                <a:lnTo>
                  <a:pt x="733" y="21"/>
                </a:lnTo>
                <a:lnTo>
                  <a:pt x="740" y="26"/>
                </a:lnTo>
                <a:lnTo>
                  <a:pt x="750" y="31"/>
                </a:lnTo>
                <a:lnTo>
                  <a:pt x="762" y="35"/>
                </a:lnTo>
                <a:lnTo>
                  <a:pt x="771" y="43"/>
                </a:lnTo>
                <a:lnTo>
                  <a:pt x="783" y="47"/>
                </a:lnTo>
                <a:lnTo>
                  <a:pt x="797" y="55"/>
                </a:lnTo>
                <a:lnTo>
                  <a:pt x="812" y="62"/>
                </a:lnTo>
                <a:lnTo>
                  <a:pt x="826" y="69"/>
                </a:lnTo>
                <a:lnTo>
                  <a:pt x="840" y="76"/>
                </a:lnTo>
                <a:lnTo>
                  <a:pt x="857" y="83"/>
                </a:lnTo>
                <a:lnTo>
                  <a:pt x="871" y="93"/>
                </a:lnTo>
                <a:lnTo>
                  <a:pt x="886" y="102"/>
                </a:lnTo>
                <a:lnTo>
                  <a:pt x="898" y="112"/>
                </a:lnTo>
                <a:lnTo>
                  <a:pt x="910" y="121"/>
                </a:lnTo>
                <a:lnTo>
                  <a:pt x="919" y="131"/>
                </a:lnTo>
                <a:lnTo>
                  <a:pt x="929" y="141"/>
                </a:lnTo>
                <a:lnTo>
                  <a:pt x="938" y="150"/>
                </a:lnTo>
                <a:lnTo>
                  <a:pt x="945" y="157"/>
                </a:lnTo>
                <a:lnTo>
                  <a:pt x="953" y="167"/>
                </a:lnTo>
                <a:lnTo>
                  <a:pt x="957" y="174"/>
                </a:lnTo>
                <a:lnTo>
                  <a:pt x="965" y="181"/>
                </a:lnTo>
                <a:lnTo>
                  <a:pt x="967" y="191"/>
                </a:lnTo>
                <a:lnTo>
                  <a:pt x="972" y="198"/>
                </a:lnTo>
                <a:lnTo>
                  <a:pt x="974" y="205"/>
                </a:lnTo>
                <a:lnTo>
                  <a:pt x="974" y="215"/>
                </a:lnTo>
                <a:lnTo>
                  <a:pt x="974" y="222"/>
                </a:lnTo>
                <a:lnTo>
                  <a:pt x="974" y="222"/>
                </a:lnTo>
              </a:path>
            </a:pathLst>
          </a:custGeom>
          <a:solidFill>
            <a:srgbClr val="3333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70720" y="5157720"/>
            <a:ext cx="28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横折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héngzh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未知"/>
          <p:cNvSpPr/>
          <p:nvPr/>
        </p:nvSpPr>
        <p:spPr>
          <a:xfrm>
            <a:off x="4140360" y="1628640"/>
            <a:ext cx="1295280" cy="2087640"/>
          </a:xfrm>
          <a:custGeom>
            <a:avLst/>
            <a:gdLst/>
            <a:ahLst/>
            <a:rect l="l" t="t" r="r" b="b"/>
            <a:pathLst>
              <a:path w="735" h="1123">
                <a:moveTo>
                  <a:pt x="202" y="244"/>
                </a:moveTo>
                <a:lnTo>
                  <a:pt x="202" y="263"/>
                </a:lnTo>
                <a:lnTo>
                  <a:pt x="202" y="280"/>
                </a:lnTo>
                <a:lnTo>
                  <a:pt x="202" y="299"/>
                </a:lnTo>
                <a:lnTo>
                  <a:pt x="200" y="320"/>
                </a:lnTo>
                <a:lnTo>
                  <a:pt x="200" y="342"/>
                </a:lnTo>
                <a:lnTo>
                  <a:pt x="198" y="366"/>
                </a:lnTo>
                <a:lnTo>
                  <a:pt x="195" y="380"/>
                </a:lnTo>
                <a:lnTo>
                  <a:pt x="193" y="392"/>
                </a:lnTo>
                <a:lnTo>
                  <a:pt x="193" y="406"/>
                </a:lnTo>
                <a:lnTo>
                  <a:pt x="191" y="420"/>
                </a:lnTo>
                <a:lnTo>
                  <a:pt x="186" y="451"/>
                </a:lnTo>
                <a:lnTo>
                  <a:pt x="183" y="483"/>
                </a:lnTo>
                <a:lnTo>
                  <a:pt x="181" y="514"/>
                </a:lnTo>
                <a:lnTo>
                  <a:pt x="181" y="545"/>
                </a:lnTo>
                <a:lnTo>
                  <a:pt x="181" y="576"/>
                </a:lnTo>
                <a:lnTo>
                  <a:pt x="183" y="609"/>
                </a:lnTo>
                <a:lnTo>
                  <a:pt x="186" y="645"/>
                </a:lnTo>
                <a:lnTo>
                  <a:pt x="191" y="681"/>
                </a:lnTo>
                <a:lnTo>
                  <a:pt x="191" y="697"/>
                </a:lnTo>
                <a:lnTo>
                  <a:pt x="191" y="714"/>
                </a:lnTo>
                <a:lnTo>
                  <a:pt x="191" y="731"/>
                </a:lnTo>
                <a:lnTo>
                  <a:pt x="193" y="745"/>
                </a:lnTo>
                <a:lnTo>
                  <a:pt x="193" y="760"/>
                </a:lnTo>
                <a:lnTo>
                  <a:pt x="195" y="774"/>
                </a:lnTo>
                <a:lnTo>
                  <a:pt x="198" y="786"/>
                </a:lnTo>
                <a:lnTo>
                  <a:pt x="200" y="798"/>
                </a:lnTo>
                <a:lnTo>
                  <a:pt x="205" y="810"/>
                </a:lnTo>
                <a:lnTo>
                  <a:pt x="207" y="819"/>
                </a:lnTo>
                <a:lnTo>
                  <a:pt x="212" y="829"/>
                </a:lnTo>
                <a:lnTo>
                  <a:pt x="217" y="836"/>
                </a:lnTo>
                <a:lnTo>
                  <a:pt x="222" y="843"/>
                </a:lnTo>
                <a:lnTo>
                  <a:pt x="226" y="848"/>
                </a:lnTo>
                <a:lnTo>
                  <a:pt x="233" y="853"/>
                </a:lnTo>
                <a:lnTo>
                  <a:pt x="241" y="857"/>
                </a:lnTo>
                <a:lnTo>
                  <a:pt x="248" y="862"/>
                </a:lnTo>
                <a:lnTo>
                  <a:pt x="255" y="867"/>
                </a:lnTo>
                <a:lnTo>
                  <a:pt x="262" y="872"/>
                </a:lnTo>
                <a:lnTo>
                  <a:pt x="272" y="877"/>
                </a:lnTo>
                <a:lnTo>
                  <a:pt x="279" y="879"/>
                </a:lnTo>
                <a:lnTo>
                  <a:pt x="288" y="881"/>
                </a:lnTo>
                <a:lnTo>
                  <a:pt x="298" y="884"/>
                </a:lnTo>
                <a:lnTo>
                  <a:pt x="307" y="884"/>
                </a:lnTo>
                <a:lnTo>
                  <a:pt x="327" y="884"/>
                </a:lnTo>
                <a:lnTo>
                  <a:pt x="346" y="881"/>
                </a:lnTo>
                <a:lnTo>
                  <a:pt x="370" y="879"/>
                </a:lnTo>
                <a:lnTo>
                  <a:pt x="391" y="874"/>
                </a:lnTo>
                <a:lnTo>
                  <a:pt x="415" y="867"/>
                </a:lnTo>
                <a:lnTo>
                  <a:pt x="436" y="865"/>
                </a:lnTo>
                <a:lnTo>
                  <a:pt x="458" y="862"/>
                </a:lnTo>
                <a:lnTo>
                  <a:pt x="477" y="860"/>
                </a:lnTo>
                <a:lnTo>
                  <a:pt x="496" y="857"/>
                </a:lnTo>
                <a:lnTo>
                  <a:pt x="513" y="857"/>
                </a:lnTo>
                <a:lnTo>
                  <a:pt x="529" y="857"/>
                </a:lnTo>
                <a:lnTo>
                  <a:pt x="544" y="857"/>
                </a:lnTo>
                <a:lnTo>
                  <a:pt x="558" y="857"/>
                </a:lnTo>
                <a:lnTo>
                  <a:pt x="572" y="860"/>
                </a:lnTo>
                <a:lnTo>
                  <a:pt x="587" y="865"/>
                </a:lnTo>
                <a:lnTo>
                  <a:pt x="603" y="869"/>
                </a:lnTo>
                <a:lnTo>
                  <a:pt x="618" y="877"/>
                </a:lnTo>
                <a:lnTo>
                  <a:pt x="634" y="884"/>
                </a:lnTo>
                <a:lnTo>
                  <a:pt x="651" y="893"/>
                </a:lnTo>
                <a:lnTo>
                  <a:pt x="670" y="905"/>
                </a:lnTo>
                <a:lnTo>
                  <a:pt x="685" y="917"/>
                </a:lnTo>
                <a:lnTo>
                  <a:pt x="696" y="929"/>
                </a:lnTo>
                <a:lnTo>
                  <a:pt x="706" y="941"/>
                </a:lnTo>
                <a:lnTo>
                  <a:pt x="716" y="953"/>
                </a:lnTo>
                <a:lnTo>
                  <a:pt x="723" y="963"/>
                </a:lnTo>
                <a:lnTo>
                  <a:pt x="730" y="972"/>
                </a:lnTo>
                <a:lnTo>
                  <a:pt x="732" y="979"/>
                </a:lnTo>
                <a:lnTo>
                  <a:pt x="732" y="984"/>
                </a:lnTo>
                <a:lnTo>
                  <a:pt x="735" y="986"/>
                </a:lnTo>
                <a:lnTo>
                  <a:pt x="732" y="994"/>
                </a:lnTo>
                <a:lnTo>
                  <a:pt x="732" y="998"/>
                </a:lnTo>
                <a:lnTo>
                  <a:pt x="730" y="1006"/>
                </a:lnTo>
                <a:lnTo>
                  <a:pt x="728" y="1010"/>
                </a:lnTo>
                <a:lnTo>
                  <a:pt x="723" y="1018"/>
                </a:lnTo>
                <a:lnTo>
                  <a:pt x="718" y="1022"/>
                </a:lnTo>
                <a:lnTo>
                  <a:pt x="711" y="1029"/>
                </a:lnTo>
                <a:lnTo>
                  <a:pt x="706" y="1034"/>
                </a:lnTo>
                <a:lnTo>
                  <a:pt x="696" y="1041"/>
                </a:lnTo>
                <a:lnTo>
                  <a:pt x="689" y="1046"/>
                </a:lnTo>
                <a:lnTo>
                  <a:pt x="680" y="1053"/>
                </a:lnTo>
                <a:lnTo>
                  <a:pt x="670" y="1058"/>
                </a:lnTo>
                <a:lnTo>
                  <a:pt x="658" y="1065"/>
                </a:lnTo>
                <a:lnTo>
                  <a:pt x="646" y="1072"/>
                </a:lnTo>
                <a:lnTo>
                  <a:pt x="634" y="1077"/>
                </a:lnTo>
                <a:lnTo>
                  <a:pt x="620" y="1084"/>
                </a:lnTo>
                <a:lnTo>
                  <a:pt x="591" y="1094"/>
                </a:lnTo>
                <a:lnTo>
                  <a:pt x="560" y="1106"/>
                </a:lnTo>
                <a:lnTo>
                  <a:pt x="529" y="1113"/>
                </a:lnTo>
                <a:lnTo>
                  <a:pt x="496" y="1118"/>
                </a:lnTo>
                <a:lnTo>
                  <a:pt x="479" y="1120"/>
                </a:lnTo>
                <a:lnTo>
                  <a:pt x="463" y="1123"/>
                </a:lnTo>
                <a:lnTo>
                  <a:pt x="446" y="1123"/>
                </a:lnTo>
                <a:lnTo>
                  <a:pt x="427" y="1123"/>
                </a:lnTo>
                <a:lnTo>
                  <a:pt x="410" y="1123"/>
                </a:lnTo>
                <a:lnTo>
                  <a:pt x="391" y="1120"/>
                </a:lnTo>
                <a:lnTo>
                  <a:pt x="372" y="1118"/>
                </a:lnTo>
                <a:lnTo>
                  <a:pt x="353" y="1115"/>
                </a:lnTo>
                <a:lnTo>
                  <a:pt x="334" y="1115"/>
                </a:lnTo>
                <a:lnTo>
                  <a:pt x="312" y="1115"/>
                </a:lnTo>
                <a:lnTo>
                  <a:pt x="293" y="1113"/>
                </a:lnTo>
                <a:lnTo>
                  <a:pt x="276" y="1111"/>
                </a:lnTo>
                <a:lnTo>
                  <a:pt x="257" y="1106"/>
                </a:lnTo>
                <a:lnTo>
                  <a:pt x="241" y="1103"/>
                </a:lnTo>
                <a:lnTo>
                  <a:pt x="226" y="1099"/>
                </a:lnTo>
                <a:lnTo>
                  <a:pt x="212" y="1094"/>
                </a:lnTo>
                <a:lnTo>
                  <a:pt x="198" y="1089"/>
                </a:lnTo>
                <a:lnTo>
                  <a:pt x="186" y="1082"/>
                </a:lnTo>
                <a:lnTo>
                  <a:pt x="174" y="1075"/>
                </a:lnTo>
                <a:lnTo>
                  <a:pt x="162" y="1068"/>
                </a:lnTo>
                <a:lnTo>
                  <a:pt x="152" y="1060"/>
                </a:lnTo>
                <a:lnTo>
                  <a:pt x="143" y="1053"/>
                </a:lnTo>
                <a:lnTo>
                  <a:pt x="133" y="1044"/>
                </a:lnTo>
                <a:lnTo>
                  <a:pt x="126" y="1034"/>
                </a:lnTo>
                <a:lnTo>
                  <a:pt x="117" y="1025"/>
                </a:lnTo>
                <a:lnTo>
                  <a:pt x="109" y="1013"/>
                </a:lnTo>
                <a:lnTo>
                  <a:pt x="100" y="1001"/>
                </a:lnTo>
                <a:lnTo>
                  <a:pt x="93" y="986"/>
                </a:lnTo>
                <a:lnTo>
                  <a:pt x="86" y="972"/>
                </a:lnTo>
                <a:lnTo>
                  <a:pt x="78" y="955"/>
                </a:lnTo>
                <a:lnTo>
                  <a:pt x="74" y="936"/>
                </a:lnTo>
                <a:lnTo>
                  <a:pt x="69" y="917"/>
                </a:lnTo>
                <a:lnTo>
                  <a:pt x="62" y="898"/>
                </a:lnTo>
                <a:lnTo>
                  <a:pt x="57" y="877"/>
                </a:lnTo>
                <a:lnTo>
                  <a:pt x="54" y="855"/>
                </a:lnTo>
                <a:lnTo>
                  <a:pt x="50" y="831"/>
                </a:lnTo>
                <a:lnTo>
                  <a:pt x="47" y="807"/>
                </a:lnTo>
                <a:lnTo>
                  <a:pt x="43" y="781"/>
                </a:lnTo>
                <a:lnTo>
                  <a:pt x="40" y="755"/>
                </a:lnTo>
                <a:lnTo>
                  <a:pt x="38" y="729"/>
                </a:lnTo>
                <a:lnTo>
                  <a:pt x="35" y="700"/>
                </a:lnTo>
                <a:lnTo>
                  <a:pt x="33" y="669"/>
                </a:lnTo>
                <a:lnTo>
                  <a:pt x="31" y="635"/>
                </a:lnTo>
                <a:lnTo>
                  <a:pt x="28" y="602"/>
                </a:lnTo>
                <a:lnTo>
                  <a:pt x="26" y="564"/>
                </a:lnTo>
                <a:lnTo>
                  <a:pt x="23" y="523"/>
                </a:lnTo>
                <a:lnTo>
                  <a:pt x="21" y="483"/>
                </a:lnTo>
                <a:lnTo>
                  <a:pt x="19" y="437"/>
                </a:lnTo>
                <a:lnTo>
                  <a:pt x="16" y="392"/>
                </a:lnTo>
                <a:lnTo>
                  <a:pt x="14" y="342"/>
                </a:lnTo>
                <a:lnTo>
                  <a:pt x="12" y="291"/>
                </a:lnTo>
                <a:lnTo>
                  <a:pt x="9" y="237"/>
                </a:lnTo>
                <a:lnTo>
                  <a:pt x="7" y="182"/>
                </a:lnTo>
                <a:lnTo>
                  <a:pt x="4" y="124"/>
                </a:lnTo>
                <a:lnTo>
                  <a:pt x="2" y="65"/>
                </a:lnTo>
                <a:lnTo>
                  <a:pt x="0" y="0"/>
                </a:lnTo>
                <a:lnTo>
                  <a:pt x="26" y="22"/>
                </a:lnTo>
                <a:lnTo>
                  <a:pt x="47" y="43"/>
                </a:lnTo>
                <a:lnTo>
                  <a:pt x="69" y="62"/>
                </a:lnTo>
                <a:lnTo>
                  <a:pt x="90" y="81"/>
                </a:lnTo>
                <a:lnTo>
                  <a:pt x="107" y="98"/>
                </a:lnTo>
                <a:lnTo>
                  <a:pt x="124" y="115"/>
                </a:lnTo>
                <a:lnTo>
                  <a:pt x="140" y="131"/>
                </a:lnTo>
                <a:lnTo>
                  <a:pt x="152" y="148"/>
                </a:lnTo>
                <a:lnTo>
                  <a:pt x="164" y="163"/>
                </a:lnTo>
                <a:lnTo>
                  <a:pt x="174" y="177"/>
                </a:lnTo>
                <a:lnTo>
                  <a:pt x="183" y="189"/>
                </a:lnTo>
                <a:lnTo>
                  <a:pt x="191" y="201"/>
                </a:lnTo>
                <a:lnTo>
                  <a:pt x="195" y="213"/>
                </a:lnTo>
                <a:lnTo>
                  <a:pt x="200" y="225"/>
                </a:lnTo>
                <a:lnTo>
                  <a:pt x="202" y="234"/>
                </a:lnTo>
                <a:lnTo>
                  <a:pt x="202" y="244"/>
                </a:lnTo>
                <a:lnTo>
                  <a:pt x="202" y="244"/>
                </a:lnTo>
              </a:path>
            </a:pathLst>
          </a:custGeom>
          <a:solidFill>
            <a:srgbClr val="9933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49400" y="55166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竖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h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484280"/>
            <a:ext cx="2448000" cy="2808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85720" y="5516640"/>
            <a:ext cx="50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竖弯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h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574640" y="5589720"/>
            <a:ext cx="70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横折弯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hén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zh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未知"/>
          <p:cNvSpPr/>
          <p:nvPr/>
        </p:nvSpPr>
        <p:spPr>
          <a:xfrm>
            <a:off x="2857680" y="1608120"/>
            <a:ext cx="3009600" cy="2397240"/>
          </a:xfrm>
          <a:custGeom>
            <a:avLst/>
            <a:gdLst/>
            <a:ahLst/>
            <a:rect l="l" t="t" r="r" b="b"/>
            <a:pathLst>
              <a:path w="2293" h="1749">
                <a:moveTo>
                  <a:pt x="1744" y="1749"/>
                </a:moveTo>
                <a:lnTo>
                  <a:pt x="1704" y="1749"/>
                </a:lnTo>
                <a:lnTo>
                  <a:pt x="1661" y="1747"/>
                </a:lnTo>
                <a:lnTo>
                  <a:pt x="1622" y="1744"/>
                </a:lnTo>
                <a:lnTo>
                  <a:pt x="1582" y="1739"/>
                </a:lnTo>
                <a:lnTo>
                  <a:pt x="1544" y="1732"/>
                </a:lnTo>
                <a:lnTo>
                  <a:pt x="1508" y="1725"/>
                </a:lnTo>
                <a:lnTo>
                  <a:pt x="1470" y="1716"/>
                </a:lnTo>
                <a:lnTo>
                  <a:pt x="1436" y="1704"/>
                </a:lnTo>
                <a:lnTo>
                  <a:pt x="1401" y="1689"/>
                </a:lnTo>
                <a:lnTo>
                  <a:pt x="1370" y="1673"/>
                </a:lnTo>
                <a:lnTo>
                  <a:pt x="1339" y="1658"/>
                </a:lnTo>
                <a:lnTo>
                  <a:pt x="1310" y="1639"/>
                </a:lnTo>
                <a:lnTo>
                  <a:pt x="1298" y="1630"/>
                </a:lnTo>
                <a:lnTo>
                  <a:pt x="1284" y="1618"/>
                </a:lnTo>
                <a:lnTo>
                  <a:pt x="1272" y="1608"/>
                </a:lnTo>
                <a:lnTo>
                  <a:pt x="1260" y="1596"/>
                </a:lnTo>
                <a:lnTo>
                  <a:pt x="1250" y="1582"/>
                </a:lnTo>
                <a:lnTo>
                  <a:pt x="1238" y="1570"/>
                </a:lnTo>
                <a:lnTo>
                  <a:pt x="1229" y="1556"/>
                </a:lnTo>
                <a:lnTo>
                  <a:pt x="1219" y="1541"/>
                </a:lnTo>
                <a:lnTo>
                  <a:pt x="1210" y="1527"/>
                </a:lnTo>
                <a:lnTo>
                  <a:pt x="1200" y="1513"/>
                </a:lnTo>
                <a:lnTo>
                  <a:pt x="1193" y="1498"/>
                </a:lnTo>
                <a:lnTo>
                  <a:pt x="1186" y="1484"/>
                </a:lnTo>
                <a:lnTo>
                  <a:pt x="1172" y="1453"/>
                </a:lnTo>
                <a:lnTo>
                  <a:pt x="1162" y="1420"/>
                </a:lnTo>
                <a:lnTo>
                  <a:pt x="1152" y="1386"/>
                </a:lnTo>
                <a:lnTo>
                  <a:pt x="1145" y="1351"/>
                </a:lnTo>
                <a:lnTo>
                  <a:pt x="1141" y="1312"/>
                </a:lnTo>
                <a:lnTo>
                  <a:pt x="1136" y="1274"/>
                </a:lnTo>
                <a:lnTo>
                  <a:pt x="1133" y="1236"/>
                </a:lnTo>
                <a:lnTo>
                  <a:pt x="1131" y="1198"/>
                </a:lnTo>
                <a:lnTo>
                  <a:pt x="1131" y="1162"/>
                </a:lnTo>
                <a:lnTo>
                  <a:pt x="1133" y="1126"/>
                </a:lnTo>
                <a:lnTo>
                  <a:pt x="1136" y="1093"/>
                </a:lnTo>
                <a:lnTo>
                  <a:pt x="1138" y="1060"/>
                </a:lnTo>
                <a:lnTo>
                  <a:pt x="1143" y="1029"/>
                </a:lnTo>
                <a:lnTo>
                  <a:pt x="1145" y="998"/>
                </a:lnTo>
                <a:lnTo>
                  <a:pt x="1148" y="981"/>
                </a:lnTo>
                <a:lnTo>
                  <a:pt x="1150" y="964"/>
                </a:lnTo>
                <a:lnTo>
                  <a:pt x="1152" y="945"/>
                </a:lnTo>
                <a:lnTo>
                  <a:pt x="1155" y="924"/>
                </a:lnTo>
                <a:lnTo>
                  <a:pt x="1160" y="902"/>
                </a:lnTo>
                <a:lnTo>
                  <a:pt x="1162" y="881"/>
                </a:lnTo>
                <a:lnTo>
                  <a:pt x="1167" y="854"/>
                </a:lnTo>
                <a:lnTo>
                  <a:pt x="1172" y="828"/>
                </a:lnTo>
                <a:lnTo>
                  <a:pt x="1176" y="802"/>
                </a:lnTo>
                <a:lnTo>
                  <a:pt x="1181" y="771"/>
                </a:lnTo>
                <a:lnTo>
                  <a:pt x="1186" y="740"/>
                </a:lnTo>
                <a:lnTo>
                  <a:pt x="1191" y="707"/>
                </a:lnTo>
                <a:lnTo>
                  <a:pt x="1198" y="673"/>
                </a:lnTo>
                <a:lnTo>
                  <a:pt x="1205" y="635"/>
                </a:lnTo>
                <a:lnTo>
                  <a:pt x="1212" y="597"/>
                </a:lnTo>
                <a:lnTo>
                  <a:pt x="1219" y="556"/>
                </a:lnTo>
                <a:lnTo>
                  <a:pt x="1222" y="537"/>
                </a:lnTo>
                <a:lnTo>
                  <a:pt x="1224" y="518"/>
                </a:lnTo>
                <a:lnTo>
                  <a:pt x="1226" y="499"/>
                </a:lnTo>
                <a:lnTo>
                  <a:pt x="1229" y="480"/>
                </a:lnTo>
                <a:lnTo>
                  <a:pt x="1231" y="463"/>
                </a:lnTo>
                <a:lnTo>
                  <a:pt x="1234" y="447"/>
                </a:lnTo>
                <a:lnTo>
                  <a:pt x="1236" y="430"/>
                </a:lnTo>
                <a:lnTo>
                  <a:pt x="1238" y="413"/>
                </a:lnTo>
                <a:lnTo>
                  <a:pt x="1241" y="399"/>
                </a:lnTo>
                <a:lnTo>
                  <a:pt x="1243" y="385"/>
                </a:lnTo>
                <a:lnTo>
                  <a:pt x="1246" y="370"/>
                </a:lnTo>
                <a:lnTo>
                  <a:pt x="1248" y="358"/>
                </a:lnTo>
                <a:lnTo>
                  <a:pt x="1250" y="344"/>
                </a:lnTo>
                <a:lnTo>
                  <a:pt x="1250" y="332"/>
                </a:lnTo>
                <a:lnTo>
                  <a:pt x="1253" y="322"/>
                </a:lnTo>
                <a:lnTo>
                  <a:pt x="1255" y="311"/>
                </a:lnTo>
                <a:lnTo>
                  <a:pt x="1255" y="301"/>
                </a:lnTo>
                <a:lnTo>
                  <a:pt x="1257" y="291"/>
                </a:lnTo>
                <a:lnTo>
                  <a:pt x="1257" y="282"/>
                </a:lnTo>
                <a:lnTo>
                  <a:pt x="1260" y="275"/>
                </a:lnTo>
                <a:lnTo>
                  <a:pt x="1260" y="260"/>
                </a:lnTo>
                <a:lnTo>
                  <a:pt x="1262" y="249"/>
                </a:lnTo>
                <a:lnTo>
                  <a:pt x="1262" y="239"/>
                </a:lnTo>
                <a:lnTo>
                  <a:pt x="1262" y="229"/>
                </a:lnTo>
                <a:lnTo>
                  <a:pt x="1262" y="225"/>
                </a:lnTo>
                <a:lnTo>
                  <a:pt x="1260" y="222"/>
                </a:lnTo>
                <a:lnTo>
                  <a:pt x="1257" y="220"/>
                </a:lnTo>
                <a:lnTo>
                  <a:pt x="1253" y="220"/>
                </a:lnTo>
                <a:lnTo>
                  <a:pt x="1246" y="220"/>
                </a:lnTo>
                <a:lnTo>
                  <a:pt x="1236" y="220"/>
                </a:lnTo>
                <a:lnTo>
                  <a:pt x="1226" y="222"/>
                </a:lnTo>
                <a:lnTo>
                  <a:pt x="1214" y="227"/>
                </a:lnTo>
                <a:lnTo>
                  <a:pt x="1200" y="229"/>
                </a:lnTo>
                <a:lnTo>
                  <a:pt x="1183" y="237"/>
                </a:lnTo>
                <a:lnTo>
                  <a:pt x="1164" y="241"/>
                </a:lnTo>
                <a:lnTo>
                  <a:pt x="1145" y="249"/>
                </a:lnTo>
                <a:lnTo>
                  <a:pt x="1124" y="256"/>
                </a:lnTo>
                <a:lnTo>
                  <a:pt x="1100" y="263"/>
                </a:lnTo>
                <a:lnTo>
                  <a:pt x="1076" y="272"/>
                </a:lnTo>
                <a:lnTo>
                  <a:pt x="1050" y="282"/>
                </a:lnTo>
                <a:lnTo>
                  <a:pt x="1021" y="291"/>
                </a:lnTo>
                <a:lnTo>
                  <a:pt x="990" y="303"/>
                </a:lnTo>
                <a:lnTo>
                  <a:pt x="928" y="325"/>
                </a:lnTo>
                <a:lnTo>
                  <a:pt x="866" y="349"/>
                </a:lnTo>
                <a:lnTo>
                  <a:pt x="802" y="373"/>
                </a:lnTo>
                <a:lnTo>
                  <a:pt x="737" y="396"/>
                </a:lnTo>
                <a:lnTo>
                  <a:pt x="606" y="447"/>
                </a:lnTo>
                <a:lnTo>
                  <a:pt x="475" y="499"/>
                </a:lnTo>
                <a:lnTo>
                  <a:pt x="442" y="511"/>
                </a:lnTo>
                <a:lnTo>
                  <a:pt x="408" y="523"/>
                </a:lnTo>
                <a:lnTo>
                  <a:pt x="379" y="535"/>
                </a:lnTo>
                <a:lnTo>
                  <a:pt x="351" y="544"/>
                </a:lnTo>
                <a:lnTo>
                  <a:pt x="325" y="554"/>
                </a:lnTo>
                <a:lnTo>
                  <a:pt x="301" y="563"/>
                </a:lnTo>
                <a:lnTo>
                  <a:pt x="277" y="571"/>
                </a:lnTo>
                <a:lnTo>
                  <a:pt x="258" y="578"/>
                </a:lnTo>
                <a:lnTo>
                  <a:pt x="239" y="585"/>
                </a:lnTo>
                <a:lnTo>
                  <a:pt x="222" y="590"/>
                </a:lnTo>
                <a:lnTo>
                  <a:pt x="208" y="594"/>
                </a:lnTo>
                <a:lnTo>
                  <a:pt x="196" y="597"/>
                </a:lnTo>
                <a:lnTo>
                  <a:pt x="184" y="599"/>
                </a:lnTo>
                <a:lnTo>
                  <a:pt x="177" y="602"/>
                </a:lnTo>
                <a:lnTo>
                  <a:pt x="170" y="604"/>
                </a:lnTo>
                <a:lnTo>
                  <a:pt x="165" y="604"/>
                </a:lnTo>
                <a:lnTo>
                  <a:pt x="155" y="602"/>
                </a:lnTo>
                <a:lnTo>
                  <a:pt x="146" y="599"/>
                </a:lnTo>
                <a:lnTo>
                  <a:pt x="136" y="594"/>
                </a:lnTo>
                <a:lnTo>
                  <a:pt x="127" y="587"/>
                </a:lnTo>
                <a:lnTo>
                  <a:pt x="112" y="580"/>
                </a:lnTo>
                <a:lnTo>
                  <a:pt x="100" y="568"/>
                </a:lnTo>
                <a:lnTo>
                  <a:pt x="86" y="559"/>
                </a:lnTo>
                <a:lnTo>
                  <a:pt x="72" y="544"/>
                </a:lnTo>
                <a:lnTo>
                  <a:pt x="62" y="540"/>
                </a:lnTo>
                <a:lnTo>
                  <a:pt x="53" y="532"/>
                </a:lnTo>
                <a:lnTo>
                  <a:pt x="45" y="525"/>
                </a:lnTo>
                <a:lnTo>
                  <a:pt x="38" y="520"/>
                </a:lnTo>
                <a:lnTo>
                  <a:pt x="31" y="513"/>
                </a:lnTo>
                <a:lnTo>
                  <a:pt x="26" y="506"/>
                </a:lnTo>
                <a:lnTo>
                  <a:pt x="22" y="501"/>
                </a:lnTo>
                <a:lnTo>
                  <a:pt x="17" y="494"/>
                </a:lnTo>
                <a:lnTo>
                  <a:pt x="12" y="489"/>
                </a:lnTo>
                <a:lnTo>
                  <a:pt x="7" y="482"/>
                </a:lnTo>
                <a:lnTo>
                  <a:pt x="3" y="473"/>
                </a:lnTo>
                <a:lnTo>
                  <a:pt x="0" y="461"/>
                </a:lnTo>
                <a:lnTo>
                  <a:pt x="0" y="454"/>
                </a:lnTo>
                <a:lnTo>
                  <a:pt x="17" y="451"/>
                </a:lnTo>
                <a:lnTo>
                  <a:pt x="38" y="451"/>
                </a:lnTo>
                <a:lnTo>
                  <a:pt x="60" y="449"/>
                </a:lnTo>
                <a:lnTo>
                  <a:pt x="84" y="447"/>
                </a:lnTo>
                <a:lnTo>
                  <a:pt x="110" y="442"/>
                </a:lnTo>
                <a:lnTo>
                  <a:pt x="139" y="437"/>
                </a:lnTo>
                <a:lnTo>
                  <a:pt x="170" y="432"/>
                </a:lnTo>
                <a:lnTo>
                  <a:pt x="201" y="425"/>
                </a:lnTo>
                <a:lnTo>
                  <a:pt x="234" y="418"/>
                </a:lnTo>
                <a:lnTo>
                  <a:pt x="270" y="411"/>
                </a:lnTo>
                <a:lnTo>
                  <a:pt x="308" y="401"/>
                </a:lnTo>
                <a:lnTo>
                  <a:pt x="348" y="389"/>
                </a:lnTo>
                <a:lnTo>
                  <a:pt x="389" y="377"/>
                </a:lnTo>
                <a:lnTo>
                  <a:pt x="432" y="365"/>
                </a:lnTo>
                <a:lnTo>
                  <a:pt x="480" y="351"/>
                </a:lnTo>
                <a:lnTo>
                  <a:pt x="525" y="337"/>
                </a:lnTo>
                <a:lnTo>
                  <a:pt x="573" y="322"/>
                </a:lnTo>
                <a:lnTo>
                  <a:pt x="618" y="308"/>
                </a:lnTo>
                <a:lnTo>
                  <a:pt x="663" y="294"/>
                </a:lnTo>
                <a:lnTo>
                  <a:pt x="704" y="280"/>
                </a:lnTo>
                <a:lnTo>
                  <a:pt x="745" y="268"/>
                </a:lnTo>
                <a:lnTo>
                  <a:pt x="783" y="256"/>
                </a:lnTo>
                <a:lnTo>
                  <a:pt x="818" y="244"/>
                </a:lnTo>
                <a:lnTo>
                  <a:pt x="854" y="232"/>
                </a:lnTo>
                <a:lnTo>
                  <a:pt x="888" y="220"/>
                </a:lnTo>
                <a:lnTo>
                  <a:pt x="919" y="210"/>
                </a:lnTo>
                <a:lnTo>
                  <a:pt x="947" y="198"/>
                </a:lnTo>
                <a:lnTo>
                  <a:pt x="976" y="189"/>
                </a:lnTo>
                <a:lnTo>
                  <a:pt x="1002" y="179"/>
                </a:lnTo>
                <a:lnTo>
                  <a:pt x="1028" y="170"/>
                </a:lnTo>
                <a:lnTo>
                  <a:pt x="1052" y="160"/>
                </a:lnTo>
                <a:lnTo>
                  <a:pt x="1074" y="153"/>
                </a:lnTo>
                <a:lnTo>
                  <a:pt x="1095" y="146"/>
                </a:lnTo>
                <a:lnTo>
                  <a:pt x="1114" y="139"/>
                </a:lnTo>
                <a:lnTo>
                  <a:pt x="1131" y="132"/>
                </a:lnTo>
                <a:lnTo>
                  <a:pt x="1150" y="127"/>
                </a:lnTo>
                <a:lnTo>
                  <a:pt x="1164" y="120"/>
                </a:lnTo>
                <a:lnTo>
                  <a:pt x="1181" y="113"/>
                </a:lnTo>
                <a:lnTo>
                  <a:pt x="1195" y="105"/>
                </a:lnTo>
                <a:lnTo>
                  <a:pt x="1207" y="101"/>
                </a:lnTo>
                <a:lnTo>
                  <a:pt x="1219" y="94"/>
                </a:lnTo>
                <a:lnTo>
                  <a:pt x="1231" y="86"/>
                </a:lnTo>
                <a:lnTo>
                  <a:pt x="1241" y="82"/>
                </a:lnTo>
                <a:lnTo>
                  <a:pt x="1250" y="74"/>
                </a:lnTo>
                <a:lnTo>
                  <a:pt x="1260" y="67"/>
                </a:lnTo>
                <a:lnTo>
                  <a:pt x="1267" y="60"/>
                </a:lnTo>
                <a:lnTo>
                  <a:pt x="1274" y="55"/>
                </a:lnTo>
                <a:lnTo>
                  <a:pt x="1281" y="48"/>
                </a:lnTo>
                <a:lnTo>
                  <a:pt x="1288" y="36"/>
                </a:lnTo>
                <a:lnTo>
                  <a:pt x="1296" y="27"/>
                </a:lnTo>
                <a:lnTo>
                  <a:pt x="1303" y="17"/>
                </a:lnTo>
                <a:lnTo>
                  <a:pt x="1312" y="12"/>
                </a:lnTo>
                <a:lnTo>
                  <a:pt x="1322" y="8"/>
                </a:lnTo>
                <a:lnTo>
                  <a:pt x="1331" y="3"/>
                </a:lnTo>
                <a:lnTo>
                  <a:pt x="1341" y="3"/>
                </a:lnTo>
                <a:lnTo>
                  <a:pt x="1353" y="0"/>
                </a:lnTo>
                <a:lnTo>
                  <a:pt x="1362" y="3"/>
                </a:lnTo>
                <a:lnTo>
                  <a:pt x="1372" y="5"/>
                </a:lnTo>
                <a:lnTo>
                  <a:pt x="1384" y="12"/>
                </a:lnTo>
                <a:lnTo>
                  <a:pt x="1398" y="20"/>
                </a:lnTo>
                <a:lnTo>
                  <a:pt x="1413" y="29"/>
                </a:lnTo>
                <a:lnTo>
                  <a:pt x="1429" y="41"/>
                </a:lnTo>
                <a:lnTo>
                  <a:pt x="1448" y="55"/>
                </a:lnTo>
                <a:lnTo>
                  <a:pt x="1467" y="72"/>
                </a:lnTo>
                <a:lnTo>
                  <a:pt x="1475" y="79"/>
                </a:lnTo>
                <a:lnTo>
                  <a:pt x="1484" y="89"/>
                </a:lnTo>
                <a:lnTo>
                  <a:pt x="1491" y="96"/>
                </a:lnTo>
                <a:lnTo>
                  <a:pt x="1498" y="103"/>
                </a:lnTo>
                <a:lnTo>
                  <a:pt x="1506" y="110"/>
                </a:lnTo>
                <a:lnTo>
                  <a:pt x="1513" y="117"/>
                </a:lnTo>
                <a:lnTo>
                  <a:pt x="1517" y="125"/>
                </a:lnTo>
                <a:lnTo>
                  <a:pt x="1522" y="132"/>
                </a:lnTo>
                <a:lnTo>
                  <a:pt x="1525" y="136"/>
                </a:lnTo>
                <a:lnTo>
                  <a:pt x="1529" y="141"/>
                </a:lnTo>
                <a:lnTo>
                  <a:pt x="1534" y="151"/>
                </a:lnTo>
                <a:lnTo>
                  <a:pt x="1537" y="158"/>
                </a:lnTo>
                <a:lnTo>
                  <a:pt x="1539" y="163"/>
                </a:lnTo>
                <a:lnTo>
                  <a:pt x="1539" y="172"/>
                </a:lnTo>
                <a:lnTo>
                  <a:pt x="1537" y="182"/>
                </a:lnTo>
                <a:lnTo>
                  <a:pt x="1534" y="189"/>
                </a:lnTo>
                <a:lnTo>
                  <a:pt x="1529" y="196"/>
                </a:lnTo>
                <a:lnTo>
                  <a:pt x="1525" y="203"/>
                </a:lnTo>
                <a:lnTo>
                  <a:pt x="1517" y="210"/>
                </a:lnTo>
                <a:lnTo>
                  <a:pt x="1508" y="218"/>
                </a:lnTo>
                <a:lnTo>
                  <a:pt x="1496" y="222"/>
                </a:lnTo>
                <a:lnTo>
                  <a:pt x="1491" y="227"/>
                </a:lnTo>
                <a:lnTo>
                  <a:pt x="1486" y="232"/>
                </a:lnTo>
                <a:lnTo>
                  <a:pt x="1479" y="239"/>
                </a:lnTo>
                <a:lnTo>
                  <a:pt x="1475" y="246"/>
                </a:lnTo>
                <a:lnTo>
                  <a:pt x="1467" y="253"/>
                </a:lnTo>
                <a:lnTo>
                  <a:pt x="1463" y="263"/>
                </a:lnTo>
                <a:lnTo>
                  <a:pt x="1455" y="272"/>
                </a:lnTo>
                <a:lnTo>
                  <a:pt x="1451" y="282"/>
                </a:lnTo>
                <a:lnTo>
                  <a:pt x="1446" y="294"/>
                </a:lnTo>
                <a:lnTo>
                  <a:pt x="1439" y="306"/>
                </a:lnTo>
                <a:lnTo>
                  <a:pt x="1434" y="318"/>
                </a:lnTo>
                <a:lnTo>
                  <a:pt x="1427" y="332"/>
                </a:lnTo>
                <a:lnTo>
                  <a:pt x="1422" y="346"/>
                </a:lnTo>
                <a:lnTo>
                  <a:pt x="1415" y="363"/>
                </a:lnTo>
                <a:lnTo>
                  <a:pt x="1410" y="377"/>
                </a:lnTo>
                <a:lnTo>
                  <a:pt x="1405" y="394"/>
                </a:lnTo>
                <a:lnTo>
                  <a:pt x="1393" y="430"/>
                </a:lnTo>
                <a:lnTo>
                  <a:pt x="1381" y="468"/>
                </a:lnTo>
                <a:lnTo>
                  <a:pt x="1370" y="509"/>
                </a:lnTo>
                <a:lnTo>
                  <a:pt x="1358" y="549"/>
                </a:lnTo>
                <a:lnTo>
                  <a:pt x="1346" y="592"/>
                </a:lnTo>
                <a:lnTo>
                  <a:pt x="1334" y="637"/>
                </a:lnTo>
                <a:lnTo>
                  <a:pt x="1322" y="683"/>
                </a:lnTo>
                <a:lnTo>
                  <a:pt x="1312" y="730"/>
                </a:lnTo>
                <a:lnTo>
                  <a:pt x="1300" y="780"/>
                </a:lnTo>
                <a:lnTo>
                  <a:pt x="1291" y="831"/>
                </a:lnTo>
                <a:lnTo>
                  <a:pt x="1284" y="878"/>
                </a:lnTo>
                <a:lnTo>
                  <a:pt x="1279" y="924"/>
                </a:lnTo>
                <a:lnTo>
                  <a:pt x="1272" y="967"/>
                </a:lnTo>
                <a:lnTo>
                  <a:pt x="1267" y="1009"/>
                </a:lnTo>
                <a:lnTo>
                  <a:pt x="1265" y="1050"/>
                </a:lnTo>
                <a:lnTo>
                  <a:pt x="1260" y="1088"/>
                </a:lnTo>
                <a:lnTo>
                  <a:pt x="1257" y="1126"/>
                </a:lnTo>
                <a:lnTo>
                  <a:pt x="1255" y="1162"/>
                </a:lnTo>
                <a:lnTo>
                  <a:pt x="1255" y="1196"/>
                </a:lnTo>
                <a:lnTo>
                  <a:pt x="1257" y="1229"/>
                </a:lnTo>
                <a:lnTo>
                  <a:pt x="1260" y="1258"/>
                </a:lnTo>
                <a:lnTo>
                  <a:pt x="1262" y="1284"/>
                </a:lnTo>
                <a:lnTo>
                  <a:pt x="1267" y="1310"/>
                </a:lnTo>
                <a:lnTo>
                  <a:pt x="1269" y="1331"/>
                </a:lnTo>
                <a:lnTo>
                  <a:pt x="1274" y="1353"/>
                </a:lnTo>
                <a:lnTo>
                  <a:pt x="1281" y="1374"/>
                </a:lnTo>
                <a:lnTo>
                  <a:pt x="1291" y="1394"/>
                </a:lnTo>
                <a:lnTo>
                  <a:pt x="1300" y="1410"/>
                </a:lnTo>
                <a:lnTo>
                  <a:pt x="1315" y="1427"/>
                </a:lnTo>
                <a:lnTo>
                  <a:pt x="1329" y="1444"/>
                </a:lnTo>
                <a:lnTo>
                  <a:pt x="1346" y="1458"/>
                </a:lnTo>
                <a:lnTo>
                  <a:pt x="1362" y="1472"/>
                </a:lnTo>
                <a:lnTo>
                  <a:pt x="1384" y="1484"/>
                </a:lnTo>
                <a:lnTo>
                  <a:pt x="1403" y="1496"/>
                </a:lnTo>
                <a:lnTo>
                  <a:pt x="1427" y="1506"/>
                </a:lnTo>
                <a:lnTo>
                  <a:pt x="1448" y="1515"/>
                </a:lnTo>
                <a:lnTo>
                  <a:pt x="1475" y="1522"/>
                </a:lnTo>
                <a:lnTo>
                  <a:pt x="1501" y="1529"/>
                </a:lnTo>
                <a:lnTo>
                  <a:pt x="1529" y="1537"/>
                </a:lnTo>
                <a:lnTo>
                  <a:pt x="1558" y="1541"/>
                </a:lnTo>
                <a:lnTo>
                  <a:pt x="1591" y="1544"/>
                </a:lnTo>
                <a:lnTo>
                  <a:pt x="1622" y="1546"/>
                </a:lnTo>
                <a:lnTo>
                  <a:pt x="1656" y="1549"/>
                </a:lnTo>
                <a:lnTo>
                  <a:pt x="1689" y="1549"/>
                </a:lnTo>
                <a:lnTo>
                  <a:pt x="1723" y="1546"/>
                </a:lnTo>
                <a:lnTo>
                  <a:pt x="1758" y="1541"/>
                </a:lnTo>
                <a:lnTo>
                  <a:pt x="1792" y="1537"/>
                </a:lnTo>
                <a:lnTo>
                  <a:pt x="1828" y="1529"/>
                </a:lnTo>
                <a:lnTo>
                  <a:pt x="1861" y="1522"/>
                </a:lnTo>
                <a:lnTo>
                  <a:pt x="1894" y="1515"/>
                </a:lnTo>
                <a:lnTo>
                  <a:pt x="1923" y="1508"/>
                </a:lnTo>
                <a:lnTo>
                  <a:pt x="1937" y="1501"/>
                </a:lnTo>
                <a:lnTo>
                  <a:pt x="1952" y="1496"/>
                </a:lnTo>
                <a:lnTo>
                  <a:pt x="1964" y="1489"/>
                </a:lnTo>
                <a:lnTo>
                  <a:pt x="1976" y="1484"/>
                </a:lnTo>
                <a:lnTo>
                  <a:pt x="1987" y="1477"/>
                </a:lnTo>
                <a:lnTo>
                  <a:pt x="1997" y="1470"/>
                </a:lnTo>
                <a:lnTo>
                  <a:pt x="2009" y="1460"/>
                </a:lnTo>
                <a:lnTo>
                  <a:pt x="2018" y="1453"/>
                </a:lnTo>
                <a:lnTo>
                  <a:pt x="2026" y="1446"/>
                </a:lnTo>
                <a:lnTo>
                  <a:pt x="2035" y="1436"/>
                </a:lnTo>
                <a:lnTo>
                  <a:pt x="2040" y="1427"/>
                </a:lnTo>
                <a:lnTo>
                  <a:pt x="2047" y="1417"/>
                </a:lnTo>
                <a:lnTo>
                  <a:pt x="2052" y="1405"/>
                </a:lnTo>
                <a:lnTo>
                  <a:pt x="2057" y="1394"/>
                </a:lnTo>
                <a:lnTo>
                  <a:pt x="2064" y="1379"/>
                </a:lnTo>
                <a:lnTo>
                  <a:pt x="2069" y="1365"/>
                </a:lnTo>
                <a:lnTo>
                  <a:pt x="2073" y="1348"/>
                </a:lnTo>
                <a:lnTo>
                  <a:pt x="2081" y="1331"/>
                </a:lnTo>
                <a:lnTo>
                  <a:pt x="2085" y="1312"/>
                </a:lnTo>
                <a:lnTo>
                  <a:pt x="2090" y="1293"/>
                </a:lnTo>
                <a:lnTo>
                  <a:pt x="2095" y="1272"/>
                </a:lnTo>
                <a:lnTo>
                  <a:pt x="2100" y="1250"/>
                </a:lnTo>
                <a:lnTo>
                  <a:pt x="2104" y="1227"/>
                </a:lnTo>
                <a:lnTo>
                  <a:pt x="2109" y="1200"/>
                </a:lnTo>
                <a:lnTo>
                  <a:pt x="2114" y="1174"/>
                </a:lnTo>
                <a:lnTo>
                  <a:pt x="2116" y="1148"/>
                </a:lnTo>
                <a:lnTo>
                  <a:pt x="2121" y="1122"/>
                </a:lnTo>
                <a:lnTo>
                  <a:pt x="2126" y="1098"/>
                </a:lnTo>
                <a:lnTo>
                  <a:pt x="2128" y="1076"/>
                </a:lnTo>
                <a:lnTo>
                  <a:pt x="2133" y="1057"/>
                </a:lnTo>
                <a:lnTo>
                  <a:pt x="2135" y="1038"/>
                </a:lnTo>
                <a:lnTo>
                  <a:pt x="2140" y="1019"/>
                </a:lnTo>
                <a:lnTo>
                  <a:pt x="2145" y="1005"/>
                </a:lnTo>
                <a:lnTo>
                  <a:pt x="2147" y="990"/>
                </a:lnTo>
                <a:lnTo>
                  <a:pt x="2152" y="978"/>
                </a:lnTo>
                <a:lnTo>
                  <a:pt x="2157" y="969"/>
                </a:lnTo>
                <a:lnTo>
                  <a:pt x="2159" y="959"/>
                </a:lnTo>
                <a:lnTo>
                  <a:pt x="2164" y="952"/>
                </a:lnTo>
                <a:lnTo>
                  <a:pt x="2166" y="945"/>
                </a:lnTo>
                <a:lnTo>
                  <a:pt x="2171" y="943"/>
                </a:lnTo>
                <a:lnTo>
                  <a:pt x="2176" y="940"/>
                </a:lnTo>
                <a:lnTo>
                  <a:pt x="2178" y="938"/>
                </a:lnTo>
                <a:lnTo>
                  <a:pt x="2183" y="943"/>
                </a:lnTo>
                <a:lnTo>
                  <a:pt x="2185" y="945"/>
                </a:lnTo>
                <a:lnTo>
                  <a:pt x="2190" y="952"/>
                </a:lnTo>
                <a:lnTo>
                  <a:pt x="2193" y="959"/>
                </a:lnTo>
                <a:lnTo>
                  <a:pt x="2195" y="967"/>
                </a:lnTo>
                <a:lnTo>
                  <a:pt x="2197" y="976"/>
                </a:lnTo>
                <a:lnTo>
                  <a:pt x="2202" y="988"/>
                </a:lnTo>
                <a:lnTo>
                  <a:pt x="2205" y="1002"/>
                </a:lnTo>
                <a:lnTo>
                  <a:pt x="2207" y="1017"/>
                </a:lnTo>
                <a:lnTo>
                  <a:pt x="2209" y="1031"/>
                </a:lnTo>
                <a:lnTo>
                  <a:pt x="2209" y="1048"/>
                </a:lnTo>
                <a:lnTo>
                  <a:pt x="2212" y="1067"/>
                </a:lnTo>
                <a:lnTo>
                  <a:pt x="2214" y="1088"/>
                </a:lnTo>
                <a:lnTo>
                  <a:pt x="2216" y="1110"/>
                </a:lnTo>
                <a:lnTo>
                  <a:pt x="2219" y="1134"/>
                </a:lnTo>
                <a:lnTo>
                  <a:pt x="2221" y="1160"/>
                </a:lnTo>
                <a:lnTo>
                  <a:pt x="2221" y="1184"/>
                </a:lnTo>
                <a:lnTo>
                  <a:pt x="2224" y="1210"/>
                </a:lnTo>
                <a:lnTo>
                  <a:pt x="2228" y="1234"/>
                </a:lnTo>
                <a:lnTo>
                  <a:pt x="2231" y="1255"/>
                </a:lnTo>
                <a:lnTo>
                  <a:pt x="2233" y="1279"/>
                </a:lnTo>
                <a:lnTo>
                  <a:pt x="2236" y="1300"/>
                </a:lnTo>
                <a:lnTo>
                  <a:pt x="2240" y="1322"/>
                </a:lnTo>
                <a:lnTo>
                  <a:pt x="2243" y="1341"/>
                </a:lnTo>
                <a:lnTo>
                  <a:pt x="2248" y="1360"/>
                </a:lnTo>
                <a:lnTo>
                  <a:pt x="2252" y="1379"/>
                </a:lnTo>
                <a:lnTo>
                  <a:pt x="2257" y="1396"/>
                </a:lnTo>
                <a:lnTo>
                  <a:pt x="2262" y="1413"/>
                </a:lnTo>
                <a:lnTo>
                  <a:pt x="2267" y="1429"/>
                </a:lnTo>
                <a:lnTo>
                  <a:pt x="2271" y="1444"/>
                </a:lnTo>
                <a:lnTo>
                  <a:pt x="2276" y="1458"/>
                </a:lnTo>
                <a:lnTo>
                  <a:pt x="2283" y="1472"/>
                </a:lnTo>
                <a:lnTo>
                  <a:pt x="2288" y="1484"/>
                </a:lnTo>
                <a:lnTo>
                  <a:pt x="2290" y="1496"/>
                </a:lnTo>
                <a:lnTo>
                  <a:pt x="2293" y="1508"/>
                </a:lnTo>
                <a:lnTo>
                  <a:pt x="2290" y="1522"/>
                </a:lnTo>
                <a:lnTo>
                  <a:pt x="2290" y="1532"/>
                </a:lnTo>
                <a:lnTo>
                  <a:pt x="2286" y="1544"/>
                </a:lnTo>
                <a:lnTo>
                  <a:pt x="2279" y="1556"/>
                </a:lnTo>
                <a:lnTo>
                  <a:pt x="2271" y="1568"/>
                </a:lnTo>
                <a:lnTo>
                  <a:pt x="2262" y="1580"/>
                </a:lnTo>
                <a:lnTo>
                  <a:pt x="2250" y="1589"/>
                </a:lnTo>
                <a:lnTo>
                  <a:pt x="2238" y="1601"/>
                </a:lnTo>
                <a:lnTo>
                  <a:pt x="2221" y="1613"/>
                </a:lnTo>
                <a:lnTo>
                  <a:pt x="2205" y="1622"/>
                </a:lnTo>
                <a:lnTo>
                  <a:pt x="2183" y="1634"/>
                </a:lnTo>
                <a:lnTo>
                  <a:pt x="2162" y="1646"/>
                </a:lnTo>
                <a:lnTo>
                  <a:pt x="2138" y="1656"/>
                </a:lnTo>
                <a:lnTo>
                  <a:pt x="2112" y="1668"/>
                </a:lnTo>
                <a:lnTo>
                  <a:pt x="2088" y="1677"/>
                </a:lnTo>
                <a:lnTo>
                  <a:pt x="2061" y="1685"/>
                </a:lnTo>
                <a:lnTo>
                  <a:pt x="2038" y="1694"/>
                </a:lnTo>
                <a:lnTo>
                  <a:pt x="2011" y="1701"/>
                </a:lnTo>
                <a:lnTo>
                  <a:pt x="1987" y="1708"/>
                </a:lnTo>
                <a:lnTo>
                  <a:pt x="1964" y="1716"/>
                </a:lnTo>
                <a:lnTo>
                  <a:pt x="1937" y="1720"/>
                </a:lnTo>
                <a:lnTo>
                  <a:pt x="1890" y="1730"/>
                </a:lnTo>
                <a:lnTo>
                  <a:pt x="1840" y="1737"/>
                </a:lnTo>
                <a:lnTo>
                  <a:pt x="1792" y="1744"/>
                </a:lnTo>
                <a:lnTo>
                  <a:pt x="1744" y="1749"/>
                </a:lnTo>
                <a:lnTo>
                  <a:pt x="1744" y="1749"/>
                </a:lnTo>
                <a:lnTo>
                  <a:pt x="1744" y="1749"/>
                </a:lnTo>
              </a:path>
            </a:pathLst>
          </a:custGeom>
          <a:solidFill>
            <a:srgbClr val="339966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2376360"/>
            <a:ext cx="92170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亭  台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  七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八  九  十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枝  花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198440"/>
            <a:ext cx="96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íng   tái    liù     qī   zuò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357336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ā    jiǔ    shí    zhī  hu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33720" y="1600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í   qù   èr 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ān </a:t>
            </a:r>
            <a:r>
              <a:rPr b="0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27432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ān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ūn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ì 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wǔ  ji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886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tínɡ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方正姚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iù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qī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0292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ā 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jiǔ  shí  zhī  hu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228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í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qù  </a:t>
            </a:r>
            <a:r>
              <a:rPr b="0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èr sān 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916280"/>
            <a:ext cx="60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一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去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二 三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里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3068640"/>
            <a:ext cx="596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 村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四 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家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4191120"/>
            <a:ext cx="60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 台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六 七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座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41008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 九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十 枝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花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83664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 去 二 三 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2268360" y="4437000"/>
            <a:ext cx="55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1979640" y="386064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9360"/>
            <a:ext cx="21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了这首诗，你好像看到了哪些景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16360" y="333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这里美丽的景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600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í        èr 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ān </a:t>
            </a:r>
            <a:r>
              <a:rPr b="0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27432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ì 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w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iù 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q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0292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ā  jiǔ  sh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9051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一      二 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0481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四 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41911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六 七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537372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八 九 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yinshan</cp:lastModifiedBy>
  <cp:lastPrinted>1899-12-30T00:00:00Z</cp:lastPrinted>
  <dcterms:modified xsi:type="dcterms:W3CDTF">2013-10-10T12:53:3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