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9.jpeg" ContentType="image/jpeg"/>
  <Override PartName="/ppt/media/image18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15.wmf" ContentType="image/x-wmf"/>
  <Override PartName="/ppt/media/chimes.wav" ContentType="audio/x-wav"/>
  <Override PartName="/ppt/media/image16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9BF-2100-453F-A022-691D5E67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160-4715-4B16-8607-0FBCD93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C86-1867-4E14-9159-F40E86A9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72A-9BD0-4B42-AED0-6148E37E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C190-C62D-4312-B230-99635414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ADB-0549-4967-8927-C247A3F6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1058-3786-42AF-B639-B1FCF99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435E-F47D-4FE1-9F1B-99E43B7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F3B-A482-4948-A3DD-D2A1A699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866C-C2CC-42AA-9CF6-E7FC2A8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64E-A12A-4BB3-991A-935C86C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BFD-B234-4C20-A4BA-628CCD9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06CA-D9A9-460C-8D1A-50D946A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8E6-9761-4FCE-878F-AB6DFDA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B05A-8B13-47D4-89F8-D8E2E3B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80A-3389-4A85-95E5-D17201E1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3947-8F2C-40EC-BB34-1A28B739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BF66-F685-44FE-A9A5-C05E9D0C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34E2-8807-4C71-A9FC-331DE9B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1A84-2785-4D82-B800-29C63F0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927C-7949-47F0-9CFB-E4316A57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BCC4-C2B7-4503-8947-FB1303A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CA8-A104-46AB-8195-FE20B27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B811-E548-4335-8690-793511A6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D230-124F-462B-B1F0-9CB8094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7097-6D77-4FC7-B12D-D70E9B2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D8A3-F5E7-427C-8D1A-EBFB0A0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7484-FF8A-4279-8A33-44FC06BD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1034-ACE4-4117-BC48-5C8C7A9A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70D7-82F0-4477-A15D-3B90A872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A64-5641-4FD0-9844-7C54783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239-E594-4ACD-8813-E8D7619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51D-D111-45E3-8F85-E43EFAC3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F30-67EF-4FDA-A019-1C523D2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6A9-8719-457A-B128-20B090E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E9E-5AE6-4256-9DAB-17B2FF6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319-DFA3-497D-826E-C5DA00C0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A17C-A42B-4E61-A257-8E8C8181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B15-5452-4D80-8EA4-54FF90A6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160" y="-20520"/>
            <a:ext cx="9070920" cy="683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43280" y="1628640"/>
            <a:ext cx="21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47640" y="1773360"/>
            <a:ext cx="568836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楷体_GB2312"/>
              </a:rPr>
              <a:t>一 去 二 三 里</a:t>
            </a:r>
            <a:endParaRPr b="1" lang="en-US" sz="4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716280"/>
            <a:ext cx="230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58920" y="1989000"/>
            <a:ext cx="3097080" cy="30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5020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3280" y="198900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25401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上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256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上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41241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下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4124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右下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112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竖中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068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横中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62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ián   zì   gé     sì  fāng f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404640"/>
            <a:ext cx="3960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田 字 格，四 方 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写 好 汉 字 它 来 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左 上 格、右 上 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左 下 格、右 下 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 中 线、竖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各 个 方 位 记 心 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484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xiě hǎo hàn  zì   tā   lái  b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2565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zuǒshànggé  yòushàng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5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zuǒ  xià  gé     yòu  xià  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2440" y="43657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éngzhōngxiànshùzhōng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51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gè  gè fāng wèi  jì   xīn j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2987640" y="549000"/>
            <a:ext cx="5486400" cy="5486400"/>
            <a:chOff x="2987640" y="549000"/>
            <a:chExt cx="5486400" cy="5486400"/>
          </a:xfrm>
        </p:grpSpPr>
        <p:sp>
          <p:nvSpPr>
            <p:cNvPr id="266" name=""/>
            <p:cNvSpPr/>
            <p:nvPr/>
          </p:nvSpPr>
          <p:spPr>
            <a:xfrm>
              <a:off x="2987640" y="555120"/>
              <a:ext cx="5486400" cy="548028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7640" y="329544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729400" y="549000"/>
              <a:ext cx="1080" cy="548028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3995640" y="2781360"/>
            <a:ext cx="37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98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5092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我 会 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74" name=""/>
            <p:cNvSpPr/>
            <p:nvPr/>
          </p:nvSpPr>
          <p:spPr>
            <a:xfrm>
              <a:off x="1905120" y="614880"/>
              <a:ext cx="5486400" cy="5252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5120" y="324108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646880" y="609120"/>
              <a:ext cx="1080" cy="525204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 txBox="1"/>
          <p:nvPr/>
        </p:nvSpPr>
        <p:spPr>
          <a:xfrm>
            <a:off x="3635280" y="227664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987640" y="3573360"/>
            <a:ext cx="351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1905120" y="609120"/>
            <a:ext cx="5486400" cy="5257800"/>
            <a:chOff x="1905120" y="609120"/>
            <a:chExt cx="5486400" cy="5257800"/>
          </a:xfrm>
        </p:grpSpPr>
        <p:sp>
          <p:nvSpPr>
            <p:cNvPr id="281" name=""/>
            <p:cNvSpPr/>
            <p:nvPr/>
          </p:nvSpPr>
          <p:spPr>
            <a:xfrm>
              <a:off x="1905120" y="614880"/>
              <a:ext cx="5486400" cy="5252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05120" y="3241080"/>
              <a:ext cx="5486400" cy="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646880" y="609120"/>
              <a:ext cx="1080" cy="5252040"/>
            </a:xfrm>
            <a:prstGeom prst="line">
              <a:avLst/>
            </a:prstGeom>
            <a:ln w="38160">
              <a:solidFill>
                <a:srgbClr val="33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3851280" y="206064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24360" y="2924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59280" y="3789360"/>
            <a:ext cx="331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288" name=""/>
            <p:cNvSpPr/>
            <p:nvPr/>
          </p:nvSpPr>
          <p:spPr>
            <a:xfrm>
              <a:off x="3875040" y="482436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Cloud"/>
            <p:cNvSpPr/>
            <p:nvPr/>
          </p:nvSpPr>
          <p:spPr>
            <a:xfrm rot="11275200">
              <a:off x="1066680" y="0"/>
              <a:ext cx="6408720" cy="51753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867280" y="2590920"/>
            <a:ext cx="1160640" cy="1150920"/>
            <a:chOff x="5867280" y="2590920"/>
            <a:chExt cx="1160640" cy="11509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019560" y="297180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321520" y="4017960"/>
              <a:ext cx="93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981080" y="457200"/>
            <a:ext cx="1139760" cy="1150920"/>
            <a:chOff x="1981080" y="457200"/>
            <a:chExt cx="1139760" cy="1150920"/>
          </a:xfrm>
        </p:grpSpPr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1981080" y="4572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133360" y="7621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29080" y="3860640"/>
            <a:ext cx="1218600" cy="1152360"/>
            <a:chOff x="2629080" y="3860640"/>
            <a:chExt cx="1218600" cy="1152360"/>
          </a:xfrm>
        </p:grpSpPr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2629080" y="3860640"/>
              <a:ext cx="1218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954880" y="4241880"/>
              <a:ext cx="56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492360" y="189000"/>
            <a:ext cx="1510920" cy="1160640"/>
            <a:chOff x="3492360" y="189000"/>
            <a:chExt cx="1510920" cy="1160640"/>
          </a:xfrm>
        </p:grpSpPr>
        <p:pic>
          <p:nvPicPr>
            <p:cNvPr id="303" name="" descr=""/>
            <p:cNvPicPr/>
            <p:nvPr/>
          </p:nvPicPr>
          <p:blipFill>
            <a:blip r:embed="rId5"/>
            <a:stretch/>
          </p:blipFill>
          <p:spPr>
            <a:xfrm>
              <a:off x="3492360" y="189000"/>
              <a:ext cx="11516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646080" y="646200"/>
              <a:ext cx="13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29000" y="1600200"/>
            <a:ext cx="988920" cy="998640"/>
            <a:chOff x="3429000" y="1600200"/>
            <a:chExt cx="988920" cy="998640"/>
          </a:xfrm>
        </p:grpSpPr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3429000" y="1600200"/>
              <a:ext cx="988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735360" y="1828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19520" y="2590920"/>
            <a:ext cx="912600" cy="922680"/>
            <a:chOff x="2819520" y="2590920"/>
            <a:chExt cx="912600" cy="922680"/>
          </a:xfrm>
        </p:grpSpPr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972880" y="2810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312" name="" descr=""/>
            <p:cNvPicPr/>
            <p:nvPr/>
          </p:nvPicPr>
          <p:blipFill>
            <a:blip r:embed="rId8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343400" y="3047760"/>
              <a:ext cx="129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094360" y="1141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076040" y="1828800"/>
            <a:ext cx="1116000" cy="1147680"/>
            <a:chOff x="1076040" y="1828800"/>
            <a:chExt cx="1116000" cy="1147680"/>
          </a:xfrm>
        </p:grpSpPr>
        <p:grpSp>
          <p:nvGrpSpPr>
            <p:cNvPr id="320" name=""/>
            <p:cNvGrpSpPr/>
            <p:nvPr/>
          </p:nvGrpSpPr>
          <p:grpSpPr>
            <a:xfrm>
              <a:off x="1076040" y="1828800"/>
              <a:ext cx="1116000" cy="1147680"/>
              <a:chOff x="1076040" y="1828800"/>
              <a:chExt cx="1116000" cy="1147680"/>
            </a:xfrm>
          </p:grpSpPr>
          <p:sp>
            <p:nvSpPr>
              <p:cNvPr id="321" name="未知"/>
              <p:cNvSpPr/>
              <p:nvPr/>
            </p:nvSpPr>
            <p:spPr>
              <a:xfrm>
                <a:off x="1076040" y="1828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1922400" y="2044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1103040" y="2073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1479600" y="2128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1137960" y="2108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71640" y="2071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1334880" y="2104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1222200" y="2206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1355760" y="2233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1552320" y="2265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1806480" y="2108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1744560" y="2448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1701720" y="2327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1145880" y="2238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1352520" y="2138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1353960" y="2349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1562040" y="2368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1508040" y="2122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1726920" y="2444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1915920" y="2071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2109600" y="2233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1842840" y="2117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1577880" y="1862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1590480" y="1871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1665000" y="1900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1671480" y="1906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1595160" y="1871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1479600" y="2855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1349280" y="2216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1788840" y="2225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1611360" y="2417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1546200" y="2657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1625400" y="2654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1380960" y="2252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1800000" y="2274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1622160" y="2443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1571400" y="2668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1360440" y="2232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1828800" y="2238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1560240" y="2725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1465200" y="2216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1828800" y="2225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1652400" y="2417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1428480" y="2319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179856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295280" y="220968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371600" y="3429000"/>
            <a:ext cx="1236600" cy="1150920"/>
            <a:chOff x="1371600" y="3429000"/>
            <a:chExt cx="1236600" cy="1150920"/>
          </a:xfrm>
        </p:grpSpPr>
        <p:pic>
          <p:nvPicPr>
            <p:cNvPr id="368" name="" descr=""/>
            <p:cNvPicPr/>
            <p:nvPr/>
          </p:nvPicPr>
          <p:blipFill>
            <a:blip r:embed="rId10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1600200" y="37339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181560" y="1219320"/>
            <a:ext cx="1297080" cy="1147680"/>
            <a:chOff x="6181560" y="1219320"/>
            <a:chExt cx="1297080" cy="1147680"/>
          </a:xfrm>
        </p:grpSpPr>
        <p:grpSp>
          <p:nvGrpSpPr>
            <p:cNvPr id="371" name=""/>
            <p:cNvGrpSpPr/>
            <p:nvPr/>
          </p:nvGrpSpPr>
          <p:grpSpPr>
            <a:xfrm>
              <a:off x="6181560" y="1219320"/>
              <a:ext cx="1116000" cy="1147680"/>
              <a:chOff x="6181560" y="1219320"/>
              <a:chExt cx="1116000" cy="1147680"/>
            </a:xfrm>
          </p:grpSpPr>
          <p:sp>
            <p:nvSpPr>
              <p:cNvPr id="372" name="未知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702792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208560" y="146376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585120" y="151920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243480" y="149868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977160" y="146232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440400" y="149544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6327720" y="159732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6461280" y="162396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6912000" y="149868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>
                <a:off x="685008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807240" y="17179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251400" y="162900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645804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6459480" y="173988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6667560" y="175896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661356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6832440" y="183528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7215120" y="162396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6948360" y="150840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6683400" y="12528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6770520" y="129060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6777000" y="129708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658512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>
                <a:off x="645480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6894360" y="161604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>
                <a:off x="671688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>
                <a:off x="6651720" y="204804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>
                <a:off x="6730920" y="20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>
                <a:off x="6486480" y="164304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>
                <a:off x="6727680" y="183384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>
                <a:off x="6676920" y="205920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6465960" y="162252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693432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>
                <a:off x="6665760" y="211608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>
                <a:off x="657072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6934320" y="161604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6757920" y="180828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6734160" y="18608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6904080" y="169704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6397560" y="160020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11" name="chimes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220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224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22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23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23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240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24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24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25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256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260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6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50920" y="33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数数填填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700360" y="692280"/>
            <a:ext cx="3024000" cy="2160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2447640" cy="2303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7928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zhī  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）只  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40000" y="3141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ān   zhī n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）只    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1636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ì   gè píng g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）个  苹     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501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71640" y="364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8360" y="522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chimes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24000" y="549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后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41280" y="1989000"/>
            <a:ext cx="43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在我们周围找找本课的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71640" y="3500280"/>
            <a:ext cx="69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向爸爸妈妈介绍自己的文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或家里的用具用上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—10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的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1989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 2  3  4  5  6  7  8  9 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11280" y="620640"/>
            <a:ext cx="1828800" cy="766800"/>
            <a:chOff x="611280" y="620640"/>
            <a:chExt cx="1828800" cy="766800"/>
          </a:xfrm>
        </p:grpSpPr>
        <p:sp>
          <p:nvSpPr>
            <p:cNvPr id="131" name=""/>
            <p:cNvSpPr/>
            <p:nvPr/>
          </p:nvSpPr>
          <p:spPr>
            <a:xfrm>
              <a:off x="611280" y="620640"/>
              <a:ext cx="1676520" cy="76680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9880" y="830880"/>
              <a:ext cx="1600200" cy="520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5280" y="3645000"/>
            <a:ext cx="914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yī   èr   sān  sì    wǔ   liù    qī   bā    jiǔ   sh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5360" y="4581360"/>
            <a:ext cx="621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 二  三  四  五  六  七  八  九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32400" y="5342040"/>
            <a:ext cx="754200" cy="830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809880"/>
            <a:ext cx="8352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17800" y="4344840"/>
            <a:ext cx="830520" cy="836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040280"/>
            <a:ext cx="809640" cy="836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13440" y="3048120"/>
            <a:ext cx="8301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9600" y="4192560"/>
            <a:ext cx="760680" cy="785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4419720"/>
            <a:ext cx="762120" cy="76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4520" y="3886200"/>
            <a:ext cx="762120" cy="838080"/>
            <a:chOff x="74520" y="3886200"/>
            <a:chExt cx="762120" cy="838080"/>
          </a:xfrm>
        </p:grpSpPr>
        <p:sp>
          <p:nvSpPr>
            <p:cNvPr id="155" name=""/>
            <p:cNvSpPr/>
            <p:nvPr/>
          </p:nvSpPr>
          <p:spPr>
            <a:xfrm>
              <a:off x="74520" y="3926160"/>
              <a:ext cx="762120" cy="7981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853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520" y="3886200"/>
              <a:ext cx="71892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1337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434340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304812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864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未知"/>
          <p:cNvSpPr/>
          <p:nvPr/>
        </p:nvSpPr>
        <p:spPr>
          <a:xfrm>
            <a:off x="803160" y="260280"/>
            <a:ext cx="6697800" cy="1451160"/>
          </a:xfrm>
          <a:custGeom>
            <a:avLst/>
            <a:gdLst/>
            <a:ahLst/>
            <a:rect l="l" t="t" r="r" b="b"/>
            <a:pathLst>
              <a:path w="3869" h="914">
                <a:moveTo>
                  <a:pt x="12" y="463"/>
                </a:moveTo>
                <a:cubicBezTo>
                  <a:pt x="29" y="398"/>
                  <a:pt x="61" y="265"/>
                  <a:pt x="138" y="238"/>
                </a:cubicBezTo>
                <a:cubicBezTo>
                  <a:pt x="179" y="223"/>
                  <a:pt x="220" y="211"/>
                  <a:pt x="263" y="200"/>
                </a:cubicBezTo>
                <a:cubicBezTo>
                  <a:pt x="337" y="210"/>
                  <a:pt x="404" y="223"/>
                  <a:pt x="476" y="238"/>
                </a:cubicBezTo>
                <a:cubicBezTo>
                  <a:pt x="526" y="205"/>
                  <a:pt x="549" y="140"/>
                  <a:pt x="613" y="125"/>
                </a:cubicBezTo>
                <a:cubicBezTo>
                  <a:pt x="664" y="113"/>
                  <a:pt x="714" y="104"/>
                  <a:pt x="764" y="88"/>
                </a:cubicBezTo>
                <a:cubicBezTo>
                  <a:pt x="836" y="100"/>
                  <a:pt x="907" y="114"/>
                  <a:pt x="976" y="138"/>
                </a:cubicBezTo>
                <a:cubicBezTo>
                  <a:pt x="985" y="146"/>
                  <a:pt x="992" y="157"/>
                  <a:pt x="1002" y="163"/>
                </a:cubicBezTo>
                <a:cubicBezTo>
                  <a:pt x="1013" y="170"/>
                  <a:pt x="1030" y="166"/>
                  <a:pt x="1039" y="175"/>
                </a:cubicBezTo>
                <a:cubicBezTo>
                  <a:pt x="1105" y="241"/>
                  <a:pt x="992" y="193"/>
                  <a:pt x="1089" y="225"/>
                </a:cubicBezTo>
                <a:cubicBezTo>
                  <a:pt x="1162" y="202"/>
                  <a:pt x="1100" y="233"/>
                  <a:pt x="1139" y="175"/>
                </a:cubicBezTo>
                <a:cubicBezTo>
                  <a:pt x="1149" y="160"/>
                  <a:pt x="1164" y="150"/>
                  <a:pt x="1177" y="138"/>
                </a:cubicBezTo>
                <a:cubicBezTo>
                  <a:pt x="1200" y="65"/>
                  <a:pt x="1171" y="131"/>
                  <a:pt x="1227" y="75"/>
                </a:cubicBezTo>
                <a:cubicBezTo>
                  <a:pt x="1238" y="65"/>
                  <a:pt x="1241" y="48"/>
                  <a:pt x="1252" y="38"/>
                </a:cubicBezTo>
                <a:cubicBezTo>
                  <a:pt x="1276" y="15"/>
                  <a:pt x="1297" y="10"/>
                  <a:pt x="1327" y="0"/>
                </a:cubicBezTo>
                <a:cubicBezTo>
                  <a:pt x="1406" y="4"/>
                  <a:pt x="1486" y="4"/>
                  <a:pt x="1565" y="13"/>
                </a:cubicBezTo>
                <a:cubicBezTo>
                  <a:pt x="1599" y="17"/>
                  <a:pt x="1632" y="30"/>
                  <a:pt x="1665" y="38"/>
                </a:cubicBezTo>
                <a:cubicBezTo>
                  <a:pt x="1682" y="42"/>
                  <a:pt x="1715" y="50"/>
                  <a:pt x="1715" y="50"/>
                </a:cubicBezTo>
                <a:cubicBezTo>
                  <a:pt x="1753" y="75"/>
                  <a:pt x="1790" y="88"/>
                  <a:pt x="1828" y="113"/>
                </a:cubicBezTo>
                <a:cubicBezTo>
                  <a:pt x="1836" y="125"/>
                  <a:pt x="1839" y="145"/>
                  <a:pt x="1853" y="150"/>
                </a:cubicBezTo>
                <a:cubicBezTo>
                  <a:pt x="1885" y="161"/>
                  <a:pt x="1996" y="63"/>
                  <a:pt x="2016" y="50"/>
                </a:cubicBezTo>
                <a:cubicBezTo>
                  <a:pt x="2045" y="31"/>
                  <a:pt x="2116" y="25"/>
                  <a:pt x="2116" y="25"/>
                </a:cubicBezTo>
                <a:cubicBezTo>
                  <a:pt x="2208" y="30"/>
                  <a:pt x="2310" y="6"/>
                  <a:pt x="2391" y="50"/>
                </a:cubicBezTo>
                <a:cubicBezTo>
                  <a:pt x="2418" y="65"/>
                  <a:pt x="2442" y="83"/>
                  <a:pt x="2467" y="100"/>
                </a:cubicBezTo>
                <a:cubicBezTo>
                  <a:pt x="2479" y="108"/>
                  <a:pt x="2504" y="125"/>
                  <a:pt x="2504" y="125"/>
                </a:cubicBezTo>
                <a:cubicBezTo>
                  <a:pt x="2576" y="234"/>
                  <a:pt x="2480" y="106"/>
                  <a:pt x="2567" y="175"/>
                </a:cubicBezTo>
                <a:cubicBezTo>
                  <a:pt x="2649" y="240"/>
                  <a:pt x="2535" y="195"/>
                  <a:pt x="2629" y="225"/>
                </a:cubicBezTo>
                <a:cubicBezTo>
                  <a:pt x="2710" y="212"/>
                  <a:pt x="2775" y="178"/>
                  <a:pt x="2855" y="163"/>
                </a:cubicBezTo>
                <a:cubicBezTo>
                  <a:pt x="2947" y="167"/>
                  <a:pt x="3039" y="165"/>
                  <a:pt x="3130" y="175"/>
                </a:cubicBezTo>
                <a:cubicBezTo>
                  <a:pt x="3156" y="178"/>
                  <a:pt x="3205" y="200"/>
                  <a:pt x="3205" y="200"/>
                </a:cubicBezTo>
                <a:cubicBezTo>
                  <a:pt x="3390" y="175"/>
                  <a:pt x="3320" y="179"/>
                  <a:pt x="3631" y="200"/>
                </a:cubicBezTo>
                <a:cubicBezTo>
                  <a:pt x="3674" y="203"/>
                  <a:pt x="3744" y="263"/>
                  <a:pt x="3744" y="263"/>
                </a:cubicBezTo>
                <a:cubicBezTo>
                  <a:pt x="3752" y="276"/>
                  <a:pt x="3759" y="289"/>
                  <a:pt x="3769" y="301"/>
                </a:cubicBezTo>
                <a:cubicBezTo>
                  <a:pt x="3780" y="314"/>
                  <a:pt x="3796" y="323"/>
                  <a:pt x="3806" y="338"/>
                </a:cubicBezTo>
                <a:cubicBezTo>
                  <a:pt x="3813" y="349"/>
                  <a:pt x="3812" y="364"/>
                  <a:pt x="3819" y="376"/>
                </a:cubicBezTo>
                <a:cubicBezTo>
                  <a:pt x="3834" y="402"/>
                  <a:pt x="3869" y="451"/>
                  <a:pt x="3869" y="451"/>
                </a:cubicBezTo>
                <a:cubicBezTo>
                  <a:pt x="3845" y="566"/>
                  <a:pt x="3820" y="579"/>
                  <a:pt x="3731" y="639"/>
                </a:cubicBezTo>
                <a:cubicBezTo>
                  <a:pt x="3615" y="717"/>
                  <a:pt x="3538" y="725"/>
                  <a:pt x="3393" y="739"/>
                </a:cubicBezTo>
                <a:cubicBezTo>
                  <a:pt x="3282" y="766"/>
                  <a:pt x="3168" y="761"/>
                  <a:pt x="3055" y="776"/>
                </a:cubicBezTo>
                <a:cubicBezTo>
                  <a:pt x="3030" y="785"/>
                  <a:pt x="3004" y="789"/>
                  <a:pt x="2980" y="801"/>
                </a:cubicBezTo>
                <a:cubicBezTo>
                  <a:pt x="2934" y="823"/>
                  <a:pt x="2930" y="848"/>
                  <a:pt x="2880" y="864"/>
                </a:cubicBezTo>
                <a:cubicBezTo>
                  <a:pt x="2842" y="889"/>
                  <a:pt x="2810" y="900"/>
                  <a:pt x="2767" y="914"/>
                </a:cubicBezTo>
                <a:cubicBezTo>
                  <a:pt x="2565" y="903"/>
                  <a:pt x="2531" y="899"/>
                  <a:pt x="2366" y="852"/>
                </a:cubicBezTo>
                <a:cubicBezTo>
                  <a:pt x="2349" y="847"/>
                  <a:pt x="2332" y="845"/>
                  <a:pt x="2316" y="839"/>
                </a:cubicBezTo>
                <a:cubicBezTo>
                  <a:pt x="2299" y="832"/>
                  <a:pt x="2284" y="820"/>
                  <a:pt x="2266" y="814"/>
                </a:cubicBezTo>
                <a:cubicBezTo>
                  <a:pt x="2233" y="803"/>
                  <a:pt x="2166" y="789"/>
                  <a:pt x="2166" y="789"/>
                </a:cubicBezTo>
                <a:cubicBezTo>
                  <a:pt x="2087" y="793"/>
                  <a:pt x="2007" y="791"/>
                  <a:pt x="1928" y="801"/>
                </a:cubicBezTo>
                <a:cubicBezTo>
                  <a:pt x="1910" y="803"/>
                  <a:pt x="1896" y="820"/>
                  <a:pt x="1878" y="826"/>
                </a:cubicBezTo>
                <a:cubicBezTo>
                  <a:pt x="1802" y="852"/>
                  <a:pt x="1729" y="875"/>
                  <a:pt x="1653" y="902"/>
                </a:cubicBezTo>
                <a:cubicBezTo>
                  <a:pt x="1611" y="898"/>
                  <a:pt x="1568" y="897"/>
                  <a:pt x="1527" y="889"/>
                </a:cubicBezTo>
                <a:cubicBezTo>
                  <a:pt x="1460" y="876"/>
                  <a:pt x="1424" y="840"/>
                  <a:pt x="1365" y="814"/>
                </a:cubicBezTo>
                <a:cubicBezTo>
                  <a:pt x="1308" y="789"/>
                  <a:pt x="1265" y="784"/>
                  <a:pt x="1214" y="751"/>
                </a:cubicBezTo>
                <a:cubicBezTo>
                  <a:pt x="1125" y="766"/>
                  <a:pt x="1059" y="806"/>
                  <a:pt x="989" y="864"/>
                </a:cubicBezTo>
                <a:cubicBezTo>
                  <a:pt x="975" y="875"/>
                  <a:pt x="968" y="896"/>
                  <a:pt x="951" y="902"/>
                </a:cubicBezTo>
                <a:cubicBezTo>
                  <a:pt x="919" y="913"/>
                  <a:pt x="884" y="910"/>
                  <a:pt x="851" y="914"/>
                </a:cubicBezTo>
                <a:cubicBezTo>
                  <a:pt x="790" y="902"/>
                  <a:pt x="734" y="884"/>
                  <a:pt x="676" y="864"/>
                </a:cubicBezTo>
                <a:cubicBezTo>
                  <a:pt x="649" y="855"/>
                  <a:pt x="627" y="835"/>
                  <a:pt x="601" y="826"/>
                </a:cubicBezTo>
                <a:cubicBezTo>
                  <a:pt x="559" y="765"/>
                  <a:pt x="516" y="768"/>
                  <a:pt x="451" y="751"/>
                </a:cubicBezTo>
                <a:cubicBezTo>
                  <a:pt x="346" y="787"/>
                  <a:pt x="230" y="772"/>
                  <a:pt x="125" y="739"/>
                </a:cubicBezTo>
                <a:cubicBezTo>
                  <a:pt x="35" y="679"/>
                  <a:pt x="32" y="678"/>
                  <a:pt x="0" y="576"/>
                </a:cubicBezTo>
                <a:cubicBezTo>
                  <a:pt x="13" y="480"/>
                  <a:pt x="12" y="518"/>
                  <a:pt x="12" y="46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88880"/>
            <a:ext cx="635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我的朋友在那里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20" y="3925800"/>
            <a:ext cx="762120" cy="7984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20" y="3886200"/>
            <a:ext cx="71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664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209680"/>
            <a:ext cx="83844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434340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048120"/>
            <a:ext cx="83664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0864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>
            <a:lum contrast="42000"/>
          </a:blip>
          <a:srcRect l="4970" t="4208" r="5590" b="68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46000" y="5257800"/>
            <a:ext cx="8352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6095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Arial"/>
              </a:rPr>
              <a:t>童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97180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04812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8954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30481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31240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29718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809880"/>
            <a:ext cx="76176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1337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34340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04812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038480"/>
            <a:ext cx="762120" cy="8384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4191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4343400"/>
            <a:ext cx="76356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533412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8620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53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304920" y="533520"/>
            <a:ext cx="3743280" cy="3120840"/>
          </a:xfrm>
          <a:custGeom>
            <a:avLst/>
            <a:gdLst/>
            <a:ahLst/>
            <a:rect l="l" t="t" r="r" b="b"/>
            <a:pathLst>
              <a:path w="2358" h="1966">
                <a:moveTo>
                  <a:pt x="368" y="341"/>
                </a:moveTo>
                <a:cubicBezTo>
                  <a:pt x="310" y="355"/>
                  <a:pt x="316" y="370"/>
                  <a:pt x="278" y="411"/>
                </a:cubicBezTo>
                <a:cubicBezTo>
                  <a:pt x="254" y="436"/>
                  <a:pt x="206" y="484"/>
                  <a:pt x="206" y="484"/>
                </a:cubicBezTo>
                <a:cubicBezTo>
                  <a:pt x="183" y="534"/>
                  <a:pt x="183" y="577"/>
                  <a:pt x="162" y="629"/>
                </a:cubicBezTo>
                <a:cubicBezTo>
                  <a:pt x="166" y="678"/>
                  <a:pt x="176" y="685"/>
                  <a:pt x="148" y="725"/>
                </a:cubicBezTo>
                <a:cubicBezTo>
                  <a:pt x="133" y="747"/>
                  <a:pt x="97" y="786"/>
                  <a:pt x="97" y="786"/>
                </a:cubicBezTo>
                <a:cubicBezTo>
                  <a:pt x="70" y="798"/>
                  <a:pt x="38" y="801"/>
                  <a:pt x="16" y="822"/>
                </a:cubicBezTo>
                <a:cubicBezTo>
                  <a:pt x="3" y="833"/>
                  <a:pt x="5" y="855"/>
                  <a:pt x="3" y="873"/>
                </a:cubicBezTo>
                <a:cubicBezTo>
                  <a:pt x="0" y="904"/>
                  <a:pt x="0" y="964"/>
                  <a:pt x="0" y="964"/>
                </a:cubicBezTo>
                <a:cubicBezTo>
                  <a:pt x="39" y="1065"/>
                  <a:pt x="48" y="1130"/>
                  <a:pt x="164" y="1157"/>
                </a:cubicBezTo>
                <a:cubicBezTo>
                  <a:pt x="174" y="1166"/>
                  <a:pt x="182" y="1179"/>
                  <a:pt x="194" y="1183"/>
                </a:cubicBezTo>
                <a:cubicBezTo>
                  <a:pt x="208" y="1189"/>
                  <a:pt x="226" y="1178"/>
                  <a:pt x="239" y="1185"/>
                </a:cubicBezTo>
                <a:cubicBezTo>
                  <a:pt x="263" y="1196"/>
                  <a:pt x="300" y="1235"/>
                  <a:pt x="300" y="1235"/>
                </a:cubicBezTo>
                <a:cubicBezTo>
                  <a:pt x="321" y="1261"/>
                  <a:pt x="333" y="1298"/>
                  <a:pt x="362" y="1314"/>
                </a:cubicBezTo>
                <a:cubicBezTo>
                  <a:pt x="389" y="1329"/>
                  <a:pt x="421" y="1966"/>
                  <a:pt x="451" y="1959"/>
                </a:cubicBezTo>
                <a:cubicBezTo>
                  <a:pt x="476" y="1952"/>
                  <a:pt x="551" y="1471"/>
                  <a:pt x="551" y="1471"/>
                </a:cubicBezTo>
                <a:cubicBezTo>
                  <a:pt x="610" y="1474"/>
                  <a:pt x="639" y="1287"/>
                  <a:pt x="697" y="1284"/>
                </a:cubicBezTo>
                <a:cubicBezTo>
                  <a:pt x="783" y="1280"/>
                  <a:pt x="871" y="1293"/>
                  <a:pt x="955" y="1273"/>
                </a:cubicBezTo>
                <a:cubicBezTo>
                  <a:pt x="972" y="1277"/>
                  <a:pt x="990" y="1292"/>
                  <a:pt x="1007" y="1285"/>
                </a:cubicBezTo>
                <a:cubicBezTo>
                  <a:pt x="1070" y="1261"/>
                  <a:pt x="1138" y="1176"/>
                  <a:pt x="1166" y="1114"/>
                </a:cubicBezTo>
                <a:cubicBezTo>
                  <a:pt x="1214" y="1089"/>
                  <a:pt x="1262" y="1062"/>
                  <a:pt x="1311" y="1040"/>
                </a:cubicBezTo>
                <a:cubicBezTo>
                  <a:pt x="1350" y="1021"/>
                  <a:pt x="1463" y="1046"/>
                  <a:pt x="1509" y="1050"/>
                </a:cubicBezTo>
                <a:cubicBezTo>
                  <a:pt x="1582" y="1001"/>
                  <a:pt x="1657" y="955"/>
                  <a:pt x="1726" y="902"/>
                </a:cubicBezTo>
                <a:cubicBezTo>
                  <a:pt x="1760" y="876"/>
                  <a:pt x="1820" y="815"/>
                  <a:pt x="1820" y="815"/>
                </a:cubicBezTo>
                <a:cubicBezTo>
                  <a:pt x="2186" y="608"/>
                  <a:pt x="2002" y="653"/>
                  <a:pt x="2211" y="662"/>
                </a:cubicBezTo>
                <a:cubicBezTo>
                  <a:pt x="2234" y="624"/>
                  <a:pt x="2268" y="576"/>
                  <a:pt x="2278" y="533"/>
                </a:cubicBezTo>
                <a:cubicBezTo>
                  <a:pt x="2308" y="411"/>
                  <a:pt x="2285" y="460"/>
                  <a:pt x="2333" y="382"/>
                </a:cubicBezTo>
                <a:cubicBezTo>
                  <a:pt x="2358" y="271"/>
                  <a:pt x="2347" y="286"/>
                  <a:pt x="2264" y="174"/>
                </a:cubicBezTo>
                <a:cubicBezTo>
                  <a:pt x="2241" y="193"/>
                  <a:pt x="2218" y="212"/>
                  <a:pt x="2196" y="231"/>
                </a:cubicBezTo>
                <a:cubicBezTo>
                  <a:pt x="2183" y="243"/>
                  <a:pt x="2176" y="261"/>
                  <a:pt x="2160" y="268"/>
                </a:cubicBezTo>
                <a:cubicBezTo>
                  <a:pt x="2146" y="274"/>
                  <a:pt x="2129" y="266"/>
                  <a:pt x="2114" y="266"/>
                </a:cubicBezTo>
                <a:cubicBezTo>
                  <a:pt x="2074" y="232"/>
                  <a:pt x="2032" y="201"/>
                  <a:pt x="1993" y="165"/>
                </a:cubicBezTo>
                <a:cubicBezTo>
                  <a:pt x="1907" y="85"/>
                  <a:pt x="1864" y="0"/>
                  <a:pt x="1734" y="30"/>
                </a:cubicBezTo>
                <a:cubicBezTo>
                  <a:pt x="1661" y="91"/>
                  <a:pt x="1555" y="161"/>
                  <a:pt x="1452" y="144"/>
                </a:cubicBezTo>
                <a:cubicBezTo>
                  <a:pt x="1375" y="132"/>
                  <a:pt x="1314" y="87"/>
                  <a:pt x="1238" y="84"/>
                </a:cubicBezTo>
                <a:cubicBezTo>
                  <a:pt x="1212" y="112"/>
                  <a:pt x="1182" y="136"/>
                  <a:pt x="1156" y="164"/>
                </a:cubicBezTo>
                <a:cubicBezTo>
                  <a:pt x="1137" y="184"/>
                  <a:pt x="1105" y="226"/>
                  <a:pt x="1105" y="226"/>
                </a:cubicBezTo>
                <a:cubicBezTo>
                  <a:pt x="1074" y="240"/>
                  <a:pt x="1046" y="263"/>
                  <a:pt x="1013" y="268"/>
                </a:cubicBezTo>
                <a:cubicBezTo>
                  <a:pt x="992" y="270"/>
                  <a:pt x="975" y="250"/>
                  <a:pt x="955" y="244"/>
                </a:cubicBezTo>
                <a:cubicBezTo>
                  <a:pt x="921" y="235"/>
                  <a:pt x="886" y="228"/>
                  <a:pt x="852" y="220"/>
                </a:cubicBezTo>
                <a:cubicBezTo>
                  <a:pt x="776" y="202"/>
                  <a:pt x="690" y="199"/>
                  <a:pt x="615" y="219"/>
                </a:cubicBezTo>
                <a:cubicBezTo>
                  <a:pt x="592" y="269"/>
                  <a:pt x="556" y="308"/>
                  <a:pt x="520" y="350"/>
                </a:cubicBezTo>
                <a:cubicBezTo>
                  <a:pt x="462" y="365"/>
                  <a:pt x="427" y="356"/>
                  <a:pt x="368" y="34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0384400">
            <a:off x="567720" y="874440"/>
            <a:ext cx="27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你的朋友在这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8098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22560" y="274680"/>
            <a:ext cx="1297080" cy="1143000"/>
            <a:chOff x="3922560" y="274680"/>
            <a:chExt cx="1297080" cy="1143000"/>
          </a:xfrm>
        </p:grpSpPr>
        <p:pic>
          <p:nvPicPr>
            <p:cNvPr id="21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3922560" y="274680"/>
              <a:ext cx="12970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3922560" y="274680"/>
              <a:ext cx="12970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6040" y="1484280"/>
            <a:ext cx="5087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qù         èr       sān     l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1989000"/>
            <a:ext cx="486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二      三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1332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cūn        sì       wǔ      ji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村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tái          liù     qī     z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95080" y="4221000"/>
            <a:ext cx="46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台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50120" y="486900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jiǔ           shí    zhī   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6480" y="5516640"/>
            <a:ext cx="48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九          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枝    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5465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16360" y="1773360"/>
            <a:ext cx="54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í   qù   èr  sān  l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   去   二   三   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  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w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烟   村   四   五   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。    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íng tái  liù   q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uò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亭   台   六   七   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，            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i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hu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八   九   十   枝   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í  qù  èr sān l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 去  二  三  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古筝独奏 高山流水" descr=""/>
          <p:cNvPicPr/>
          <p:nvPr/>
        </p:nvPicPr>
        <p:blipFill>
          <a:blip r:embed="rId3"/>
          <a:stretch/>
        </p:blipFill>
        <p:spPr>
          <a:xfrm>
            <a:off x="108000" y="6021360"/>
            <a:ext cx="660240" cy="7207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16360" y="1484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到外面游玩，不知不觉离家已有两、三里地，看到不远处的小村庄里，有四、五户人家已经冒起了炊烟。我信步走来，又看到路边有六、七处精美的亭阁楼台，独自静静观赏，才发现身边的树枝上挂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八朵、九朵，哦，不，十朵花，真是赏心悦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33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诗的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8:56:59Z</dcterms:created>
  <dc:creator>walkinnet</dc:creator>
  <dc:description/>
  <dc:language>en-US</dc:language>
  <cp:lastModifiedBy>微软用户</cp:lastModifiedBy>
  <cp:lastPrinted>1899-12-30T00:00:00Z</cp:lastPrinted>
  <dcterms:modified xsi:type="dcterms:W3CDTF">2009-10-19T02:14:22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