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E8C-7D08-49FC-9192-CDFD3C95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2DC-B5E3-4A1E-9D56-1E41B425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4F3-6EAB-464F-88F7-5C50CECE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6C9-F63F-4562-B157-0D952419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3B6-E5B5-4875-A353-239CD15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B79-4EF1-479D-BD5C-4AF322AD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E58-10B0-4400-81F9-D73CE735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D2D-5DC6-4416-BB54-AC0F93A8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C5F-324B-4645-BF76-88D37A0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0A0-4FE6-4604-A382-6C5BB70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7A9-D7FF-4008-983D-4F8B50D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421-3B99-43A8-B9D3-079F8DE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819-5B2A-4950-85BC-4067870AD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486900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70b00"/>
                </a:solidFill>
                <a:latin typeface="微软雅黑"/>
                <a:ea typeface="微软雅黑"/>
              </a:rPr>
              <a:t>企业年会参考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76120" y="1557000"/>
            <a:ext cx="64198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我们自己的方式表达我们的心情和感受，用我们自己的才艺展示企业的文化和精神！欢歌笑语，掌声雷动，让我们尽情欢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员工表演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14822" b="0"/>
          <a:stretch/>
        </p:blipFill>
        <p:spPr>
          <a:xfrm>
            <a:off x="4643280" y="4508640"/>
            <a:ext cx="25196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1601" t="0" r="0" b="0"/>
          <a:stretch/>
        </p:blipFill>
        <p:spPr>
          <a:xfrm>
            <a:off x="1690560" y="450864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692360" y="2708280"/>
            <a:ext cx="2519280" cy="1603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45080" y="2708280"/>
            <a:ext cx="251928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76000" y="1700280"/>
            <a:ext cx="598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一年的好运从这里开始！嗨，伙伴，幸运的一定是你！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幸运抽奖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216072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59040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娱乐类：好运年年有，快乐皮筋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团队类：公共汽车，团队之椅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情感类：胜利龙舟，荣誉勋章……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娱乐类活动可以在年会现场营造喜庆热闹的气氛！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团队类活动能够增强企业员工的凝聚力！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情感类活动从每个人的内心深处激发出对企业的认同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晚会游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72916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闭幕仪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547640" y="1917720"/>
            <a:ext cx="60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活动的最后，让我们把自己的心愿挂在这颗心愿树上，这树把我们的祝福聚会在一起，它将挂满我们的希望，和我们一起见证新一年的来临，与我们一起去创造，去征服，去胜利。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98920" y="3051000"/>
            <a:ext cx="3528720" cy="2970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0"/>
          <p:cNvSpPr/>
          <p:nvPr/>
        </p:nvSpPr>
        <p:spPr>
          <a:xfrm>
            <a:off x="2050920" y="134136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3454560" y="1417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活动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2"/>
          <p:cNvSpPr/>
          <p:nvPr/>
        </p:nvSpPr>
        <p:spPr>
          <a:xfrm>
            <a:off x="1974960" y="214956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3688560" y="2198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关键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4"/>
          <p:cNvSpPr/>
          <p:nvPr/>
        </p:nvSpPr>
        <p:spPr>
          <a:xfrm>
            <a:off x="2048040" y="2940120"/>
            <a:ext cx="5045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685320" y="2990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时间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1962000" y="1459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1974960" y="22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1974960" y="3056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9"/>
          <p:cNvSpPr/>
          <p:nvPr/>
        </p:nvSpPr>
        <p:spPr>
          <a:xfrm>
            <a:off x="2050920" y="373212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3735360" y="378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年会活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1962000" y="3848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2050920" y="452448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3642120" y="45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公司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1974960" y="4640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4"/>
          <p:cNvSpPr/>
          <p:nvPr/>
        </p:nvSpPr>
        <p:spPr>
          <a:xfrm>
            <a:off x="2050920" y="5300640"/>
            <a:ext cx="5042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1979640" y="5445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3680280" y="5365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70b00"/>
                </a:solidFill>
                <a:latin typeface="Arial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7840" y="260280"/>
            <a:ext cx="144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70b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76360" y="658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活动目的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2124000" y="3141720"/>
            <a:ext cx="5457960" cy="952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9cc00"/>
              </a:gs>
              <a:gs pos="100000">
                <a:srgbClr val="2a582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003480" y="3556080"/>
            <a:ext cx="376200" cy="25092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162160" y="4575240"/>
            <a:ext cx="5423040" cy="941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333399"/>
              </a:gs>
              <a:gs pos="100000">
                <a:srgbClr val="42014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2976480" y="5040360"/>
            <a:ext cx="376200" cy="249120"/>
          </a:xfrm>
          <a:prstGeom prst="rightArrow">
            <a:avLst>
              <a:gd name="adj1" fmla="val 50000"/>
              <a:gd name="adj2" fmla="val 62921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2124000" y="1685880"/>
            <a:ext cx="5457960" cy="9511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9999">
                  <a:alpha val="80000"/>
                </a:srgbClr>
              </a:gs>
              <a:gs pos="100000">
                <a:srgbClr val="72380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2984400" y="2131920"/>
            <a:ext cx="376200" cy="250920"/>
          </a:xfrm>
          <a:prstGeom prst="rightArrow">
            <a:avLst>
              <a:gd name="adj1" fmla="val 50000"/>
              <a:gd name="adj2" fmla="val 62470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1541520" y="1670040"/>
            <a:ext cx="1628640" cy="944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ac55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4"/>
          <p:cNvSpPr/>
          <p:nvPr/>
        </p:nvSpPr>
        <p:spPr>
          <a:xfrm>
            <a:off x="1604880" y="1735200"/>
            <a:ext cx="811440" cy="473040"/>
          </a:xfrm>
          <a:custGeom>
            <a:avLst/>
            <a:gdLst>
              <a:gd name="textAreaLeft" fmla="*/ 0 w 811440"/>
              <a:gd name="textAreaRight" fmla="*/ 811800 w 8114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bbe91"/>
              </a:gs>
              <a:gs pos="50000">
                <a:srgbClr val="009999">
                  <a:alpha val="0"/>
                </a:srgbClr>
              </a:gs>
              <a:gs pos="100000">
                <a:srgbClr val="fbbe9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554120" y="3100320"/>
            <a:ext cx="1628640" cy="947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cc00"/>
              </a:gs>
              <a:gs pos="100000">
                <a:srgbClr val="4085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6"/>
          <p:cNvSpPr/>
          <p:nvPr/>
        </p:nvSpPr>
        <p:spPr>
          <a:xfrm>
            <a:off x="1608120" y="3165480"/>
            <a:ext cx="811080" cy="474480"/>
          </a:xfrm>
          <a:custGeom>
            <a:avLst/>
            <a:gdLst>
              <a:gd name="textAreaLeft" fmla="*/ 0 w 811080"/>
              <a:gd name="textAreaRight" fmla="*/ 811440 w 8110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fdfa9"/>
              </a:gs>
              <a:gs pos="50000">
                <a:srgbClr val="99cc00">
                  <a:alpha val="0"/>
                </a:srgbClr>
              </a:gs>
              <a:gs pos="100000">
                <a:srgbClr val="afdfa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535040" y="4565520"/>
            <a:ext cx="1629000" cy="9302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3399"/>
              </a:gs>
              <a:gs pos="100000">
                <a:srgbClr val="64026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8"/>
          <p:cNvSpPr/>
          <p:nvPr/>
        </p:nvSpPr>
        <p:spPr>
          <a:xfrm>
            <a:off x="1589040" y="4621320"/>
            <a:ext cx="811440" cy="465120"/>
          </a:xfrm>
          <a:custGeom>
            <a:avLst/>
            <a:gdLst>
              <a:gd name="textAreaLeft" fmla="*/ 0 w 811440"/>
              <a:gd name="textAreaRight" fmla="*/ 811800 w 81144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984c9"/>
              </a:gs>
              <a:gs pos="50000">
                <a:srgbClr val="333399">
                  <a:alpha val="0"/>
                </a:srgbClr>
              </a:gs>
              <a:gs pos="100000">
                <a:srgbClr val="c984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3394080" y="191628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感谢公司员工一年来的辛勤工作，增进领导与员工间的互动与交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3394080" y="334332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举办一次全新的不同感觉的年会，让员工看到公司的实力以及增强其对未来的信心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3394080" y="4797360"/>
            <a:ext cx="39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通过年会的举办，了解员工对公司未来发展的期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189216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感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476360" y="335772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1450800" y="482904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effff"/>
                </a:solidFill>
                <a:latin typeface="Arial"/>
              </a:rPr>
              <a:t>展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68360" y="1915920"/>
            <a:ext cx="58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精彩的演出和别出心裁的游戏，让岁末的聚会变成欢乐的海洋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360" y="6588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关键词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grpSp>
        <p:nvGrpSpPr>
          <p:cNvPr id="82" name="组合 10"/>
          <p:cNvGrpSpPr/>
          <p:nvPr/>
        </p:nvGrpSpPr>
        <p:grpSpPr>
          <a:xfrm>
            <a:off x="1116000" y="1700280"/>
            <a:ext cx="1368360" cy="960480"/>
            <a:chOff x="1116000" y="1700280"/>
            <a:chExt cx="1368360" cy="960480"/>
          </a:xfrm>
        </p:grpSpPr>
        <p:sp>
          <p:nvSpPr>
            <p:cNvPr id="83" name="椭圆 11"/>
            <p:cNvSpPr/>
            <p:nvPr/>
          </p:nvSpPr>
          <p:spPr>
            <a:xfrm>
              <a:off x="1116000" y="2307600"/>
              <a:ext cx="1368360" cy="353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形标注 12"/>
            <p:cNvSpPr/>
            <p:nvPr/>
          </p:nvSpPr>
          <p:spPr>
            <a:xfrm>
              <a:off x="1317960" y="1700280"/>
              <a:ext cx="883440" cy="706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3"/>
            <p:cNvSpPr/>
            <p:nvPr/>
          </p:nvSpPr>
          <p:spPr>
            <a:xfrm>
              <a:off x="1383480" y="1729080"/>
              <a:ext cx="750600" cy="57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4"/>
            <p:cNvSpPr/>
            <p:nvPr/>
          </p:nvSpPr>
          <p:spPr>
            <a:xfrm>
              <a:off x="1379520" y="186192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5"/>
          <p:cNvGrpSpPr/>
          <p:nvPr/>
        </p:nvGrpSpPr>
        <p:grpSpPr>
          <a:xfrm>
            <a:off x="1116000" y="3116160"/>
            <a:ext cx="1368360" cy="960480"/>
            <a:chOff x="1116000" y="3116160"/>
            <a:chExt cx="1368360" cy="960480"/>
          </a:xfrm>
        </p:grpSpPr>
        <p:sp>
          <p:nvSpPr>
            <p:cNvPr id="88" name="椭圆 36"/>
            <p:cNvSpPr/>
            <p:nvPr/>
          </p:nvSpPr>
          <p:spPr>
            <a:xfrm>
              <a:off x="1116000" y="3723840"/>
              <a:ext cx="1368360" cy="352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形标注 37"/>
            <p:cNvSpPr/>
            <p:nvPr/>
          </p:nvSpPr>
          <p:spPr>
            <a:xfrm>
              <a:off x="1318320" y="3116160"/>
              <a:ext cx="882720" cy="70596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38"/>
            <p:cNvSpPr/>
            <p:nvPr/>
          </p:nvSpPr>
          <p:spPr>
            <a:xfrm>
              <a:off x="1383120" y="3144240"/>
              <a:ext cx="750240" cy="573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9"/>
            <p:cNvSpPr/>
            <p:nvPr/>
          </p:nvSpPr>
          <p:spPr>
            <a:xfrm>
              <a:off x="1392120" y="3269880"/>
              <a:ext cx="74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感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5"/>
          <p:cNvGrpSpPr/>
          <p:nvPr/>
        </p:nvGrpSpPr>
        <p:grpSpPr>
          <a:xfrm>
            <a:off x="1116000" y="4680000"/>
            <a:ext cx="1295280" cy="909720"/>
            <a:chOff x="1116000" y="4680000"/>
            <a:chExt cx="1295280" cy="909720"/>
          </a:xfrm>
        </p:grpSpPr>
        <p:sp>
          <p:nvSpPr>
            <p:cNvPr id="93" name="椭圆 26"/>
            <p:cNvSpPr/>
            <p:nvPr/>
          </p:nvSpPr>
          <p:spPr>
            <a:xfrm>
              <a:off x="1116000" y="5254920"/>
              <a:ext cx="1295280" cy="334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形标注 27"/>
            <p:cNvSpPr/>
            <p:nvPr/>
          </p:nvSpPr>
          <p:spPr>
            <a:xfrm>
              <a:off x="1307160" y="4680000"/>
              <a:ext cx="835920" cy="6685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8"/>
            <p:cNvSpPr/>
            <p:nvPr/>
          </p:nvSpPr>
          <p:spPr>
            <a:xfrm>
              <a:off x="1369440" y="4707000"/>
              <a:ext cx="709920" cy="543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9"/>
            <p:cNvSpPr/>
            <p:nvPr/>
          </p:nvSpPr>
          <p:spPr>
            <a:xfrm>
              <a:off x="1350720" y="482112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希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68360" y="3789360"/>
            <a:ext cx="6418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581360"/>
            <a:ext cx="6418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268360" y="2997360"/>
            <a:ext cx="5616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过去的一年中，我们同舟共济，用团队的力量创造了一个又一个伟大的成绩！在这过程中，也有很多美好的回忆。让我们一起来把回忆重温，让些许感动，在我们心中长存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195640" y="4581360"/>
            <a:ext cx="56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明年又是一个新的开始了，让我们在岁末的感慨中展望来年的远景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新的一年里，我们会有新的起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那是一种力量，帮助我们点燃心中的梦想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84360" y="1125000"/>
            <a:ext cx="38988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会工作人员签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场地布置，设备调试 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持人及演出人员签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持人及演出人员排练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年会演职人员会议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酒店协调，做好迎宾准备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开场仪式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领导致词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会晚宴开始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游戏环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抽奖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游戏环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抽奖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员工节目表演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0    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闭幕仪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360" y="260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时间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Documents and Settings\sally\桌面\U320P8T1D87351F62DT20040225040004.jpg"/>
          <p:cNvPicPr/>
          <p:nvPr/>
        </p:nvPicPr>
        <p:blipFill>
          <a:blip r:embed="rId2"/>
          <a:stretch/>
        </p:blipFill>
        <p:spPr>
          <a:xfrm>
            <a:off x="4913280" y="2924280"/>
            <a:ext cx="239544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:\Documents and Settings\sally\桌面\u=1832851218,4280642417&amp;gp=-10.jpg"/>
          <p:cNvPicPr/>
          <p:nvPr/>
        </p:nvPicPr>
        <p:blipFill>
          <a:blip r:embed="rId3"/>
          <a:stretch/>
        </p:blipFill>
        <p:spPr>
          <a:xfrm>
            <a:off x="1712880" y="2924280"/>
            <a:ext cx="2427480" cy="1614240"/>
          </a:xfrm>
          <a:prstGeom prst="rect">
            <a:avLst/>
          </a:prstGeom>
          <a:ln w="0">
            <a:noFill/>
          </a:ln>
        </p:spPr>
      </p:pic>
      <p:sp>
        <p:nvSpPr>
          <p:cNvPr id="105" name="右箭头 9"/>
          <p:cNvSpPr/>
          <p:nvPr/>
        </p:nvSpPr>
        <p:spPr>
          <a:xfrm>
            <a:off x="4284720" y="3573360"/>
            <a:ext cx="574560" cy="357120"/>
          </a:xfrm>
          <a:prstGeom prst="rightArrow">
            <a:avLst>
              <a:gd name="adj1" fmla="val 50000"/>
              <a:gd name="adj2" fmla="val 80444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266920" y="2349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取许愿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员工签到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00-17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5435640" y="234936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到墙签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260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方正姚体"/>
              </a:rPr>
              <a:t>年会活动流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cc0000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35272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年会的一开始，我们首先将营造一个喜庆热烈的气氛，当然仅做到这一点还远远不够，我们会利用图像，音乐和灯光等手段，带领大家一起回忆那属于我们每一个人的“闪亮的日子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场仪式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30-17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弦之尚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2951280" cy="21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83664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6335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一年的工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我们的成效如何？未来的征途，我们如何跋涉？我们生活在一个温暖的集体中，我们相互依靠，我们共同战斗。是什么让我们凝聚在一起？企业的带头人激励我们：一起拼搏，共享成果！因为，我们为彼此而战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领导致词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:50-1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9721" t="18189" r="10564" b="0"/>
          <a:stretch/>
        </p:blipFill>
        <p:spPr>
          <a:xfrm>
            <a:off x="4572000" y="3324240"/>
            <a:ext cx="3168720" cy="248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12293" r="0" b="0"/>
          <a:stretch/>
        </p:blipFill>
        <p:spPr>
          <a:xfrm>
            <a:off x="1403280" y="3306600"/>
            <a:ext cx="306072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61560" y="1600200"/>
            <a:ext cx="6923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　一年了，我们忙碌，我们创造，我们成功。在这过程中，你是否忽视了一些身边的同事，忘记了多给他们一些关怀，倾听他们的感受，分担他们的忧愁？让我们打开心扉，将彼此的心靠的紧一些吧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伙伴们共聚一堂，畅谈一年来的各种感受，杯盏里满载着美酒，美酒里沉浸着同事之间的美好情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403280" y="1052640"/>
            <a:ext cx="277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会晚宴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8598" r="0" b="0"/>
          <a:stretch/>
        </p:blipFill>
        <p:spPr>
          <a:xfrm>
            <a:off x="2529000" y="3435480"/>
            <a:ext cx="3771720" cy="229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03:55:52Z</dcterms:created>
  <dc:creator>微软用户</dc:creator>
  <dc:description/>
  <dc:language>en-US</dc:language>
  <cp:lastModifiedBy>admin</cp:lastModifiedBy>
  <dcterms:modified xsi:type="dcterms:W3CDTF">2015-03-11T09:00:50Z</dcterms:modified>
  <cp:revision>78</cp:revision>
  <dc:subject/>
  <dc:title>幻灯片 1</dc:title>
</cp:coreProperties>
</file>