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343-B333-4DEB-8CF4-B0D9EC23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E9E-5769-43F9-B46D-9C9AC61A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38A-B35B-4AAB-A5D9-504B30A1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50AA-C6E0-442F-B07B-F536C9F5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B97-3AC9-4993-898C-83E631F2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A3E-6AEA-4717-B31C-9FEB1D44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F0C3-2B2F-4378-8942-0AD4D029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326-569F-4DDD-92F7-3DC74A9E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3370-AA1A-4657-91A4-633F38B7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2AD-D328-4FCD-B09C-FAFE9F3D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E8AB-9DC4-4BEB-AE8D-2E008112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4476-E80E-40FC-A238-C9AD0E77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41D8-212F-482B-97BF-F1DF969EEB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79640" y="254160"/>
            <a:ext cx="69847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79640" y="254160"/>
            <a:ext cx="69847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 SYSTEM</cp:lastModifiedBy>
  <dcterms:modified xsi:type="dcterms:W3CDTF">2007-04-11T02:47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