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7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2B99E-73FE-4A7D-9FC9-43C0326D4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7C3B4-DA0E-46D0-97E8-6B5F68C6E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61782-7D11-4ACF-8059-5D0975740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9382A-2EDA-42B8-8422-C5AA74A0B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72979-EC54-4211-AE73-D9F40AABD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CF0A2-D0B0-41F9-81C9-498E9FC00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4BB0F-0DC3-495D-8AD8-A044B6793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4FEEA-5E59-472F-B4C4-5407B0FFD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E74B7-4EA1-4D54-91F9-BF1CBDEEB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C2702-AEE5-4036-A869-FD6EF7DD5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4F3DC-BA24-4417-B838-816098021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D1734-73F6-449C-AD59-4F9701A9E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178CE-9251-4098-96C7-CA3833676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CFA52-2CDE-4EC9-A78A-A25930E3C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59068-F2ED-403D-B1F8-67B1ACEB8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C1DBF-8C45-415E-AF87-A391D7792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F2C65-E095-453B-992C-1A4EB3438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1A801-04B9-4AF5-A810-6B61291AD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BC163-3338-49A2-958B-AAAFB0CFE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8A5D8-A54A-4180-B74F-EBA9153BD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9D599-2C19-48AB-AAB3-28267D3F5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AE284-6EEF-49F9-BCE2-277B3AFA2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DD704-1759-46F6-9223-27F982C6D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65EB4-68B8-45DF-A472-74EEEB20B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6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ff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66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ff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EC191-F4BB-4B44-8A37-D7D05E4D4ED7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1718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6B0D5-23DC-4B76-8E11-36A150043E02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image" Target="../media/image23.png"/><Relationship Id="rId4" Type="http://schemas.openxmlformats.org/officeDocument/2006/relationships/image" Target="../media/image23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468360" y="476280"/>
            <a:ext cx="215892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交通知识竞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095480" y="2008080"/>
            <a:ext cx="7724520" cy="2357640"/>
            <a:chOff x="1095480" y="2008080"/>
            <a:chExt cx="7724520" cy="2357640"/>
          </a:xfrm>
        </p:grpSpPr>
        <p:sp>
          <p:nvSpPr>
            <p:cNvPr id="96" name=""/>
            <p:cNvSpPr/>
            <p:nvPr/>
          </p:nvSpPr>
          <p:spPr>
            <a:xfrm>
              <a:off x="1095480" y="2008080"/>
              <a:ext cx="7724520" cy="192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ff66"/>
                  </a:solidFill>
                  <a:latin typeface="Arial"/>
                </a:rPr>
                <a:t>1.</a:t>
              </a:r>
              <a:r>
                <a:rPr b="1" lang="zh-CN" sz="4000" spc="-1" strike="noStrike">
                  <a:solidFill>
                    <a:srgbClr val="ffff66"/>
                  </a:solidFill>
                  <a:latin typeface="Arial"/>
                </a:rPr>
                <a:t>我国交通标志分为四种：禁止标志用            ；警告标志用               ；指示标志用              ；提示标志用            </a:t>
              </a:r>
              <a:r>
                <a:rPr b="1" lang="zh-CN" sz="4000" spc="-1" strike="noStrike">
                  <a:solidFill>
                    <a:srgbClr val="ffff66"/>
                  </a:solidFill>
                  <a:latin typeface="Arial"/>
                </a:rPr>
                <a:t>.     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916360" y="3213000"/>
              <a:ext cx="1582560" cy="0"/>
            </a:xfrm>
            <a:prstGeom prst="line">
              <a:avLst/>
            </a:prstGeom>
            <a:ln w="572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050920" y="3716280"/>
              <a:ext cx="1582920" cy="0"/>
            </a:xfrm>
            <a:prstGeom prst="line">
              <a:avLst/>
            </a:prstGeom>
            <a:ln w="572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050920" y="4365720"/>
              <a:ext cx="1582920" cy="0"/>
            </a:xfrm>
            <a:prstGeom prst="line">
              <a:avLst/>
            </a:prstGeom>
            <a:ln w="572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32720" y="4437000"/>
            <a:ext cx="1582560" cy="0"/>
          </a:xfrm>
          <a:prstGeom prst="line">
            <a:avLst/>
          </a:prstGeom>
          <a:ln w="572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050920" y="4365720"/>
            <a:ext cx="1582920" cy="0"/>
          </a:xfrm>
          <a:prstGeom prst="line">
            <a:avLst/>
          </a:prstGeom>
          <a:ln w="572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468360" y="476280"/>
            <a:ext cx="215892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交通知识竞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03" name=""/>
          <p:cNvSpPr/>
          <p:nvPr/>
        </p:nvSpPr>
        <p:spPr>
          <a:xfrm>
            <a:off x="971640" y="1628640"/>
            <a:ext cx="70768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66"/>
                </a:solidFill>
                <a:latin typeface="Arial"/>
              </a:rPr>
              <a:t>1.</a:t>
            </a:r>
            <a:r>
              <a:rPr b="1" lang="zh-CN" sz="4400" spc="-1" strike="noStrike">
                <a:solidFill>
                  <a:srgbClr val="ffff66"/>
                </a:solidFill>
                <a:latin typeface="Arial"/>
              </a:rPr>
              <a:t>我国交通标志分为四种：禁止标志用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红色</a:t>
            </a:r>
            <a:r>
              <a:rPr b="1" lang="zh-CN" sz="4400" spc="-1" strike="noStrike">
                <a:solidFill>
                  <a:srgbClr val="ffff66"/>
                </a:solidFill>
                <a:latin typeface="Arial"/>
              </a:rPr>
              <a:t>；警告标志用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黄色</a:t>
            </a:r>
            <a:r>
              <a:rPr b="1" lang="zh-CN" sz="4400" spc="-1" strike="noStrike">
                <a:solidFill>
                  <a:srgbClr val="ffff66"/>
                </a:solidFill>
                <a:latin typeface="Arial"/>
              </a:rPr>
              <a:t>；指示标志用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蓝色</a:t>
            </a:r>
            <a:r>
              <a:rPr b="1" lang="zh-CN" sz="4400" spc="-1" strike="noStrike">
                <a:solidFill>
                  <a:srgbClr val="ffff66"/>
                </a:solidFill>
                <a:latin typeface="Arial"/>
              </a:rPr>
              <a:t>；提示标志用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绿色</a:t>
            </a:r>
            <a:r>
              <a:rPr b="1" lang="zh-CN" sz="4400" spc="-1" strike="noStrike">
                <a:solidFill>
                  <a:srgbClr val="ffff66"/>
                </a:solidFill>
                <a:latin typeface="Arial"/>
              </a:rPr>
              <a:t>。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468360" y="476280"/>
            <a:ext cx="215892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交通知识竞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468360" y="1406520"/>
            <a:ext cx="8085240" cy="3606840"/>
            <a:chOff x="468360" y="1406520"/>
            <a:chExt cx="8085240" cy="3606840"/>
          </a:xfrm>
        </p:grpSpPr>
        <p:sp>
          <p:nvSpPr>
            <p:cNvPr id="106" name=""/>
            <p:cNvSpPr/>
            <p:nvPr/>
          </p:nvSpPr>
          <p:spPr>
            <a:xfrm>
              <a:off x="468360" y="1406520"/>
              <a:ext cx="8085240" cy="259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ff00"/>
                  </a:solidFill>
                  <a:latin typeface="Arial"/>
                </a:rPr>
                <a:t>(2)</a:t>
              </a:r>
              <a:r>
                <a:rPr b="1" lang="zh-CN" sz="4000" spc="-1" strike="noStrike">
                  <a:solidFill>
                    <a:srgbClr val="ffff00"/>
                  </a:solidFill>
                  <a:latin typeface="Arial"/>
                </a:rPr>
                <a:t>行人横过有人行横道灯的人行横道时 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r>
                <a:rPr b="1" lang="zh-CN" sz="4000" spc="-1" strike="noStrike">
                  <a:solidFill>
                    <a:srgbClr val="ffff00"/>
                  </a:solidFill>
                  <a:latin typeface="Arial"/>
                </a:rPr>
                <a:t>a</a:t>
              </a:r>
              <a:r>
                <a:rPr b="1" lang="zh-CN" sz="4000" spc="-1" strike="noStrike">
                  <a:solidFill>
                    <a:srgbClr val="ffff00"/>
                  </a:solidFill>
                  <a:latin typeface="Arial"/>
                </a:rPr>
                <a:t>须遵守          的规定。          ．准许行人通过人行横道线；     ，不准行人进入人行横道，但已进入人行横道的，可以继续通行；     ，不准行人进入人行横道。</a:t>
              </a:r>
              <a:r>
                <a:rPr b="0" lang="zh-CN" sz="44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484360" y="3141720"/>
              <a:ext cx="1582920" cy="0"/>
            </a:xfrm>
            <a:prstGeom prst="line">
              <a:avLst/>
            </a:prstGeom>
            <a:ln w="572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651640" y="3141720"/>
              <a:ext cx="1582560" cy="0"/>
            </a:xfrm>
            <a:prstGeom prst="line">
              <a:avLst/>
            </a:prstGeom>
            <a:ln w="572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508720" y="3860640"/>
              <a:ext cx="1582560" cy="0"/>
            </a:xfrm>
            <a:prstGeom prst="line">
              <a:avLst/>
            </a:prstGeom>
            <a:ln w="572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508720" y="5013360"/>
              <a:ext cx="1582560" cy="0"/>
            </a:xfrm>
            <a:prstGeom prst="line">
              <a:avLst/>
            </a:prstGeom>
            <a:ln w="572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468360" y="476280"/>
            <a:ext cx="215892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交通知识竞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12" name=""/>
          <p:cNvSpPr/>
          <p:nvPr/>
        </p:nvSpPr>
        <p:spPr>
          <a:xfrm>
            <a:off x="468360" y="1406520"/>
            <a:ext cx="8085240" cy="25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行人横过有人行横道灯的人行横道时 须遵守</a:t>
            </a:r>
            <a:r>
              <a:rPr b="1" lang="zh-CN" sz="4000" spc="-1" strike="noStrike" u="sng">
                <a:solidFill>
                  <a:srgbClr val="ff0000"/>
                </a:solidFill>
                <a:uFillTx/>
                <a:latin typeface="Arial"/>
              </a:rPr>
              <a:t>人行横道灯信号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的规定。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绿灯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．准许行人通过人行横道线；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灯闪烁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，不准行人进入人行横道，但已进入人行横道的，可以继续通行；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红灯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，不准行人进入人行横道。</a:t>
            </a:r>
            <a:r>
              <a:rPr b="0" lang="zh-CN" sz="4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468360" y="476280"/>
            <a:ext cx="215892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交通知识竞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1476360" y="1773360"/>
            <a:ext cx="6932520" cy="3311280"/>
            <a:chOff x="1476360" y="1773360"/>
            <a:chExt cx="6932520" cy="3311280"/>
          </a:xfrm>
        </p:grpSpPr>
        <p:sp>
          <p:nvSpPr>
            <p:cNvPr id="115" name=""/>
            <p:cNvSpPr/>
            <p:nvPr/>
          </p:nvSpPr>
          <p:spPr>
            <a:xfrm>
              <a:off x="1476360" y="1773360"/>
              <a:ext cx="6932520" cy="170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66"/>
                  </a:solidFill>
                  <a:latin typeface="Arial"/>
                </a:rPr>
                <a:t>3.</a:t>
              </a:r>
              <a:r>
                <a:rPr b="1" lang="zh-CN" sz="4400" spc="-1" strike="noStrike">
                  <a:solidFill>
                    <a:srgbClr val="ffff66"/>
                  </a:solidFill>
                  <a:latin typeface="Arial"/>
                </a:rPr>
                <a:t>《道路交通管理条例》第六条规定：驾驶车辆，赶、骑牲畜必须遵守靠        通行的原则 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66"/>
                  </a:solidFill>
                  <a:latin typeface="Arial"/>
                </a:rPr>
                <a:t>4.</a:t>
              </a:r>
              <a:r>
                <a:rPr b="1" lang="zh-CN" sz="4400" spc="-1" strike="noStrike">
                  <a:solidFill>
                    <a:srgbClr val="ffff66"/>
                  </a:solidFill>
                  <a:latin typeface="Arial"/>
                </a:rPr>
                <a:t>不满      岁的少年儿童不宜骑自行车</a:t>
              </a:r>
              <a:r>
                <a:rPr b="0" lang="zh-CN" sz="1800" spc="-1" strike="noStrike">
                  <a:solidFill>
                    <a:srgbClr val="ffff66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156360" y="3716280"/>
              <a:ext cx="936720" cy="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276720" y="5084640"/>
              <a:ext cx="936360" cy="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476360" y="1773360"/>
            <a:ext cx="693252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66"/>
                </a:solidFill>
                <a:latin typeface="Arial"/>
              </a:rPr>
              <a:t>3.</a:t>
            </a:r>
            <a:r>
              <a:rPr b="1" lang="zh-CN" sz="4400" spc="-1" strike="noStrike">
                <a:solidFill>
                  <a:srgbClr val="ffff66"/>
                </a:solidFill>
                <a:latin typeface="Arial"/>
              </a:rPr>
              <a:t>《道路交通管理条例》第六条规定：驾驶车辆，赶、骑牲畜必须遵守靠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右</a:t>
            </a:r>
            <a:r>
              <a:rPr b="1" lang="zh-CN" sz="4400" spc="-1" strike="noStrike">
                <a:solidFill>
                  <a:srgbClr val="ffff66"/>
                </a:solidFill>
                <a:latin typeface="Arial"/>
              </a:rPr>
              <a:t>通行的原则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66"/>
                </a:solidFill>
                <a:latin typeface="Arial"/>
              </a:rPr>
              <a:t>4.</a:t>
            </a:r>
            <a:r>
              <a:rPr b="1" lang="zh-CN" sz="4400" spc="-1" strike="noStrike">
                <a:solidFill>
                  <a:srgbClr val="ffff66"/>
                </a:solidFill>
                <a:latin typeface="Arial"/>
              </a:rPr>
              <a:t>不满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12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岁</a:t>
            </a:r>
            <a:r>
              <a:rPr b="1" lang="zh-CN" sz="4400" spc="-1" strike="noStrike">
                <a:solidFill>
                  <a:srgbClr val="ffff66"/>
                </a:solidFill>
                <a:latin typeface="Arial"/>
              </a:rPr>
              <a:t>的少年儿童不宜骑自行车</a:t>
            </a:r>
            <a:r>
              <a:rPr b="0" lang="zh-CN" sz="18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68360" y="476280"/>
            <a:ext cx="215892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交通知识竞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0" y="620640"/>
            <a:ext cx="3659040" cy="498636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4284720" y="1844640"/>
            <a:ext cx="48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ff"/>
                </a:solidFill>
                <a:latin typeface="Arial"/>
              </a:rPr>
              <a:t>交通肇事电话：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16560" y="55227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436720" y="4292640"/>
            <a:ext cx="2215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Arial"/>
              </a:rPr>
              <a:t>122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8172360" y="6021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4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4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" restart="whenNotActive" nodeType="interactiveSeq" fill="hold">
                <p:stCondLst>
                  <p:cond evt="onClick">
                    <p:tgtEl>
                      <p:spTgt spid="124"/>
                    </p:tgtEl>
                  </p:cond>
                </p:stCondLst>
                <p:childTnLst>
                  <p:par>
                    <p:cTn id="41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" dur="10630" fill="hold"/>
                                        <p:tgtEl>
                                          <p:spTgt spid="1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0" y="620640"/>
            <a:ext cx="3659040" cy="498636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4335480" y="2060640"/>
            <a:ext cx="41972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Arial"/>
              </a:rPr>
              <a:t>电话报警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219640" y="3573360"/>
            <a:ext cx="170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Arial"/>
              </a:rPr>
              <a:t>110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7885080" y="5734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" restart="whenNotActive" nodeType="interactiveSeq" fill="hold">
                <p:stCondLst>
                  <p:cond evt="onClick">
                    <p:tgtEl>
                      <p:spTgt spid="128"/>
                    </p:tgtEl>
                  </p:cond>
                </p:stCondLst>
                <p:childTnLst>
                  <p:par>
                    <p:cTn id="64" fill="hold">
                      <p:stCondLst>
                        <p:cond evt="onClick">
                          <p:tgtEl>
                            <p:spTgt spid="128"/>
                          </p:tgtEl>
                        </p:cond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7" dur="70923" fill="hold"/>
                                        <p:tgtEl>
                                          <p:spTgt spid="12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1332000" y="1700280"/>
            <a:ext cx="6769080" cy="388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宋体"/>
              </a:rPr>
              <a:t>交通图标大家认一认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1547640" y="333360"/>
            <a:ext cx="5472360" cy="54720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2535120" y="5738760"/>
            <a:ext cx="3476880" cy="70344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66"/>
                </a:solidFill>
                <a:latin typeface="Arial"/>
              </a:rPr>
              <a:t>禁止行人通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2124000" y="260280"/>
            <a:ext cx="4537080" cy="4471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3632760" y="5084640"/>
            <a:ext cx="25275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禁止车辆</a:t>
            </a:r>
            <a:br>
              <a:rPr sz="4400"/>
            </a:b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临时或长时停放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1619280" y="519120"/>
            <a:ext cx="4608360" cy="454176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2771280" y="525636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禁止驶车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2050920" y="907920"/>
            <a:ext cx="3745080" cy="374508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2946240" y="494676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限制速度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1908000" y="765000"/>
            <a:ext cx="4535640" cy="453564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2608200" y="58104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901960" y="5667480"/>
            <a:ext cx="170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Arial"/>
              </a:rPr>
              <a:t>机动车车道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1835280" y="1393920"/>
            <a:ext cx="4681440" cy="34812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3295800" y="559584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非机动车车道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1979640" y="1773360"/>
            <a:ext cx="3506760" cy="2174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大家说说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468360" y="836640"/>
            <a:ext cx="81518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自行车行驶“七不准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@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转弯时须减速慢行，前后注意，伸手示意，</a:t>
            </a:r>
            <a:r>
              <a:rPr b="0" lang="zh-CN" sz="3200" spc="-1" strike="noStrike">
                <a:solidFill>
                  <a:srgbClr val="cc0000"/>
                </a:solidFill>
                <a:latin typeface="Arial"/>
              </a:rPr>
              <a:t>不准突然猛拐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@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超越前车时，</a:t>
            </a:r>
            <a:r>
              <a:rPr b="0" lang="zh-CN" sz="3200" spc="-1" strike="noStrike">
                <a:solidFill>
                  <a:srgbClr val="cc0000"/>
                </a:solidFill>
                <a:latin typeface="Arial"/>
              </a:rPr>
              <a:t>不准妨碍被超车的正常行驶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@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通过陡坡，横过四条以上机动车道或途中车闸失效时，须下车推行。下车前须伸手上下摆动示意，</a:t>
            </a:r>
            <a:r>
              <a:rPr b="0" lang="zh-CN" sz="3200" spc="-1" strike="noStrike">
                <a:solidFill>
                  <a:srgbClr val="cc0000"/>
                </a:solidFill>
                <a:latin typeface="Arial"/>
              </a:rPr>
              <a:t>不准妨碍后面的车辆行使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00"/>
                </a:solidFill>
                <a:latin typeface="Arial"/>
              </a:rPr>
              <a:t>双手不准离把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，攀扶其他车辆或手中持物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00"/>
                </a:solidFill>
                <a:latin typeface="Arial"/>
              </a:rPr>
              <a:t>不准牵引车辆或被其他车辆牵引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cc0000"/>
                </a:solidFill>
                <a:latin typeface="Arial"/>
              </a:rPr>
              <a:t>不准扶身并行，互相追逐或曲折竞驶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95280" y="0"/>
            <a:ext cx="228600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自行车准则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0" y="0"/>
            <a:ext cx="182880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行人准则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154160"/>
            <a:ext cx="852156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行人行走的安全区域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在有人行道的道路上，除道路施工不能通行外，行人必须在人行道上行走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(2)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在没有人行道的道路上，要靠右侧的路边行走。按道路设计标准规定，一人通行道路所需活动空间的宽度：行人徒手时为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．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米，手提负荷时为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0.9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米。行人在路边没有遇到不利的地形、地物时，在上述活动空间内行走的，应认为是靠路边行走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(3)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在步行街上，行人可在道路中央行走，但有时步行街还有车辆通行，所以在步行街上行走也要注意来往车辆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(4)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高速道路、汽车专用道路禁止行人进入。其他禁止行人进入的道路上，设有禁止行人通行标志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2768760" y="1233360"/>
            <a:ext cx="3605040" cy="438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 txBox="1"/>
          <p:nvPr/>
        </p:nvSpPr>
        <p:spPr>
          <a:xfrm>
            <a:off x="1403280" y="2924280"/>
            <a:ext cx="6193080" cy="23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珍惜生命重视交通安全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5"/>
          <a:stretch/>
        </p:blipFill>
        <p:spPr>
          <a:xfrm>
            <a:off x="8101080" y="5749920"/>
            <a:ext cx="647640" cy="647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6" dur="indefinite" restart="never" nodeType="tmRoot">
          <p:childTnLst>
            <p:seq>
              <p:cTn id="167" restart="whenNotActive" nodeType="interactiveSeq" fill="hold">
                <p:stCondLst>
                  <p:cond evt="onClick">
                    <p:tgtEl>
                      <p:spTgt spid="153"/>
                    </p:tgtEl>
                  </p:cond>
                </p:stCondLst>
                <p:childTnLst>
                  <p:par>
                    <p:cTn id="168" fill="hold">
                      <p:stCondLst>
                        <p:cond evt="onClick">
                          <p:tgtEl>
                            <p:spTgt spid="153"/>
                          </p:tgtEl>
                        </p:cond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1" dur="250600" fill="hold"/>
                                        <p:tgtEl>
                                          <p:spTgt spid="1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1476360" y="0"/>
            <a:ext cx="766764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2484360" y="3141720"/>
            <a:ext cx="158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 rot="5400000">
            <a:off x="-383400" y="3056760"/>
            <a:ext cx="2590560" cy="7444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车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1258920" y="0"/>
            <a:ext cx="788508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 rot="5400000">
            <a:off x="-599040" y="2983680"/>
            <a:ext cx="2590560" cy="7444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车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Arial"/>
              </a:rPr>
              <a:t>中国每年交通事故死亡人数超</a:t>
            </a:r>
            <a:r>
              <a:rPr b="1" lang="zh-CN" sz="4000" spc="-1" strike="noStrike">
                <a:solidFill>
                  <a:srgbClr val="cc0000"/>
                </a:solidFill>
                <a:latin typeface="Arial"/>
              </a:rPr>
              <a:t>10</a:t>
            </a:r>
            <a:r>
              <a:rPr b="1" lang="zh-CN" sz="4000" spc="-1" strike="noStrike">
                <a:solidFill>
                  <a:srgbClr val="cc0000"/>
                </a:solidFill>
                <a:latin typeface="Arial"/>
              </a:rPr>
              <a:t>万人 居世界第一</a:t>
            </a:r>
            <a:r>
              <a:rPr b="0" lang="zh-CN" sz="40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中国的道路交通安全形势非常严峻，统计数据表明，每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分钟就有一人丧身车轮，每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分钟都会有一人因为交通事故而伤残。每年因交通事故所造成的经济损失达数百亿元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1T13:27:45Z</dcterms:created>
  <dc:creator>dengshaohui</dc:creator>
  <dc:description/>
  <dc:language>en-US</dc:language>
  <cp:lastModifiedBy>未知用户</cp:lastModifiedBy>
  <dcterms:modified xsi:type="dcterms:W3CDTF">2015-12-02T08:11:01Z</dcterms:modified>
  <cp:revision>24</cp:revision>
  <dc:subject/>
  <dc:title>幻灯片 1</dc:title>
</cp:coreProperties>
</file>