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F2B-0C91-4E7D-9144-84D20973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76A-4E5C-451D-953B-BB096325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A55-FA89-48C2-9D7F-6E65DBCF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4BF-8CC5-4AE7-ABA5-E0858EB9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784B-9A1D-48B5-BC76-C7672455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AF50-44FB-43E0-BD38-42BFC996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CC52-D991-43CA-BAE8-27509362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5187-6C2E-4271-8AD9-27D561D4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2068-4519-4C91-98E6-E61A5AF0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7A57-778F-4D29-9D57-D1A2A60F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1DC4-D2C9-429D-A0BB-8BA59326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A19-3266-4FC7-B105-70377A40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18A5-D2CE-452A-8F85-FE88FAD3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D665-C245-4D98-90E0-184A5B02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0E99-F7D8-4835-AECF-1EFD9BE4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719D-8DAC-4411-9977-A3EEC5A9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BF43-E6FD-4862-8CAF-60DE4645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66F52-24C8-4CB7-A752-24EBAAE4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2269-4474-402D-908B-C9251534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92B3-A818-4BBE-B3F3-8526FADB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4FF7-F125-471C-ADAE-2A0535AB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C977-F68B-40F2-81EF-4933C9E2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623-B387-47F6-8764-6BC925B8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28030-654A-4BF3-85AC-5624EF0F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2CE7-D07D-431A-BFFA-66F71375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83B2-3A0E-49B6-9BA0-A8636F9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D9696-4846-4898-AA3C-3FAAF358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2A5E6-E0CE-4356-B99F-7F01BE4A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1076-894A-4FE7-B619-9FDF771D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A047-E51A-498C-8451-7BA2CA67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5FA-29F7-4B94-A060-F276F0A2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60A-2723-43DE-AC94-E51B5324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AC4-0EC6-4C9D-B9BB-7015D481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82E-DB1D-4824-9D68-B922C545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2AB-16D8-4EFF-B000-FA4B3799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69E-E373-405D-B8DA-531F5A7F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7A44-FA62-4BAE-A74B-CA1A6E5201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6248-3E3A-4A2D-A5DA-1C57EDD83F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139C-9D9A-4044-824A-7459E75563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8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22096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绿色环保主题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owerpoint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模板</a:t>
            </a:r>
            <a:br>
              <a:rPr sz="2800"/>
            </a:b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演讲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会议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报告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总结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通用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71"/>
          <p:cNvSpPr/>
          <p:nvPr/>
        </p:nvSpPr>
        <p:spPr>
          <a:xfrm>
            <a:off x="7221600" y="4630680"/>
            <a:ext cx="895320" cy="123516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444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2"/>
          <p:cNvSpPr/>
          <p:nvPr/>
        </p:nvSpPr>
        <p:spPr>
          <a:xfrm>
            <a:off x="3443400" y="4630680"/>
            <a:ext cx="4173480" cy="525600"/>
          </a:xfrm>
          <a:prstGeom prst="pie">
            <a:avLst/>
          </a:prstGeom>
          <a:gradFill rotWithShape="0">
            <a:gsLst>
              <a:gs pos="0">
                <a:srgbClr val="61398e"/>
              </a:gs>
              <a:gs pos="100000">
                <a:srgbClr val="af6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73"/>
          <p:cNvSpPr/>
          <p:nvPr/>
        </p:nvSpPr>
        <p:spPr>
          <a:xfrm>
            <a:off x="3036960" y="5154480"/>
            <a:ext cx="4608360" cy="7128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cda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454" name="Freeform 74"/>
            <p:cNvSpPr/>
            <p:nvPr/>
          </p:nvSpPr>
          <p:spPr>
            <a:xfrm>
              <a:off x="6753240" y="3930480"/>
              <a:ext cx="792000" cy="11192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5"/>
            <p:cNvSpPr/>
            <p:nvPr/>
          </p:nvSpPr>
          <p:spPr>
            <a:xfrm>
              <a:off x="3917880" y="3930480"/>
              <a:ext cx="3135240" cy="393840"/>
            </a:xfrm>
            <a:prstGeom prst="pi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6"/>
            <p:cNvSpPr/>
            <p:nvPr/>
          </p:nvSpPr>
          <p:spPr>
            <a:xfrm>
              <a:off x="3521160" y="4324320"/>
              <a:ext cx="3639960" cy="7254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d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Freeform 77"/>
          <p:cNvSpPr/>
          <p:nvPr/>
        </p:nvSpPr>
        <p:spPr>
          <a:xfrm>
            <a:off x="6284880" y="3238560"/>
            <a:ext cx="693720" cy="97308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846a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78"/>
          <p:cNvSpPr/>
          <p:nvPr/>
        </p:nvSpPr>
        <p:spPr>
          <a:xfrm>
            <a:off x="4389480" y="3238560"/>
            <a:ext cx="2093760" cy="263520"/>
          </a:xfrm>
          <a:prstGeom prst="pie">
            <a:avLst/>
          </a:prstGeom>
          <a:gradFill rotWithShape="0">
            <a:gsLst>
              <a:gs pos="0">
                <a:srgbClr val="4f2f74"/>
              </a:gs>
              <a:gs pos="100000">
                <a:srgbClr val="af6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79"/>
          <p:cNvSpPr/>
          <p:nvPr/>
        </p:nvSpPr>
        <p:spPr>
          <a:xfrm>
            <a:off x="3986280" y="3500280"/>
            <a:ext cx="2708280" cy="71136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dbbb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461" name="Freeform 80"/>
            <p:cNvSpPr/>
            <p:nvPr/>
          </p:nvSpPr>
          <p:spPr>
            <a:xfrm>
              <a:off x="5811840" y="2536920"/>
              <a:ext cx="596880" cy="8460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4869000" y="2536920"/>
              <a:ext cx="1044360" cy="126720"/>
            </a:xfrm>
            <a:prstGeom prst="pi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4457880" y="2662200"/>
              <a:ext cx="1763640" cy="72072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bddd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Freeform 83"/>
          <p:cNvSpPr/>
          <p:nvPr/>
        </p:nvSpPr>
        <p:spPr>
          <a:xfrm>
            <a:off x="5335560" y="1836720"/>
            <a:ext cx="504720" cy="71604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343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84"/>
          <p:cNvSpPr/>
          <p:nvPr/>
        </p:nvSpPr>
        <p:spPr>
          <a:xfrm>
            <a:off x="4925880" y="1836720"/>
            <a:ext cx="819360" cy="71604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d8b6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71560" y="38815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483" name="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becfe"/>
                </a:gs>
                <a:gs pos="100000">
                  <a:srgbClr val="99cc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487" name="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9b9ec"/>
                </a:gs>
                <a:gs pos="100000">
                  <a:srgbClr val="3333cc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491" name="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495b"/>
                </a:gs>
                <a:gs pos="50000">
                  <a:srgbClr val="ccccff"/>
                </a:gs>
                <a:gs pos="100000">
                  <a:srgbClr val="49495b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cecfe"/>
                </a:gs>
                <a:gs pos="100000">
                  <a:srgbClr val="cccc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501" name="" descr="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1233360" y="3166200"/>
              <a:ext cx="1647720" cy="656640"/>
              <a:chOff x="1233360" y="3166200"/>
              <a:chExt cx="1647720" cy="65664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1521000" y="3166200"/>
                <a:ext cx="1360080" cy="616680"/>
                <a:chOff x="1521000" y="3166200"/>
                <a:chExt cx="1360080" cy="616680"/>
              </a:xfrm>
            </p:grpSpPr>
            <p:sp>
              <p:nvSpPr>
                <p:cNvPr id="506" name=""/>
                <p:cNvSpPr/>
                <p:nvPr/>
              </p:nvSpPr>
              <p:spPr>
                <a:xfrm flipH="1" flipV="1" rot="3964800">
                  <a:off x="2262600" y="297936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511" name="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516" name="" descr="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1280880" y="5522040"/>
              <a:ext cx="1647720" cy="656640"/>
              <a:chOff x="1280880" y="5522040"/>
              <a:chExt cx="1647720" cy="65664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1568520" y="5522040"/>
                <a:ext cx="1360080" cy="616680"/>
                <a:chOff x="1568520" y="5522040"/>
                <a:chExt cx="1360080" cy="616680"/>
              </a:xfrm>
            </p:grpSpPr>
            <p:sp>
              <p:nvSpPr>
                <p:cNvPr id="521" name=""/>
                <p:cNvSpPr/>
                <p:nvPr/>
              </p:nvSpPr>
              <p:spPr>
                <a:xfrm flipH="1" flipV="1" rot="3964800">
                  <a:off x="2310120" y="53352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526" name="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0" name="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31" name="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7a7d1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2" name="" descr="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35" name="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da7d1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39" name="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f54d1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6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549" name="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553" name="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a6a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576" name="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577" name="Puzzle3"/>
              <p:cNvSpPr/>
              <p:nvPr/>
            </p:nvSpPr>
            <p:spPr>
              <a:xfrm>
                <a:off x="4549320" y="1752480"/>
                <a:ext cx="1737000" cy="2325600"/>
              </a:xfrm>
              <a:prstGeom prst="pie">
                <a:avLst/>
              </a:prstGeom>
              <a:gradFill rotWithShape="0">
                <a:gsLst>
                  <a:gs pos="0">
                    <a:srgbClr val="6081a1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Puzzle2"/>
              <p:cNvSpPr/>
              <p:nvPr/>
            </p:nvSpPr>
            <p:spPr>
              <a:xfrm>
                <a:off x="4043880" y="344664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e6e6fe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Puzzle4"/>
              <p:cNvSpPr/>
              <p:nvPr/>
            </p:nvSpPr>
            <p:spPr>
              <a:xfrm>
                <a:off x="2971080" y="3420360"/>
                <a:ext cx="1671480" cy="2708280"/>
              </a:xfrm>
              <a:prstGeom prst="pie">
                <a:avLst/>
              </a:prstGeom>
              <a:gradFill rotWithShape="0">
                <a:gsLst>
                  <a:gs pos="0">
                    <a:srgbClr val="9595e3"/>
                  </a:gs>
                  <a:gs pos="100000">
                    <a:srgbClr val="3333cc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Puzzle1"/>
              <p:cNvSpPr/>
              <p:nvPr/>
            </p:nvSpPr>
            <p:spPr>
              <a:xfrm>
                <a:off x="2397240" y="2455920"/>
                <a:ext cx="2806920" cy="1614240"/>
              </a:xfrm>
              <a:prstGeom prst="pie">
                <a:avLst/>
              </a:prstGeom>
              <a:gradFill rotWithShape="0">
                <a:gsLst>
                  <a:gs pos="0">
                    <a:srgbClr val="502f75"/>
                  </a:gs>
                  <a:gs pos="100000">
                    <a:srgbClr val="af67ff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cover dir="u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590" name="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a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5fe"/>
                </a:gs>
                <a:gs pos="50000">
                  <a:srgbClr val="99ccff">
                    <a:alpha val="0"/>
                  </a:srgbClr>
                </a:gs>
                <a:gs pos="100000">
                  <a:srgbClr val="cc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594" name="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d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e"/>
                </a:gs>
                <a:gs pos="50000">
                  <a:srgbClr val="ccccff">
                    <a:alpha val="0"/>
                  </a:srgbClr>
                </a:gs>
                <a:gs pos="100000">
                  <a:srgbClr val="e5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597" name="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9be5"/>
                </a:gs>
                <a:gs pos="50000">
                  <a:srgbClr val="3333cc">
                    <a:alpha val="0"/>
                  </a:srgbClr>
                </a:gs>
                <a:gs pos="100000">
                  <a:srgbClr val="9b9b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dec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608" name=""/>
            <p:cNvSpPr/>
            <p:nvPr/>
          </p:nvSpPr>
          <p:spPr>
            <a:xfrm rot="16200000">
              <a:off x="3879720" y="32475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3196800" y="208188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6200000">
              <a:off x="324144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6200000">
              <a:off x="2523960" y="32515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6200000">
              <a:off x="1843560" y="20829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6200000">
              <a:off x="184140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6200000">
              <a:off x="1170000" y="32479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1600200" y="3429000"/>
            <a:ext cx="5943600" cy="642240"/>
            <a:chOff x="1600200" y="3429000"/>
            <a:chExt cx="5943600" cy="642240"/>
          </a:xfrm>
        </p:grpSpPr>
        <p:sp>
          <p:nvSpPr>
            <p:cNvPr id="617" name=""/>
            <p:cNvSpPr/>
            <p:nvPr/>
          </p:nvSpPr>
          <p:spPr>
            <a:xfrm>
              <a:off x="1600200" y="3429000"/>
              <a:ext cx="59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PSD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素材 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矢量素材 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PPT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模板 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AE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视频 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Flash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素材 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图片素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00200" y="3733920"/>
              <a:ext cx="59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素 材 风 暴 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/ </a:t>
              </a: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永 久 免 费 素 材 网 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981080" y="434340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一下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风暴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ppt.sucaifengbao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09880" cy="15019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ver dir="u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627" name="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a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5fe"/>
                </a:gs>
                <a:gs pos="50000">
                  <a:srgbClr val="99ccff">
                    <a:alpha val="0"/>
                  </a:srgbClr>
                </a:gs>
                <a:gs pos="100000">
                  <a:srgbClr val="cc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631" name="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d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e"/>
                </a:gs>
                <a:gs pos="50000">
                  <a:srgbClr val="ccccff">
                    <a:alpha val="0"/>
                  </a:srgbClr>
                </a:gs>
                <a:gs pos="100000">
                  <a:srgbClr val="e5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634" name="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9be5"/>
                </a:gs>
                <a:gs pos="50000">
                  <a:srgbClr val="3333cc">
                    <a:alpha val="0"/>
                  </a:srgbClr>
                </a:gs>
                <a:gs pos="100000">
                  <a:srgbClr val="9b9b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a6a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0f0f0f"/>
              </a:gs>
              <a:gs pos="50000">
                <a:srgbClr val="ffffff"/>
              </a:gs>
              <a:gs pos="100000">
                <a:srgbClr val="0f0f0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dddfe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3d8fe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868d8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af67ff">
                  <a:alpha val="50196"/>
                </a:srgbClr>
              </a:gs>
              <a:gs pos="100000">
                <a:srgbClr val="d2abfe">
                  <a:alpha val="8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c7e2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d3acfe"/>
              </a:gs>
              <a:gs pos="100000">
                <a:srgbClr val="af67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2abfe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123920" y="3032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542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67120" y="25290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d1a42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d1a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888080" y="204156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685" name="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686" name="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691" name="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5" name="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696" name="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697" name="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702" name="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6" name="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707" name="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708" name="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713" name="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7" name="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c7e2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542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723000" y="1547640"/>
            <a:ext cx="898560" cy="3956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727" name="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728" name="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733" name="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7" name="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7b4fe"/>
              </a:gs>
              <a:gs pos="100000">
                <a:srgbClr val="af67ff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9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740" name="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744" name="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748" name="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752" name="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784" name="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790" name="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793" name="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796" name="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8bfe"/>
              </a:gs>
              <a:gs pos="50000">
                <a:srgbClr val="af67ff"/>
              </a:gs>
              <a:gs pos="100000">
                <a:srgbClr val="c18b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7d7fe"/>
              </a:gs>
              <a:gs pos="50000">
                <a:srgbClr val="ccccff"/>
              </a:gs>
              <a:gs pos="100000">
                <a:srgbClr val="d7d7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815" name="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820" name="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824" name="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b7da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c3e0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834" name="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835" name="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839" name="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843" name="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847" name="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5b6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0" name="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60" name="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68" name="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77" name="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79" name="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5" name="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9f9fe">
                  <a:alpha val="80392"/>
                </a:srgbClr>
              </a:gs>
              <a:gs pos="100000">
                <a:srgbClr val="cccc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4cdfe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593040" y="28764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178160" y="4083120"/>
            <a:ext cx="14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787a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444a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19360" y="289512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4" name="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6" name="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9" name="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1" name="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4" name="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05eea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6" name="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9" name="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cbbea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1" name="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9e9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dedfe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170" name="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11320" y="473976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4e9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0120" y="303768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cedfe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3cbfe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3cbfe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10693440" y="7677000"/>
            <a:ext cx="5047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素材风暴：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模板：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AE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视频：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PSD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素材：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矢量素材：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Flash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素材：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图片素材：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PS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插件：</a:t>
            </a:r>
            <a:r>
              <a:rPr b="0" lang="zh-CN" sz="100" spc="-1" strike="noStrike">
                <a:solidFill>
                  <a:srgbClr val="969696"/>
                </a:solidFill>
                <a:latin typeface="Arial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187" name="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33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b1b6d"/>
                </a:gs>
                <a:gs pos="50000">
                  <a:srgbClr val="3333cc"/>
                </a:gs>
                <a:gs pos="100000">
                  <a:srgbClr val="1b1b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212" name="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cover dir="u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219" name="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220" name="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0" name="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1" name="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1" name="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2" name="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3" name="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306" name="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0" name=""/>
              <p:cNvCxnSpPr>
                <a:stCxn id="306" idx="3"/>
                <a:endCxn id="307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1" name=""/>
              <p:cNvCxnSpPr>
                <a:stCxn id="307" idx="3"/>
                <a:endCxn id="308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2" name="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cover dir="u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31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31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32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32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33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33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c1c71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33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33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c1c71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34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34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34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34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984637"/>
                <a:lnTo>
                  <a:pt x="31" y="9983"/>
                </a:lnTo>
                <a:arcTo wR="10800" hR="10800" stAng="-10539777" swAng="8984637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9090e2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353" name="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dbffe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7947b1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356" name="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e4"/>
                </a:gs>
                <a:gs pos="100000">
                  <a:srgbClr val="3333cc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12187"/>
                </a:gs>
                <a:gs pos="100000">
                  <a:srgbClr val="3333cc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732136"/>
                <a:lnTo>
                  <a:pt x="120" y="9195"/>
                </a:lnTo>
                <a:arcTo wR="10800" hR="10800" stAng="-10287276" swAng="8732136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cb9dfe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1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368" name="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33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b1b6d"/>
                </a:gs>
                <a:gs pos="50000">
                  <a:srgbClr val="3333cc"/>
                </a:gs>
                <a:gs pos="100000">
                  <a:srgbClr val="1b1b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f67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f67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e3789"/>
                </a:gs>
                <a:gs pos="50000">
                  <a:srgbClr val="af67ff"/>
                </a:gs>
                <a:gs pos="100000">
                  <a:srgbClr val="5e37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0"/>
                  </a:srgbClr>
                </a:gs>
                <a:gs pos="100000">
                  <a:srgbClr val="6e4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381" name="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26d89"/>
                </a:gs>
                <a:gs pos="50000">
                  <a:srgbClr val="99ccff"/>
                </a:gs>
                <a:gs pos="100000">
                  <a:srgbClr val="52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608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391" name="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396" name="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cover dir="u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ver dir="u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3-10T01:53:0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