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88BC-2B18-4143-BA8D-9ED7B29FC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FF9E-D847-4AA2-889A-BFB6B96F6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147C-B421-4F3F-BC45-23AC4CBB6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33F-F2DF-4542-A429-3A468ABE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1B34-D574-4CEB-8A4B-4569F8AB4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62A3-3B76-4C90-9435-3DDEA56CA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6568-05B9-40B4-A2DE-F8DA9CC29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31B6-C76A-499F-99E8-4BCBC915E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F4F5-EAA8-4F07-A97E-DC4CCC47D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F09B-5D46-43C5-98B7-CD09DBF75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AE4F-D980-4A64-AB11-8EEDD2EA0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385E-090E-419A-A62A-10CAF6B6E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67CF-ACFC-4318-933F-AE04B1B04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a46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6019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800"/>
            </a:br>
            <a:endParaRPr b="1" lang="en-US" sz="19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宋体"/>
              </a:rPr>
              <a:t>辩论赛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评委提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05200" y="2181240"/>
            <a:ext cx="47149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场休息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019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成绩揭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微软雅黑"/>
              </a:rPr>
              <a:t>本轮辩论赛胜出者是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943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！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4648320"/>
            <a:ext cx="8381880" cy="1752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038480" y="1371600"/>
            <a:ext cx="4445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阵容介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方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辩题：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正方观点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反方观点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环节：立论阶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场陈词阶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方一辩发言           时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方一辩发言           时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41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论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zh-CN" sz="8800" spc="-1" strike="noStrike">
                <a:solidFill>
                  <a:srgbClr val="000000"/>
                </a:solidFill>
                <a:latin typeface="Verdana"/>
              </a:rPr>
              <a:t>立</a:t>
            </a:r>
            <a:endParaRPr b="1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9614000">
            <a:off x="1066680" y="2437920"/>
            <a:ext cx="3333960" cy="2495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1213800">
            <a:off x="5028840" y="220968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环节：攻辩阶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30592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阶段：攻辩小结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时间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四阶段：自由辩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四分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2:58:49Z</dcterms:created>
  <dc:creator/>
  <dc:description/>
  <dc:language>en-US</dc:language>
  <cp:lastModifiedBy>njetxy</cp:lastModifiedBy>
  <dcterms:modified xsi:type="dcterms:W3CDTF">2015-02-03T03:26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