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8FB-BABF-419E-9D55-BC0BE445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86B-C7A3-44E1-80C7-1EF7E6EB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34A-B6FD-4F2F-B739-D59155A7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0C9-1239-436A-AF09-938A294E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A69-60EB-474A-938E-E3337F42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D42-692B-4FD7-B6AF-6818E385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50B-FF8C-454E-8527-42F0C4C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D5D-CE00-4636-A170-9FCE995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009-2329-450C-A1EE-BAC0D50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444-F371-4F4B-A6E9-E1BFE86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B09-4C7A-4CB9-AD83-0BC1D23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B2E-BAAF-4B41-AB69-916FB3D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29A-4157-48B8-9548-452232FCBF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8F85-35B7-45BB-9B2C-05CD3FF6C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Group 3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Group 1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70" name="Group 3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71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4"/>
          <p:cNvSpPr/>
          <p:nvPr/>
        </p:nvSpPr>
        <p:spPr>
          <a:xfrm rot="5400000">
            <a:off x="2458800" y="3195720"/>
            <a:ext cx="432000" cy="7905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576064" h="1008112">
                <a:moveTo>
                  <a:pt x="0" y="576064"/>
                </a:moveTo>
                <a:lnTo>
                  <a:pt x="282556" y="0"/>
                </a:lnTo>
                <a:lnTo>
                  <a:pt x="565111" y="576064"/>
                </a:lnTo>
                <a:lnTo>
                  <a:pt x="387694" y="576064"/>
                </a:lnTo>
                <a:lnTo>
                  <a:pt x="576064" y="1008112"/>
                </a:lnTo>
                <a:lnTo>
                  <a:pt x="10953" y="1008112"/>
                </a:lnTo>
                <a:lnTo>
                  <a:pt x="199324" y="576064"/>
                </a:lnTo>
                <a:lnTo>
                  <a:pt x="0" y="5760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7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7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59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3" name="Group 2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4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2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79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5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1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0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6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88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商务人士"/>
          <p:cNvPicPr/>
          <p:nvPr/>
        </p:nvPicPr>
        <p:blipFill>
          <a:blip r:embed="rId1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4" name="Group 1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2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0" name="Oval 4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6" name="Group 10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07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3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custGeom>
                <a:avLst/>
                <a:gdLst>
                  <a:gd name="textAreaLeft" fmla="*/ 0 w 958320"/>
                  <a:gd name="textAreaRight" fmla="*/ 958680 w 95832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28" h="118">
                    <a:moveTo>
                      <a:pt x="108" y="5"/>
                    </a:moveTo>
                    <a:cubicBezTo>
                      <a:pt x="97" y="2"/>
                      <a:pt x="83" y="0"/>
                      <a:pt x="64" y="1"/>
                    </a:cubicBezTo>
                    <a:cubicBezTo>
                      <a:pt x="45" y="0"/>
                      <a:pt x="31" y="2"/>
                      <a:pt x="20" y="5"/>
                    </a:cubicBezTo>
                    <a:cubicBezTo>
                      <a:pt x="7" y="10"/>
                      <a:pt x="0" y="21"/>
                      <a:pt x="0" y="37"/>
                    </a:cubicBezTo>
                    <a:cubicBezTo>
                      <a:pt x="0" y="52"/>
                      <a:pt x="5" y="78"/>
                      <a:pt x="15" y="114"/>
                    </a:cubicBezTo>
                    <a:cubicBezTo>
                      <a:pt x="15" y="116"/>
                      <a:pt x="18" y="118"/>
                      <a:pt x="20" y="118"/>
                    </a:cubicBezTo>
                    <a:cubicBezTo>
                      <a:pt x="108" y="118"/>
                      <a:pt x="108" y="118"/>
                      <a:pt x="108" y="118"/>
                    </a:cubicBezTo>
                    <a:cubicBezTo>
                      <a:pt x="110" y="118"/>
                      <a:pt x="113" y="116"/>
                      <a:pt x="113" y="114"/>
                    </a:cubicBezTo>
                    <a:cubicBezTo>
                      <a:pt x="123" y="78"/>
                      <a:pt x="128" y="52"/>
                      <a:pt x="128" y="37"/>
                    </a:cubicBezTo>
                    <a:cubicBezTo>
                      <a:pt x="128" y="21"/>
                      <a:pt x="121" y="10"/>
                      <a:pt x="108" y="5"/>
                    </a:cubicBezTo>
                    <a:close/>
                  </a:path>
                </a:pathLst>
              </a:cu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6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3" name="Freeform 5"/>
            <p:cNvSpPr/>
            <p:nvPr/>
          </p:nvSpPr>
          <p:spPr>
            <a:xfrm>
              <a:off x="7617960" y="6135120"/>
              <a:ext cx="96120" cy="76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7964280" y="4879800"/>
              <a:ext cx="384480" cy="3333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8003160" y="5136120"/>
              <a:ext cx="288360" cy="1922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7941960" y="5243040"/>
              <a:ext cx="205560" cy="1882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7785000" y="5285520"/>
              <a:ext cx="192600" cy="2570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7840800" y="5351040"/>
              <a:ext cx="61560" cy="60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7880760" y="5381280"/>
              <a:ext cx="48600" cy="57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7880760" y="5384880"/>
              <a:ext cx="18360" cy="194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7836840" y="5454000"/>
              <a:ext cx="236520" cy="138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7885440" y="5565240"/>
              <a:ext cx="196200" cy="1533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8046720" y="5688000"/>
              <a:ext cx="35280" cy="26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959600" y="5706720"/>
              <a:ext cx="130680" cy="1418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7894080" y="5817960"/>
              <a:ext cx="148680" cy="176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7666560" y="5929200"/>
              <a:ext cx="276120" cy="183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7482600" y="5894640"/>
              <a:ext cx="271440" cy="183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7456680" y="5790960"/>
              <a:ext cx="201600" cy="169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69200"/>
                <a:gd name="textAreaBottom" fmla="*/ 169200 h 16920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7228800" y="5779440"/>
              <a:ext cx="310680" cy="295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6647760" y="5438160"/>
              <a:ext cx="661320" cy="37548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7269480" y="5592240"/>
              <a:ext cx="415080" cy="3027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7028640" y="5381280"/>
              <a:ext cx="428760" cy="2952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7806600" y="5756040"/>
              <a:ext cx="166320" cy="2041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7639920" y="5756040"/>
              <a:ext cx="192600" cy="2005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7623360" y="5642280"/>
              <a:ext cx="266760" cy="1530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7836840" y="5587920"/>
              <a:ext cx="166320" cy="1846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688520" y="5530680"/>
              <a:ext cx="205560" cy="172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7684560" y="5373720"/>
              <a:ext cx="136080" cy="2185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7539480" y="5412240"/>
              <a:ext cx="175680" cy="2905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7507080" y="5415840"/>
              <a:ext cx="95760" cy="149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7163640" y="5266440"/>
              <a:ext cx="468000" cy="4021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312680" y="4894920"/>
              <a:ext cx="777600" cy="59400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6595920" y="4995000"/>
              <a:ext cx="695160" cy="4939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042760" y="5902200"/>
              <a:ext cx="69480" cy="1234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49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0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47" name="Group 51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48" name="Group 52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49" name="AutoShape 53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54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AutoShape 55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6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7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4" name="Group 58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6" name="AutoShape 60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61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AutoShape 62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63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4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1" name="Group 65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2" name="Group 66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3" name="AutoShape 67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68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AutoShape 69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70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1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68" name="Group 72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69" name="Group 73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0" name="AutoShape 74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75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AutoShape 76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77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8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5" name="Group 79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82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9283680" y="3578400"/>
            <a:ext cx="782640" cy="142560"/>
          </a:xfrm>
          <a:custGeom>
            <a:avLst/>
            <a:gdLst>
              <a:gd name="textAreaLeft" fmla="*/ 0 w 782640"/>
              <a:gd name="textAreaRight" fmla="*/ 783000 w 7826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117880" y="2374920"/>
            <a:ext cx="780840" cy="141120"/>
          </a:xfrm>
          <a:custGeom>
            <a:avLst/>
            <a:gdLst>
              <a:gd name="textAreaLeft" fmla="*/ 0 w 780840"/>
              <a:gd name="textAreaRight" fmla="*/ 781200 w 78084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86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89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0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196" name="Oval 21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2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5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6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2" name="Oval 27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8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9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1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2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08" name="Group 33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0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36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14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10" descr="图片3"/>
          <p:cNvPicPr/>
          <p:nvPr/>
        </p:nvPicPr>
        <p:blipFill>
          <a:blip r:embed="rId1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2" name="Group 1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2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9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64" name="Group 40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6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3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0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5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72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77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12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79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84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9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86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4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291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26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293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1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98" name="Group 32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9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35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04" name="Group 4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0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6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0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1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1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Group 13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1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8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1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20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2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5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2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27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2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2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3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34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3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9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4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Group 41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4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46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4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48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4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53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5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55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5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2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3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4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65" name="Group 65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6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68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Administrator</cp:lastModifiedBy>
  <dcterms:modified xsi:type="dcterms:W3CDTF">2015-02-26T01:43:15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