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2.png" ContentType="image/png"/>
  <Override PartName="/ppt/media/image25.png" ContentType="image/png"/>
  <Override PartName="/ppt/media/image29.wmf" ContentType="image/x-wmf"/>
  <Override PartName="/ppt/media/image17.wmf" ContentType="image/x-wmf"/>
  <Override PartName="/ppt/media/image27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20.png" ContentType="image/png"/>
  <Override PartName="/ppt/media/image16.wmf" ContentType="image/x-wmf"/>
  <Override PartName="/ppt/media/image15.png" ContentType="image/png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716040"/>
            <a:ext cx="8226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00" y="2703960"/>
            <a:ext cx="8226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71604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71604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270396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270396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716040"/>
            <a:ext cx="264852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716040"/>
            <a:ext cx="264852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716040"/>
            <a:ext cx="264852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400" y="2703960"/>
            <a:ext cx="264852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2703960"/>
            <a:ext cx="264852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2703960"/>
            <a:ext cx="264852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400" y="716040"/>
            <a:ext cx="822636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400" y="716040"/>
            <a:ext cx="822636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716040"/>
            <a:ext cx="401436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716040"/>
            <a:ext cx="401436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71604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716040"/>
            <a:ext cx="401436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400" y="270396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716040"/>
            <a:ext cx="401436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71604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270396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71604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716040"/>
            <a:ext cx="4014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2703960"/>
            <a:ext cx="822636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5400" y="716040"/>
            <a:ext cx="822636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-357120" algn="just">
              <a:lnSpc>
                <a:spcPct val="145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7120" indent="-357120"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57120" indent="-357120" algn="just">
              <a:lnSpc>
                <a:spcPct val="145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57120" indent="-357120" algn="just">
              <a:lnSpc>
                <a:spcPct val="14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57120" indent="-357120" algn="just">
              <a:lnSpc>
                <a:spcPct val="14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57120" indent="-357120" algn="just">
              <a:lnSpc>
                <a:spcPct val="14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AutoShape 4"/>
          <p:cNvSpPr/>
          <p:nvPr/>
        </p:nvSpPr>
        <p:spPr>
          <a:xfrm>
            <a:off x="-262080" y="-214200"/>
            <a:ext cx="9649080" cy="6913440"/>
          </a:xfrm>
          <a:prstGeom prst="roundRect">
            <a:avLst>
              <a:gd name="adj" fmla="val 2056"/>
            </a:avLst>
          </a:prstGeom>
          <a:noFill/>
          <a:ln w="9360">
            <a:solidFill>
              <a:srgbClr val="d2d2d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>
            <a:hlinkClick r:id="rId2" action="ppaction://hlinksldjump"/>
          </p:cNvPr>
          <p:cNvSpPr/>
          <p:nvPr/>
        </p:nvSpPr>
        <p:spPr>
          <a:xfrm>
            <a:off x="4211640" y="6526080"/>
            <a:ext cx="1317600" cy="291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0000"/>
                </a:solidFill>
                <a:latin typeface="Arial"/>
                <a:ea typeface="宋体"/>
              </a:rPr>
              <a:t>基本实验要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>
            <a:hlinkClick r:id="rId3" action="ppaction://hlinksldjump"/>
          </p:cNvPr>
          <p:cNvSpPr/>
          <p:nvPr/>
        </p:nvSpPr>
        <p:spPr>
          <a:xfrm>
            <a:off x="5843520" y="6526080"/>
            <a:ext cx="1258920" cy="291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0000"/>
                </a:solidFill>
                <a:latin typeface="Arial"/>
                <a:ea typeface="宋体"/>
              </a:rPr>
              <a:t>实验热点聚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>
            <a:hlinkClick r:id="rId4" action="ppaction://hlinksldjump"/>
          </p:cNvPr>
          <p:cNvSpPr/>
          <p:nvPr/>
        </p:nvSpPr>
        <p:spPr>
          <a:xfrm>
            <a:off x="7416720" y="6527880"/>
            <a:ext cx="1258920" cy="291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0000"/>
                </a:solidFill>
                <a:latin typeface="Arial"/>
                <a:ea typeface="宋体"/>
              </a:rPr>
              <a:t>拓展创新实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方正小标宋简体"/>
              </a:rPr>
              <a:t>Click to edit the title text format</a:t>
            </a:r>
            <a:endParaRPr b="1" lang="en-US" sz="2800" spc="-1" strike="noStrike">
              <a:solidFill>
                <a:srgbClr val="cc0000"/>
              </a:solidFill>
              <a:latin typeface="方正小标宋简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1520" y="2323800"/>
            <a:ext cx="8240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实验一　研究匀变速直线运动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5400" y="716040"/>
            <a:ext cx="8226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反思总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刻度尺的读数应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刻度尺读数时要使刻度线紧贴被测物体，眼睛正对刻度线读数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毫米刻度尺的精确度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读数时要估读到最小刻度的下一位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5760" y="716040"/>
            <a:ext cx="49082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跟踪短训】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013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浙江卷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，装置甲中挂有小桶的细线绕过定滑轮，固定在小车上；装置乙中橡皮筋的一端固定在导轨的左端，另一端系在小车上．一同学用装置甲和乙分别进行实验，经正确操作获得两条纸带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纸带上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均为打点计时器打出的点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478" descr=""/>
          <p:cNvPicPr/>
          <p:nvPr/>
        </p:nvPicPr>
        <p:blipFill>
          <a:blip r:embed="rId1"/>
          <a:stretch/>
        </p:blipFill>
        <p:spPr>
          <a:xfrm>
            <a:off x="5521320" y="1482840"/>
            <a:ext cx="3443400" cy="2882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031520" y="47232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39560" y="689040"/>
          <a:ext cx="8264880" cy="54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689040"/>
                    <a:ext cx="8264880" cy="54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39560" y="836640"/>
          <a:ext cx="8264880" cy="51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836640"/>
                    <a:ext cx="826488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1)2.10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.40 cm(±0.05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有效数字位数正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2)1.13 m/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.25 m/s(±0.05 m/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有效数字位数不作要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小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3)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4760" y="1125360"/>
            <a:ext cx="45385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热点二　纸带数据处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【典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2013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东卷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4(1)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研究小车匀变速直线运动的实验装置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(a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，其中斜面倾角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调．打点计时器的工作频率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 Hz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纸带上计数点的间距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，其中每相邻两点之间还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记录点未画出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479" descr=""/>
          <p:cNvPicPr/>
          <p:nvPr/>
        </p:nvPicPr>
        <p:blipFill>
          <a:blip r:embed="rId1"/>
          <a:stretch/>
        </p:blipFill>
        <p:spPr>
          <a:xfrm>
            <a:off x="5108400" y="1844640"/>
            <a:ext cx="3784680" cy="267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15520" y="5228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5400" y="716040"/>
            <a:ext cx="822636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分实验步骤如下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测量完毕，关闭电源，取出纸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接通电源，待打点计时器工作稳定后放开小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将小车停靠在打点计时器附近，小车尾部与纸带相连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打点计时器固定在平板上，让纸带穿过限位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实验步骤的正确顺序是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字母填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标出的相邻两计数点的时间间隔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 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的瞬时速度大小计算式为</a:t>
            </a:r>
            <a:r>
              <a:rPr b="1" i="1" lang="zh-CN" sz="2400" spc="-1" strike="noStrike">
                <a:solidFill>
                  <a:srgbClr val="000000"/>
                </a:solidFill>
                <a:latin typeface="Book Antiqua"/>
                <a:ea typeface="宋体"/>
              </a:rPr>
              <a:t>v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充分利用记录数据，减小误差，小车加速度大小的计算式应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39560" y="717480"/>
          <a:ext cx="826488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717480"/>
                    <a:ext cx="82648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39560" y="1844640"/>
          <a:ext cx="8264880" cy="213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844640"/>
                    <a:ext cx="826488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39560" y="3749760"/>
          <a:ext cx="8264880" cy="1911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60" y="3749760"/>
                    <a:ext cx="826488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5400" y="716040"/>
            <a:ext cx="822636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反思总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纸带判定物体运动的性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本相等，则可判定物体在实验误差允许的范围内做匀速直线运动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利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计算出在相邻相等时间间隔内物体的位移差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如果它们在实验误差允许的范围内相等，则可以判定物体做匀变速直线运动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760" y="1196640"/>
            <a:ext cx="8226360" cy="32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C-KT"/>
              </a:rPr>
              <a:t>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实验目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练习正确使用打点计时器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会利用纸带求匀变速直线运动的瞬时速度、加速度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会利用纸带探究小车速度随时间变化的规律，并能画出小车运动的</a:t>
            </a:r>
            <a:r>
              <a:rPr b="1" i="1" lang="zh-CN" sz="2400" spc="-1" strike="noStrike">
                <a:solidFill>
                  <a:srgbClr val="000000"/>
                </a:solidFill>
                <a:latin typeface="Book Antiqua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象，根据图象求加速度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76280"/>
            <a:ext cx="85500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5400" y="716040"/>
            <a:ext cx="8226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点间的距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数点间距离的给定有两种：相邻点间距离和各计数点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的距离，计算时后者要先转换为前者，如框图所示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W480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35751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常见错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纸带进行数据处理时，常见的错误有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误认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02 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没有注意到图中相邻计数点之间有几个点没画出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进行单位换算，图中各数据的单位都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应当换算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5400" y="333360"/>
            <a:ext cx="822636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跟踪短训】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2012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山东卷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1(1)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同学利用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所示的实验装置，探究物块在水平桌面上的运动规律．物块在重物的牵引下开始运动，重物落地后，物块再运动一段距离停在桌面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尚未到达滑轮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从纸带上便于测量的点开始，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点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计数点，相邻计数点间的距离如图乙所示．打点计时器电源的频率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 Hz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39760" y="4197240"/>
          <a:ext cx="7104240" cy="16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4197240"/>
                    <a:ext cx="7104240" cy="16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084200" y="58759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分析纸带数据，可判断物块在两相邻计数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某时刻开始减速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的速度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m/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数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的速度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m/s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三位有效数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物块减速运动过程中加速度的大小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m/s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39560" y="650880"/>
          <a:ext cx="8264880" cy="55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650880"/>
                    <a:ext cx="826488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39560" y="836640"/>
          <a:ext cx="8264880" cy="43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836640"/>
                    <a:ext cx="82648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66480" y="5228280"/>
            <a:ext cx="70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1)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或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2)1.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3)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5200" y="333360"/>
            <a:ext cx="8561520" cy="5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39560" y="1044720"/>
          <a:ext cx="8264880" cy="512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9560" y="1044720"/>
                    <a:ext cx="826488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43732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【典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013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江苏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兴趣小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自由落体运动测定重力加速度，实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验装置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．倾斜的球槽中放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干个小铁球，闭合开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电磁铁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住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球．手动敲击弹性金属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触头瞬间分开，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球开始下落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迅速恢复，电磁铁又吸住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球．当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球撞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触头分开，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球开始下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样，就可测出多个小球下落的总时间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W482" descr=""/>
          <p:cNvPicPr/>
          <p:nvPr/>
        </p:nvPicPr>
        <p:blipFill>
          <a:blip r:embed="rId1"/>
          <a:stretch/>
        </p:blipFill>
        <p:spPr>
          <a:xfrm>
            <a:off x="6300720" y="907920"/>
            <a:ext cx="2592360" cy="215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247520" y="3067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实验中，下列做法正确的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电路中的电源只能选用交流电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实验前应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到电磁铁的正下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直尺测量电磁铁下端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竖直距离作为小球下落的高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手动敲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同时按下秒表开始计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验测得小球下落的高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980 m,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球下落的总时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.5 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可求出重力加速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m/s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保留两位有效数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5400" y="716040"/>
            <a:ext cx="822636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不增加实验器材的情况下，请提出减小实验误差的两个办法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同学考虑到电磁铁在每次断电后需要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磁性才消失，因此，每个小球的实际下落时间与它的测量时间相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导致实验误差．为此，他分别取高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测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小球下落的总时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是否可以利用这两组数据消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实验结果的影响？请推导说明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22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C-KT"/>
              </a:rPr>
              <a:t>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实验原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52640" y="1268280"/>
          <a:ext cx="6327720" cy="51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68280"/>
                    <a:ext cx="632772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39560" y="878040"/>
          <a:ext cx="8264880" cy="51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878040"/>
                    <a:ext cx="8264880" cy="51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39560" y="355680"/>
          <a:ext cx="8221680" cy="59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355680"/>
                    <a:ext cx="822168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1)B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2)9.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小球下落的高度；多次重复实验，结果取平均值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其他答案只要合理也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4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可以消除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对实验结果的影响，推导过程见解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5400" y="716040"/>
            <a:ext cx="822636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探究跟踪】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中，光电门测量的是运动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挡光时间内的平均速度，因为挡光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窄，所以可看作测量的是瞬时速度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测量做匀变速直线运动的小车的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速度，将宽度均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挡光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小车上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．当小车做匀变速运动经过光电门时，测得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后挡光的时间分别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挡光时刻的间隔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后经过光电门时的速度分别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小车的加速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W483" descr=""/>
          <p:cNvPicPr/>
          <p:nvPr/>
        </p:nvPicPr>
        <p:blipFill>
          <a:blip r:embed="rId1"/>
          <a:stretch/>
        </p:blipFill>
        <p:spPr>
          <a:xfrm>
            <a:off x="6659640" y="1268280"/>
            <a:ext cx="1987560" cy="2089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54800" y="34992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为用打点计时器研究小车运动情况的装置：实验时由静止释放钩码，小车开始做匀加速直线运动，在小车进入布面前钩码已经落地了，小车在平玻璃板上做匀速直线运动，后来在布面上做匀减速直线运动，所打出的纸带的一部分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，纸带上相邻两点对应的时间间隔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02 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分析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下结果均保留三位有效数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W484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3671640" cy="138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35520" y="5733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W485" descr=""/>
          <p:cNvPicPr/>
          <p:nvPr/>
        </p:nvPicPr>
        <p:blipFill>
          <a:blip r:embed="rId2"/>
          <a:stretch/>
        </p:blipFill>
        <p:spPr>
          <a:xfrm>
            <a:off x="4459320" y="4437000"/>
            <a:ext cx="4505400" cy="101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956560" y="5733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知，小车在玻璃板上做匀速运动的速度大小为</a:t>
            </a:r>
            <a:r>
              <a:rPr b="1" i="1" lang="zh-CN" sz="2400" spc="-1" strike="noStrike">
                <a:solidFill>
                  <a:srgbClr val="000000"/>
                </a:solidFill>
                <a:latin typeface="Book Antiqua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m/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打点计时器打下计数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小车的瞬时速度</a:t>
            </a:r>
            <a:r>
              <a:rPr b="1" i="1" lang="zh-CN" sz="2400" spc="-1" strike="noStrike">
                <a:solidFill>
                  <a:srgbClr val="000000"/>
                </a:solidFill>
                <a:latin typeface="Book Antiqua"/>
                <a:ea typeface="宋体"/>
              </a:rPr>
              <a:t>v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m/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纸带得到了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Book Antiqua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象，则小车做匀减速直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运动时的加速度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3772080"/>
                <a:tab algn="l" pos="690552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m/s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W486" descr=""/>
          <p:cNvPicPr/>
          <p:nvPr/>
        </p:nvPicPr>
        <p:blipFill>
          <a:blip r:embed="rId1"/>
          <a:stretch/>
        </p:blipFill>
        <p:spPr>
          <a:xfrm>
            <a:off x="5473800" y="2571840"/>
            <a:ext cx="3201840" cy="3089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12640" y="570744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39560" y="811080"/>
          <a:ext cx="8264880" cy="52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811080"/>
                    <a:ext cx="826488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39560" y="1197000"/>
          <a:ext cx="8264880" cy="31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197000"/>
                    <a:ext cx="8264880" cy="31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84200" y="4440240"/>
          <a:ext cx="8264520" cy="150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200" y="4440240"/>
                    <a:ext cx="8264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064360" cy="428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720" y="275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7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00" y="5580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5400" y="716040"/>
            <a:ext cx="8226360" cy="6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C-KT"/>
              </a:rPr>
              <a:t>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实验过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476A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848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C-KT"/>
              </a:rPr>
              <a:t>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注意事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纸带和细绳要和木板平行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先两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验中应先接通电源，后让小车运动；实验完毕应先断开电源后取纸带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防止碰撞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到达长木板末端前应让小车停止运动，要防止钩码落地和小车与滑轮相撞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小误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车的加速度要适当大些，可以减小长度的测量误差，加速度大小以能在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纸带上清楚地取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计数点为宜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5400" y="716040"/>
            <a:ext cx="822636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纸带选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一条点迹清晰的纸带，舍弃点密集部分，适当选取计数点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准确作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坐标纸上，纵、横轴选取合适的单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所描点过密或过疏，而导致误差过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仔细描点连线，不能连成折线，应作一条直线，让各点尽量落到这条直线上，落不到直线上的各点应均匀分布在直线的两侧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760" y="1125360"/>
            <a:ext cx="8240760" cy="22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热点一　刻度尺的读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【典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，用毫米刻度尺测量纸带中的计数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距离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 mm,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距离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 mm,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距离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 m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431640"/>
            <a:ext cx="8550000" cy="535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477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5948280" cy="12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223160" y="55155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5400" y="715680"/>
            <a:ext cx="8226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毫米刻度尺的最小刻度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 m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读数时要估读到毫米的下一位．计数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之间的距离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8.9 mm(9.0 m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也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若读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8.90 m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或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9 m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都是错误的；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之间的距离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9.5 mm,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之间的距离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2.5 mm(32.0 m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9.5 mm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8.9(9.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也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9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2.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08:50:02Z</dcterms:created>
  <dc:creator>Bill</dc:creator>
  <dc:description/>
  <cp:keywords/>
  <dc:language>en-US</dc:language>
  <cp:lastModifiedBy>wgf</cp:lastModifiedBy>
  <dcterms:modified xsi:type="dcterms:W3CDTF">2014-03-13T01:29:18Z</dcterms:modified>
  <cp:revision>158</cp:revision>
  <dc:subject/>
  <dc:title>PowerPoint Template</dc:title>
</cp:coreProperties>
</file>