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C7E-D286-4A5E-862F-10A244AE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279-C7D5-4F5D-885F-BFBF2502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D94-D086-4FB1-9634-B138F092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8E7-B304-41CE-BF58-306F6CA0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B94-61B0-42F5-B285-9C420D39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7CC-D863-43CB-9C17-3FEC4590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D77-760A-4E92-B456-DE38C548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F4A-17EC-472E-A20A-8C0E97E4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070-A90A-4A08-8D31-9BD69525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7AC-BD85-4D54-AE9D-EA2A6EAB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9D9-1DB3-4CE2-AA51-D5AB1298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3A9-11A4-4E33-96BC-304F0868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21D4-75D3-4275-B615-DA78AEFFD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封面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封面文字"/>
          <p:cNvPicPr/>
          <p:nvPr/>
        </p:nvPicPr>
        <p:blipFill>
          <a:blip r:embed="rId2"/>
          <a:stretch/>
        </p:blipFill>
        <p:spPr>
          <a:xfrm>
            <a:off x="2050920" y="3213000"/>
            <a:ext cx="46357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内页色条"/>
          <p:cNvPicPr/>
          <p:nvPr/>
        </p:nvPicPr>
        <p:blipFill>
          <a:blip r:embed="rId1"/>
          <a:stretch/>
        </p:blipFill>
        <p:spPr>
          <a:xfrm>
            <a:off x="1440" y="0"/>
            <a:ext cx="9142560" cy="2362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0" y="6750000"/>
            <a:ext cx="9144000" cy="108000"/>
          </a:xfrm>
          <a:prstGeom prst="rect">
            <a:avLst/>
          </a:prstGeom>
          <a:solidFill>
            <a:srgbClr val="008d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内页文字"/>
          <p:cNvPicPr/>
          <p:nvPr/>
        </p:nvPicPr>
        <p:blipFill>
          <a:blip r:embed="rId2"/>
          <a:stretch/>
        </p:blipFill>
        <p:spPr>
          <a:xfrm>
            <a:off x="858960" y="2260440"/>
            <a:ext cx="7458120" cy="3832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内页文字-2"/>
          <p:cNvPicPr/>
          <p:nvPr/>
        </p:nvPicPr>
        <p:blipFill>
          <a:blip r:embed="rId3"/>
          <a:stretch/>
        </p:blipFill>
        <p:spPr>
          <a:xfrm>
            <a:off x="884160" y="476280"/>
            <a:ext cx="34005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封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封底文字"/>
          <p:cNvPicPr/>
          <p:nvPr/>
        </p:nvPicPr>
        <p:blipFill>
          <a:blip r:embed="rId2"/>
          <a:stretch/>
        </p:blipFill>
        <p:spPr>
          <a:xfrm>
            <a:off x="539640" y="5661000"/>
            <a:ext cx="22924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6:34:22Z</dcterms:created>
  <dc:creator>txbc</dc:creator>
  <dc:description/>
  <dc:language>en-US</dc:language>
  <cp:lastModifiedBy>jccook</cp:lastModifiedBy>
  <dcterms:modified xsi:type="dcterms:W3CDTF">2012-07-03T09:46:06Z</dcterms:modified>
  <cp:revision>1</cp:revision>
  <dc:subject/>
  <dc:title>幻灯片 1</dc:title>
</cp:coreProperties>
</file>