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F48-AF91-4C58-BB44-D7D9A80C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BAB-68F6-43E3-BF4F-B1E5A550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FA1C5-DDE2-4567-8B7B-F638156D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7BE4E-92E4-4B93-9DAC-22BCE9DA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3F689-3CEB-4431-9A17-51233708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3E6DA-2B18-4DD0-B589-0A3A8F73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11DAC-3994-4FA8-A8B1-DB1BA33A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9B774-F14E-43F3-86CE-BDC15577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C7EE8-472C-492D-A67A-41537DF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B5DAD-B968-4338-9BFE-C5D4CBBA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5DE22-D8B3-4B8B-94C4-F8DEDC04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8975A-6C96-4A43-AF90-F6954AEB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491-0AAB-4902-BB27-976D4AD2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32717-3852-4001-A97E-4955FDC7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C0D88-DB37-44B7-B0A2-3FFC771D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21F73-6B18-40CB-8D4E-2311C338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0C499-F2F4-4CAC-9D12-CB2E2933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EBED3-7EEC-414E-BB88-31C14985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D413E-31B1-41E3-B5B6-B2DB62F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C6BB2-E308-4ABF-A5BF-C145A1D2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E3C75-598C-400A-84CB-A5224CF5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B06BD-2BE9-425A-B0D3-7E0A1C09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C9196-0C98-49D5-B218-53711D3C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A59-C074-453D-8138-B10B280D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63E34-4EC6-477A-9382-23510916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71480-D8AA-4378-AC88-9B3895F9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07FF8-A220-4C35-9693-B0CFF237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7F93C-ADFB-4154-A541-D5429C2A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4262-29C7-4FBC-9EBC-0183C7EE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6CB1C-BAD9-4133-81D8-CEE6667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CB26C-6D7B-4DEC-A97D-BF2E82AB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8B24B-1419-459C-B87C-5915F55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4A4CB-56DB-453F-AA03-7F12DE74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E480F-D027-4253-8218-387545A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3E8F-FCA0-4672-967A-315D5D2C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2D4A0-CCFF-4A2D-9E6F-45FCB643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66F14-9825-4B3F-ADE2-5C98EDC0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3F834-325C-47C4-A90B-066DE249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D8A75-0339-4A05-9C95-88F6291F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AC030-20DE-4069-AC53-E9D354A8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BD185-3FD1-448D-B1C3-CA207463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4FF23-7FB6-4DD1-9089-A76BBD16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28CB7-1850-4167-8CAA-34EC07E6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3A85A-F405-488B-B250-15421C24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71B8D-6E1C-451A-8C74-9104A1A8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66B6-712A-42B5-B147-17960EC5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3D44D-2A84-43D7-97CC-B78E4BE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280B9-1E37-4B5F-BAD0-D8B1D0AB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86D7F-C931-4EC7-8EE9-B7771442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E482E-ACC8-4E37-A721-9DE9A50D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D63C7-3F2A-4802-A967-63FC4F82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1DC8-D71E-4EBE-9ED2-12B5FBAF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6AEC-995D-4F09-839C-A83C055B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3FB6-E793-45BD-BB02-AD6F1DF8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34FE-FDEF-4204-A8AB-CA2DA641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E75A-D3DA-4C3D-806F-FF0D2CFC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936-41AD-4CC6-82DB-87DA8EE4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EC76-2305-4A29-BA9C-7A09D3D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8C62-6F86-41F4-AFFE-74605035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0D71-5202-4F74-BF39-54A34439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01A5-74B8-44EE-B010-B605D596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E389-D276-44BB-B0AE-79766FD6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78F8-1C1B-456E-90A9-B3D08E6B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CD39-6392-4BE2-A4D2-3BEED91A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7A9A-6307-4A74-90A7-07017158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CC9C-1090-42FF-8EE5-A8FC03BA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D9B5-53C1-4A5A-9B3F-49ABE17C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7C1-4906-4584-9B17-A14F82BC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B1E1-6543-4D73-A1A4-0DD07FFC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A480-11F3-43FB-9790-0386D99D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CB4B1-47A0-42DC-B3E9-8421F17C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65DA-9D3E-4F19-8876-B3B12C57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8D16-A419-4113-9D83-34786942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B3E5-6BC8-400C-AB64-9EC20BF0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3BE2-6CB3-4F94-BCD8-8CD9087F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2F6F-47E7-426F-AE9F-F08EF451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BBF6E-4B69-48D4-A892-B03BDA18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1854-4315-47F8-BA7A-0A8B8D8A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053-5A41-4487-99B6-FC955BA6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C13D-39B5-4319-9E01-188C512A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35C8-005D-4E3D-AE87-C2E3694B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E84A-BA4B-4512-8E95-7D7FCEA1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3C2C8-E6BB-4199-B922-0EA6625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A547-16EC-4BCE-80A1-51084533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4341-C3D7-4161-ADB5-7D373F05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C9A75-9558-4985-9A97-183FE5E3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A487-F78A-4564-8211-3EC9F6C9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C0A2-3734-430B-8258-5ED6112E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05F0-AC4B-4EE7-AEE6-92B521CF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F26-7DCA-40E8-B791-DDE014E5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C1883-7C69-4324-B2AB-72A37887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F3A71-F46D-46E7-964A-CE9CCD3E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BED00-9E67-4548-8D5C-86AACFBB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7A58-E053-47C5-BFBB-ADB11C43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3D99-1BE9-4946-8E9E-01DB60EE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55D7B-8B7B-4F50-8C16-190D1BDC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BC77-4BC2-46CA-B139-0F37F23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2A738-1189-43A7-9EC6-56E45627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66FBD-46CB-48D3-8DB0-66C616DE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9C880-8108-44CD-BCF3-4DB8C341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D1A-72B7-45C4-A3E7-75C28D8B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43AA-C8F2-4ED2-917F-8FB4A4CD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087B-BB17-48E2-8A0B-131DF82F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D5CEC-6931-4771-B83D-CA00302B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66A4-C256-497C-AD47-8B2881AB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1C122-10BA-486D-B098-3968AF94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AE79C-733A-4496-BBE2-158400BB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84C4-0551-4C83-817F-BE9D7EE5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C2653-8B61-4ADC-BA1A-9ADC02E8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516BB-9439-40D1-911F-C27BAEE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4C98D-0DBC-4DE4-AC32-77CA4634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400-60F0-4045-A7BA-92E5A83A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6E0E2-C47C-4D40-8B3E-CFC29F53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E3343-ED08-401C-80D8-250CD7FE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4A0F0-995B-490C-97B2-677F760C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37D7E-4E0C-41D1-AB51-FB3631A0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7B54A-997C-42C5-A8AF-EEE9F709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26734-C4E6-4474-B075-AA0C1278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97469-D2F9-4126-8C60-D13FA452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B2DD-7FD5-43E8-8959-663738CA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495A5-F703-402C-900B-85253FDA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1C21-A913-4A66-9FBA-3DC18B65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EB9-2F7C-42D7-B4A9-644B313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9E45D-CAFB-42BD-9D18-641999D7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33C9F-CEA9-4660-821D-ADB76187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384F4-3AF9-4BF5-9947-0617933D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508AC-5223-482C-9190-14BE4707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F5EE6-510F-404F-8E37-732A1D04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31F2E-74EA-45B1-BCAD-0D0BBD38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2BCE2-1634-419D-88C3-5091695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419E9-DBC1-41F5-850C-A8B5C3F2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24A05-0DD5-478B-BF88-5E03ABA9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A0C91-E2CC-47EA-AD0B-B78D49B9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C8C-86DA-4813-BFAC-C311B1CE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EF0A1-EAA6-4DD3-9025-39647354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306C0-E084-4C5D-BBBA-37A738DE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DC5D7-054C-4717-AB25-9FF50B65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46F0-711B-4B86-AB1E-63A0A643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6BA80-5BAE-4CFA-859E-57628448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363B-457F-42E5-B1B0-A4383595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98DB0-11C3-4998-9A24-48EB1134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F6DFA-AFF8-4208-925D-052E05BD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B067C-ED53-4F9C-B4D1-6C183994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86AD3-5B83-4F44-827C-5C73C8E7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2A30-8D15-4B3D-ADB3-12F89EA7E0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3AD8-9744-457C-A540-CBD39718557D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6B65-44A3-496A-9B8A-5FCBBE1EA4C1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9E4B-B1C6-4D5C-A1E6-515A532642AC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3152-3B21-48DA-94D0-7774B66E0DD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5015-808C-4C63-ADE2-835D05D2C0D0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2CA2-CBC3-4ABB-AD26-045D7662C259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6029-DD2B-451E-9F87-A4F19F8574AE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6C89-3B0F-4DD2-9CA0-7A3E312F1E38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EC24-FC8E-4C4F-9A0B-D1F59ACE56E7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980A-149A-46B6-8417-61D53C2BD724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Georgi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191E-CC3A-49F1-AB9A-E6A27B7EE390}" type="slidenum">
              <a:rPr b="1" lang="zh-CN" sz="1200" spc="-1" strike="noStrike">
                <a:solidFill>
                  <a:srgbClr val="898989"/>
                </a:solidFill>
                <a:latin typeface="Georgi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2"/>
          <p:cNvSpPr/>
          <p:nvPr/>
        </p:nvSpPr>
        <p:spPr>
          <a:xfrm>
            <a:off x="2514600" y="2743200"/>
            <a:ext cx="12193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1" lang="zh-CN" sz="2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1" lang="en-US" sz="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1" lang="en-US" sz="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3" name="Picture 2" descr="1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1811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meet </a:t>
            </a:r>
            <a:br>
              <a:rPr sz="26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宋体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lov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ood conversation!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2" name="Picture 5" descr="10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ould you like to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start a conversatio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4" name="Picture 7" descr="11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tell him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6" name="Picture 5" descr="19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ch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8" name="Picture 4" descr="17"/>
          <p:cNvPicPr/>
          <p:nvPr/>
        </p:nvPicPr>
        <p:blipFill>
          <a:blip r:embed="rId1"/>
          <a:stretch/>
        </p:blipFill>
        <p:spPr>
          <a:xfrm>
            <a:off x="0" y="-23004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or jus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hang ou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ith his gang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0" name="Picture 4" descr="18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20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We can help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2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you 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star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the conversation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7"/>
          <p:cNvSpPr/>
          <p:nvPr/>
        </p:nvSpPr>
        <p:spPr>
          <a:xfrm>
            <a:off x="1724040" y="2895480"/>
            <a:ext cx="56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All you need to do is..</a:t>
            </a:r>
            <a:endParaRPr b="1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1" descr="20"/>
          <p:cNvPicPr/>
          <p:nvPr/>
        </p:nvPicPr>
        <p:blipFill>
          <a:blip r:embed="rId1"/>
          <a:stretch/>
        </p:blipFill>
        <p:spPr>
          <a:xfrm>
            <a:off x="0" y="1295280"/>
            <a:ext cx="9101160" cy="560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8"/>
          <p:cNvSpPr/>
          <p:nvPr/>
        </p:nvSpPr>
        <p:spPr>
          <a:xfrm>
            <a:off x="1828800" y="19051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  <a:ea typeface="宋体"/>
              </a:rPr>
              <a:t>Contact</a:t>
            </a:r>
            <a:endParaRPr b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5029200" y="2666880"/>
            <a:ext cx="360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Saurabh@Phonethics.in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2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267080" y="5333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a.k.a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3"/>
          <p:cNvPicPr/>
          <p:nvPr/>
        </p:nvPicPr>
        <p:blipFill>
          <a:blip r:embed="rId1"/>
          <a:stretch/>
        </p:blipFill>
        <p:spPr>
          <a:xfrm>
            <a:off x="-380880" y="4572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86200" y="5333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Mr. Multiple Profiles!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74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lives in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loba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villag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0" name="Picture 5" descr="4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5"/>
          <p:cNvPicPr/>
          <p:nvPr/>
        </p:nvPicPr>
        <p:blipFill>
          <a:blip r:embed="rId1"/>
          <a:stretch/>
        </p:blipFill>
        <p:spPr>
          <a:xfrm>
            <a:off x="380880" y="781200"/>
            <a:ext cx="9144000" cy="59245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11430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drives an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eco friendl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ca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 a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宋体"/>
              </a:rPr>
              <a:t>great sport.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7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76680" y="533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makes tim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167652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Rahu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grea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at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9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305280" y="114264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宋体"/>
              </a:rPr>
              <a:t>Rahul i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lousy at.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0:51:36Z</dcterms:created>
  <dc:creator/>
  <dc:description/>
  <dc:language>en-US</dc:language>
  <cp:lastModifiedBy>lenovo</cp:lastModifiedBy>
  <dcterms:modified xsi:type="dcterms:W3CDTF">2015-07-07T00:5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