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54D-B780-4174-A8E1-8414900F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B25-3D4E-4CCE-B107-EBB764FF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BC1C1-F636-48F7-86D5-8989629A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03C4E-14BE-485D-BF3A-099F3489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493B5-8AFC-44C9-8586-B44F92B5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916CC-085B-4F61-8E50-EBB4D2EA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E6D19-57D6-478E-9C5F-C81C32FF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5FC36-8B2E-400A-8A9D-57D5A0C9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3D320-5FD2-48E1-9ED9-69AB4A66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8E638-EF9F-419B-BF79-750E7E7A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1C358-7AED-4792-9624-7DBB94F3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53E9C-725F-49D6-8619-1422D355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FA32-9FD9-4117-AF41-5A2801D6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4CC7A-368A-4A4E-883A-CE463159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ED3F8-4AC0-4311-8AE6-E6823978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A4192-B824-43DF-B1BA-5101733B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83A99-6680-4A8D-9D17-122BC760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DCBA1-6B10-4EED-B6A5-7498C5AA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5D0EA-5EA0-4E2B-9CCC-C753A138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F676F-E3BB-4FAC-8E84-B084FE54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6B564-7366-4144-AE3D-B981D787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B5608-B83F-46DC-B971-3E999BC1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5E993-ACB4-4D65-B157-85EA6DD4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66D2-5913-4A87-A2EF-25CD7493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72470-BD0B-4FA0-8DA9-D0BFE8A1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340FE-3E17-4C6B-BB2D-2B1522E0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FF6D3-7D01-4401-B854-1CC4F801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3ABCB-34AA-4269-9A0D-E30700A0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F0CD5-951C-477C-83C0-96A2B063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0651E-05C7-43BE-A26A-27E6C158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98814-EEBF-4B36-8525-01E929F8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5CF97-1177-465E-931F-3B4EA5F6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0172D-FF63-4028-835E-42EC5A9A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0E25A-FC59-4161-A919-23952D60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7291-C3CB-4E76-99BC-81E2A34E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CCF4F-55FA-472F-9C7D-7D1312F6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5E228-1D94-46B1-B5E4-C768F97E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F0F24-C722-422B-91FC-A443C4D5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A52EB-7BB5-405B-B2A9-7D74FA95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3B427-14CB-450C-A1D8-58BEF0A8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329D4-C099-43A7-98BF-82109F8C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10686-79AC-4B8D-B7F4-EB31F27D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A233C-8D85-482A-85ED-BA83FFE0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72954-8644-4F54-B832-3FD16831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6B32F-C113-4554-AB59-9694E653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8580-7CD7-421C-89C0-D4CD3EF6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FEDE0-4AFE-43F2-8183-289C6469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0365F-58B8-448E-A75D-DA14E7A3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017FC-99F7-4986-96DF-14EC54BD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9ECBA-1E1F-4CBA-9F96-90740029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97BB9-342B-404E-8DA5-3D9BA7D9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3B18-AED2-4C6D-9FFC-D441DB0B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F5E2-039F-4AF0-BF4D-361AD273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7A25-41E1-4ABB-882B-E6C3F77B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4019-79DC-4BB1-94C9-302FEBF7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4461-9DE7-4767-BBFA-A461D30B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EA5-15F1-46F4-BDF9-6C4C4ED2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6C40-3202-46DA-9CF0-CC3F3497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0598-7CC3-4801-9056-729B54C4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63DE-D0B5-4AC4-8671-8C4DBF09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DEC8-C008-4969-994B-4AA7BB8D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C681-1E3A-4ABF-89AE-DB817676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0D6A2-B9AD-4548-AA8A-9641699F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E377A-2BEC-4ECB-A23B-2F4B31D7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D7A22-693B-4F99-B861-319B386F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39D55-A08A-4556-B921-E95E5E42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4D686-779C-4E3E-A91B-96710F67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BF3E-1C7D-4927-A8D8-EC63FD0C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93109-926A-466E-8C00-75D8F462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A51BE-4B86-44F5-A478-A6C221ED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4944A-E6E3-4F29-9AB9-B25E87BB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9FE31-4C8A-415A-9C56-6A04847C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88836-7D09-4AB5-B904-52E31D13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81F88-77E1-41E6-9C70-C59AA796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38954-035D-42A1-8979-095DE7F6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37661-F750-4634-BFFC-D2A75FF4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DD58F-FD4F-49D5-9368-E7835B41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31186-07B1-42A0-A986-9EB31DBB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E87-2729-4B9C-A1A2-327AD411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68F7D-309C-4046-A000-0C10D851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2F3BD-7517-47AB-AC07-F3AC89C2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CB365-6F6C-4338-B17F-AE2E8B67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26E17-6018-46A8-8D13-F632A8B6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61E57-CBB3-418F-BA88-18A7F730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54F43-01A0-4AD7-A46E-F9D336DE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B9BC1-31E1-4ABB-800E-8FE2620E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3353B-BD62-4690-AFB8-C28BA1CC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4AD9E-1BE3-4E5B-B008-2189A1F2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67CC4-C987-41D1-8BF1-ED47AA11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84D-16FB-4EF8-8120-33421ACB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1FA9E-6471-4B49-A4D4-2A96B235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5FE7C-949C-4282-BC73-C2D23CCC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AC3AF-CE19-492C-AA63-069AA913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6E2E8-33AF-4E48-A994-00854A9F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C9289-CC1B-4586-B170-AD15CE5D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E0931-9F80-4C54-A6D0-00CFCC0E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6B1C7-08C4-496E-A4DC-B8FFABB1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F9B1A-AEE6-41E7-B42E-F2B24763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E2F14-74C8-41FD-B96A-57AF2F7F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E65B7-6188-48A7-AE90-47C94325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D59E-2DF1-4B91-9C20-398FF0EA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12C5E-2CCB-4036-BFDC-09968D92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7DFF1-0D42-4784-8B18-79565615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010E8-6CE8-4DA6-B1B4-9923DA0E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90CB6-6049-456E-99CA-32BD2A2B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AD3BD-8C69-49B4-A1EA-C02AD9EE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D217F-A638-4278-A069-268FB31A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50AA0-081F-4F3E-8984-AD63DD92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28480-8553-460C-9CA2-FE99E3D5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8BF98-CAEF-46C5-82D7-CDE1712C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32F1E-85AE-4C2A-A8FE-C9A2D6D8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102-E747-4B0C-817F-FEC2B10A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2BE60-C684-4153-BD5A-24B26BDF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42A8D-6006-4F3A-B918-BF5FB440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0F839-6B15-4003-88AD-E879F284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3903D-D45F-481A-9FBB-CA59935C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528FD-DBC0-429F-965A-4D8A2944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E83E3-F9FB-42E6-963B-9CA6FBFC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2C574-DCB7-47F4-A507-1B5A660F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2E093-4CE9-469B-8DF4-1FA6F150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0812D-F8EF-418C-9496-21E9A93E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1ED59-BD10-4496-83A6-50A61AF7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EFF-64D4-485B-9C77-9E422B84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0AD1B-0B88-4596-9A06-A1D77BE8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7E8E8-B295-4A25-8B1F-D2C8D3C4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28176-2AAB-487D-AABE-2F3E27ED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31FC2-21E5-4D88-934A-1C882D91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DE1EB-F7DC-4727-9905-600FCA61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9D7E8-E990-46DB-911F-B754E9B8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93954-D88E-4BD6-8B2C-657DA6DA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345D2-FC3A-4CDC-8332-55F1C0A2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7E5DE-CB0E-4047-95C2-2BC35435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36AB8-D14C-4CC4-AB0D-0D729A1B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6D5B-5224-43FE-9A8A-31214550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F2C93-B1AC-4454-981C-BEA168E4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93907-A46F-4A04-9975-49D6F62C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E8C6F-5A00-43EF-A9A0-C3BCEB38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42683-776A-4542-8C1B-A0DAFA57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DAF9D-1BDC-42C6-8D78-CF257F48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71A11-0447-4CFB-AB96-69641A2F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9DD16-A6F7-41DC-AA77-DEE644AB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59DBB-922A-4FD0-80D1-657B51CD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E929A-BD2D-4D17-9B0A-2A8AD9AD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4477A-4EAC-4984-84BB-7CF5E263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5CEA-994D-4714-AB82-C55D0AADF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E77A-9810-48A2-90E4-3F3D3C661CC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C059-D81A-40C3-8E5D-087429EF88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11C2-9D3E-4CD2-899B-45E5A1B41F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3014-2F46-49A9-B51D-C79D117513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40FC-3EB2-45B6-B6C6-21F2185F59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D6C3-4B74-4B05-9B82-70FEEA5EAB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5C10-C7C7-498F-9510-57F3F770D3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492C-2085-4290-8BE1-FD8126E17EE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643D-2EDE-4F76-BC1E-DE9E765212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68AB-FC83-48CB-8BED-83FC315547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4F30-9192-4082-AEA1-E0DD79F451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16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3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3"/>
          <p:cNvGrpSpPr/>
          <p:nvPr/>
        </p:nvGrpSpPr>
        <p:grpSpPr>
          <a:xfrm>
            <a:off x="533520" y="2419200"/>
            <a:ext cx="1561680" cy="1663200"/>
            <a:chOff x="533520" y="2419200"/>
            <a:chExt cx="1561680" cy="1663200"/>
          </a:xfrm>
        </p:grpSpPr>
        <p:sp>
          <p:nvSpPr>
            <p:cNvPr id="495" name="TextBox 4"/>
            <p:cNvSpPr/>
            <p:nvPr/>
          </p:nvSpPr>
          <p:spPr>
            <a:xfrm>
              <a:off x="533520" y="2419200"/>
              <a:ext cx="76176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5"/>
            <p:cNvSpPr/>
            <p:nvPr/>
          </p:nvSpPr>
          <p:spPr>
            <a:xfrm>
              <a:off x="1295280" y="3256560"/>
              <a:ext cx="7999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6"/>
            <p:cNvSpPr/>
            <p:nvPr/>
          </p:nvSpPr>
          <p:spPr>
            <a:xfrm>
              <a:off x="533520" y="3257280"/>
              <a:ext cx="761760" cy="8251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7"/>
            <p:cNvSpPr/>
            <p:nvPr/>
          </p:nvSpPr>
          <p:spPr>
            <a:xfrm>
              <a:off x="1422000" y="2419200"/>
              <a:ext cx="546480" cy="825120"/>
            </a:xfrm>
            <a:prstGeom prst="rect">
              <a:avLst/>
            </a:prstGeom>
            <a:solidFill>
              <a:srgbClr val="b3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Box 10"/>
          <p:cNvSpPr/>
          <p:nvPr/>
        </p:nvSpPr>
        <p:spPr>
          <a:xfrm>
            <a:off x="2438280" y="2952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曾经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1"/>
          <p:cNvSpPr/>
          <p:nvPr/>
        </p:nvSpPr>
        <p:spPr>
          <a:xfrm>
            <a:off x="2514600" y="32576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Once walk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TextBox 12" descr=""/>
          <p:cNvPicPr/>
          <p:nvPr/>
        </p:nvPicPr>
        <p:blipFill>
          <a:blip r:embed="rId16"/>
          <a:stretch/>
        </p:blipFill>
        <p:spPr>
          <a:xfrm>
            <a:off x="5370480" y="414360"/>
            <a:ext cx="3005280" cy="2882880"/>
          </a:xfrm>
          <a:prstGeom prst="rect">
            <a:avLst/>
          </a:prstGeom>
          <a:ln w="0">
            <a:noFill/>
          </a:ln>
        </p:spPr>
      </p:pic>
      <p:pic>
        <p:nvPicPr>
          <p:cNvPr id="502" name="TextBox 13" descr=""/>
          <p:cNvPicPr/>
          <p:nvPr/>
        </p:nvPicPr>
        <p:blipFill>
          <a:blip r:embed="rId17"/>
          <a:stretch/>
        </p:blipFill>
        <p:spPr>
          <a:xfrm>
            <a:off x="3193920" y="158760"/>
            <a:ext cx="6078600" cy="5821200"/>
          </a:xfrm>
          <a:prstGeom prst="rect">
            <a:avLst/>
          </a:prstGeom>
          <a:ln w="0">
            <a:noFill/>
          </a:ln>
        </p:spPr>
      </p:pic>
      <p:pic>
        <p:nvPicPr>
          <p:cNvPr id="503" name="TextBox 14" descr=""/>
          <p:cNvPicPr/>
          <p:nvPr/>
        </p:nvPicPr>
        <p:blipFill>
          <a:blip r:embed="rId18"/>
          <a:stretch/>
        </p:blipFill>
        <p:spPr>
          <a:xfrm>
            <a:off x="5450040" y="2657520"/>
            <a:ext cx="2998800" cy="2878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6" descr=""/>
          <p:cNvPicPr/>
          <p:nvPr/>
        </p:nvPicPr>
        <p:blipFill>
          <a:blip r:embed="rId1"/>
          <a:stretch/>
        </p:blipFill>
        <p:spPr>
          <a:xfrm>
            <a:off x="69840" y="93600"/>
            <a:ext cx="5257800" cy="495936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6"/>
          <p:cNvGrpSpPr/>
          <p:nvPr/>
        </p:nvGrpSpPr>
        <p:grpSpPr>
          <a:xfrm>
            <a:off x="4760640" y="2444760"/>
            <a:ext cx="4288320" cy="962280"/>
            <a:chOff x="4760640" y="2444760"/>
            <a:chExt cx="4288320" cy="962280"/>
          </a:xfrm>
        </p:grpSpPr>
        <p:sp>
          <p:nvSpPr>
            <p:cNvPr id="506" name="矩形 9"/>
            <p:cNvSpPr/>
            <p:nvPr/>
          </p:nvSpPr>
          <p:spPr>
            <a:xfrm>
              <a:off x="4760640" y="2444760"/>
              <a:ext cx="428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2xxxxxxxx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有限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10"/>
            <p:cNvSpPr/>
            <p:nvPr/>
          </p:nvSpPr>
          <p:spPr>
            <a:xfrm>
              <a:off x="5714640" y="2825640"/>
              <a:ext cx="320076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xxxx</a:t>
              </a:r>
              <a:r>
                <a:rPr b="0" lang="en-US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9"/>
          <p:cNvGrpSpPr/>
          <p:nvPr/>
        </p:nvGrpSpPr>
        <p:grpSpPr>
          <a:xfrm>
            <a:off x="5666400" y="1200240"/>
            <a:ext cx="3363480" cy="962280"/>
            <a:chOff x="5666400" y="1200240"/>
            <a:chExt cx="3363480" cy="962280"/>
          </a:xfrm>
        </p:grpSpPr>
        <p:sp>
          <p:nvSpPr>
            <p:cNvPr id="509" name="矩形 8"/>
            <p:cNvSpPr/>
            <p:nvPr/>
          </p:nvSpPr>
          <p:spPr>
            <a:xfrm>
              <a:off x="6708960" y="1581120"/>
              <a:ext cx="3664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金融专业、文秘专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17"/>
            <p:cNvSpPr/>
            <p:nvPr/>
          </p:nvSpPr>
          <p:spPr>
            <a:xfrm>
              <a:off x="5666400" y="1200240"/>
              <a:ext cx="33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2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6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12"/>
          <p:cNvGrpSpPr/>
          <p:nvPr/>
        </p:nvGrpSpPr>
        <p:grpSpPr>
          <a:xfrm>
            <a:off x="4174920" y="3740040"/>
            <a:ext cx="5092560" cy="962280"/>
            <a:chOff x="4174920" y="3740040"/>
            <a:chExt cx="5092560" cy="962280"/>
          </a:xfrm>
        </p:grpSpPr>
        <p:sp>
          <p:nvSpPr>
            <p:cNvPr id="512" name="矩形 13"/>
            <p:cNvSpPr/>
            <p:nvPr/>
          </p:nvSpPr>
          <p:spPr>
            <a:xfrm>
              <a:off x="4174920" y="3740040"/>
              <a:ext cx="509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xxxxxxx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18"/>
            <p:cNvSpPr/>
            <p:nvPr/>
          </p:nvSpPr>
          <p:spPr>
            <a:xfrm>
              <a:off x="5185080" y="4120920"/>
              <a:ext cx="28630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国家二级心理咨询师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4" name="图片 17" descr="图片1.png"/>
          <p:cNvPicPr/>
          <p:nvPr/>
        </p:nvPicPr>
        <p:blipFill>
          <a:blip r:embed="rId2"/>
          <a:stretch/>
        </p:blipFill>
        <p:spPr>
          <a:xfrm>
            <a:off x="2895480" y="209520"/>
            <a:ext cx="3346560" cy="895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5" name="直接箭头连接符 42"/>
          <p:cNvCxnSpPr/>
          <p:nvPr/>
        </p:nvCxnSpPr>
        <p:spPr>
          <a:xfrm flipV="1">
            <a:off x="4343040" y="693360"/>
            <a:ext cx="4420440" cy="23630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headEnd len="med" type="stealth" w="med"/>
            <a:tailEnd len="sm" type="arrow" w="sm"/>
          </a:ln>
        </p:spPr>
      </p:cxnSp>
      <p:sp>
        <p:nvSpPr>
          <p:cNvPr id="516" name="TextBox 29"/>
          <p:cNvSpPr/>
          <p:nvPr/>
        </p:nvSpPr>
        <p:spPr>
          <a:xfrm>
            <a:off x="6705720" y="2333520"/>
            <a:ext cx="1828800" cy="22194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219400"/>
              <a:gd name="textAreaBottom" fmla="*/ 2130120 h 2219400"/>
            </a:gdLst>
            <a:ahLst/>
            <a:rect l="textAreaLeft" t="textAreaTop" r="textAreaRight" b="textAreaBottom"/>
            <a:pathLst>
              <a:path w="21600" h="26212">
                <a:moveTo>
                  <a:pt x="3600" y="0"/>
                </a:moveTo>
                <a:arcTo wR="3600" hR="3600" stAng="16200000" swAng="-5400000"/>
                <a:lnTo>
                  <a:pt x="0" y="22612"/>
                </a:lnTo>
                <a:arcTo wR="3600" hR="3600" stAng="10800000" swAng="-5400000"/>
                <a:lnTo>
                  <a:pt x="18000" y="262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8"/>
          <p:cNvSpPr/>
          <p:nvPr/>
        </p:nvSpPr>
        <p:spPr>
          <a:xfrm>
            <a:off x="3657600" y="3638520"/>
            <a:ext cx="19051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2" descr="2008216102535256_2.jpg"/>
          <p:cNvPicPr/>
          <p:nvPr/>
        </p:nvPicPr>
        <p:blipFill>
          <a:blip r:embed="rId1"/>
          <a:stretch/>
        </p:blipFill>
        <p:spPr>
          <a:xfrm>
            <a:off x="76320" y="3108240"/>
            <a:ext cx="2286000" cy="1946520"/>
          </a:xfrm>
          <a:prstGeom prst="rect">
            <a:avLst/>
          </a:prstGeom>
          <a:ln w="0">
            <a:noFill/>
          </a:ln>
        </p:spPr>
      </p:pic>
      <p:sp>
        <p:nvSpPr>
          <p:cNvPr id="519" name="TextBox 25"/>
          <p:cNvSpPr/>
          <p:nvPr/>
        </p:nvSpPr>
        <p:spPr>
          <a:xfrm>
            <a:off x="152280" y="2038320"/>
            <a:ext cx="14479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责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直接箭头连接符 9"/>
          <p:cNvCxnSpPr/>
          <p:nvPr/>
        </p:nvCxnSpPr>
        <p:spPr>
          <a:xfrm>
            <a:off x="533520" y="437760"/>
            <a:ext cx="3048480" cy="30488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tailEnd len="sm" type="stealth" w="sm"/>
          </a:ln>
        </p:spPr>
      </p:cxnSp>
      <p:pic>
        <p:nvPicPr>
          <p:cNvPr id="521" name="矩形 19" descr=""/>
          <p:cNvPicPr/>
          <p:nvPr/>
        </p:nvPicPr>
        <p:blipFill>
          <a:blip r:embed="rId2"/>
          <a:stretch/>
        </p:blipFill>
        <p:spPr>
          <a:xfrm>
            <a:off x="2262240" y="2444760"/>
            <a:ext cx="2949480" cy="1852560"/>
          </a:xfrm>
          <a:prstGeom prst="rect">
            <a:avLst/>
          </a:prstGeom>
          <a:ln w="0">
            <a:noFill/>
          </a:ln>
        </p:spPr>
      </p:pic>
      <p:pic>
        <p:nvPicPr>
          <p:cNvPr id="522" name="矩形 22" descr=""/>
          <p:cNvPicPr/>
          <p:nvPr/>
        </p:nvPicPr>
        <p:blipFill>
          <a:blip r:embed="rId3"/>
          <a:stretch/>
        </p:blipFill>
        <p:spPr>
          <a:xfrm>
            <a:off x="5315040" y="469800"/>
            <a:ext cx="3603600" cy="2297160"/>
          </a:xfrm>
          <a:prstGeom prst="rect">
            <a:avLst/>
          </a:prstGeom>
          <a:ln w="0">
            <a:noFill/>
          </a:ln>
        </p:spPr>
      </p:pic>
      <p:pic>
        <p:nvPicPr>
          <p:cNvPr id="523" name="矩形 3" descr=""/>
          <p:cNvPicPr/>
          <p:nvPr/>
        </p:nvPicPr>
        <p:blipFill>
          <a:blip r:embed="rId4"/>
          <a:stretch/>
        </p:blipFill>
        <p:spPr>
          <a:xfrm>
            <a:off x="347760" y="781200"/>
            <a:ext cx="2706480" cy="169992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16" descr="图片2.png"/>
          <p:cNvPicPr/>
          <p:nvPr/>
        </p:nvPicPr>
        <p:blipFill>
          <a:blip r:embed="rId5"/>
          <a:stretch/>
        </p:blipFill>
        <p:spPr>
          <a:xfrm>
            <a:off x="2898720" y="209520"/>
            <a:ext cx="3346560" cy="9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图片 5" descr="200862135832613_2.jpg"/>
          <p:cNvPicPr/>
          <p:nvPr/>
        </p:nvPicPr>
        <p:blipFill>
          <a:blip r:embed="rId1"/>
          <a:stretch/>
        </p:blipFill>
        <p:spPr>
          <a:xfrm>
            <a:off x="838080" y="1962000"/>
            <a:ext cx="2103480" cy="3035520"/>
          </a:xfrm>
          <a:prstGeom prst="rect">
            <a:avLst/>
          </a:prstGeom>
          <a:ln w="0">
            <a:noFill/>
          </a:ln>
        </p:spPr>
      </p:pic>
      <p:sp>
        <p:nvSpPr>
          <p:cNvPr id="526" name="矩形 8"/>
          <p:cNvSpPr/>
          <p:nvPr/>
        </p:nvSpPr>
        <p:spPr>
          <a:xfrm>
            <a:off x="3657600" y="133200"/>
            <a:ext cx="4952880" cy="144792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9"/>
          <p:cNvSpPr/>
          <p:nvPr/>
        </p:nvSpPr>
        <p:spPr>
          <a:xfrm>
            <a:off x="6248520" y="1733400"/>
            <a:ext cx="2438280" cy="144792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原始数据进行二次处理进行各项数据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10"/>
          <p:cNvSpPr/>
          <p:nvPr/>
        </p:nvSpPr>
        <p:spPr>
          <a:xfrm>
            <a:off x="3657600" y="1733400"/>
            <a:ext cx="2438280" cy="14479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11"/>
          <p:cNvSpPr/>
          <p:nvPr/>
        </p:nvSpPr>
        <p:spPr>
          <a:xfrm>
            <a:off x="3657600" y="3333600"/>
            <a:ext cx="5029200" cy="1447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图片 13" descr="图片3.png"/>
          <p:cNvPicPr/>
          <p:nvPr/>
        </p:nvPicPr>
        <p:blipFill>
          <a:blip r:embed="rId2"/>
          <a:stretch/>
        </p:blipFill>
        <p:spPr>
          <a:xfrm>
            <a:off x="152280" y="285840"/>
            <a:ext cx="258444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3" descr=""/>
          <p:cNvPicPr/>
          <p:nvPr/>
        </p:nvPicPr>
        <p:blipFill>
          <a:blip r:embed="rId1"/>
          <a:stretch/>
        </p:blipFill>
        <p:spPr>
          <a:xfrm>
            <a:off x="3693960" y="969840"/>
            <a:ext cx="2365560" cy="18892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"/>
          <p:cNvPicPr/>
          <p:nvPr/>
        </p:nvPicPr>
        <p:blipFill>
          <a:blip r:embed="rId2"/>
          <a:stretch/>
        </p:blipFill>
        <p:spPr>
          <a:xfrm>
            <a:off x="6211800" y="993600"/>
            <a:ext cx="2438640" cy="1865520"/>
          </a:xfrm>
          <a:prstGeom prst="rect">
            <a:avLst/>
          </a:prstGeom>
          <a:ln w="0">
            <a:noFill/>
          </a:ln>
        </p:spPr>
      </p:pic>
      <p:pic>
        <p:nvPicPr>
          <p:cNvPr id="533" name="图片 12" descr="图片4.png"/>
          <p:cNvPicPr/>
          <p:nvPr/>
        </p:nvPicPr>
        <p:blipFill>
          <a:blip r:embed="rId3"/>
          <a:stretch/>
        </p:blipFill>
        <p:spPr>
          <a:xfrm>
            <a:off x="152280" y="361800"/>
            <a:ext cx="3426120" cy="8956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"/>
          <p:cNvPicPr/>
          <p:nvPr/>
        </p:nvPicPr>
        <p:blipFill>
          <a:blip r:embed="rId4"/>
          <a:stretch/>
        </p:blipFill>
        <p:spPr>
          <a:xfrm>
            <a:off x="3693960" y="2932200"/>
            <a:ext cx="5035680" cy="19810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2" descr=""/>
          <p:cNvPicPr/>
          <p:nvPr/>
        </p:nvPicPr>
        <p:blipFill>
          <a:blip r:embed="rId5"/>
          <a:stretch/>
        </p:blipFill>
        <p:spPr>
          <a:xfrm>
            <a:off x="268200" y="1328760"/>
            <a:ext cx="3187800" cy="19080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3" descr=""/>
          <p:cNvPicPr/>
          <p:nvPr/>
        </p:nvPicPr>
        <p:blipFill>
          <a:blip r:embed="rId6"/>
          <a:stretch/>
        </p:blipFill>
        <p:spPr>
          <a:xfrm>
            <a:off x="268200" y="3157560"/>
            <a:ext cx="3200400" cy="175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64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图片 2" descr="745392_094122011_2.jpg"/>
          <p:cNvPicPr/>
          <p:nvPr/>
        </p:nvPicPr>
        <p:blipFill>
          <a:blip r:embed="rId1"/>
          <a:stretch/>
        </p:blipFill>
        <p:spPr>
          <a:xfrm>
            <a:off x="-380880" y="133200"/>
            <a:ext cx="6319800" cy="4694400"/>
          </a:xfrm>
          <a:prstGeom prst="rect">
            <a:avLst/>
          </a:prstGeom>
          <a:ln w="0">
            <a:noFill/>
          </a:ln>
        </p:spPr>
      </p:pic>
      <p:pic>
        <p:nvPicPr>
          <p:cNvPr id="539" name="矩形 46" descr=""/>
          <p:cNvPicPr/>
          <p:nvPr/>
        </p:nvPicPr>
        <p:blipFill>
          <a:blip r:embed="rId2"/>
          <a:stretch/>
        </p:blipFill>
        <p:spPr>
          <a:xfrm>
            <a:off x="5346720" y="4181400"/>
            <a:ext cx="3400560" cy="523800"/>
          </a:xfrm>
          <a:prstGeom prst="rect">
            <a:avLst/>
          </a:prstGeom>
          <a:ln w="0">
            <a:noFill/>
          </a:ln>
        </p:spPr>
      </p:pic>
      <p:grpSp>
        <p:nvGrpSpPr>
          <p:cNvPr id="540" name="Group 8"/>
          <p:cNvGrpSpPr/>
          <p:nvPr/>
        </p:nvGrpSpPr>
        <p:grpSpPr>
          <a:xfrm>
            <a:off x="4724280" y="3714840"/>
            <a:ext cx="4168800" cy="304560"/>
            <a:chOff x="4724280" y="3714840"/>
            <a:chExt cx="4168800" cy="304560"/>
          </a:xfrm>
        </p:grpSpPr>
        <p:sp>
          <p:nvSpPr>
            <p:cNvPr id="541" name="矩形 12"/>
            <p:cNvSpPr/>
            <p:nvPr/>
          </p:nvSpPr>
          <p:spPr>
            <a:xfrm>
              <a:off x="78152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13"/>
            <p:cNvSpPr/>
            <p:nvPr/>
          </p:nvSpPr>
          <p:spPr>
            <a:xfrm>
              <a:off x="82026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14"/>
            <p:cNvSpPr/>
            <p:nvPr/>
          </p:nvSpPr>
          <p:spPr>
            <a:xfrm>
              <a:off x="858852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47"/>
            <p:cNvSpPr/>
            <p:nvPr/>
          </p:nvSpPr>
          <p:spPr>
            <a:xfrm>
              <a:off x="472428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48"/>
            <p:cNvSpPr/>
            <p:nvPr/>
          </p:nvSpPr>
          <p:spPr>
            <a:xfrm>
              <a:off x="51098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49"/>
            <p:cNvSpPr/>
            <p:nvPr/>
          </p:nvSpPr>
          <p:spPr>
            <a:xfrm>
              <a:off x="54972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50"/>
            <p:cNvSpPr/>
            <p:nvPr/>
          </p:nvSpPr>
          <p:spPr>
            <a:xfrm>
              <a:off x="58831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51"/>
            <p:cNvSpPr/>
            <p:nvPr/>
          </p:nvSpPr>
          <p:spPr>
            <a:xfrm>
              <a:off x="627048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52"/>
            <p:cNvSpPr/>
            <p:nvPr/>
          </p:nvSpPr>
          <p:spPr>
            <a:xfrm>
              <a:off x="66564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53"/>
            <p:cNvSpPr/>
            <p:nvPr/>
          </p:nvSpPr>
          <p:spPr>
            <a:xfrm>
              <a:off x="704196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54"/>
            <p:cNvSpPr/>
            <p:nvPr/>
          </p:nvSpPr>
          <p:spPr>
            <a:xfrm>
              <a:off x="74293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TextBox 10"/>
          <p:cNvSpPr/>
          <p:nvPr/>
        </p:nvSpPr>
        <p:spPr>
          <a:xfrm>
            <a:off x="5486400" y="2876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将要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0"/>
          <p:cNvSpPr/>
          <p:nvPr/>
        </p:nvSpPr>
        <p:spPr>
          <a:xfrm>
            <a:off x="6095880" y="32576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自我完善的旅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图片 23" descr="图片6.png"/>
          <p:cNvPicPr/>
          <p:nvPr/>
        </p:nvPicPr>
        <p:blipFill>
          <a:blip r:embed="rId3"/>
          <a:stretch/>
        </p:blipFill>
        <p:spPr>
          <a:xfrm>
            <a:off x="5334120" y="971640"/>
            <a:ext cx="3346200" cy="90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06:45:49Z</dcterms:created>
  <dc:creator>lenovo</dc:creator>
  <dc:description/>
  <dc:language>en-US</dc:language>
  <cp:lastModifiedBy>lenovo</cp:lastModifiedBy>
  <dcterms:modified xsi:type="dcterms:W3CDTF">2015-07-07T06:55:1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