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148-BD6B-403A-AE2D-6BA84622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61F-BAFB-4366-922B-C0EA9DE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C50-768C-4C29-9A3E-589985FB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8FF-9ABB-4BF5-B405-55F34746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E9D-F8E0-42E2-ACCB-915F321D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9A2-8AE8-4749-9A0B-24C2DE8A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152-0848-4DE8-AA32-CFBA5D53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265-BB72-4904-9DBD-62BF63BF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479-8C79-4C66-BE35-FCF5BD78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864-15E8-47C4-AD34-255EF3F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C35-4373-49E5-AF05-0CD2214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BB6-1423-4361-A256-42E8404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33F7-B050-464D-9FCF-61E5DC338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268360" y="90792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/>
          <p:nvPr/>
        </p:nvSpPr>
        <p:spPr>
          <a:xfrm>
            <a:off x="1042920" y="765000"/>
            <a:ext cx="4924440" cy="133200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c00000"/>
          </a:solidFill>
          <a:ln w="1908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71640" y="2781360"/>
            <a:ext cx="74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/>
          <p:nvPr/>
        </p:nvSpPr>
        <p:spPr>
          <a:xfrm>
            <a:off x="1187280" y="2060640"/>
            <a:ext cx="6337440" cy="946080"/>
          </a:xfrm>
          <a:custGeom>
            <a:avLst/>
            <a:gdLst>
              <a:gd name="textAreaLeft" fmla="*/ 0 w 6337440"/>
              <a:gd name="textAreaRight" fmla="*/ 6337800 w 63374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</a:path>
              <a:path w="21600" h="21600">
                <a:moveTo>
                  <a:pt x="0" y="18791"/>
                </a:moveTo>
                <a:cubicBezTo>
                  <a:pt x="7200" y="8840"/>
                  <a:pt x="14400" y="28742"/>
                  <a:pt x="21600" y="18791"/>
                </a:cubicBezTo>
              </a:path>
            </a:pathLst>
          </a:custGeom>
          <a:solidFill>
            <a:srgbClr val="ff0000"/>
          </a:solidFill>
          <a:ln w="18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651640" y="479736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学院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环境与土木建筑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旅游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姓名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016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/>
          <p:nvPr/>
        </p:nvSpPr>
        <p:spPr>
          <a:xfrm rot="20827800">
            <a:off x="324000" y="764640"/>
            <a:ext cx="5715000" cy="86544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95280" y="2205000"/>
            <a:ext cx="48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随着社会的发展，</a:t>
            </a:r>
            <a:r>
              <a:rPr b="0" lang="zh-CN" sz="2000" spc="-1" strike="noStrike">
                <a:solidFill>
                  <a:srgbClr val="9900cc"/>
                </a:solidFill>
                <a:latin typeface="Arial"/>
                <a:ea typeface="幼圆"/>
              </a:rPr>
              <a:t>旅游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已成为全球经济中发展势头最强劲和规模最大的产业之一。旅游业在城市经济发展中的产业地位、经济作用逐步增强，旅游业对城市经济的拉动性、社会就业的带动力、以及对文化与环境的促进作用日益显现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近年来中国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幼圆"/>
              </a:rPr>
              <a:t>酒店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蓬勃发展，不仅星级饭店数量日益增加，而且经济型酒店也势如破竹，在大江南北刮起旋风。随着近年来旅游业的升温，人们对酒店的需求明显看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8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8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/>
          <p:nvPr/>
        </p:nvSpPr>
        <p:spPr>
          <a:xfrm rot="20842200">
            <a:off x="867960" y="552600"/>
            <a:ext cx="5257800" cy="131580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1315800"/>
              <a:gd name="textAreaBottom" fmla="*/ 1315800 h 131580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92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08000" y="2781360"/>
            <a:ext cx="414036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阶段目标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阶段的目标可分解为两个部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是大学四年顺利毕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是成为一个有一定经验的企业管理人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95280" y="476280"/>
            <a:ext cx="4535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阶段目标的组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好大学的课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了更好的顺利毕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更好的工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更加好的学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好英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了毕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为了以后的工作做准备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积极参加各项有意义的活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仅可以让自己学会溶入集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会和别人共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甚至是可以学会共事的能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就是在分解中结合起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/>
          <p:nvPr/>
        </p:nvSpPr>
        <p:spPr>
          <a:xfrm>
            <a:off x="468360" y="1341360"/>
            <a:ext cx="5943600" cy="144000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160293306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/>
          <p:nvPr/>
        </p:nvSpPr>
        <p:spPr>
          <a:xfrm>
            <a:off x="826920" y="549360"/>
            <a:ext cx="3600720" cy="72072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3921"/>
                  <a:pt x="7100" y="5233"/>
                  <a:pt x="10800" y="5233"/>
                </a:cubicBezTo>
                <a:cubicBezTo>
                  <a:pt x="14500" y="5233"/>
                  <a:pt x="18100" y="3921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679"/>
                  <a:pt x="7100" y="16367"/>
                  <a:pt x="10800" y="16367"/>
                </a:cubicBezTo>
                <a:cubicBezTo>
                  <a:pt x="14500" y="16367"/>
                  <a:pt x="18100" y="17679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84360" y="2565360"/>
            <a:ext cx="5832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职业生涯认知和规划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成绩平均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多读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补充课外知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力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好班团支部的工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交际和领导组织能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一份兼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暑期参加关于自己专业相关的实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自己的水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经济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好房地产和家教的工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首先要适应由高中生到大学生的角色转变特别是心态的转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重新确定自己的学习目标和要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大学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不是唯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但是一定要学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其次，要开始接触职业和职业生涯的概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交际沟通能力，积极参加各种各样的社团活动，增加交流技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1160293306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/>
          <p:nvPr/>
        </p:nvSpPr>
        <p:spPr>
          <a:xfrm>
            <a:off x="1187280" y="549360"/>
            <a:ext cx="3456000" cy="115092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24000" y="2060640"/>
            <a:ext cx="7777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初步确定毕业方向以及相应能力与素质的培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成绩平均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以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积极表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争取入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过英语四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可能的话过计算机二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阅读关于管理及处世的书籍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本如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销管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旅游景区开发与管理肯得基在中国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好笔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力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带领班的团支部成为优秀红旗团支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自己从事的兼职中尽量优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与公司上层进行无阻碍的交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取汽车驾驶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定的人际关系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经济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兼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收入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左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认识自己的需要和兴趣，确定自己的价值观、动机和抱负。考虑未来的毕业方向（考公务员或就业等；增加英语口语和计算机应用的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力，通过英语的四级考试和计算机的相关证书考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广泛的阅读各方面的书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并开始有选择地辅修其他专业的知识以充实自己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1160293306367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6"/>
          <p:cNvSpPr/>
          <p:nvPr/>
        </p:nvSpPr>
        <p:spPr>
          <a:xfrm>
            <a:off x="1187280" y="404640"/>
            <a:ext cx="3600720" cy="151164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1511640"/>
              <a:gd name="textAreaBottom" fmla="*/ 1512000 h 15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5280" y="2781360"/>
            <a:ext cx="7848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掌握求职技能，为择业做好准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成绩平均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以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过英语六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阅读关于管理及处世的书籍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本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道德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人与处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会放弃学会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好笔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力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实习有一定的经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了解熟悉关于旅行社行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酒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业务操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够做得上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定的人际关系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取部分证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导游证及酒店管理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经济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实践及兼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收入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左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取与目标职业有关的职业资格证书或相应地通过职业技能鉴定。目标应锁定在提高求职技能、搜集公司信息上。参加与专业有关的暑期工作，和同学交流求职工作心得体会，学习写简历、求职信等求职技巧，了解搜集就业信息的渠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160293306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/>
          <p:nvPr/>
        </p:nvSpPr>
        <p:spPr>
          <a:xfrm>
            <a:off x="755640" y="692280"/>
            <a:ext cx="3816360" cy="136836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249228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积极应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功就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积极写好毕业论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顺利毕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加培训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力目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做好就业形势的分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培训自己的应聘能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积极参加应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高素质和能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功就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济目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顺利就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左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标应该锁定在工作申请及成功就业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前三年的准备做一个总结；首先检验自己已确立的职业目标是否明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始毕业后工作的申请，积极参加招聘活动，在实践中检验自己的积累和准备；最后，进行预习或模拟面试。积极利用学校提供的条件，了解就业指导中心提供的用人公司资料信息，强化求职技巧、进行模拟面试等训练，尽可能地在做好较为充分的准备的情况下进行施展演练。在撰写毕业论文的时，可大胆提自己的见解，锻炼自己独立解决问题的能力和创造性。另外，重视实习机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006110817402563626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/>
          <p:nvPr/>
        </p:nvSpPr>
        <p:spPr>
          <a:xfrm>
            <a:off x="611280" y="549360"/>
            <a:ext cx="6400800" cy="102852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1028520"/>
              <a:gd name="textAreaBottom" fmla="*/ 102852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12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227640" y="1125360"/>
            <a:ext cx="27370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阶段目标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努力工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充实自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工作岗位上积极表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实践学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能力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熟练处理本职务工作，工作业绩在同级同事中居于突出地位；熟悉企业运作机制及企业文化，能与公司上层进行无阻碍地沟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经济目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月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左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4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006110817402563626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40360" y="476280"/>
            <a:ext cx="32036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实施方案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工作的过程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认真工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责任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强化工作能力和技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洞察市场的能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利用好公司的培训机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争取培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胆的提出自己的想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可以的情况下争取给予实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会一个公司的管理制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宏观上了解单位的工作方式、运转模式、工作流程，学会鉴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取经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微观上争取在自己的岗位上有所突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勇于创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006722225377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4076640"/>
            <a:ext cx="6516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阶段目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顺利毕业；成为一个有一定经验的企业管理人员（职业方向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总体目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拥有一家属于自己的企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成为一位高级管理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旅行社或酒店方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932360" y="476280"/>
            <a:ext cx="42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姓    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规划期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起止时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 200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月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龄跨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 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95280" y="2708280"/>
            <a:ext cx="8353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cc00ff"/>
                </a:solidFill>
                <a:latin typeface="Arial"/>
                <a:ea typeface="隶书"/>
              </a:rPr>
              <a:t>人放对了地方是天才，人放错了地方就是垃圾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  <a:ea typeface="隶书"/>
              </a:rPr>
              <a:t>.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我一直都相信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一个人的成功有靠自己的努力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上天是公平的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只要你付出了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就会有收获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.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只瞄准不射击不是好士兵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幸运和机会不是守株而获得的兔子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天上也不可能会掉馅饼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只要我们自己努力了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付出了我们才会收获希望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收获成果的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.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一定要努力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隶书"/>
              </a:rPr>
              <a:t>按着计划好的步子一个脚印一个脚印慢慢的像蜗牛一样往上爬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84360" y="2060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结束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7542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8"/>
          <p:cNvSpPr/>
          <p:nvPr/>
        </p:nvSpPr>
        <p:spPr>
          <a:xfrm>
            <a:off x="3132000" y="1197000"/>
            <a:ext cx="3240360" cy="107964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4245"/>
                  <a:pt x="7100" y="5665"/>
                  <a:pt x="10800" y="5665"/>
                </a:cubicBezTo>
                <a:cubicBezTo>
                  <a:pt x="14500" y="5665"/>
                  <a:pt x="18100" y="4245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17355"/>
                  <a:pt x="7100" y="15935"/>
                  <a:pt x="10800" y="15935"/>
                </a:cubicBezTo>
                <a:cubicBezTo>
                  <a:pt x="14500" y="15935"/>
                  <a:pt x="18100" y="17355"/>
                  <a:pt x="21600" y="21600"/>
                </a:cubicBezTo>
              </a:path>
            </a:pathLst>
          </a:custGeom>
          <a:solidFill>
            <a:srgbClr val="ffffff"/>
          </a:solidFill>
          <a:ln w="18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10"/>
          <p:cNvSpPr/>
          <p:nvPr/>
        </p:nvSpPr>
        <p:spPr>
          <a:xfrm>
            <a:off x="250920" y="476280"/>
            <a:ext cx="4895640" cy="1028520"/>
          </a:xfrm>
          <a:custGeom>
            <a:avLst/>
            <a:gdLst>
              <a:gd name="textAreaLeft" fmla="*/ 0 w 4895640"/>
              <a:gd name="textAreaRight" fmla="*/ 4896000 w 4895640"/>
              <a:gd name="textAreaTop" fmla="*/ 0 h 1028520"/>
              <a:gd name="textAreaBottom" fmla="*/ 102852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099520" y="1484280"/>
            <a:ext cx="612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正确认识自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三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社会环境规划和职业分析（五年规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四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行业环境分析和企业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五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阶段目标的分解与组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六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大学职业生涯规划的具体实施策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七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成功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八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职业生涯规划实施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九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缩小差距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结束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20070303152703556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/>
          <p:nvPr/>
        </p:nvSpPr>
        <p:spPr>
          <a:xfrm>
            <a:off x="4572000" y="981000"/>
            <a:ext cx="2521080" cy="8892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708360" y="242100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生命是一个创造的过程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每个人都可以按照自己所希望的那个样子来塑造自己的。一个人要有长远的目标和打算，当下的问题是我们最大的考验，当下最大的困难是我们最大的挑战，当下的感受是我们最值得经历的感受，而当下的快乐也是我们最大的享受，但同时我们还要把握当下最值得珍惜的时间。我们应该学会把握，把握时间，把握幸福，把握今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0070303152703556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592520" y="765000"/>
            <a:ext cx="40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生命的意义，在于自己脚印的无限延伸，在于自己脚印的不断续写，在于自己脚印对走过道路的应答，在于自己，一切都在于自己！太阳会从东方的海平线升起，伴随着灿烂的光芒，我也开始闪烁，这光的美丽让我惊诧！追求，原来就在身边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18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/>
          <p:nvPr/>
        </p:nvSpPr>
        <p:spPr>
          <a:xfrm>
            <a:off x="3995640" y="620640"/>
            <a:ext cx="4464000" cy="865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24360" y="2349360"/>
            <a:ext cx="52196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33"/>
                </a:solidFill>
                <a:latin typeface="Arial"/>
                <a:ea typeface="幼圆"/>
              </a:rPr>
              <a:t>1</a:t>
            </a:r>
            <a:r>
              <a:rPr b="1" i="1" lang="zh-CN" sz="1800" spc="-1" strike="noStrike">
                <a:solidFill>
                  <a:srgbClr val="ff9933"/>
                </a:solidFill>
                <a:latin typeface="Arial"/>
                <a:ea typeface="幼圆"/>
              </a:rPr>
              <a:t>．自我盘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兴趣爱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喜爱看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最喜欢的作者是余秋雨和汪国真，泡工夫茶，听经典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优势与优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能力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有独立的思考能力、交际能力强，有较好的表达及组织能力、适应社会环境，了解目前的社会形势、具有本科学历、有一定基础的专业知识、做事认真，善始善终，考虑问题周全；</a:t>
            </a:r>
            <a:br>
              <a:rPr sz="2000"/>
            </a:b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人格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积极向上开朗活泼、善于交际、乐于助人，善良有同情心；</a:t>
            </a:r>
            <a:br>
              <a:rPr sz="2000"/>
            </a:b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理念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有良好的道德教育、责任心强、自信乐观、有不认输坚强的个性；</a:t>
            </a:r>
            <a:br>
              <a:rPr sz="2000"/>
            </a:b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宋体"/>
              </a:rPr>
              <a:t>健康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身体状况健康、心理健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18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356000" y="1341360"/>
            <a:ext cx="47880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劣势与缺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33"/>
                </a:solidFill>
                <a:latin typeface="Arial"/>
                <a:ea typeface="宋体"/>
              </a:rPr>
              <a:t>能力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学历不高，专业知识缺乏、英语水平低、没有丰富的社会实践经验、动手能力有待提高、学习主动性不够、实战经验不强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33"/>
                </a:solidFill>
                <a:latin typeface="Arial"/>
                <a:ea typeface="宋体"/>
              </a:rPr>
              <a:t>人格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没有成大器的气质和个性、好怒，脾气暴躁、小孩子气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33"/>
                </a:solidFill>
                <a:latin typeface="Arial"/>
                <a:ea typeface="宋体"/>
              </a:rPr>
              <a:t>理念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观念保守，缺乏冒险精神、意志力不坚定，没有恒心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cc"/>
                </a:solidFill>
                <a:latin typeface="Arial"/>
                <a:ea typeface="宋体"/>
              </a:rPr>
              <a:t>＊</a:t>
            </a:r>
            <a:r>
              <a:rPr b="0" lang="zh-CN" sz="2000" spc="-1" strike="noStrike">
                <a:solidFill>
                  <a:srgbClr val="ff9933"/>
                </a:solidFill>
                <a:latin typeface="Arial"/>
                <a:ea typeface="宋体"/>
              </a:rPr>
              <a:t>健康素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运动不积极、心理承受能力不强，做事失败有失落情绪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0070620104153127"/>
          <p:cNvPicPr/>
          <p:nvPr/>
        </p:nvPicPr>
        <p:blipFill>
          <a:blip r:embed="rId1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/>
          <p:nvPr/>
        </p:nvSpPr>
        <p:spPr>
          <a:xfrm>
            <a:off x="5219640" y="0"/>
            <a:ext cx="3200400" cy="20541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054160"/>
              <a:gd name="textAreaBottom" fmla="*/ 2054520 h 205416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0920" y="26028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学好专业知识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参加各种有益活动，提高自己的实践经验及处理事情的各项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不断的锻炼，及时发现不足加以反省并制定出相应计划并努力执行。遇事多忍耐，不骄不躁，多听取提高学习意识，利用图书馆及网络，认真学好英语，提高自己的心理承受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提高体育素质，以弥补身体虚弱而带来的不良影响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参加社会实践活动，增强自身的社会工作阅历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16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/>
          <p:nvPr/>
        </p:nvSpPr>
        <p:spPr>
          <a:xfrm>
            <a:off x="395280" y="333360"/>
            <a:ext cx="5715000" cy="138924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21600" h="21600">
                <a:moveTo>
                  <a:pt x="0" y="1200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96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50920" y="2060640"/>
            <a:ext cx="4897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、社会一般环境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政治稳定，经济呈现持续发展趋势，在全球经济一体化环境中的重要角色。。因为政治地位的提高，经济实力的增强，综合国力也随着提升，人们的生活富裕了，消费观念也强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  <a:ea typeface="宋体"/>
              </a:rPr>
              <a:t>、管理职业特殊社会环境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由于中国的管理科学发展较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中国各个行业急需管理人才，尤其是经过系统培训的高级管理人才。因此企业管理职业市场广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1:49:00Z</dcterms:created>
  <dc:creator>微软用户</dc:creator>
  <dc:description/>
  <dc:language>en-US</dc:language>
  <cp:lastModifiedBy>lenovo</cp:lastModifiedBy>
  <dcterms:modified xsi:type="dcterms:W3CDTF">2015-07-06T09:01:19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