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BE35280-5129-405E-8486-AB5085CA8BE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22" name="AutoShape 4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30920 w 4815720"/>
                <a:gd name="textAreaRight" fmla="*/ 4384800 w 481572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24" name="AutoShape 6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27" name="AutoShape 9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29" name="AutoShape 11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2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32" name="AutoShape 14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37" name="AutoShape 19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39" name="AutoShape 21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2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23" descr="显示器1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24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3" name="Picture 25" descr="显示器1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6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Picture 27" descr="显示器1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8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7" name="Picture 29" descr="显示器1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0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51" name="AutoShape 4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55" name="AutoShape 8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58" name="AutoShape 11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62" name="AutoShape 15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64" name="AutoShape 17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8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9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7" name="Picture 20" descr="显示器1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21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16000" y="5446800"/>
            <a:ext cx="6840720" cy="203040"/>
          </a:xfrm>
          <a:custGeom>
            <a:avLst/>
            <a:gdLst>
              <a:gd name="textAreaLeft" fmla="*/ 931680 w 6840720"/>
              <a:gd name="textAreaRight" fmla="*/ 5909040 w 6840720"/>
              <a:gd name="textAreaTop" fmla="*/ 27360 h 203040"/>
              <a:gd name="textAreaBottom" fmla="*/ 1756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116000" y="1125360"/>
            <a:ext cx="6873840" cy="43214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251000" y="184644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显示器1"/>
          <p:cNvPicPr/>
          <p:nvPr/>
        </p:nvPicPr>
        <p:blipFill>
          <a:blip r:embed="rId2"/>
          <a:stretch/>
        </p:blipFill>
        <p:spPr>
          <a:xfrm>
            <a:off x="468360" y="41511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7"/>
          <p:cNvSpPr txBox="1"/>
          <p:nvPr/>
        </p:nvSpPr>
        <p:spPr>
          <a:xfrm>
            <a:off x="826920" y="4654440"/>
            <a:ext cx="1151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984320" y="2935440"/>
            <a:ext cx="258768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替换图片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231920" y="1198440"/>
            <a:ext cx="6653160" cy="592200"/>
            <a:chOff x="1231920" y="1198440"/>
            <a:chExt cx="6653160" cy="592200"/>
          </a:xfrm>
        </p:grpSpPr>
        <p:sp>
          <p:nvSpPr>
            <p:cNvPr id="277" name="AutoShape 10"/>
            <p:cNvSpPr/>
            <p:nvPr/>
          </p:nvSpPr>
          <p:spPr>
            <a:xfrm>
              <a:off x="1231920" y="1198440"/>
              <a:ext cx="6653160" cy="52848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1258920" y="1211040"/>
              <a:ext cx="6595920" cy="12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1252440" y="1712880"/>
              <a:ext cx="6593040" cy="77760"/>
            </a:xfrm>
            <a:custGeom>
              <a:avLst/>
              <a:gdLst>
                <a:gd name="textAreaLeft" fmla="*/ 765000 w 6593040"/>
                <a:gd name="textAreaRight" fmla="*/ 5828040 w 6593040"/>
                <a:gd name="textAreaTop" fmla="*/ 9360 h 77760"/>
                <a:gd name="textAreaBottom" fmla="*/ 684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16" y="21600"/>
                  </a:lnTo>
                  <a:lnTo>
                    <a:pt x="2018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22120 w 8240760"/>
              <a:gd name="textAreaRight" fmla="*/ 7118640 w 8240760"/>
              <a:gd name="textAreaTop" fmla="*/ 27720 h 203400"/>
              <a:gd name="textAreaBottom" fmla="*/ 17568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93" name="AutoShape 15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96" name="AutoShape 18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1543320" y="5438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2264040" y="5438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83320" y="5438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704040" y="5438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4422960" y="5438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5143680" y="5438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862960" y="5438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583680" y="5438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296480" y="5438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308" name="Freeform 30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325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4159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33"/>
          <p:cNvSpPr/>
          <p:nvPr/>
        </p:nvSpPr>
        <p:spPr>
          <a:xfrm>
            <a:off x="598680" y="4861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598680" y="43815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598680" y="39038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598680" y="34257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598680" y="29462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598680" y="2468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598680" y="199080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1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4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27" name="AutoShape 4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21600 w 6767640"/>
                <a:gd name="textAreaRight" fmla="*/ 5846040 w 6767640"/>
                <a:gd name="textAreaTop" fmla="*/ 16200 h 123840"/>
                <a:gd name="textAreaBottom" fmla="*/ 1076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6"/>
          <p:cNvSpPr/>
          <p:nvPr/>
        </p:nvSpPr>
        <p:spPr>
          <a:xfrm>
            <a:off x="324000" y="494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 rot="900000">
            <a:off x="2133720" y="3338640"/>
            <a:ext cx="1006200" cy="199836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900000">
            <a:off x="1028520" y="1744560"/>
            <a:ext cx="763560" cy="23508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 rot="900000">
            <a:off x="1695600" y="2190240"/>
            <a:ext cx="939600" cy="29556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900000">
            <a:off x="2730240" y="2154240"/>
            <a:ext cx="174600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 rot="900000">
            <a:off x="1034640" y="170028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 rot="900000">
            <a:off x="2068560" y="1817640"/>
            <a:ext cx="156672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"/>
          <p:cNvSpPr/>
          <p:nvPr/>
        </p:nvSpPr>
        <p:spPr>
          <a:xfrm rot="900000">
            <a:off x="1711080" y="2063880"/>
            <a:ext cx="1946160" cy="55692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66b2fe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4"/>
          <p:cNvSpPr/>
          <p:nvPr/>
        </p:nvSpPr>
        <p:spPr>
          <a:xfrm rot="900000">
            <a:off x="1028520" y="174312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"/>
          <p:cNvSpPr/>
          <p:nvPr/>
        </p:nvSpPr>
        <p:spPr>
          <a:xfrm rot="900000">
            <a:off x="871200" y="1760400"/>
            <a:ext cx="104760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6"/>
          <p:cNvSpPr/>
          <p:nvPr/>
        </p:nvSpPr>
        <p:spPr>
          <a:xfrm rot="900000">
            <a:off x="1491840" y="2166840"/>
            <a:ext cx="939960" cy="184968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a5682"/>
              </a:gs>
              <a:gs pos="100000">
                <a:srgbClr val="002850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"/>
          <p:cNvSpPr/>
          <p:nvPr/>
        </p:nvSpPr>
        <p:spPr>
          <a:xfrm rot="900000">
            <a:off x="2427120" y="2459160"/>
            <a:ext cx="1351080" cy="161280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"/>
          <p:cNvSpPr/>
          <p:nvPr/>
        </p:nvSpPr>
        <p:spPr>
          <a:xfrm rot="900000">
            <a:off x="2865600" y="343656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9"/>
          <p:cNvSpPr/>
          <p:nvPr/>
        </p:nvSpPr>
        <p:spPr>
          <a:xfrm rot="900000">
            <a:off x="3470400" y="241740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0"/>
          <p:cNvSpPr/>
          <p:nvPr/>
        </p:nvSpPr>
        <p:spPr>
          <a:xfrm rot="900000">
            <a:off x="612360" y="253008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1"/>
          <p:cNvSpPr/>
          <p:nvPr/>
        </p:nvSpPr>
        <p:spPr>
          <a:xfrm rot="900000">
            <a:off x="858960" y="326232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963880" y="2759040"/>
            <a:ext cx="1584360" cy="4320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V="1">
            <a:off x="3710160" y="4068360"/>
            <a:ext cx="850680" cy="2746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68360" y="4005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cp:lastPrinted>1899-12-30T00:00:00Z</cp:lastPrinted>
  <dcterms:modified xsi:type="dcterms:W3CDTF">2012-05-30T04:51:49Z</dcterms:modified>
  <cp:revision>2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